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BC6-BD26-4927-A5AC-4F078D77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7EE-AC3D-42A2-AEA5-CC74F767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AEA2-252E-4B63-9202-6A78FABE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10D-DF23-4ECE-A4DC-72FDF793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7D9E-65C0-4249-9D90-196D1D3D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16CD-B361-4EFE-84D6-FFBB4053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60CA-A3CF-4F37-B8F6-BAD6849B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2D80-1609-4204-9AE7-164A8A72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1AF8-75C4-43B1-BE18-E1774ADC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322E-42FB-4222-9A82-16ACFBB0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2946-0765-4877-9624-D071CDD0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3EB-9445-41AD-931E-7B83E09C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1EE9-2511-4BE5-9289-086DA35D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D333-0D2C-43DF-9D71-E7A8D166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FD91-1282-405D-9E07-CDFD0319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7D3F-F3BB-474E-8771-856ED826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1148-649B-42AB-8F84-639BA8CE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582-FB6B-42DA-8552-5B78B9FB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3A8-E227-4930-B50E-728AE29F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F5E-266C-4848-A94D-B94FCBBF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249-BDA0-4152-B4A0-09D44AB5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9249-C3BB-4C4F-B989-315322B9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61B-448C-415B-8949-90B809D1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281-E495-4401-B58C-CBC7D0B4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12193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B28F-3E73-4FF6-8419-AB70CB3C6306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47DA-A1B5-4011-83EB-334FBD44844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CC31-9A0F-4524-B23A-1E960D3B8F8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" descr=""/>
          <p:cNvPicPr/>
          <p:nvPr/>
        </p:nvPicPr>
        <p:blipFill>
          <a:blip r:embed="rId1"/>
          <a:srcRect l="24288" t="0" r="25716" b="0"/>
          <a:stretch/>
        </p:blipFill>
        <p:spPr>
          <a:xfrm>
            <a:off x="1762200" y="723960"/>
            <a:ext cx="2666880" cy="5334120"/>
          </a:xfrm>
          <a:prstGeom prst="rect">
            <a:avLst/>
          </a:prstGeom>
          <a:ln w="0">
            <a:noFill/>
          </a:ln>
        </p:spPr>
      </p:pic>
      <p:sp>
        <p:nvSpPr>
          <p:cNvPr id="82" name="矩形 5"/>
          <p:cNvSpPr/>
          <p:nvPr/>
        </p:nvSpPr>
        <p:spPr>
          <a:xfrm>
            <a:off x="4400640" y="1343160"/>
            <a:ext cx="1562040" cy="1552320"/>
          </a:xfrm>
          <a:prstGeom prst="rect">
            <a:avLst/>
          </a:prstGeom>
          <a:solidFill>
            <a:srgbClr val="92d05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4400640" y="1438200"/>
            <a:ext cx="160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Everyth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6010200" y="1343160"/>
            <a:ext cx="676440" cy="685800"/>
          </a:xfrm>
          <a:prstGeom prst="rect">
            <a:avLst/>
          </a:prstGeom>
          <a:solidFill>
            <a:srgbClr val="8fa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6010200" y="2076480"/>
            <a:ext cx="3409920" cy="81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9"/>
          <p:cNvSpPr/>
          <p:nvPr/>
        </p:nvSpPr>
        <p:spPr>
          <a:xfrm>
            <a:off x="6067440" y="2120760"/>
            <a:ext cx="32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技改变生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10"/>
          <p:cNvSpPr/>
          <p:nvPr/>
        </p:nvSpPr>
        <p:spPr>
          <a:xfrm>
            <a:off x="6010200" y="2943360"/>
            <a:ext cx="1571760" cy="704880"/>
          </a:xfrm>
          <a:prstGeom prst="rect">
            <a:avLst/>
          </a:prstGeom>
          <a:solidFill>
            <a:srgbClr val="8fa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11"/>
          <p:cNvSpPr/>
          <p:nvPr/>
        </p:nvSpPr>
        <p:spPr>
          <a:xfrm>
            <a:off x="6086520" y="309888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称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12" descr=""/>
          <p:cNvPicPr/>
          <p:nvPr/>
        </p:nvPicPr>
        <p:blipFill>
          <a:blip r:embed="rId2"/>
          <a:stretch/>
        </p:blipFill>
        <p:spPr>
          <a:xfrm>
            <a:off x="6113520" y="1450800"/>
            <a:ext cx="469800" cy="470160"/>
          </a:xfrm>
          <a:prstGeom prst="rect">
            <a:avLst/>
          </a:prstGeom>
          <a:ln w="0">
            <a:noFill/>
          </a:ln>
        </p:spPr>
      </p:pic>
      <p:sp>
        <p:nvSpPr>
          <p:cNvPr id="90" name="矩形 13"/>
          <p:cNvSpPr/>
          <p:nvPr/>
        </p:nvSpPr>
        <p:spPr>
          <a:xfrm>
            <a:off x="5495760" y="3765600"/>
            <a:ext cx="466920" cy="474480"/>
          </a:xfrm>
          <a:prstGeom prst="rect">
            <a:avLst/>
          </a:prstGeom>
          <a:solidFill>
            <a:srgbClr val="9dc3e6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4959360" y="3975120"/>
            <a:ext cx="260280" cy="264960"/>
          </a:xfrm>
          <a:prstGeom prst="rect">
            <a:avLst/>
          </a:prstGeom>
          <a:solidFill>
            <a:srgbClr val="9dc3e6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5224320" y="4259160"/>
            <a:ext cx="262080" cy="263520"/>
          </a:xfrm>
          <a:prstGeom prst="rect">
            <a:avLst/>
          </a:prstGeom>
          <a:solidFill>
            <a:srgbClr val="c9c9c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16"/>
          <p:cNvSpPr/>
          <p:nvPr/>
        </p:nvSpPr>
        <p:spPr>
          <a:xfrm>
            <a:off x="9239400" y="5110200"/>
            <a:ext cx="933480" cy="947880"/>
          </a:xfrm>
          <a:prstGeom prst="rect">
            <a:avLst/>
          </a:prstGeom>
          <a:solidFill>
            <a:srgbClr val="ffc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5761080" y="4016520"/>
            <a:ext cx="649080" cy="658800"/>
          </a:xfrm>
          <a:prstGeom prst="rect">
            <a:avLst/>
          </a:prstGeom>
          <a:solidFill>
            <a:srgbClr val="ffc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8"/>
          <p:cNvSpPr/>
          <p:nvPr/>
        </p:nvSpPr>
        <p:spPr>
          <a:xfrm>
            <a:off x="4937040" y="5448240"/>
            <a:ext cx="614520" cy="609840"/>
          </a:xfrm>
          <a:prstGeom prst="rect">
            <a:avLst/>
          </a:prstGeom>
          <a:solidFill>
            <a:srgbClr val="92d05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9"/>
          <p:cNvSpPr/>
          <p:nvPr/>
        </p:nvSpPr>
        <p:spPr>
          <a:xfrm>
            <a:off x="8872560" y="4741920"/>
            <a:ext cx="614520" cy="6094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20"/>
          <p:cNvSpPr/>
          <p:nvPr/>
        </p:nvSpPr>
        <p:spPr>
          <a:xfrm>
            <a:off x="7153200" y="4675320"/>
            <a:ext cx="428760" cy="434880"/>
          </a:xfrm>
          <a:prstGeom prst="rect">
            <a:avLst/>
          </a:prstGeom>
          <a:solidFill>
            <a:srgbClr val="9dc3e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21"/>
          <p:cNvSpPr/>
          <p:nvPr/>
        </p:nvSpPr>
        <p:spPr>
          <a:xfrm>
            <a:off x="8978760" y="1498680"/>
            <a:ext cx="400320" cy="347760"/>
          </a:xfrm>
          <a:prstGeom prst="rect">
            <a:avLst/>
          </a:prstGeom>
          <a:solidFill>
            <a:srgbClr val="8faadc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22"/>
          <p:cNvSpPr/>
          <p:nvPr/>
        </p:nvSpPr>
        <p:spPr>
          <a:xfrm>
            <a:off x="9379080" y="1025640"/>
            <a:ext cx="431640" cy="428400"/>
          </a:xfrm>
          <a:prstGeom prst="rect">
            <a:avLst/>
          </a:prstGeom>
          <a:solidFill>
            <a:srgbClr val="c9c9c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23"/>
          <p:cNvSpPr/>
          <p:nvPr/>
        </p:nvSpPr>
        <p:spPr>
          <a:xfrm>
            <a:off x="7816680" y="3281400"/>
            <a:ext cx="374760" cy="371520"/>
          </a:xfrm>
          <a:prstGeom prst="rect">
            <a:avLst/>
          </a:prstGeom>
          <a:solidFill>
            <a:srgbClr val="c9c9c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24"/>
          <p:cNvSpPr/>
          <p:nvPr/>
        </p:nvSpPr>
        <p:spPr>
          <a:xfrm>
            <a:off x="9910800" y="1461960"/>
            <a:ext cx="262080" cy="263520"/>
          </a:xfrm>
          <a:prstGeom prst="rect">
            <a:avLst/>
          </a:prstGeom>
          <a:solidFill>
            <a:srgbClr val="9dc3e6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8"/>
          <p:cNvSpPr/>
          <p:nvPr/>
        </p:nvSpPr>
        <p:spPr>
          <a:xfrm>
            <a:off x="1019160" y="941400"/>
            <a:ext cx="1238400" cy="81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9"/>
          <p:cNvSpPr/>
          <p:nvPr/>
        </p:nvSpPr>
        <p:spPr>
          <a:xfrm>
            <a:off x="1017720" y="941400"/>
            <a:ext cx="12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1122480" y="2281320"/>
            <a:ext cx="944280" cy="606240"/>
            <a:chOff x="1122480" y="2281320"/>
            <a:chExt cx="944280" cy="606240"/>
          </a:xfrm>
        </p:grpSpPr>
        <p:sp>
          <p:nvSpPr>
            <p:cNvPr id="105" name="矩形 10"/>
            <p:cNvSpPr/>
            <p:nvPr/>
          </p:nvSpPr>
          <p:spPr>
            <a:xfrm>
              <a:off x="1544760" y="2286000"/>
              <a:ext cx="522000" cy="601560"/>
            </a:xfrm>
            <a:custGeom>
              <a:avLst/>
              <a:gdLst/>
              <a:ahLst/>
              <a:rect l="l" t="t" r="r" b="b"/>
              <a:pathLst>
                <a:path w="521868" h="601015">
                  <a:moveTo>
                    <a:pt x="0" y="0"/>
                  </a:moveTo>
                  <a:lnTo>
                    <a:pt x="521868" y="39362"/>
                  </a:lnTo>
                  <a:lnTo>
                    <a:pt x="521868" y="553390"/>
                  </a:lnTo>
                  <a:lnTo>
                    <a:pt x="2754" y="6010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矩形 20"/>
            <p:cNvSpPr/>
            <p:nvPr/>
          </p:nvSpPr>
          <p:spPr>
            <a:xfrm>
              <a:off x="1122480" y="2281320"/>
              <a:ext cx="428400" cy="606240"/>
            </a:xfrm>
            <a:custGeom>
              <a:avLst/>
              <a:gdLst/>
              <a:ahLst/>
              <a:rect l="l" t="t" r="r" b="b"/>
              <a:pathLst>
                <a:path w="428541" h="606484">
                  <a:moveTo>
                    <a:pt x="0" y="95250"/>
                  </a:moveTo>
                  <a:lnTo>
                    <a:pt x="428541" y="0"/>
                  </a:lnTo>
                  <a:cubicBezTo>
                    <a:pt x="428541" y="202161"/>
                    <a:pt x="419016" y="575773"/>
                    <a:pt x="428541" y="606484"/>
                  </a:cubicBezTo>
                  <a:lnTo>
                    <a:pt x="0" y="530284"/>
                  </a:lnTo>
                  <a:lnTo>
                    <a:pt x="0" y="95250"/>
                  </a:lnTo>
                  <a:close/>
                </a:path>
              </a:pathLst>
            </a:cu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1122480" y="3517920"/>
            <a:ext cx="944280" cy="609480"/>
            <a:chOff x="1122480" y="3517920"/>
            <a:chExt cx="944280" cy="609480"/>
          </a:xfrm>
        </p:grpSpPr>
        <p:sp>
          <p:nvSpPr>
            <p:cNvPr id="108" name="矩形 10"/>
            <p:cNvSpPr/>
            <p:nvPr/>
          </p:nvSpPr>
          <p:spPr>
            <a:xfrm>
              <a:off x="1547640" y="3517920"/>
              <a:ext cx="519120" cy="609480"/>
            </a:xfrm>
            <a:custGeom>
              <a:avLst/>
              <a:gdLst/>
              <a:ahLst/>
              <a:rect l="l" t="t" r="r" b="b"/>
              <a:pathLst>
                <a:path w="519114" h="609278">
                  <a:moveTo>
                    <a:pt x="0" y="0"/>
                  </a:moveTo>
                  <a:lnTo>
                    <a:pt x="519114" y="47625"/>
                  </a:lnTo>
                  <a:lnTo>
                    <a:pt x="519114" y="561653"/>
                  </a:lnTo>
                  <a:lnTo>
                    <a:pt x="0" y="6092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8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矩形 20"/>
            <p:cNvSpPr/>
            <p:nvPr/>
          </p:nvSpPr>
          <p:spPr>
            <a:xfrm>
              <a:off x="1122480" y="3520800"/>
              <a:ext cx="428400" cy="606600"/>
            </a:xfrm>
            <a:custGeom>
              <a:avLst/>
              <a:gdLst/>
              <a:ahLst/>
              <a:rect l="l" t="t" r="r" b="b"/>
              <a:pathLst>
                <a:path w="428541" h="606484">
                  <a:moveTo>
                    <a:pt x="0" y="95250"/>
                  </a:moveTo>
                  <a:lnTo>
                    <a:pt x="428541" y="0"/>
                  </a:lnTo>
                  <a:cubicBezTo>
                    <a:pt x="428541" y="202161"/>
                    <a:pt x="419016" y="575773"/>
                    <a:pt x="428541" y="606484"/>
                  </a:cubicBezTo>
                  <a:lnTo>
                    <a:pt x="0" y="530284"/>
                  </a:lnTo>
                  <a:lnTo>
                    <a:pt x="0" y="95250"/>
                  </a:lnTo>
                  <a:close/>
                </a:path>
              </a:pathLst>
            </a:custGeom>
            <a:solidFill>
              <a:srgbClr val="a9d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10"/>
          <p:cNvGrpSpPr/>
          <p:nvPr/>
        </p:nvGrpSpPr>
        <p:grpSpPr>
          <a:xfrm>
            <a:off x="1122480" y="4721400"/>
            <a:ext cx="944280" cy="609480"/>
            <a:chOff x="1122480" y="4721400"/>
            <a:chExt cx="944280" cy="609480"/>
          </a:xfrm>
        </p:grpSpPr>
        <p:sp>
          <p:nvSpPr>
            <p:cNvPr id="111" name="矩形 10"/>
            <p:cNvSpPr/>
            <p:nvPr/>
          </p:nvSpPr>
          <p:spPr>
            <a:xfrm>
              <a:off x="1547640" y="4721400"/>
              <a:ext cx="519120" cy="609480"/>
            </a:xfrm>
            <a:custGeom>
              <a:avLst/>
              <a:gdLst/>
              <a:ahLst/>
              <a:rect l="l" t="t" r="r" b="b"/>
              <a:pathLst>
                <a:path w="519114" h="609278">
                  <a:moveTo>
                    <a:pt x="0" y="0"/>
                  </a:moveTo>
                  <a:lnTo>
                    <a:pt x="519114" y="47625"/>
                  </a:lnTo>
                  <a:lnTo>
                    <a:pt x="519114" y="561653"/>
                  </a:lnTo>
                  <a:lnTo>
                    <a:pt x="0" y="6092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矩形 20"/>
            <p:cNvSpPr/>
            <p:nvPr/>
          </p:nvSpPr>
          <p:spPr>
            <a:xfrm>
              <a:off x="1122480" y="4724280"/>
              <a:ext cx="428400" cy="606600"/>
            </a:xfrm>
            <a:custGeom>
              <a:avLst/>
              <a:gdLst/>
              <a:ahLst/>
              <a:rect l="l" t="t" r="r" b="b"/>
              <a:pathLst>
                <a:path w="428541" h="606484">
                  <a:moveTo>
                    <a:pt x="0" y="95250"/>
                  </a:moveTo>
                  <a:lnTo>
                    <a:pt x="428541" y="0"/>
                  </a:lnTo>
                  <a:cubicBezTo>
                    <a:pt x="428541" y="202161"/>
                    <a:pt x="419016" y="575773"/>
                    <a:pt x="428541" y="606484"/>
                  </a:cubicBezTo>
                  <a:lnTo>
                    <a:pt x="0" y="530284"/>
                  </a:lnTo>
                  <a:lnTo>
                    <a:pt x="0" y="95250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文本框 11"/>
          <p:cNvSpPr/>
          <p:nvPr/>
        </p:nvSpPr>
        <p:spPr>
          <a:xfrm>
            <a:off x="1622520" y="2354400"/>
            <a:ext cx="3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31"/>
          <p:cNvSpPr/>
          <p:nvPr/>
        </p:nvSpPr>
        <p:spPr>
          <a:xfrm>
            <a:off x="1623960" y="3560760"/>
            <a:ext cx="3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32"/>
          <p:cNvSpPr/>
          <p:nvPr/>
        </p:nvSpPr>
        <p:spPr>
          <a:xfrm>
            <a:off x="1623960" y="4764240"/>
            <a:ext cx="3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2"/>
          <p:cNvSpPr/>
          <p:nvPr/>
        </p:nvSpPr>
        <p:spPr>
          <a:xfrm>
            <a:off x="2352600" y="2278080"/>
            <a:ext cx="8439120" cy="68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33"/>
          <p:cNvSpPr/>
          <p:nvPr/>
        </p:nvSpPr>
        <p:spPr>
          <a:xfrm>
            <a:off x="2352600" y="3481560"/>
            <a:ext cx="8439120" cy="68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34"/>
          <p:cNvSpPr/>
          <p:nvPr/>
        </p:nvSpPr>
        <p:spPr>
          <a:xfrm>
            <a:off x="2352600" y="4683240"/>
            <a:ext cx="8439120" cy="68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3"/>
          <p:cNvSpPr/>
          <p:nvPr/>
        </p:nvSpPr>
        <p:spPr>
          <a:xfrm>
            <a:off x="2352600" y="2292480"/>
            <a:ext cx="82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35"/>
          <p:cNvSpPr/>
          <p:nvPr/>
        </p:nvSpPr>
        <p:spPr>
          <a:xfrm>
            <a:off x="2449440" y="3500280"/>
            <a:ext cx="82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36"/>
          <p:cNvSpPr/>
          <p:nvPr/>
        </p:nvSpPr>
        <p:spPr>
          <a:xfrm>
            <a:off x="2449440" y="4710240"/>
            <a:ext cx="82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1519200" y="1862280"/>
            <a:ext cx="1133640" cy="728640"/>
            <a:chOff x="1519200" y="1862280"/>
            <a:chExt cx="1133640" cy="728640"/>
          </a:xfrm>
        </p:grpSpPr>
        <p:sp>
          <p:nvSpPr>
            <p:cNvPr id="123" name="矩形 10"/>
            <p:cNvSpPr/>
            <p:nvPr/>
          </p:nvSpPr>
          <p:spPr>
            <a:xfrm>
              <a:off x="2025720" y="1868400"/>
              <a:ext cx="627120" cy="722520"/>
            </a:xfrm>
            <a:custGeom>
              <a:avLst/>
              <a:gdLst/>
              <a:ahLst/>
              <a:rect l="l" t="t" r="r" b="b"/>
              <a:pathLst>
                <a:path w="521868" h="601015">
                  <a:moveTo>
                    <a:pt x="0" y="0"/>
                  </a:moveTo>
                  <a:lnTo>
                    <a:pt x="521868" y="39362"/>
                  </a:lnTo>
                  <a:lnTo>
                    <a:pt x="521868" y="553390"/>
                  </a:lnTo>
                  <a:lnTo>
                    <a:pt x="2754" y="6010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矩形 20"/>
            <p:cNvSpPr/>
            <p:nvPr/>
          </p:nvSpPr>
          <p:spPr>
            <a:xfrm>
              <a:off x="1519200" y="1862280"/>
              <a:ext cx="514440" cy="728640"/>
            </a:xfrm>
            <a:custGeom>
              <a:avLst/>
              <a:gdLst/>
              <a:ahLst/>
              <a:rect l="l" t="t" r="r" b="b"/>
              <a:pathLst>
                <a:path w="428541" h="606484">
                  <a:moveTo>
                    <a:pt x="0" y="95250"/>
                  </a:moveTo>
                  <a:lnTo>
                    <a:pt x="428541" y="0"/>
                  </a:lnTo>
                  <a:cubicBezTo>
                    <a:pt x="428541" y="202161"/>
                    <a:pt x="419016" y="575773"/>
                    <a:pt x="428541" y="606484"/>
                  </a:cubicBezTo>
                  <a:lnTo>
                    <a:pt x="0" y="530284"/>
                  </a:lnTo>
                  <a:lnTo>
                    <a:pt x="0" y="95250"/>
                  </a:lnTo>
                  <a:close/>
                </a:path>
              </a:pathLst>
            </a:cu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文本框 11"/>
          <p:cNvSpPr/>
          <p:nvPr/>
        </p:nvSpPr>
        <p:spPr>
          <a:xfrm>
            <a:off x="2130480" y="1897200"/>
            <a:ext cx="46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5"/>
          <p:cNvSpPr/>
          <p:nvPr/>
        </p:nvSpPr>
        <p:spPr>
          <a:xfrm>
            <a:off x="3063960" y="1913040"/>
            <a:ext cx="4078080" cy="68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16"/>
          <p:cNvSpPr/>
          <p:nvPr/>
        </p:nvSpPr>
        <p:spPr>
          <a:xfrm>
            <a:off x="3159000" y="1928880"/>
            <a:ext cx="38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Here Add Your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7"/>
          <p:cNvSpPr/>
          <p:nvPr/>
        </p:nvSpPr>
        <p:spPr>
          <a:xfrm>
            <a:off x="3063960" y="2732040"/>
            <a:ext cx="7362720" cy="2281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8"/>
          <p:cNvSpPr/>
          <p:nvPr/>
        </p:nvSpPr>
        <p:spPr>
          <a:xfrm>
            <a:off x="3295800" y="2882880"/>
            <a:ext cx="7130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19"/>
          <p:cNvSpPr/>
          <p:nvPr/>
        </p:nvSpPr>
        <p:spPr>
          <a:xfrm>
            <a:off x="1519200" y="2732040"/>
            <a:ext cx="1133640" cy="884160"/>
          </a:xfrm>
          <a:prstGeom prst="rect">
            <a:avLst/>
          </a:prstGeom>
          <a:solidFill>
            <a:srgbClr val="8fa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图片 7" descr=""/>
          <p:cNvPicPr/>
          <p:nvPr/>
        </p:nvPicPr>
        <p:blipFill>
          <a:blip r:embed="rId3"/>
          <a:stretch/>
        </p:blipFill>
        <p:spPr>
          <a:xfrm>
            <a:off x="1717560" y="2806560"/>
            <a:ext cx="735120" cy="735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628200" y="6153120"/>
            <a:ext cx="2374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Calibri"/>
                <a:ea typeface="黑体"/>
              </a:rPr>
              <a:t> </a:t>
            </a:r>
            <a:r>
              <a:rPr b="1" lang="zh-CN" sz="1300" spc="-1" strike="noStrike">
                <a:solidFill>
                  <a:srgbClr val="1c1c1c"/>
                </a:solidFill>
                <a:latin typeface="Calibri"/>
                <a:ea typeface="黑体"/>
              </a:rPr>
              <a:t>免费</a:t>
            </a:r>
            <a:r>
              <a:rPr b="1" lang="zh-CN" sz="1300" spc="-1" strike="noStrike">
                <a:solidFill>
                  <a:srgbClr val="1c1c1c"/>
                </a:solidFill>
                <a:latin typeface="Calibri"/>
                <a:ea typeface="黑体"/>
              </a:rPr>
              <a:t>PPT</a:t>
            </a:r>
            <a:r>
              <a:rPr b="1" lang="zh-CN" sz="1300" spc="-1" strike="noStrike">
                <a:solidFill>
                  <a:srgbClr val="1c1c1c"/>
                </a:solidFill>
                <a:latin typeface="Calibri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Calibri"/>
              </a:rPr>
              <a:t>   </a:t>
            </a: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1519200" y="1862280"/>
            <a:ext cx="1133640" cy="728640"/>
            <a:chOff x="1519200" y="1862280"/>
            <a:chExt cx="1133640" cy="728640"/>
          </a:xfrm>
        </p:grpSpPr>
        <p:sp>
          <p:nvSpPr>
            <p:cNvPr id="134" name="矩形 10"/>
            <p:cNvSpPr/>
            <p:nvPr/>
          </p:nvSpPr>
          <p:spPr>
            <a:xfrm>
              <a:off x="2025720" y="1868400"/>
              <a:ext cx="627120" cy="722520"/>
            </a:xfrm>
            <a:custGeom>
              <a:avLst/>
              <a:gdLst/>
              <a:ahLst/>
              <a:rect l="l" t="t" r="r" b="b"/>
              <a:pathLst>
                <a:path w="521868" h="601015">
                  <a:moveTo>
                    <a:pt x="0" y="0"/>
                  </a:moveTo>
                  <a:lnTo>
                    <a:pt x="521868" y="39362"/>
                  </a:lnTo>
                  <a:lnTo>
                    <a:pt x="521868" y="553390"/>
                  </a:lnTo>
                  <a:lnTo>
                    <a:pt x="2754" y="6010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8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矩形 20"/>
            <p:cNvSpPr/>
            <p:nvPr/>
          </p:nvSpPr>
          <p:spPr>
            <a:xfrm>
              <a:off x="1519200" y="1862280"/>
              <a:ext cx="514440" cy="728640"/>
            </a:xfrm>
            <a:custGeom>
              <a:avLst/>
              <a:gdLst/>
              <a:ahLst/>
              <a:rect l="l" t="t" r="r" b="b"/>
              <a:pathLst>
                <a:path w="428541" h="606484">
                  <a:moveTo>
                    <a:pt x="0" y="95250"/>
                  </a:moveTo>
                  <a:lnTo>
                    <a:pt x="428541" y="0"/>
                  </a:lnTo>
                  <a:cubicBezTo>
                    <a:pt x="428541" y="202161"/>
                    <a:pt x="419016" y="575773"/>
                    <a:pt x="428541" y="606484"/>
                  </a:cubicBezTo>
                  <a:lnTo>
                    <a:pt x="0" y="530284"/>
                  </a:lnTo>
                  <a:lnTo>
                    <a:pt x="0" y="95250"/>
                  </a:lnTo>
                  <a:close/>
                </a:path>
              </a:pathLst>
            </a:custGeom>
            <a:solidFill>
              <a:srgbClr val="a9d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文本框 11"/>
          <p:cNvSpPr/>
          <p:nvPr/>
        </p:nvSpPr>
        <p:spPr>
          <a:xfrm>
            <a:off x="2104920" y="191304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"/>
          <p:cNvSpPr/>
          <p:nvPr/>
        </p:nvSpPr>
        <p:spPr>
          <a:xfrm>
            <a:off x="3063960" y="1913040"/>
            <a:ext cx="4078080" cy="68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3"/>
          <p:cNvSpPr/>
          <p:nvPr/>
        </p:nvSpPr>
        <p:spPr>
          <a:xfrm>
            <a:off x="3159000" y="1928880"/>
            <a:ext cx="38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Here Add Your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3063960" y="2732040"/>
            <a:ext cx="7362720" cy="2281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295800" y="2882880"/>
            <a:ext cx="713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37"/>
          <p:cNvSpPr/>
          <p:nvPr/>
        </p:nvSpPr>
        <p:spPr>
          <a:xfrm>
            <a:off x="1519200" y="2732040"/>
            <a:ext cx="1133640" cy="884160"/>
          </a:xfrm>
          <a:prstGeom prst="rect">
            <a:avLst/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图片 6" descr=""/>
          <p:cNvPicPr/>
          <p:nvPr/>
        </p:nvPicPr>
        <p:blipFill>
          <a:blip r:embed="rId3"/>
          <a:stretch/>
        </p:blipFill>
        <p:spPr>
          <a:xfrm>
            <a:off x="1752480" y="2882880"/>
            <a:ext cx="66528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1519200" y="1862280"/>
            <a:ext cx="1133640" cy="728640"/>
            <a:chOff x="1519200" y="1862280"/>
            <a:chExt cx="1133640" cy="728640"/>
          </a:xfrm>
        </p:grpSpPr>
        <p:sp>
          <p:nvSpPr>
            <p:cNvPr id="144" name="矩形 10"/>
            <p:cNvSpPr/>
            <p:nvPr/>
          </p:nvSpPr>
          <p:spPr>
            <a:xfrm>
              <a:off x="2025720" y="1868400"/>
              <a:ext cx="627120" cy="722520"/>
            </a:xfrm>
            <a:custGeom>
              <a:avLst/>
              <a:gdLst/>
              <a:ahLst/>
              <a:rect l="l" t="t" r="r" b="b"/>
              <a:pathLst>
                <a:path w="521868" h="601015">
                  <a:moveTo>
                    <a:pt x="0" y="0"/>
                  </a:moveTo>
                  <a:lnTo>
                    <a:pt x="521868" y="39362"/>
                  </a:lnTo>
                  <a:lnTo>
                    <a:pt x="521868" y="553390"/>
                  </a:lnTo>
                  <a:lnTo>
                    <a:pt x="2754" y="6010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矩形 20"/>
            <p:cNvSpPr/>
            <p:nvPr/>
          </p:nvSpPr>
          <p:spPr>
            <a:xfrm>
              <a:off x="1519200" y="1862280"/>
              <a:ext cx="514440" cy="728640"/>
            </a:xfrm>
            <a:custGeom>
              <a:avLst/>
              <a:gdLst/>
              <a:ahLst/>
              <a:rect l="l" t="t" r="r" b="b"/>
              <a:pathLst>
                <a:path w="428541" h="606484">
                  <a:moveTo>
                    <a:pt x="0" y="95250"/>
                  </a:moveTo>
                  <a:lnTo>
                    <a:pt x="428541" y="0"/>
                  </a:lnTo>
                  <a:cubicBezTo>
                    <a:pt x="428541" y="202161"/>
                    <a:pt x="419016" y="575773"/>
                    <a:pt x="428541" y="606484"/>
                  </a:cubicBezTo>
                  <a:lnTo>
                    <a:pt x="0" y="530284"/>
                  </a:lnTo>
                  <a:lnTo>
                    <a:pt x="0" y="95250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文本框 11"/>
          <p:cNvSpPr/>
          <p:nvPr/>
        </p:nvSpPr>
        <p:spPr>
          <a:xfrm>
            <a:off x="2104920" y="191304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2"/>
          <p:cNvSpPr/>
          <p:nvPr/>
        </p:nvSpPr>
        <p:spPr>
          <a:xfrm>
            <a:off x="3063960" y="1913040"/>
            <a:ext cx="4078080" cy="68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3"/>
          <p:cNvSpPr/>
          <p:nvPr/>
        </p:nvSpPr>
        <p:spPr>
          <a:xfrm>
            <a:off x="3159000" y="1928880"/>
            <a:ext cx="38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Here Add Your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4"/>
          <p:cNvSpPr/>
          <p:nvPr/>
        </p:nvSpPr>
        <p:spPr>
          <a:xfrm>
            <a:off x="3063960" y="2882880"/>
            <a:ext cx="7362720" cy="2281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5"/>
          <p:cNvSpPr/>
          <p:nvPr/>
        </p:nvSpPr>
        <p:spPr>
          <a:xfrm>
            <a:off x="3295800" y="2882880"/>
            <a:ext cx="7130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37"/>
          <p:cNvSpPr/>
          <p:nvPr/>
        </p:nvSpPr>
        <p:spPr>
          <a:xfrm>
            <a:off x="1519200" y="2732040"/>
            <a:ext cx="1133640" cy="8841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7" descr=""/>
          <p:cNvPicPr/>
          <p:nvPr/>
        </p:nvPicPr>
        <p:blipFill>
          <a:blip r:embed="rId3"/>
          <a:stretch/>
        </p:blipFill>
        <p:spPr>
          <a:xfrm>
            <a:off x="1701720" y="2789280"/>
            <a:ext cx="7700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4"/>
          <p:cNvSpPr/>
          <p:nvPr/>
        </p:nvSpPr>
        <p:spPr>
          <a:xfrm>
            <a:off x="3502080" y="1284120"/>
            <a:ext cx="4875120" cy="578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1825560" y="2649600"/>
            <a:ext cx="1346400" cy="1285920"/>
            <a:chOff x="1825560" y="2649600"/>
            <a:chExt cx="1346400" cy="1285920"/>
          </a:xfrm>
        </p:grpSpPr>
        <p:sp>
          <p:nvSpPr>
            <p:cNvPr id="155" name="矩形 37"/>
            <p:cNvSpPr/>
            <p:nvPr/>
          </p:nvSpPr>
          <p:spPr>
            <a:xfrm>
              <a:off x="1825560" y="2649600"/>
              <a:ext cx="1346400" cy="1285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6" name="图片 6" descr=""/>
            <p:cNvPicPr/>
            <p:nvPr/>
          </p:nvPicPr>
          <p:blipFill>
            <a:blip r:embed="rId2"/>
            <a:stretch/>
          </p:blipFill>
          <p:spPr>
            <a:xfrm>
              <a:off x="2035080" y="281556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6"/>
          <p:cNvGrpSpPr/>
          <p:nvPr/>
        </p:nvGrpSpPr>
        <p:grpSpPr>
          <a:xfrm>
            <a:off x="5353200" y="2649600"/>
            <a:ext cx="1346040" cy="1285920"/>
            <a:chOff x="5353200" y="2649600"/>
            <a:chExt cx="1346040" cy="1285920"/>
          </a:xfrm>
        </p:grpSpPr>
        <p:sp>
          <p:nvSpPr>
            <p:cNvPr id="158" name="矩形 15"/>
            <p:cNvSpPr/>
            <p:nvPr/>
          </p:nvSpPr>
          <p:spPr>
            <a:xfrm>
              <a:off x="5353200" y="2649600"/>
              <a:ext cx="1346040" cy="1285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9" name="图片 16" descr=""/>
            <p:cNvPicPr/>
            <p:nvPr/>
          </p:nvPicPr>
          <p:blipFill>
            <a:blip r:embed="rId3"/>
            <a:stretch/>
          </p:blipFill>
          <p:spPr>
            <a:xfrm>
              <a:off x="5551560" y="2815560"/>
              <a:ext cx="95292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9"/>
          <p:cNvGrpSpPr/>
          <p:nvPr/>
        </p:nvGrpSpPr>
        <p:grpSpPr>
          <a:xfrm>
            <a:off x="8881920" y="2649600"/>
            <a:ext cx="1346400" cy="1285920"/>
            <a:chOff x="8881920" y="2649600"/>
            <a:chExt cx="1346400" cy="1285920"/>
          </a:xfrm>
        </p:grpSpPr>
        <p:sp>
          <p:nvSpPr>
            <p:cNvPr id="161" name="矩形 12"/>
            <p:cNvSpPr/>
            <p:nvPr/>
          </p:nvSpPr>
          <p:spPr>
            <a:xfrm>
              <a:off x="8881920" y="2649600"/>
              <a:ext cx="1346400" cy="1285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2" name="图片 9" descr=""/>
            <p:cNvPicPr/>
            <p:nvPr/>
          </p:nvPicPr>
          <p:blipFill>
            <a:blip r:embed="rId4"/>
            <a:stretch/>
          </p:blipFill>
          <p:spPr>
            <a:xfrm>
              <a:off x="9078480" y="281556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矩形 19"/>
          <p:cNvSpPr/>
          <p:nvPr/>
        </p:nvSpPr>
        <p:spPr>
          <a:xfrm>
            <a:off x="3950640" y="1219320"/>
            <a:ext cx="42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Calibri"/>
              </a:rPr>
              <a:t>Here Add Your Tit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12"/>
          <p:cNvSpPr/>
          <p:nvPr/>
        </p:nvSpPr>
        <p:spPr>
          <a:xfrm>
            <a:off x="1395360" y="4221000"/>
            <a:ext cx="22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12"/>
          <p:cNvSpPr/>
          <p:nvPr/>
        </p:nvSpPr>
        <p:spPr>
          <a:xfrm>
            <a:off x="8515440" y="422100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空心弧 1"/>
          <p:cNvSpPr/>
          <p:nvPr/>
        </p:nvSpPr>
        <p:spPr>
          <a:xfrm rot="11700000">
            <a:off x="1581120" y="2008080"/>
            <a:ext cx="1860480" cy="1859040"/>
          </a:xfrm>
          <a:custGeom>
            <a:avLst/>
            <a:gdLst/>
            <a:ahLst/>
            <a:rect l="l" t="t" r="r" b="b"/>
            <a:pathLst>
              <a:path w="1860550" h="1858962">
                <a:moveTo>
                  <a:pt x="0" y="929481"/>
                </a:moveTo>
                <a:cubicBezTo>
                  <a:pt x="0" y="446865"/>
                  <a:pt x="369682" y="44538"/>
                  <a:pt x="850950" y="3385"/>
                </a:cubicBezTo>
                <a:cubicBezTo>
                  <a:pt x="1332116" y="-37759"/>
                  <a:pt x="1764781" y="295808"/>
                  <a:pt x="1846976" y="771280"/>
                </a:cubicBezTo>
                <a:cubicBezTo>
                  <a:pt x="1929206" y="1246952"/>
                  <a:pt x="1633316" y="1706349"/>
                  <a:pt x="1165949" y="1828640"/>
                </a:cubicBezTo>
                <a:lnTo>
                  <a:pt x="1147568" y="1758510"/>
                </a:lnTo>
                <a:cubicBezTo>
                  <a:pt x="1578523" y="1645763"/>
                  <a:pt x="1851361" y="1222189"/>
                  <a:pt x="1775533" y="783611"/>
                </a:cubicBezTo>
                <a:cubicBezTo>
                  <a:pt x="1699739" y="345232"/>
                  <a:pt x="1300799" y="37690"/>
                  <a:pt x="857138" y="75622"/>
                </a:cubicBezTo>
                <a:cubicBezTo>
                  <a:pt x="413374" y="113562"/>
                  <a:pt x="72500" y="484509"/>
                  <a:pt x="72500" y="929482"/>
                </a:cubicBezTo>
                <a:lnTo>
                  <a:pt x="0" y="929481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2"/>
          <p:cNvSpPr/>
          <p:nvPr/>
        </p:nvSpPr>
        <p:spPr>
          <a:xfrm>
            <a:off x="1892160" y="2476440"/>
            <a:ext cx="14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alibri"/>
              </a:rPr>
              <a:t>75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空心弧 20"/>
          <p:cNvSpPr/>
          <p:nvPr/>
        </p:nvSpPr>
        <p:spPr>
          <a:xfrm rot="11700000">
            <a:off x="5119200" y="2008080"/>
            <a:ext cx="1860840" cy="1859040"/>
          </a:xfrm>
          <a:custGeom>
            <a:avLst/>
            <a:gdLst/>
            <a:ahLst/>
            <a:rect l="l" t="t" r="r" b="b"/>
            <a:pathLst>
              <a:path w="1860550" h="1858962">
                <a:moveTo>
                  <a:pt x="0" y="929481"/>
                </a:moveTo>
                <a:cubicBezTo>
                  <a:pt x="0" y="498350"/>
                  <a:pt x="296721" y="123811"/>
                  <a:pt x="716694" y="24829"/>
                </a:cubicBezTo>
                <a:cubicBezTo>
                  <a:pt x="1136422" y="-74096"/>
                  <a:pt x="1569168" y="128168"/>
                  <a:pt x="1762177" y="513484"/>
                </a:cubicBezTo>
                <a:cubicBezTo>
                  <a:pt x="1955387" y="899202"/>
                  <a:pt x="1857628" y="1367046"/>
                  <a:pt x="1526093" y="1643303"/>
                </a:cubicBezTo>
                <a:cubicBezTo>
                  <a:pt x="1194984" y="1919205"/>
                  <a:pt x="717525" y="1931639"/>
                  <a:pt x="372480" y="1673345"/>
                </a:cubicBezTo>
                <a:lnTo>
                  <a:pt x="413857" y="1618166"/>
                </a:lnTo>
                <a:cubicBezTo>
                  <a:pt x="733312" y="1857271"/>
                  <a:pt x="1175346" y="1845761"/>
                  <a:pt x="1481900" y="1590355"/>
                </a:cubicBezTo>
                <a:cubicBezTo>
                  <a:pt x="1788879" y="1334595"/>
                  <a:pt x="1879398" y="901439"/>
                  <a:pt x="1700493" y="544329"/>
                </a:cubicBezTo>
                <a:cubicBezTo>
                  <a:pt x="1521789" y="187620"/>
                  <a:pt x="1121140" y="374"/>
                  <a:pt x="732541" y="91950"/>
                </a:cubicBezTo>
                <a:cubicBezTo>
                  <a:pt x="343697" y="183584"/>
                  <a:pt x="68967" y="530335"/>
                  <a:pt x="68967" y="929481"/>
                </a:cubicBezTo>
                <a:lnTo>
                  <a:pt x="0" y="929481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21"/>
          <p:cNvSpPr/>
          <p:nvPr/>
        </p:nvSpPr>
        <p:spPr>
          <a:xfrm>
            <a:off x="5429160" y="2476440"/>
            <a:ext cx="148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alibri"/>
              </a:rPr>
              <a:t>90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空心弧 25"/>
          <p:cNvSpPr/>
          <p:nvPr/>
        </p:nvSpPr>
        <p:spPr>
          <a:xfrm rot="11700000">
            <a:off x="8656560" y="2008080"/>
            <a:ext cx="1860480" cy="1859040"/>
          </a:xfrm>
          <a:custGeom>
            <a:avLst/>
            <a:gdLst/>
            <a:ahLst/>
            <a:rect l="l" t="t" r="r" b="b"/>
            <a:pathLst>
              <a:path w="1860550" h="1858962">
                <a:moveTo>
                  <a:pt x="0" y="929481"/>
                </a:moveTo>
                <a:cubicBezTo>
                  <a:pt x="0" y="516692"/>
                  <a:pt x="272473" y="153359"/>
                  <a:pt x="668983" y="37417"/>
                </a:cubicBezTo>
                <a:cubicBezTo>
                  <a:pt x="1065212" y="-78443"/>
                  <a:pt x="1490466" y="80476"/>
                  <a:pt x="1713343" y="427699"/>
                </a:cubicBezTo>
                <a:cubicBezTo>
                  <a:pt x="1936486" y="775336"/>
                  <a:pt x="1903292" y="1228391"/>
                  <a:pt x="1631859" y="1539854"/>
                </a:cubicBezTo>
                <a:lnTo>
                  <a:pt x="1576503" y="1491694"/>
                </a:lnTo>
                <a:cubicBezTo>
                  <a:pt x="1826553" y="1204810"/>
                  <a:pt x="1857131" y="787492"/>
                  <a:pt x="1651565" y="467285"/>
                </a:cubicBezTo>
                <a:cubicBezTo>
                  <a:pt x="1446265" y="147493"/>
                  <a:pt x="1054572" y="1129"/>
                  <a:pt x="689608" y="107831"/>
                </a:cubicBezTo>
                <a:cubicBezTo>
                  <a:pt x="324364" y="214615"/>
                  <a:pt x="73373" y="549271"/>
                  <a:pt x="73373" y="929480"/>
                </a:cubicBezTo>
                <a:lnTo>
                  <a:pt x="0" y="929481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文本框 26"/>
          <p:cNvSpPr/>
          <p:nvPr/>
        </p:nvSpPr>
        <p:spPr>
          <a:xfrm>
            <a:off x="8966160" y="2476440"/>
            <a:ext cx="148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alibri"/>
              </a:rPr>
              <a:t>70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12"/>
          <p:cNvSpPr/>
          <p:nvPr/>
        </p:nvSpPr>
        <p:spPr>
          <a:xfrm>
            <a:off x="5178600" y="292752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谢谢观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接连接符 4"/>
          <p:cNvSpPr/>
          <p:nvPr/>
        </p:nvSpPr>
        <p:spPr>
          <a:xfrm>
            <a:off x="5454720" y="3616200"/>
            <a:ext cx="167148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空心弧 12"/>
          <p:cNvSpPr/>
          <p:nvPr/>
        </p:nvSpPr>
        <p:spPr>
          <a:xfrm rot="14031600">
            <a:off x="4896360" y="2395800"/>
            <a:ext cx="1858680" cy="1860480"/>
          </a:xfrm>
          <a:custGeom>
            <a:avLst/>
            <a:gdLst/>
            <a:ahLst/>
            <a:rect l="l" t="t" r="r" b="b"/>
            <a:pathLst>
              <a:path w="1858963" h="1860550">
                <a:moveTo>
                  <a:pt x="0" y="930275"/>
                </a:moveTo>
                <a:cubicBezTo>
                  <a:pt x="0" y="447299"/>
                  <a:pt x="369290" y="44653"/>
                  <a:pt x="850091" y="3400"/>
                </a:cubicBezTo>
                <a:cubicBezTo>
                  <a:pt x="1330994" y="-37862"/>
                  <a:pt x="1763432" y="296148"/>
                  <a:pt x="1845448" y="772202"/>
                </a:cubicBezTo>
                <a:cubicBezTo>
                  <a:pt x="1927429" y="1248056"/>
                  <a:pt x="1632007" y="1707577"/>
                  <a:pt x="1165333" y="1830104"/>
                </a:cubicBezTo>
                <a:lnTo>
                  <a:pt x="1146950" y="1759973"/>
                </a:lnTo>
                <a:cubicBezTo>
                  <a:pt x="1577212" y="1646990"/>
                  <a:pt x="1849583" y="1223292"/>
                  <a:pt x="1774003" y="784531"/>
                </a:cubicBezTo>
                <a:cubicBezTo>
                  <a:pt x="1698389" y="345571"/>
                  <a:pt x="1299676" y="37586"/>
                  <a:pt x="856278" y="75635"/>
                </a:cubicBezTo>
                <a:cubicBezTo>
                  <a:pt x="412982" y="113676"/>
                  <a:pt x="72500" y="484941"/>
                  <a:pt x="72500" y="930275"/>
                </a:cubicBezTo>
                <a:lnTo>
                  <a:pt x="0" y="930275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标注 5"/>
          <p:cNvSpPr/>
          <p:nvPr/>
        </p:nvSpPr>
        <p:spPr>
          <a:xfrm>
            <a:off x="6684840" y="2378160"/>
            <a:ext cx="1524240" cy="453960"/>
          </a:xfrm>
          <a:prstGeom prst="wedgeRectCallout">
            <a:avLst>
              <a:gd name="adj1" fmla="val -39277"/>
              <a:gd name="adj2" fmla="val 92689"/>
            </a:avLst>
          </a:prstGeom>
          <a:noFill/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文本框 6"/>
          <p:cNvSpPr/>
          <p:nvPr/>
        </p:nvSpPr>
        <p:spPr>
          <a:xfrm>
            <a:off x="6780240" y="239400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7404-97C4-4734-A0A2-2E0CC533F608}" type="datetime">
              <a:rPr b="0" lang="zh-CN" sz="20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5320" y="1376280"/>
            <a:ext cx="112334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722160" y="4222800"/>
            <a:ext cx="11042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06:20:32Z</dcterms:created>
  <dc:creator>D13001</dc:creator>
  <dc:description/>
  <dc:language>en-US</dc:language>
  <cp:lastModifiedBy>a</cp:lastModifiedBy>
  <dcterms:modified xsi:type="dcterms:W3CDTF">2015-01-14T07:55:34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