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6DF-4444-448C-AD85-3D604A09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2C2-EE72-4761-9620-4B52FAE9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6E5-0B48-43D3-A91E-73ECEB15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1C9-08EC-4488-A7E4-583F624B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5B1B-9BF1-4D2D-BBBD-74B04ADF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164D-38F2-4A5B-B7F8-6AD3185F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1444-2218-4608-AEB1-B1E1B370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8C54-27A3-457D-8D80-E3143E0C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0A51-EC79-4F14-B5EF-B4EF27E0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A8BD-3EC0-407E-9F44-73B15C14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0503-FFAB-4761-B90E-966D0184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29A-6489-471E-A1B6-D5005876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E616-2D07-45FC-B3E7-B9DA99AC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2237-662E-4250-A3BB-E785E38C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C12F-717A-4D3C-9741-EA103604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0A29-A748-4475-AEA3-858F8528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5825-32A6-495E-92FD-A6B13D06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ABD6C-0BC6-4A75-B8BA-14A9DF44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7B598-6CD0-45A9-BD8E-473CE3D9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3EC84-0270-4339-94FE-BEB37E81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B5B5-D6E7-4883-AFEA-C90BC480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54BE4-631F-4058-9339-E7308E9C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26A-86AB-46C3-AA55-25A4B5C2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331A4-9E67-4EBB-8EC9-A3BC69A0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8F1DD-3EDD-410D-A391-72E6B381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29503-CDB6-42AE-A470-624DE10E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A35EF-CA93-44CF-A747-58BB8641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F9142-65BE-434B-A462-B65BE85B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6ECB9-BF83-411A-8DBA-1D2A5CA9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63A5C-34BB-46C3-8716-55994278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D06-6AEA-4145-8D6D-AA21F86D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C654-3BF6-46B7-B4FC-DC792DF2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2CE0-6755-44E5-8C4B-1EFD17E1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741-64FA-4236-8570-76EEA2CA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C3C-FB7A-4392-9938-E5162219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C36-1117-48C7-B430-B41E236D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BFA6-3C7F-47B6-949E-8538F33DC179}" type="slidenum"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F8BF-12AB-478C-8A90-B1F9F63FF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6109-B9B2-4AFF-A1D8-85ACFCA9E9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6197-2A13-412C-8294-44A86A6BBC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" descr="未标题-1-01.jpg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" descr="未标题-1-02.jpg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" descr="未标题-1-05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9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" descr="未标题-1-03.jpg"/>
          <p:cNvPicPr/>
          <p:nvPr/>
        </p:nvPicPr>
        <p:blipFill>
          <a:blip r:embed="rId1"/>
          <a:stretch/>
        </p:blipFill>
        <p:spPr>
          <a:xfrm>
            <a:off x="-3240" y="-63360"/>
            <a:ext cx="9147240" cy="69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1" descr="未标题-1-04.jpg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8T10:27:22Z</dcterms:modified>
  <cp:revision>1</cp:revision>
  <dc:subject/>
  <dc:title>PowerPoint 演示文稿</dc:title>
</cp:coreProperties>
</file>