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E8C69-8F06-4F9E-8F80-4B0C578A0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FEE3A-E0FF-4B95-9FFC-EFD01F2F2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DB71D-1D99-426E-B4E8-24C8E386E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9DD3B-5792-47E1-A692-550BAB0A9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CA9BB-E144-4BD9-BB9B-A8CD63CEB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916B3-0BFD-4872-AE76-B1FB41075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A83B3-0BE8-4F05-9C74-E39F7EF36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F6718-9FC9-4747-9A84-CEAD96F1C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B2D1E-6833-4294-934E-4C17BF489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D0353-1BB5-4391-9492-3428630BA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84D36-1CBB-46DF-9995-34238B898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C8421-8710-4F50-A2C4-C993F0B0E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4C98B-FF71-4ECA-95A5-9EB57203E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7F363-67B6-40D0-B160-293FB7533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AD7C4-81F0-4400-9499-C1C2DA23B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03847-C968-4327-9EBA-9EF853108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CB97F-C8D4-421A-9C78-6C937591E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09EB5D-496B-4C2E-841B-67130108C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EDB1BA-8C9F-4932-930B-D851DC014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09E1EA-98D4-4FB9-873C-3260C96AC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D5625E-F88E-478F-8042-2E681A9A5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785317-C835-49AE-BFB3-919C6F6ED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66C61-409D-4065-9CF0-574A5920C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A5136B-2624-4F9A-8BCA-53EACA132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3233E0-A90A-4B64-B2BD-2B1769D03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96E572-B816-4E79-9660-D158099AD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AE1A0C-5DE1-44D9-B3D9-2FF3BA0B6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01FEF1-6374-4487-94C8-257D7ADA0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FE939E-2F8E-483C-9A28-2D58372FA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B7407F-F3E6-4857-BCE7-16FFE2C32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121A5-E102-4725-B33E-89A8AD3C0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FFB5C-1C00-40D0-B488-A3D18D05D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1E3D4-60EF-4EEF-8FA5-539BDED3B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6B436-BDF3-4932-AEC4-E68A7C94A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DC5C0-D8AB-41B3-98DE-5B85DB682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C6426-4A93-463E-9E4A-51D08AF42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09574-EFE1-41D3-B4F7-BE042E17216F}" type="slidenum">
              <a: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01EE6-2825-4430-8272-B3555EF07355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D4D65-6BD5-4359-B5B2-1B8BBDE552E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39ACB-D3F0-4B38-9ADF-C3766E53173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6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2"/>
          <p:cNvSpPr/>
          <p:nvPr/>
        </p:nvSpPr>
        <p:spPr>
          <a:xfrm>
            <a:off x="15840" y="52560"/>
            <a:ext cx="314496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777777"/>
                </a:solidFill>
                <a:uFillTx/>
                <a:latin typeface="Arial"/>
                <a:ea typeface="微软雅黑"/>
              </a:rPr>
              <a:t>封面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777777"/>
                </a:solidFill>
                <a:uFillTx/>
                <a:latin typeface="Arial"/>
                <a:ea typeface="微软雅黑"/>
              </a:rPr>
              <a:t>（设计好之后可以删掉这个文本框哦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3" descr="首页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15840" y="52560"/>
            <a:ext cx="314496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777777"/>
                </a:solidFill>
                <a:uFillTx/>
                <a:latin typeface="Arial"/>
                <a:ea typeface="微软雅黑"/>
              </a:rPr>
              <a:t>目录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777777"/>
                </a:solidFill>
                <a:uFillTx/>
                <a:latin typeface="Arial"/>
                <a:ea typeface="微软雅黑"/>
              </a:rPr>
              <a:t>（设计好之后可以删掉这个文本框哦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3" descr="目录页"/>
          <p:cNvPicPr/>
          <p:nvPr/>
        </p:nvPicPr>
        <p:blipFill>
          <a:blip r:embed="rId1"/>
          <a:stretch/>
        </p:blipFill>
        <p:spPr>
          <a:xfrm>
            <a:off x="15840" y="0"/>
            <a:ext cx="9128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2"/>
          <p:cNvSpPr/>
          <p:nvPr/>
        </p:nvSpPr>
        <p:spPr>
          <a:xfrm>
            <a:off x="15840" y="52560"/>
            <a:ext cx="314496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777777"/>
                </a:solidFill>
                <a:uFillTx/>
                <a:latin typeface="Arial"/>
                <a:ea typeface="微软雅黑"/>
              </a:rPr>
              <a:t>过渡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777777"/>
                </a:solidFill>
                <a:uFillTx/>
                <a:latin typeface="Arial"/>
                <a:ea typeface="微软雅黑"/>
              </a:rPr>
              <a:t>（设计好之后可以删掉这个文本框哦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3" descr="过度页"/>
          <p:cNvPicPr/>
          <p:nvPr/>
        </p:nvPicPr>
        <p:blipFill>
          <a:blip r:embed="rId1"/>
          <a:stretch/>
        </p:blipFill>
        <p:spPr>
          <a:xfrm>
            <a:off x="15840" y="0"/>
            <a:ext cx="9128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2"/>
          <p:cNvSpPr/>
          <p:nvPr/>
        </p:nvSpPr>
        <p:spPr>
          <a:xfrm>
            <a:off x="15840" y="52560"/>
            <a:ext cx="314496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777777"/>
                </a:solidFill>
                <a:uFillTx/>
                <a:latin typeface="Arial"/>
                <a:ea typeface="微软雅黑"/>
              </a:rPr>
              <a:t>内容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777777"/>
                </a:solidFill>
                <a:uFillTx/>
                <a:latin typeface="Arial"/>
                <a:ea typeface="微软雅黑"/>
              </a:rPr>
              <a:t>（设计好之后可以删掉这个文本框哦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3" descr="内容页"/>
          <p:cNvPicPr/>
          <p:nvPr/>
        </p:nvPicPr>
        <p:blipFill>
          <a:blip r:embed="rId1"/>
          <a:stretch/>
        </p:blipFill>
        <p:spPr>
          <a:xfrm>
            <a:off x="15840" y="0"/>
            <a:ext cx="9128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2"/>
          <p:cNvSpPr/>
          <p:nvPr/>
        </p:nvSpPr>
        <p:spPr>
          <a:xfrm>
            <a:off x="15840" y="52560"/>
            <a:ext cx="314496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777777"/>
                </a:solidFill>
                <a:uFillTx/>
                <a:latin typeface="Arial"/>
                <a:ea typeface="微软雅黑"/>
              </a:rPr>
              <a:t>结束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777777"/>
                </a:solidFill>
                <a:uFillTx/>
                <a:latin typeface="Arial"/>
                <a:ea typeface="微软雅黑"/>
              </a:rPr>
              <a:t>（设计好之后可以删掉这个文本框哦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3" descr="结束"/>
          <p:cNvPicPr/>
          <p:nvPr/>
        </p:nvPicPr>
        <p:blipFill>
          <a:blip r:embed="rId1"/>
          <a:stretch/>
        </p:blipFill>
        <p:spPr>
          <a:xfrm>
            <a:off x="0" y="0"/>
            <a:ext cx="9144000" cy="692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3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34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5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14T08:01:06Z</dcterms:created>
  <dc:creator>sg</dc:creator>
  <dc:description/>
  <dc:language>en-US</dc:language>
  <cp:lastModifiedBy>a</cp:lastModifiedBy>
  <dcterms:modified xsi:type="dcterms:W3CDTF">2015-01-14T08:01:14Z</dcterms:modified>
  <cp:revision>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