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174-384D-4E80-A265-3339BD89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0FD-5431-4613-98AC-B56CD131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759-DFCF-485B-8024-641907A4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AE2-B932-43CE-B960-11A8E3ED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CE7F-3C1F-4462-AE01-1D85DC6B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B6F6-A6A3-447B-980E-1924EC4B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CAC7-CE09-4FFE-95C2-96F4B868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AF96-5179-4954-96F7-AA872159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BF49-70F5-4567-905E-EE275C5B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C1F9-65B6-4FD0-B826-360BAE8A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0A19-7ED7-41A3-9999-2DB081ED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89F-8D62-464B-B71D-3D97F62E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4DD9-9E4E-46B9-AF90-76447DC9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6A05-08DB-49E2-8E81-E55886A7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6D6C-43FC-45C2-94DC-1216850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E0A9-1655-4A43-9945-F1ED9961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16AB-CA4C-4381-A4F6-AA66751B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B87F-2EA7-4A89-9681-507BB33F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BB36-7BF3-4ED7-A64B-F11631D7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1F9E-C153-4509-82CF-881EA56A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EC48-DB7C-4540-BC7A-C01C41D2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84C7-9ACC-4DEE-9C6A-3626A474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C19-9B6B-420A-930E-599FF752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BFB2-9FB6-46D8-A1B6-511180FB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C0E3-678B-4571-9AD9-6663453D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3B9D-0457-4FA6-9DE0-111EF78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6EB3-DC89-4D0B-AF16-69869B9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CD54-20DA-43AA-A987-2115835E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5305-6ECA-4AB0-AA71-8693D92B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9BBD-D586-4203-B199-EA11C73B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00A-57E8-4937-87AA-826E8800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244-1A07-4056-8A64-972B5912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061-6DF0-4C5C-A9A8-4E37EF46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DF1-8EC6-4F4E-95F0-D2D9E8C1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40F-7B85-4278-99F6-AD974F7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73C-0E50-4E0A-92E5-CA71B52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250B-AE5A-426A-B636-91E3C0E468B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A51-915E-45FA-9C01-98BCCFB40D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254F-0894-470B-B111-620901AC00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72F6-A93B-4FB9-8323-3FA47EED18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loading1"/>
          <p:cNvPicPr/>
          <p:nvPr/>
        </p:nvPicPr>
        <p:blipFill>
          <a:blip r:embed="rId1"/>
          <a:stretch/>
        </p:blipFill>
        <p:spPr>
          <a:xfrm>
            <a:off x="-250920" y="-25560"/>
            <a:ext cx="9823680" cy="6883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710880" y="4838760"/>
            <a:ext cx="193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康标题宋W9(P)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华康标题宋W9(P)"/>
              </a:rPr>
              <a:t>impl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康标题宋W9(P)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华康标题宋W9(P)"/>
              </a:rPr>
              <a:t>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引言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插画界面"/>
          <p:cNvPicPr/>
          <p:nvPr/>
        </p:nvPicPr>
        <p:blipFill>
          <a:blip r:embed="rId1"/>
          <a:stretch/>
        </p:blipFill>
        <p:spPr>
          <a:xfrm>
            <a:off x="108000" y="6480"/>
            <a:ext cx="9074160" cy="6807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480200" y="36450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宋体"/>
              </a:rPr>
              <a:t>拥有一家自己的咖啡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35560" y="4091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繁宋体"/>
              </a:rPr>
              <a:t>养一只可爱的小猫和小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147200" y="4738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繁宋体"/>
              </a:rPr>
              <a:t>没事儿在工作室里画着小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55960" y="5516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繁宋体"/>
              </a:rPr>
              <a:t>好好的照顾着爸爸妈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454200" y="6237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繁宋体"/>
              </a:rPr>
              <a:t>拥有一个像爸爸一样爱自己的老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929160" y="581976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繁宋体"/>
                <a:ea typeface="微软繁宋体"/>
              </a:rPr>
              <a:t>赚着不多不少的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18960" y="5445000"/>
            <a:ext cx="10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繁线体"/>
              </a:rPr>
              <a:t>可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繁宋体"/>
              </a:rPr>
              <a:t>以随时背起背包去旅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41080" y="3933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繁宋体"/>
              </a:rPr>
              <a:t>有一群可以一起疯的朋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7093080" y="677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  <a:ea typeface="仿宋_GB2312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Lucida Bright"/>
                <a:ea typeface="仿宋_GB2312"/>
              </a:rPr>
              <a:t>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948360" y="136224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生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7230240" y="3327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工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6083640" y="2414520"/>
            <a:ext cx="23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爱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亲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友情 </a:t>
            </a:r>
            <a:r>
              <a:rPr b="0" lang="en-US" sz="1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E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line"/>
          <p:cNvPicPr/>
          <p:nvPr/>
        </p:nvPicPr>
        <p:blipFill>
          <a:blip r:embed="rId2"/>
          <a:stretch/>
        </p:blipFill>
        <p:spPr>
          <a:xfrm>
            <a:off x="7058160" y="-82440"/>
            <a:ext cx="69840" cy="1522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line"/>
          <p:cNvPicPr/>
          <p:nvPr/>
        </p:nvPicPr>
        <p:blipFill>
          <a:blip r:embed="rId3"/>
          <a:stretch/>
        </p:blipFill>
        <p:spPr>
          <a:xfrm>
            <a:off x="7524720" y="3619440"/>
            <a:ext cx="152280" cy="33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梦想界面"/>
          <p:cNvPicPr/>
          <p:nvPr/>
        </p:nvPicPr>
        <p:blipFill>
          <a:blip r:embed="rId1"/>
          <a:stretch/>
        </p:blipFill>
        <p:spPr>
          <a:xfrm>
            <a:off x="108000" y="-25560"/>
            <a:ext cx="9217080" cy="6913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5292720" y="76500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e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繁线体"/>
              </a:rPr>
              <a:t>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703840" y="2732040"/>
            <a:ext cx="1247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一辈子不长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我只想在有生之年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尝试所有我没做过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没想过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没听过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没看过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年轻的时光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不可掉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让自己活得自我一点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真实一点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生活也会轻松不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生活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就是尽情的享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157000" y="1557360"/>
            <a:ext cx="257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We should try ever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to make 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dre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come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line"/>
          <p:cNvPicPr/>
          <p:nvPr/>
        </p:nvPicPr>
        <p:blipFill>
          <a:blip r:embed="rId2"/>
          <a:stretch/>
        </p:blipFill>
        <p:spPr>
          <a:xfrm>
            <a:off x="7093080" y="-149400"/>
            <a:ext cx="83880" cy="184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line"/>
          <p:cNvPicPr/>
          <p:nvPr/>
        </p:nvPicPr>
        <p:blipFill>
          <a:blip r:embed="rId3"/>
          <a:stretch/>
        </p:blipFill>
        <p:spPr>
          <a:xfrm>
            <a:off x="5940360" y="5516640"/>
            <a:ext cx="146160" cy="31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想法界面"/>
          <p:cNvPicPr/>
          <p:nvPr/>
        </p:nvPicPr>
        <p:blipFill>
          <a:blip r:embed="rId1"/>
          <a:stretch/>
        </p:blipFill>
        <p:spPr>
          <a:xfrm>
            <a:off x="324000" y="-2556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4451760" y="907920"/>
            <a:ext cx="393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ove·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amily·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爱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亲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友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286600" y="2349360"/>
            <a:ext cx="27104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拥有</a:t>
            </a:r>
            <a:r>
              <a:rPr b="1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个幸福的家庭，过着甜蜜平平淡淡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繁线体"/>
              </a:rPr>
              <a:t>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日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个疼爱自己的好老公，好爸爸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只可爱的小宠物，猫猫叫香草，狗狗叫布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父母健康，每天幸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群可以互相呼之喝去的好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个闺蜜知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开心了就大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难过了就大哭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生活就是这么 </a:t>
            </a:r>
            <a:r>
              <a:rPr b="0" lang="en-US" sz="2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动画界面"/>
          <p:cNvPicPr/>
          <p:nvPr/>
        </p:nvPicPr>
        <p:blipFill>
          <a:blip r:embed="rId1"/>
          <a:stretch/>
        </p:blipFill>
        <p:spPr>
          <a:xfrm>
            <a:off x="-106200" y="-25560"/>
            <a:ext cx="91422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5443200" y="2133720"/>
            <a:ext cx="103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ob </a:t>
            </a:r>
            <a:r>
              <a:rPr b="0" lang="zh-CN" sz="1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ine"/>
          <p:cNvPicPr/>
          <p:nvPr/>
        </p:nvPicPr>
        <p:blipFill>
          <a:blip r:embed="rId2"/>
          <a:stretch/>
        </p:blipFill>
        <p:spPr>
          <a:xfrm>
            <a:off x="6300720" y="2852640"/>
            <a:ext cx="184320" cy="4005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103160" y="299736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不奢求有多么荣华富贵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只要一份满意的工作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一个可以一直执着下去的爱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35280" y="1177920"/>
            <a:ext cx="244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ometimes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没事儿画画画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写写自己的故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听听喜欢的演唱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35160" y="4068720"/>
            <a:ext cx="16315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ome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背着背包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去世界各地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呼吸不一样的空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020000" y="189000"/>
            <a:ext cx="21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tle D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line"/>
          <p:cNvPicPr/>
          <p:nvPr/>
        </p:nvPicPr>
        <p:blipFill>
          <a:blip r:embed="rId3"/>
          <a:stretch/>
        </p:blipFill>
        <p:spPr>
          <a:xfrm>
            <a:off x="7812000" y="476280"/>
            <a:ext cx="12060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自我介绍界面"/>
          <p:cNvPicPr/>
          <p:nvPr/>
        </p:nvPicPr>
        <p:blipFill>
          <a:blip r:embed="rId1"/>
          <a:stretch/>
        </p:blipFill>
        <p:spPr>
          <a:xfrm>
            <a:off x="-69840" y="-98280"/>
            <a:ext cx="9250200" cy="6938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962520" y="21747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繁线体"/>
              </a:rPr>
              <a:t>谢谢观赏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758320" y="1844640"/>
            <a:ext cx="34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hanks for your wat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line"/>
          <p:cNvPicPr/>
          <p:nvPr/>
        </p:nvPicPr>
        <p:blipFill>
          <a:blip r:embed="rId2"/>
          <a:stretch/>
        </p:blipFill>
        <p:spPr>
          <a:xfrm>
            <a:off x="4786200" y="2852640"/>
            <a:ext cx="208080" cy="45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2T02:38:53Z</dcterms:modified>
  <cp:revision>1</cp:revision>
  <dc:subject/>
  <dc:title>PowerPoint 演示文稿</dc:title>
</cp:coreProperties>
</file>