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166-A4CE-470B-9756-C061F25F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3AC-82DD-4837-BF80-635E4421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EA5D-97DD-4938-9CA8-C8CDC5D2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ED92-78C9-4E55-AEDD-AA31C23C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28048-49EA-46C5-AD82-9D21A03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86EE3-21BA-44CE-960A-B6AB9F3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0F14B-EA27-4B54-83D6-180805D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1B86-7729-4B1F-9D6B-46D9CA22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C89B8-07BD-452D-8BB9-BDC6464B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253F-6E2F-400D-9B6A-85D9A76E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25023-415B-4AA1-9E60-4800424E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22FAB-5132-4012-AD33-1586B318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372-A983-41E0-9233-DC231A94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BA919-415E-4645-9084-FD1A82A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5C875-7474-4DD1-AD91-123923D2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7F230-2221-4630-9D25-6398696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9D1A-BB69-435E-933F-B0CB1259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90CEB-8B9C-4663-B913-59218A66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55265-6736-4FCD-991F-1A6BEB6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8A2B-E72F-4AF9-8E47-C5411C8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AF734-7AB8-4BDA-AD43-75D8DE2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E9E81-922A-4234-A3D1-C8B701E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290F3-ADE5-47D5-9D7C-6F2A85B8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C65-90F1-469F-87B9-7C3368D5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D982B-11FA-414F-A9DF-BC97CCDB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10E5E-A9A5-4220-AFBF-34D49AB4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7009-173A-4D00-A19C-4FB8D15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6CD4B-C71B-4B7E-9D73-FDC4B56F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CEA8C-C4B1-46D6-BF20-5355B1A0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5AF3-777D-4A9A-988C-0D797CA9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DA6B-D138-4607-ABC1-2506FBAA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77DB-AA6A-4A42-94C6-0435784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F5FF-3A43-4890-B609-129FC39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873AF-A613-4F8E-AC3B-2ECDD97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767-D445-4EA4-80B2-EC154EBD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5126B-1CA1-4C4D-AB37-1E5D787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5C660-5953-4D7D-AC72-78BAD83E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D9F7-FC07-4C2C-AB83-35D8B11E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DDC79-6219-47EC-A133-7E2CCC0D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11C51-0DB0-4044-9BCF-C7E92AE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E9EF-8374-4199-8546-11B1D2B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8266C-51F4-4F8F-8BAA-0BBF6CDA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03AF6-5462-4712-B752-48D4C0E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585C1-8126-4242-9646-487F607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F3B0B-F63B-420E-919A-D10A0D7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E00-888F-4480-A2C5-9C24BF7D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035B5-8670-4972-B6B5-7E68D99C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24E81-DAC3-4C06-883C-97A06B5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A7450-4735-4B08-9D58-61FF8A8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A0597-835C-4B1F-9A9E-C456CC1E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26E58-1180-40EC-AC0C-44B295D3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77416-791E-45F3-9908-BA1CB80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ED7DE-28F8-4914-8376-EC80A24D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1ED0A-5AC6-4A0E-901F-A04ED8C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47B37-52B1-445F-AB86-AFCBC1B2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3F540-E70F-4289-AC8C-9DFDD998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01B-74B7-42AF-8CD4-BBAC8D8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4F215-1E17-4287-90B8-796EEC1B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30A86-16C7-4C4B-AC08-3AE55A6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F18F6-C62B-49BA-A4C5-D37C1B9A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39F7D-1D28-4490-ADF3-F00E499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83574-F407-474B-9E6F-4AB421AD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1BBA8-BBAA-4A9B-BD9A-E232AA9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5F065-7A20-448D-AB44-5432DF0D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DFCD0-9DA1-4AE4-809E-5F673DFD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313DB-0940-4A0D-898D-3129A96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2CD79-67AC-4C69-A5B2-131B053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18B0-9B26-46B9-B098-41CC6B4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D8652-AB6C-48D6-AC22-3DDC25B9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675FA-0AEE-4AFF-A1BD-FE458C37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1377E-A191-45FC-ACDA-551FBC6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15237-8124-4D8F-BA75-E712326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F39D4-9931-4D50-9B16-2854694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AE713-0CF5-4D55-BD27-C56B0A6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51100-FBBF-4B4A-812E-A337BC7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F2CE1-67C1-48F6-836B-E95BB9DC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DC6B5-A46D-4BF7-8AC1-EFBBCC5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7AC9-C00C-41A0-9AF0-05DA81D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2A34-8D6A-40F6-93DE-D8DBD9D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282F-7C6A-4455-B562-6A70973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8B0-34AA-4DFF-83ED-5E2331CD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B4C-9672-4E99-9D8E-2B9F285F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2CD5-20FD-4C09-A72D-08A4EBF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61D-FFEF-4783-98CA-BDC384AE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4212-2971-4412-A0A5-142D07E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BB1-2482-4B28-BD81-ADABF807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506E-1D00-4B17-AECA-4F580313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C244-3EA6-4205-8346-42C3DFB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0C6D-2B31-4E91-B063-2908B252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C90B-5AE2-410C-ADDB-347479C6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6191-FCFF-49FC-BFE9-EA90F5F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470-CCDA-48EB-ACEC-BEACA213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5E39-39E2-4583-883E-4CA404C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822A-D6E6-4FD0-91DB-7847645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85AC-E1C7-45ED-AEFC-D81F557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0F97-2FFA-4900-9C19-2F1A41A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A385-EEE0-459B-A18B-DFC4C19F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94B7-A0A8-4AB1-9FBA-306083F9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07DA-AFC0-436B-94BE-1E7775A7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1F06-E114-4288-88CF-1D820644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612E-8079-4492-B4F2-F8BA5D5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0A2A-279A-44A3-BA88-6B04A2D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616-B937-4B1B-9A3F-44C05F2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EBBB-3231-46FC-B25B-530F30AA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612F-E60E-4304-8A3B-2DC1438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6280-24ED-4D7E-802F-5EDE4EC3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7291-DCA2-4E3D-9D1A-E3B6D37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B479-36C4-4F7C-806B-C6E8749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9BC4-F42E-4E60-9480-02911D1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AB62-508A-4A3F-AAC5-4DEDED8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8446-DA20-40F3-A049-2C378FAC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82CC-7783-4CD8-840D-0DDB6A5A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86E0-A080-4A9A-94A3-CA429FB4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E6A-2AAA-4ACF-96A5-426D714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00E6-A803-4E2F-B133-206D0A8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0360-782A-43E6-A8DC-AA1D9542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B1478-0334-4C83-BA2C-A4F26F8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D1AE-AACA-499F-B9EC-AD246CC5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511F-2642-4D1E-86FC-2A6D6F89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9B46-2FD6-4DBC-BA48-51A01DB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F36F-06A6-4EE7-9D65-5BE8E28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6E21-5EAE-438D-8B13-27D1DA30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A66F-AFE8-4619-AF76-3EE167A0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9FDE-0705-410E-9DEC-043EDDAC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73A-10DC-4F7A-97C7-CF631CFB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5E2A-D25F-41F3-A027-A41DCB39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898F-DF26-424F-8AFC-2B3B1731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39DE-0E14-4301-92E8-A50E5E9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B656-3271-4CC5-B195-EA96FC13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62038-7589-4513-B598-2C608CCF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2C51-C3C2-4D29-B4C6-DF11F2D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05A07-A0F1-43CC-AA7D-86BBFA3B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40AB-919C-400E-90D9-6F38970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60B12-FB27-420E-8D7A-E16C6BA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12EF-123B-4AE7-8462-33D1DCE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BCA-7FEC-468A-908C-A03C869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BB901-8074-49A4-8624-18593329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E0F7-0CB4-4201-AAC1-E6532034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613B-670B-407A-A86E-CADFA051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F89A0-719E-4EF1-824F-D055B12B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8C91-6889-4519-AEC4-84C145B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F0C1-1135-4B03-838C-5E2BD28F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A4D05-F4A6-4D4C-91A4-CE2B2F0D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5516-1C5A-46A3-91EA-A8A9FD4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E3341-BEB0-416E-80EB-5D4FDDA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6795-F08C-40DB-9995-95E859A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CF4-3962-4230-8ECA-A52B8D6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97D7-B8EE-46F6-A5A5-EE6EB63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DA36-BA55-43C7-9DD8-9F6DA4B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0E7F-7973-46D3-9BFD-58CF344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E992D-4A42-4A4D-887E-9A9DF6C8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B3FE-38E0-462E-8529-5D218356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3578-972D-4C86-B6A7-66D6A0D0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7A59-2618-433B-8788-6BD402E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6C06-619A-403A-9BA9-CD85A70B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ED78D-D743-4F0F-B1D2-B48FD62A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173C-2398-4703-B45B-2F4173B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9D7-1FC4-44FB-BF8A-EF87D43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121B-90FD-4E08-9AE4-701BB3D7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8597-5C28-4124-ADE2-F7F756E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07305-A4DC-42C3-91B7-89D19604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460C-9F20-47CE-84E8-55D6DE9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0ED3-F98A-4824-91B1-832C551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B3D3-5CED-4CA4-9907-CAF73A32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C4FD-75FA-4C70-BC4C-0D7F32E7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94679-5C36-4C94-AB4A-75FE0E7C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052A0-27AF-4379-A4B1-BE12665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72C35-292F-42CF-9A7B-9EB98FFE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A3E3-5F7D-4A66-86A2-3D79B35AF1C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5EC-E372-414E-8B4B-42314B4BF4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5D0-9CD7-4BFF-BE21-1304B792A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B6E-C037-46AD-9D4D-245435372C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829-CB68-41FC-A289-50D1A281A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FCF-FA55-4C73-970D-24D99E79CB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611-F393-4FB7-B7BE-260109852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763B-9E88-4508-876F-1E57F021A3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0F0-F499-4A81-96BD-34C9E295F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F7D-53B2-481D-8D41-7E0CA038B9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BAE-F3A6-4752-BD1B-83B59A1AE5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EC8-C0C0-4F38-B35C-0E6AD119B8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BC07-F627-451F-A3E4-E41B57B40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69BB-AC2B-4C29-88A6-FD50B6CFC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9371-8A08-4C32-961D-627798020D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264C-A90C-46FA-AA79-3017181882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1A5C-BDC9-47F5-B664-45473D715F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7E1F-7384-4461-90AF-294F95EEA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F1F-26E5-43BD-90A7-7FF763AA0D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B35-79DB-4E78-8B70-E53671609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9C7-D746-49BD-8B05-B1B41041FD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959A-A95A-4FFE-9B9D-F1F7890FA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F2D-293C-4B7B-B681-820D55CD78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00F7-214C-4139-9141-9FAEDEC98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90A9-4BFF-41A7-9E20-08E36A0D97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2DA-58AE-4F57-BC52-EB833B13C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cover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1440" y="1935000"/>
            <a:ext cx="914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nt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Transition p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Transition p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494240" y="4240080"/>
            <a:ext cx="32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6:53:09Z</dcterms:modified>
  <cp:revision>1</cp:revision>
  <dc:subject/>
  <dc:title>PowerPoint 演示文稿</dc:title>
</cp:coreProperties>
</file>