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68D3-DC79-488C-B610-957498F2E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45F9-F73A-4C9C-9C10-99F6BCB3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63D11-42DD-4B91-B4CD-6A274F1A3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76C2-EA79-4CF5-A012-DF5E955A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83A1C-C87F-4508-BA04-2B62C80C0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105B-CACF-45CB-8C41-C5DFBEACC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AAD1-B25C-4CFA-96D9-8E17EEFD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274B-EC7E-46B7-A4E0-9FF7343A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798A-B369-4394-8A57-08EEF29B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72A5E-42AE-4250-B9F1-92A8E4F21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6A72D-A723-46D7-9114-766C6B9D9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4C51B-9090-4B69-BCA1-03008A688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 sfs kuy kuy"/>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e54d4"/>
                </a:solidFill>
                <a:latin typeface="Arial"/>
                <a:ea typeface="宋体"/>
              </a:rPr>
              <a:t>Page </a:t>
            </a:r>
            <a:fld id="{FF1D81D9-DBBB-4625-AD02-75D382A4ED89}" type="slidenum">
              <a:rPr b="1" lang="fr-FR" sz="1800" spc="-1" strike="noStrike">
                <a:solidFill>
                  <a:srgbClr val="7e54d4"/>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7768-EDEC-4220-B9D5-978B0CF498BC}"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386F-B541-47E3-87D2-99B213AA47C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tre yt ruiy z rze"/>
          <p:cNvPicPr/>
          <p:nvPr/>
        </p:nvPicPr>
        <p:blipFill>
          <a:blip r:embed="rId1"/>
          <a:stretch/>
        </p:blipFill>
        <p:spPr>
          <a:xfrm>
            <a:off x="0" y="0"/>
            <a:ext cx="9144000" cy="6858000"/>
          </a:xfrm>
          <a:prstGeom prst="rect">
            <a:avLst/>
          </a:prstGeom>
          <a:ln w="0">
            <a:noFill/>
          </a:ln>
        </p:spPr>
      </p:pic>
      <p:sp>
        <p:nvSpPr>
          <p:cNvPr id="80" name="Text Box 3"/>
          <p:cNvSpPr/>
          <p:nvPr/>
        </p:nvSpPr>
        <p:spPr>
          <a:xfrm>
            <a:off x="1585440" y="62064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7e54d4"/>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160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7e54d4"/>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1187280" y="1125360"/>
            <a:ext cx="6983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e54d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2768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7e54d4"/>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1187280" y="1125360"/>
            <a:ext cx="6983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e54d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9T07:04:3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