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5EC-1E76-41AE-A6B6-87170B8A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C9C-3C23-4E82-8251-F5042174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5C440-55CD-4464-8E32-9FAF507B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EE3DE-8B46-4807-9B38-516BDEEE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5915C-5AB6-4475-BDA0-A4372FA3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A0A7A-5045-4D79-93E0-41352C0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EA1D2-C9E4-4FDF-A7B2-B3200102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4277E-62F5-41A2-BE1D-596CEAC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5980D-3303-4B9D-95A0-BE2C8358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CAEE5-DE7B-4CA3-B64E-27C6CAF2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939A2-2137-443C-917E-704451E2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F7B53-AAC6-4398-A2EB-A857B6B1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E46-B1B1-4900-8A47-E3CABD19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43143-82DE-44C3-9F2B-628743AE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789F5-05CF-4882-92DF-8637D08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044CD-DFE2-4FE4-9C41-07453113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2E762-A7D5-45BD-A44A-0CBC16AF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D058D-6DE1-4220-AB94-8EC85D17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CE50E-23FE-422C-81A8-D209A23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1568F-7A63-4238-949D-A4223880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8EE92-3C88-4965-980D-3E28975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EB12B-5702-46E7-9CA1-A98581D1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7F775-D028-4198-923A-2773C2CF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56F-57C5-42A8-8499-8B1F541E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B50DE-4CF7-4681-BFE6-5E080D1A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67FFD-326C-4B43-A4CB-682BA783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E8F1B-1445-49C2-B79D-25F53E0B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AB336-4699-4FAB-AB80-3CEF82E2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E3BB-0705-4D2A-92B4-2DB97F7A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F583C-A1EB-4361-B804-89666389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5C8A4-0EDC-417E-A879-E8E39BE0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B025A-CA58-4235-A2D0-39604F1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9154D-5342-4850-B627-068FCCBA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121EA-A116-4B59-A7A6-A642FE3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DC24-4AD2-432F-809B-CAAEFA5A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92EB2-C75E-4769-A8DF-97BAC89E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1D6AA-5B02-4B94-8C57-F5C2499C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6D982-B8D2-4806-8DF5-8B850CDC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9FF4E-BAD0-424F-B29B-C61759AB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05E87-B94F-4129-BE90-79677F9C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8332A-FAC3-4247-B9A4-7886E7DC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4C51A-0D0F-48FD-AF51-3BA016C1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F6C66-8BCF-47D7-B1D1-9EB19071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E5F16-7FB8-4F76-98B1-BFC03985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2B409-0167-4E66-8F5E-50F51EF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6E52-332E-42B1-A220-EA0F608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B8133-421F-4C8B-B8EE-27E87A7F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42542-0F4B-461F-AFE0-3955F5D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D3020-B0BB-4209-B14C-29791CC3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BCE1A-BC78-4A5B-906D-48F8CCD4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98C91-4371-486D-AEFC-DE740BE8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F9A46-C8D2-43FF-85D4-CAEE8C88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09DC3-64A1-4F75-8D0A-AE352184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7D6E8-9285-4638-A104-E613443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4C952-EBAC-4847-A654-1E10F718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BA7D2-EBD7-4F41-86BA-FCE48C55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5B92-98F6-4CB4-90AC-10EAA7FA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1EE45-37E6-4261-A1AA-D4307520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8B6DF-DE03-4D9F-B446-1CBCD218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F39A9-2AEF-4CBA-9A39-4E4DB66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5532F-55C5-4E8A-9498-5464A799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4F569-790B-48CB-9B21-005C2CAC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FB47C-CAD9-4E9E-BD19-BBECA1E2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C929A-BBB7-4D26-A3AD-D519BF20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E042-7641-4DF3-A922-EC76E4D3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710A-12D8-4D2F-87BD-8396BD87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3556-1B4D-4F94-9E6B-39EBC85F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44D8-7E68-4E06-9F95-07ECEE2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378-9C1B-4C3A-A0BF-5A3A9838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8E00-5BCA-42A4-A7B7-DFCFA0AA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66D8-2895-4BC6-B6F3-B6EC9972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B7D0-5A88-4371-BD93-BAA6DB10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6240-7A30-4768-BE95-9F385AF1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2AC6-6816-44DC-8313-392AFFE9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8804-89FA-47EF-A92E-907AD723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EBAD-0789-45B6-A7FA-25C3D3D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B9BE-60D4-42C6-9213-A51D6427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26C4-8E67-440E-B159-4500EE0C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CC69-12E3-4E97-AC16-BB295873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73C-F8D4-4689-8A91-5B4E9491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D27E-F7AC-4DA0-8E27-9D5720BC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A41F-2964-4564-8F04-221F1D49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45B2-3ACE-47E8-AF5D-B71F4FA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DC31-F530-4510-92B0-1A9E560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D99E-A39E-42B5-9A74-6710F761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D081-68F0-494D-A5A2-6E3CFAD8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232EF-7E4C-4FEE-B946-E66A16D9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0A5C-BDCC-4D24-B596-2093AA11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4B47-09B6-4800-A636-383041A1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8AD7-1404-49EC-93F9-4AB58C80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800-5ACE-4F5B-A668-911189D2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0AAF-DF39-4C0D-85DE-153492C3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7AD2F-FBF3-47F4-BCAF-B9A7A60E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E9E1B-A1C6-4AA7-9C76-6471D37D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07F2-221B-4507-8193-A3275405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D7B1-B785-49D1-80C9-7884C65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9A089-FB26-404F-B5E2-E332514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6DB2-4EF6-471B-9D7F-94D3C33D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81264-46DA-405F-9EB2-53EB5548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66B7-0B64-4FDC-A8ED-9AAACABD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69B4-2152-4953-A4AA-F403B5A8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E1A-7813-41B7-8261-8DA978A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D9A53-C951-489A-8E5D-627499C0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ED301-E4ED-40C6-9753-9B8B30E7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C618-0953-4A11-BCD9-A692C599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6A40D-A066-445C-AD4A-697FCF96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3D28-BD6E-4F65-975D-4CF25182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796F-FF3C-46BD-BD7E-0F22783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20E6-4FC2-46D8-8232-A34F1D04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3B41F-34F8-4AE3-A1BE-9B85BCFB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5DB0F-B3B9-457C-B460-2327515E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56D4-7875-444C-9A46-4ACE4C6F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C54-CA8D-4395-B97E-CD289D17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36749-99C0-465B-A26B-05B5E14E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745CB-DADD-46E4-ADF4-2EFF97C2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76A72-567B-486F-BA24-E21AC0CD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77622-83A3-480C-B032-EE328A8D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DD57-8B5B-4CF4-AB3C-18628B78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DF984-A00F-4322-A83B-3DCE653F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8827B-2D73-43F8-976C-9964F0CB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2BF6-AFCE-4C63-86C3-E0C18132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41E7-FCDC-4849-8CC1-F9A6A782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F3B77-C2EE-4BF7-9F92-B7C948E1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D25-0519-41A9-B979-5FCD6C1D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37672-3940-4463-9F4E-97A5F159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4B7A-289A-41FD-9B76-BF6D268D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C803E-90C5-4A3C-81F6-0A179E88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F78A-A2B9-49A3-9450-D0E5E790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68135-4A08-40B1-A747-0B31259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A94F0-88CE-4CF4-89D1-699B34A7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A013-E0FC-4A1C-9567-D6312DA5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6B88-9CD4-4777-80DB-7555BE06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539BD-732B-413A-811F-C9CDA039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0BEA0-7607-42B8-82AB-14D2DA74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B64-0E14-41B9-B6FC-87235291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90A2A-6967-4A91-A8E9-4AF4EE7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B4CC5-EBEF-46FE-BF73-A42CA3E3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66234-24AD-458C-A18E-8634A0C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66430-1682-406A-8FA2-45368F69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F797D-6BEB-4D73-B5FC-5C1268B3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EC669-01DB-4E40-BC85-253139EB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0393-5035-4A8B-8388-0F6C0F8C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19B1D-F329-49B7-823F-888CA9C3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47E3-2BBE-48F4-BDE5-FA6D6EB5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50366-7F37-4E2F-A4A6-454E2E8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E99-E618-4EB1-8260-1F32D81E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369B3-7229-40B3-A7D7-D81DB175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D694D-8CAD-43DD-B7DF-04668951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A2712-ADC2-476B-ADE7-FA74F819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F5745-B843-4659-8EA2-F01393C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0088-77BE-4639-B02A-D2FDC8A5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625F8-BB27-4AD9-B2E3-4A3136C0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17EB2-5FF6-4796-AC92-7BEC1005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57DE5-926F-4196-811B-5F2678A8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0A287-A91D-4767-BA63-603BCA4B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831E3-3B43-4F02-AAB2-9376EEB9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3740-A854-4960-9CC9-10F3720DEA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DC30-9A76-467A-9F1C-40B91241044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D8C8-E49C-4124-91CB-5ED38212D97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8026-C26E-4C16-AA88-40F3C5997A9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8825-CC31-41D3-915C-F51B4608E82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575D-A5DE-4B3A-AD79-1888BEA947C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532-5B26-4061-B579-D244BF068FF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83DE-0EBB-418B-A55F-916A781AFF9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73DF-2CB3-4212-BDFB-8826FD5470C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7A3-659D-40E5-BBE5-A6243A758D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3045-3C90-4883-9067-8FC8B3B77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2042-0839-45EA-A7C2-F8EE0A6AD55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BB5C-0C1D-433E-A9ED-E751DB9F408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A1A9-12F2-4277-ACF4-7BBDD92CF5A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ADE-F843-4AAF-A327-03EFB41DEAB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3D12-FFB2-48AA-9E19-3C32C882BE2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B007-EA4F-4ADD-8CC1-A924034A9B7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A8E6-CF5B-44CC-A351-10552A70C0C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64A7-2D76-4780-ADB3-8C192971BD8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5508-67CA-495A-86E2-FA8A2EAB4B1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AADC-957C-46EA-B1CA-A31B98F1AA5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6629-CDC8-4C24-9B00-A4409AFC581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AF48-B6ED-4885-9D08-566637E9992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95EE-39EA-4461-9C24-AC77A29705C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B78-2105-4844-A6F8-D9619D27624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2" descr="封面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图片 2" descr="目录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3"/>
          <p:cNvSpPr/>
          <p:nvPr/>
        </p:nvSpPr>
        <p:spPr>
          <a:xfrm>
            <a:off x="2712960" y="1814400"/>
            <a:ext cx="7035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产地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制作工艺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贮藏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功效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5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相关产品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2" descr="主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4"/>
          <p:cNvSpPr/>
          <p:nvPr/>
        </p:nvSpPr>
        <p:spPr>
          <a:xfrm>
            <a:off x="4970520" y="590400"/>
            <a:ext cx="21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产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6"/>
          <p:cNvSpPr/>
          <p:nvPr/>
        </p:nvSpPr>
        <p:spPr>
          <a:xfrm>
            <a:off x="1106640" y="1962000"/>
            <a:ext cx="10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绿茶作为中国的主要茶类，全国年产</a:t>
            </a:r>
            <a:r>
              <a:rPr b="0" lang="en-US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万吨茶叶，产量位居六大初制茶之首。中国生产绿茶的范围极为广泛，贵州、江西、安徽、浙江、江苏、四川、湖南、湖北、广西、福建为我国的绿茶主产省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2" descr="主页.jpg"/>
          <p:cNvPicPr/>
          <p:nvPr/>
        </p:nvPicPr>
        <p:blipFill>
          <a:blip r:embed="rId1"/>
          <a:stretch/>
        </p:blipFill>
        <p:spPr>
          <a:xfrm>
            <a:off x="0" y="-39600"/>
            <a:ext cx="12192120" cy="68533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4"/>
          <p:cNvSpPr/>
          <p:nvPr/>
        </p:nvSpPr>
        <p:spPr>
          <a:xfrm>
            <a:off x="4808520" y="604800"/>
            <a:ext cx="271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制茶工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5502240" y="2227320"/>
            <a:ext cx="16812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杀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揉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干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2" descr="主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4"/>
          <p:cNvSpPr/>
          <p:nvPr/>
        </p:nvSpPr>
        <p:spPr>
          <a:xfrm>
            <a:off x="4970520" y="590400"/>
            <a:ext cx="21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贮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6"/>
          <p:cNvSpPr/>
          <p:nvPr/>
        </p:nvSpPr>
        <p:spPr>
          <a:xfrm>
            <a:off x="4630680" y="1873080"/>
            <a:ext cx="277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一、忌潮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二、忌高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三、忌阳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四、忌氧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五、忌异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2" descr="主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Box 4"/>
          <p:cNvSpPr/>
          <p:nvPr/>
        </p:nvSpPr>
        <p:spPr>
          <a:xfrm>
            <a:off x="4970520" y="590400"/>
            <a:ext cx="21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功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1308240" y="2211480"/>
            <a:ext cx="1088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防辐射   抵抗病毒菌   美容护肤   缓解疲劳   抗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醒脑提神   利尿解乏   降脂助消化</a:t>
            </a: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抗坏老   护齿明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2" descr="主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4"/>
          <p:cNvSpPr/>
          <p:nvPr/>
        </p:nvSpPr>
        <p:spPr>
          <a:xfrm>
            <a:off x="4541760" y="574560"/>
            <a:ext cx="34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相关产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2021040" y="2581200"/>
            <a:ext cx="83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绿茶瘦身茶方    绿茶粉    绿茶面膜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2" descr="过渡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3" descr="尾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9T06:57:2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