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9F4-BE21-4C5C-8E65-929D5969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776A-55B0-4279-BDF4-7F56C3CB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A512-05BD-498B-B723-7D852960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FAC9-EF3C-45AE-851C-E03FD321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20E8-C401-4140-900D-B8ABDA00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BC02-13B3-4A65-8BF7-01C60269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2525-6312-44E0-85F8-F6F13D68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F111-2B4E-48D2-94F4-1204F60C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0091-60E2-4BC8-BB2A-5449D968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3907-7FDB-46F7-BD34-0D8B95EC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0B45-8926-469F-BE41-A3D66F24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0B91-A848-4E3D-AC0E-8EF6C9BA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1095-15E5-4C72-BA8F-F8F17D47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CE99-58CF-41DF-ADFE-8A867BA8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883C-EEDD-4156-ADE4-29C85647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ED23-7AE8-45F1-8B8E-CC2E2FA0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6E2A-FF8F-4CD6-92D6-C1AE0C71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10D6-1529-47FF-83C4-1267EFB2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DBE9-48D4-4F74-BF6F-6CBBED92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5578-0041-41C4-838C-CD8EA749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EF26-EDC4-4640-80F2-5328F756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9674-0BBC-483E-A107-A38BCAB4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58B2-5ACF-4C27-BA59-BB159C27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C08A-230E-4C25-9323-1850C066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5CBA-5B59-4FD7-A359-F35C38D60F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0E04-5BE6-41B2-BD70-50F70A4019C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7565-AC92-4E41-A398-0141650099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lomo (1)"/>
          <p:cNvPicPr/>
          <p:nvPr/>
        </p:nvPicPr>
        <p:blipFill>
          <a:blip r:embed="rId1"/>
          <a:stretch/>
        </p:blipFill>
        <p:spPr>
          <a:xfrm>
            <a:off x="0" y="620640"/>
            <a:ext cx="9142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lomo (2)"/>
          <p:cNvPicPr/>
          <p:nvPr/>
        </p:nvPicPr>
        <p:blipFill>
          <a:blip r:embed="rId1"/>
          <a:stretch/>
        </p:blipFill>
        <p:spPr>
          <a:xfrm>
            <a:off x="0" y="620640"/>
            <a:ext cx="9142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omo (3)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lomo (4)"/>
          <p:cNvPicPr/>
          <p:nvPr/>
        </p:nvPicPr>
        <p:blipFill>
          <a:blip r:embed="rId1"/>
          <a:stretch/>
        </p:blipFill>
        <p:spPr>
          <a:xfrm>
            <a:off x="7920" y="703440"/>
            <a:ext cx="9142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lomo (5)"/>
          <p:cNvPicPr/>
          <p:nvPr/>
        </p:nvPicPr>
        <p:blipFill>
          <a:blip r:embed="rId1"/>
          <a:stretch/>
        </p:blipFill>
        <p:spPr>
          <a:xfrm>
            <a:off x="1440" y="54936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9T06:09:40Z</dcterms:created>
  <dc:creator>Administrator</dc:creator>
  <dc:description/>
  <cp:keywords/>
  <dc:language>en-US</dc:language>
  <cp:lastModifiedBy>a</cp:lastModifiedBy>
  <dcterms:modified xsi:type="dcterms:W3CDTF">2014-07-16T08:44:46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