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B40-C55E-4B94-A895-F9887F4D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A3B-8CFB-473C-9750-BB9342A5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CA660-D204-4356-840F-E1E0CCB7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392B2-4D8B-4295-B450-1C724F49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5BCDD-D198-41C1-AE15-9D4EF079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1BB8D-0B87-4BE0-A14C-FAC931EA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B96F5-DF3A-47AB-A9CB-5257D718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B07CD-9D16-4127-BE11-3C89751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353AE-475E-4ECC-9A3D-76B1E785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EC10B-5701-463B-A9C2-A5A23FE7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AC83B-A46F-41F0-8652-2491AE4E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57675-500B-46D9-B75A-374625BD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DF1-A908-4F4C-9440-A8E22559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0F341-2FFE-4FBE-926B-B6B93AC3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59304-A776-4FF8-8AD0-520ECA9F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BDCE3-B3A2-4061-A3B1-6A8A004D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E92BD-6077-4796-92BA-6C289DBE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F807C-8700-4054-8F2D-E55FC1B8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BDB1A-3DF3-48F4-8EA1-8A8834A9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D295E-F77D-4AEA-ACB9-0BC84F30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876C8-8C0E-4E4A-8F47-F23D2AA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847EA-1ED8-4E0E-9E37-2C06FA10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D9384-FB59-4156-ABEA-6A31B894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C2C-5584-454B-A594-122F031F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4371D-6A8C-4D3F-A237-98547D0C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6EBFD-EC08-4E61-91A4-651BD6F8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E0C2C-3AC3-46A7-9376-E8369814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04FD2-3F20-43BE-A8B0-63AE32E9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3A2C5-CE90-49C5-9686-189AD38E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A4FF6-E83E-46E0-9EB5-ABAE6811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2D47E-20BA-4846-B2E2-6DF8033C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7DE0F-67C9-42AA-B799-51A80FDC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6A9DF-D2F4-4B9E-BE9E-9C20D9A3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5E189-33B4-48C2-BC22-0746FE88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098E-465B-45E8-8C6A-AE28AD36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5A3E3-66E2-4549-AD90-B50FD08D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165E2-78DD-45C4-A591-AA097BC8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29A7E-1411-4775-B7B2-38AA8682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4CC3F-F671-425A-9FDF-3B8DA52D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51D4C-A0C3-4276-813B-3F4D27CA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CA0D5-A773-4156-A1B9-EEC0BC08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DC3EA-7D7E-4FA9-A465-5591EE0F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5149B-8DC9-4533-A49C-22A6D540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E84FF-6FC9-4B1F-9EB2-6F6357CC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F4B16-90F2-4EE9-A848-BD0446A0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A7E1-156B-4727-9074-91B0E43C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D56F6-48B2-48CB-B60F-F527A15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8F001-564C-4912-8BE8-5326094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1F324-4720-45D9-B045-86A80516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E3B22-BE44-45C1-B030-B21577A5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64577-6834-4201-959D-CF5F2BA8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15794-FFE9-4278-9A76-7026C6AF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A35CE-2A7A-4702-B6D6-6E686284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F8B01-2C28-44F7-967E-9AE3A1EC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5AEA2-D3BB-44FB-9284-B9E0784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7F2D3-5299-4062-88CA-13EFB103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C46F-1308-4C7B-9705-9D9EDE15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13980-6540-4EB5-8DAA-996D1364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2472A-33FE-4835-8931-AF15A2AE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1E20F-2129-4794-92C0-0DED24A4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B2981-0078-4946-A1E7-51F18FAE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969A8-41D6-4065-8EC7-2DEBC0AE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3F417-731F-44B5-B88F-6F49E1AA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ECB70-E5BE-4430-849E-BF3673FB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A6F38-38EC-4A67-97FC-7329A559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AAFF0-03AF-4278-863E-F38C9F60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39AB5-FF7F-48C8-A2BE-FE521492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90BA-F28C-4DDB-8BA8-C0B783FA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9BCBD-0C2B-494E-B816-C4CA9300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896FD-BE12-42F1-8AB1-E73DFE22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9A544-1C7F-4B02-9B37-EE4F2E2C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12CB8-6C68-4900-88A2-892F00CF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79D67-8358-4FC2-B219-13FC8A2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D1E84-7768-4C29-855B-BBC89BA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3A2A7-0FE3-49B0-9275-3F2C653B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562D4-543B-4F0A-81AC-5C886C69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C45FC-6DCA-453A-BBA3-CB67E835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86343-E531-4947-B6FB-BBFA82FC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5D29-6B6F-4895-9FB4-F14E1F2B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C8A3F-1B86-401C-89DC-F120BD6D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D33FA-A191-45F5-AE66-8BB53D9B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C0458-A931-4842-8F11-94DA9DB9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C949C-5E05-44EA-94A4-5F84B9DA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94EF1-1983-4422-8481-7D475489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28478-D176-48B2-928B-F57A1D26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3CF6F1-5A4A-45F9-8C61-0CAFABCB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C1779-0459-4840-8DA3-F98AFB93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CF6CE-4DD0-4ADD-953D-3B0C8E96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0792A-79C1-4F3C-B1DF-333DE412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470E-79CC-47AA-AFC7-2DF78575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7628D-ED78-4788-B1AE-7A0B0627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CACB4-E686-434A-8C0A-C58FC647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BFE20B-C98F-4414-874C-B06B3451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48B86-FE2E-4A0E-8271-E4005B43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59F01-3036-4611-87DF-59FF145A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DB076-DE19-4C99-A493-C362FCFD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E4EFD3-9C6F-4204-ACCB-0D9AD349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B7933-49BE-4BA3-A06B-8C87E6DE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6DCF2-9ED7-4F08-A823-720DAE82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B9260-184C-4766-9796-873D28F4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C54B-7C3D-4F9A-8C9B-6804145F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F88E6-9399-4F99-9F43-30B52C50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0CE63-5971-4480-9BD6-096287E2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8FAB4-3B94-4875-B2CD-BB3A11C7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C315B-A6B1-4764-8A98-DA6DB1D5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E8D39-4F8B-4D72-93B9-078AEE85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5307D-E3F4-4555-9671-38C83BA6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081B9E-E020-454A-BB60-84E4D6BE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762E46-4E8E-4A04-8C21-66693344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4BCB9-EE34-421E-BC72-55E33655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51152-D1BB-4EC9-BF4E-1F7526C7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7AA-3928-4D40-A528-FDEAAAC1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236C-4438-4A94-995B-BE7D3574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80E71-E0C9-48DD-92F6-A11105FB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56197-7ACE-4D9D-ACDD-B07A2D65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489E7-456C-40C6-B2BB-C32F6C21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D9E98-34B9-48A5-A695-EB2B25E8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08760-EC5A-49B1-A0A4-5CFB7843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2DFD72-FE09-4D74-B9CE-8A9DFE95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13865-556F-4559-812B-D056438E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31C81-E653-4FAC-875A-FAF5B31F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3F601-45BC-4348-AC14-3ECAF900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944C4-8563-40C7-83FF-B282B59A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C5BF-2EAF-416D-B736-B057829D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FEECD-20E1-4C3F-81EB-DC88835D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55E29B-3735-42C0-91F9-33B63006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24FDE9-3CB2-4CBD-A544-04E2CD5F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E17DDB-AD6A-4CCF-A4F2-B745E4E1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37603-4037-47D6-85BA-47EA3FEB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6D1178-3F7B-4829-BD20-14824651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E66B0B-D3E4-4B85-B2FC-6ABAE553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42ED6F-8650-42F1-92E3-F70D3CB1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EEE904-77A3-4842-9912-50B9BC5F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2238B5-8705-4CBC-9A17-F3F5A15D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D6A5-E2E8-465C-9190-7B951CD8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F2CE50-A108-4713-8361-76A0D254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4EEAB-899A-4A89-A521-E266B0F7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98A6C7-5FC3-4437-B2FB-A5F5C535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9E6C4C-E0DA-495E-B2CC-B99B7E76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142B32-ABDE-4BBE-9E72-F1AF8384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C54AD3-BCCE-4EB3-B09D-25C15975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6C49E3-6D52-45D1-BB70-BCC4932A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DEECE-9DDE-45A6-A650-D2075039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5E2B0-27F7-4BF2-8910-EEF6DE70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21F899-10CA-4512-BE08-946003D6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90C5-A9C2-431C-9AFF-CB497354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027D83-E3C7-40FB-8545-A3E3D688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1B5FD-1954-4A1C-BE88-5627735B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CBE98-1DB1-456D-BE9B-B667A08F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FF92A-6326-417D-A5AD-DFE0CD39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2319AA-7FD8-46AD-9109-1AC77F2D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0ACFEE-1623-4059-BF40-47FF3774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491178-5FB1-4612-8A73-66805F07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26EDB-7E14-4212-8EFF-184B8AB4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A0C5E3-0D62-4EC6-A81E-1FB95BA6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EDE65-872A-49A5-AE09-6A21C807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CA7D-16AA-4425-8EE7-62950CC6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B4FD6F-9A27-4422-96A0-D5B76E88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030006-68C0-4EF3-A5F9-08250027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2521DF-AB5E-4A34-8946-DEED0AFD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6538F3-E29F-4675-A5E1-AE64CDC2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6C9445-9DE9-40EB-BE49-607544E0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D501B6-C745-466C-B6FF-2103B489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B5AB7-F852-4F9F-89F1-DD3138DE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062638-FF39-464B-B5B5-944BF947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5C6108-6489-4412-8AC0-301D3508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FFD255-65F2-4E83-A8C1-9C06C69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6913C-3FF2-41E9-9211-0C958F3F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B902F5-8D73-4A49-A4B7-C8CA118F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95EA6-1388-484C-86AC-5CFC290A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59B6FC-44B9-4D60-B8C1-AD729942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00C3F-D750-4B9B-9DAF-CA9205F1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63D96-26DD-4730-8734-A290D721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93E852-9E34-46EA-8062-FBCCCD0D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B12CFF-4CA3-47E3-95C0-673C89F0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04A297-0521-484D-B783-85BD1F1F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3C46AD-E38C-4B2F-A614-8668DED0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9FAFE3-DE5F-44B2-8169-F51350B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FCE1-6E2A-497A-8FF7-672A6F0D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3B0DF8-A745-4888-BEFA-0BE30414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98288B-17B0-4B99-90B5-75AB8E3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C3D296-D7EE-45B2-96A6-4BF33F9A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DEA9E0-1C69-46EB-8520-F2CA7E5A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D45B28-58ED-4BB4-815B-1E8729BD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531F94-393B-4453-8129-F1F3171A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B5445E-6123-4D9D-A26D-99758096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DB0847-0ABC-4E08-9EED-0FB1477C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ECC995-B410-4BAD-A8B1-DF764582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9CEEAD-E079-4714-AE84-0063BDF9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3FEF-5196-455A-81A8-9DAB1E87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A42D65-9382-4F46-8BC8-98F8CDA4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C9922A-6EEF-4BED-855A-0EC7D36A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BCE664-69AC-49A8-B3CD-4C8B379B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C257E6-F19C-4C6B-8803-B7CE617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0A8394-756D-44B2-9DE9-AFDDFB8A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674D02-9492-4823-87B5-1292E4C9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A3BB37-A024-49F7-9B86-E4B11DF9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A52F87-C990-4C61-8530-CD14B96F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B26E7A-99F9-480B-8E52-AD2C9C84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94CC32-B51E-460F-AA6A-B8FACD42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594F-A557-43F4-B34B-81AFABFD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4E5A8A-21F6-4A4B-954E-604B6F08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B76C39-B6D9-4F34-AB54-C213A8CF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6675F4-387C-4D91-A504-462DC156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2E983A-6743-4CF9-9694-144D8B79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28D1DA-645F-4B16-BB2B-0D414BB1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70AA1C-A8BC-4751-96B0-15C4B4E7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BF5AE3-513E-415C-A0DB-7E075CC8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5A33F0-9245-47A3-A172-97F2BCF0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8F1FC1-49EE-49A1-902A-29FA85B4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0787-BA92-4EC5-A210-0BD4D086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37C-05DB-4B7F-BD42-3976A72A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0A2A-707F-4652-9D16-5971C2F4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D4AE4-B708-468A-A870-190CB836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A151-7EF6-498E-B1DA-7917481B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8D9B-D64F-4124-9DF4-F1F0F571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50071-E975-403D-A7DD-91DE696C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80A1-6B8C-4271-8C59-956870D9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5204-32F4-4944-956B-1CA4751B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3984-23EA-4963-AE79-291113D7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B7624-5B24-4EA0-9946-572ECDFA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E3108-9FE4-473D-A331-0FB5320C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48E-EF38-4E01-99F5-B2CE692C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4EF7-3CEA-47F6-9BE4-ED2A54E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59E7-C4AE-4097-9D76-E72AB7AA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A926-42FA-4967-912A-0BED8A3B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0F33-A87B-4605-BB68-4DFEB9A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CF419-3D03-45EF-BA40-D730D75C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518B-F2A4-4699-90D9-09208007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DE77E-8617-47F2-997F-091EB7C7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569D2-4C35-4EFE-AA28-0103ECF4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71BEB-15EC-42CD-8477-2D1A279E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B343C-F5BD-405E-ACBC-0124163C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5A4-DEE5-4892-B10E-C3C42F00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D24F4-BCAA-4E9F-8712-97E4B631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199A-732E-41C8-84F8-2087794B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65E1-F8CD-410C-B3FB-6DACC610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B3585-C7AE-45A5-A386-B0F7D5E3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FAB7D-D0BD-4A6A-94F0-E5D1B464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DEDA-DD3A-4FAE-8AAB-EF2C4BC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275D4-46F2-4E81-A6B4-A90B6FBC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12E6F-129E-4532-9406-BC1D5BBE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6675-E336-491A-BBD0-BCA83DA3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0E82B-81DA-4B64-B08D-868E1DA2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81B-3FBA-4173-BD64-0E9DDB02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D78F3-98AE-4DD7-B117-2823DCC8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F0A2D-929A-4CD5-A6E8-0B2D3E73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B508E-786B-49D4-B079-73513315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9E993-783F-4656-A8C9-0077FC1A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41F56-F07D-4026-9172-8C07456D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EBA0B-6F8C-47BE-99B3-524373C8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8BCB-EB9F-43DC-802D-C67EB16B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BF49B-90DE-4AEC-9AFA-D1C0913A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22A28-145E-47FC-AEBA-2B105C05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68D59-FEAB-4CB9-9949-5A4B3663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D2F-9D44-4A28-9A2A-712E0019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374A9-0448-4FA4-8100-5F3E104A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DD980-F869-4C97-AF77-4B08C89B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078B3-0462-4D39-A154-F66CADC8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56095-9233-415D-887C-D813A18A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A94FB-8850-455F-9450-4119A2D2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F5C4F-939B-47C3-A20A-150406A2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00C55-68E3-4D87-8365-67288B08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A376-98BB-4232-8E26-4DF09AC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03727-EB6D-43A3-AFB7-525F8E7F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434EA-2C6B-4CE8-A2BD-A9893698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228-E667-4F30-874B-7139EC8F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7547F-257A-43C1-9CD4-568EAFD1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5C84-9A21-486B-B705-6B70839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58437-7753-4A99-870B-FFCA697D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BAD58-4070-4118-8357-12ACDF13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E1A6C-F795-48D9-861A-A6D5358C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FBCCB-4A2B-40C7-842D-59A50BE8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1D8F8-CC39-42EB-8325-9E2DE6D3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5238A-9D7E-4292-BE66-BE90C725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0DD4A-871A-40D2-99F9-76C2C6BA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FC324-FE76-4927-A714-720CB16C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9CA-21F4-420D-A160-EA830371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D751C-3CCD-49AB-9376-FEAB0A8D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2D3AF-355E-4D1B-81CB-765E5954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F0C2F-745B-4C32-BA9F-2309B816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CC325-4DDB-43FC-BD1B-C018D81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4F5A4-3AB2-4265-BB9E-9C386E5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F227-BD53-4C9B-ACD8-66BB18D2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C1118-A5A2-4B2D-9410-61A18337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A193F-7B14-49FC-8FA4-ECCE36B3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3DB06-40D3-44F7-B152-C20BC9D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C173B-DC9A-4CC6-AFEE-99E2EC21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EEC9-EE59-41B9-A84F-456235A88A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34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36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437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438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0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D4F5-F0F4-482C-B482-90F725B6A0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83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85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486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487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9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4E76-9CA6-4379-B2B7-D725A57B82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532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534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35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536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8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6DC9-E418-473D-A52F-D1179892CE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8F82-D572-465F-9EBE-22BE823CD2EC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7174-61DF-4B9A-A1A9-F22853BB322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0834-97E3-46A2-A45A-34F45B0B181A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040C-CF49-4AA8-AD94-56B95AAA11B6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4EAF-7988-409D-9BBE-7C0CE70F26E1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7CAF-9FD7-4952-9B0C-87C11891E33D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A6FF-45D2-4EBD-B486-E7789EE190B2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7166-9B85-4E2C-889F-21F99BBE6302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0448-0EE3-4F6A-A4A8-643CA366F3C3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5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5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0B0C-1361-49EA-ABA9-3615720D896A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CB47-77EB-40DF-869B-422BA08C014E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011B-722A-46C8-A2BD-F2F3C370BFDD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E1FE-4836-43FE-A75A-7530CD7EE3BE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CEED-C8CB-4EB1-85BE-7D4C1270A165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4389-4853-4451-8D4B-7A1186F910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0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51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Text Box 13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A063-4F5D-4F07-A624-484EE3E57016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6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25DF-8E94-4DA6-8A03-75F93C3C00EF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6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C6FD-610C-44B8-B902-4EC3F74D050D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6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6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DABF-40D9-4CC4-8B3A-5C09C6E9F221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6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A60C-BF4C-4329-B06C-77C46F183588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ftr" idx="6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sldNum" idx="6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F912-820C-475C-800E-62F18BBA0C34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138F-099B-4E33-B0CB-ED36CF45CCB3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9CBD-2B69-4D4A-8984-9CE8D9F73710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7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51FB-4B44-419E-9114-C1909AB527C2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7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7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D0B2-E9FB-41EB-BC75-C82A1CEB2CCA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91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94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95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9C0E-6804-4DB6-9286-CDF5F33F16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42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143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144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D464-B1FC-4BC5-846B-4A55AC44EE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189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91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192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193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DAB9-3DB2-447D-95E1-1020E6E603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238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240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241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242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4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F9DF-2C5C-4EC6-9813-29D2D78031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287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289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290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291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3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D114-8D19-46C4-9B01-CA31489D72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336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338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339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340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2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B258-2E5D-43D9-B323-32E61B8BDA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385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387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388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389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1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E138-E5E2-4F5C-A9A8-22A0301BD3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73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1081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3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66" name="矩形 29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369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6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377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4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93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5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396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0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7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408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5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416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3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93" dur="750" fill="hold"/>
                                        <p:tgtEl>
                                          <p:spTgt spid="1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95" dur="750" fill="hold"/>
                                        <p:tgtEl>
                                          <p:spTgt spid="1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5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05" dur="2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5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13" dur="25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9" dur="1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1" dur="2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27" dur="1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9" dur="2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435" dur="1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7" dur="2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45" dur="2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5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451" dur="1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53" dur="25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32" name="矩形 30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4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435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2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443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0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59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1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462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3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4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6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3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474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1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482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9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460" dur="750" fill="hold"/>
                                        <p:tgtEl>
                                          <p:spTgt spid="1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462" dur="750" fill="hold"/>
                                        <p:tgtEl>
                                          <p:spTgt spid="1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5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5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72" dur="25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5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78" dur="1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0" dur="25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5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8" dur="25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5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94" dur="1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96" dur="25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5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04" dur="25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5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10" dur="1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12" dur="25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5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0" dur="25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98" name="矩形 29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0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501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8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509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6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25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7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528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9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540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7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548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5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527" dur="750" fill="hold"/>
                                        <p:tgtEl>
                                          <p:spTgt spid="1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529" dur="750" fill="hold"/>
                                        <p:tgtEl>
                                          <p:spTgt spid="1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5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5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39" dur="25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25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47" dur="25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5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53" dur="1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5" dur="25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5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63" dur="25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5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69" dur="1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1" dur="25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5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77" dur="1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9" dur="25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5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87" dur="25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64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5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566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3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574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1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矩形 30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0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91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8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1599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1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4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4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4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4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160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0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TextBox 7"/>
            <p:cNvSpPr/>
            <p:nvPr/>
          </p:nvSpPr>
          <p:spPr>
            <a:xfrm rot="20926800">
              <a:off x="2573280" y="26650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86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3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1094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6" name="组合 1"/>
          <p:cNvGrpSpPr/>
          <p:nvPr/>
        </p:nvGrpSpPr>
        <p:grpSpPr>
          <a:xfrm>
            <a:off x="1646280" y="2185920"/>
            <a:ext cx="5856120" cy="1105200"/>
            <a:chOff x="1646280" y="2185920"/>
            <a:chExt cx="5856120" cy="1105200"/>
          </a:xfrm>
        </p:grpSpPr>
        <p:sp>
          <p:nvSpPr>
            <p:cNvPr id="1097" name="TextBox 67"/>
            <p:cNvSpPr/>
            <p:nvPr/>
          </p:nvSpPr>
          <p:spPr>
            <a:xfrm>
              <a:off x="1646280" y="2185920"/>
              <a:ext cx="585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标题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TextBox 68"/>
            <p:cNvSpPr/>
            <p:nvPr/>
          </p:nvSpPr>
          <p:spPr>
            <a:xfrm>
              <a:off x="1650960" y="2922840"/>
              <a:ext cx="58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副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9" name="组合 1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grpSp>
          <p:nvGrpSpPr>
            <p:cNvPr id="1100" name="组合 16"/>
            <p:cNvGrpSpPr/>
            <p:nvPr/>
          </p:nvGrpSpPr>
          <p:grpSpPr>
            <a:xfrm>
              <a:off x="-286920" y="1379520"/>
              <a:ext cx="898560" cy="520560"/>
              <a:chOff x="-286920" y="1379520"/>
              <a:chExt cx="898560" cy="520560"/>
            </a:xfrm>
          </p:grpSpPr>
          <p:sp>
            <p:nvSpPr>
              <p:cNvPr id="1101" name="矩形 36"/>
              <p:cNvSpPr/>
              <p:nvPr/>
            </p:nvSpPr>
            <p:spPr>
              <a:xfrm>
                <a:off x="-20520" y="1450800"/>
                <a:ext cx="36288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TextBox 37"/>
              <p:cNvSpPr/>
              <p:nvPr/>
            </p:nvSpPr>
            <p:spPr>
              <a:xfrm>
                <a:off x="-286920" y="13795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3" name="组合 17"/>
            <p:cNvGrpSpPr/>
            <p:nvPr/>
          </p:nvGrpSpPr>
          <p:grpSpPr>
            <a:xfrm>
              <a:off x="-286920" y="1833120"/>
              <a:ext cx="898560" cy="520560"/>
              <a:chOff x="-286920" y="1833120"/>
              <a:chExt cx="898560" cy="520560"/>
            </a:xfrm>
          </p:grpSpPr>
          <p:sp>
            <p:nvSpPr>
              <p:cNvPr id="1104" name="矩形 34"/>
              <p:cNvSpPr/>
              <p:nvPr/>
            </p:nvSpPr>
            <p:spPr>
              <a:xfrm>
                <a:off x="-20520" y="1904400"/>
                <a:ext cx="36288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TextBox 35"/>
              <p:cNvSpPr/>
              <p:nvPr/>
            </p:nvSpPr>
            <p:spPr>
              <a:xfrm>
                <a:off x="-286920" y="18331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6" name="组合 19"/>
            <p:cNvGrpSpPr/>
            <p:nvPr/>
          </p:nvGrpSpPr>
          <p:grpSpPr>
            <a:xfrm>
              <a:off x="-286920" y="2286720"/>
              <a:ext cx="898560" cy="520560"/>
              <a:chOff x="-286920" y="2286720"/>
              <a:chExt cx="898560" cy="520560"/>
            </a:xfrm>
          </p:grpSpPr>
          <p:sp>
            <p:nvSpPr>
              <p:cNvPr id="1107" name="矩形 32"/>
              <p:cNvSpPr/>
              <p:nvPr/>
            </p:nvSpPr>
            <p:spPr>
              <a:xfrm>
                <a:off x="-20520" y="2358000"/>
                <a:ext cx="36288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TextBox 33"/>
              <p:cNvSpPr/>
              <p:nvPr/>
            </p:nvSpPr>
            <p:spPr>
              <a:xfrm>
                <a:off x="-286920" y="22867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9" name="组合 20"/>
            <p:cNvGrpSpPr/>
            <p:nvPr/>
          </p:nvGrpSpPr>
          <p:grpSpPr>
            <a:xfrm>
              <a:off x="-286920" y="2740320"/>
              <a:ext cx="898560" cy="520560"/>
              <a:chOff x="-286920" y="2740320"/>
              <a:chExt cx="898560" cy="520560"/>
            </a:xfrm>
          </p:grpSpPr>
          <p:sp>
            <p:nvSpPr>
              <p:cNvPr id="1110" name="矩形 30"/>
              <p:cNvSpPr/>
              <p:nvPr/>
            </p:nvSpPr>
            <p:spPr>
              <a:xfrm>
                <a:off x="-20520" y="2811600"/>
                <a:ext cx="36288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TextBox 31"/>
              <p:cNvSpPr/>
              <p:nvPr/>
            </p:nvSpPr>
            <p:spPr>
              <a:xfrm>
                <a:off x="-286920" y="27403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2" name="组合 21"/>
            <p:cNvGrpSpPr/>
            <p:nvPr/>
          </p:nvGrpSpPr>
          <p:grpSpPr>
            <a:xfrm>
              <a:off x="-286920" y="3194280"/>
              <a:ext cx="898560" cy="520560"/>
              <a:chOff x="-286920" y="3194280"/>
              <a:chExt cx="898560" cy="520560"/>
            </a:xfrm>
          </p:grpSpPr>
          <p:sp>
            <p:nvSpPr>
              <p:cNvPr id="1113" name="矩形 28"/>
              <p:cNvSpPr/>
              <p:nvPr/>
            </p:nvSpPr>
            <p:spPr>
              <a:xfrm>
                <a:off x="-20520" y="3265560"/>
                <a:ext cx="36288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TextBox 29"/>
              <p:cNvSpPr/>
              <p:nvPr/>
            </p:nvSpPr>
            <p:spPr>
              <a:xfrm>
                <a:off x="-286920" y="31942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5" name="组合 22"/>
            <p:cNvGrpSpPr/>
            <p:nvPr/>
          </p:nvGrpSpPr>
          <p:grpSpPr>
            <a:xfrm>
              <a:off x="-286920" y="3647880"/>
              <a:ext cx="898560" cy="520560"/>
              <a:chOff x="-286920" y="3647880"/>
              <a:chExt cx="898560" cy="520560"/>
            </a:xfrm>
          </p:grpSpPr>
          <p:sp>
            <p:nvSpPr>
              <p:cNvPr id="1116" name="矩形 26"/>
              <p:cNvSpPr/>
              <p:nvPr/>
            </p:nvSpPr>
            <p:spPr>
              <a:xfrm>
                <a:off x="-20520" y="3719160"/>
                <a:ext cx="36288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TextBox 27"/>
              <p:cNvSpPr/>
              <p:nvPr/>
            </p:nvSpPr>
            <p:spPr>
              <a:xfrm>
                <a:off x="-286920" y="36478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8" name="组合 23"/>
            <p:cNvGrpSpPr/>
            <p:nvPr/>
          </p:nvGrpSpPr>
          <p:grpSpPr>
            <a:xfrm>
              <a:off x="-306360" y="4101480"/>
              <a:ext cx="898560" cy="520560"/>
              <a:chOff x="-306360" y="4101480"/>
              <a:chExt cx="898560" cy="520560"/>
            </a:xfrm>
          </p:grpSpPr>
          <p:sp>
            <p:nvSpPr>
              <p:cNvPr id="1119" name="矩形 24"/>
              <p:cNvSpPr/>
              <p:nvPr/>
            </p:nvSpPr>
            <p:spPr>
              <a:xfrm>
                <a:off x="-39960" y="4172760"/>
                <a:ext cx="36288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TextBox 25"/>
              <p:cNvSpPr/>
              <p:nvPr/>
            </p:nvSpPr>
            <p:spPr>
              <a:xfrm>
                <a:off x="-306360" y="41014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1" name="TextBox 38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39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40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42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3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44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3 0.00093 L -0.40296 0.00155 E">
                                      <p:cBhvr>
                                        <p:cTn id="63" dur="5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4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2">
                                  <p:stCondLst>
                                    <p:cond delay="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1" dur="4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4" dur="4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2">
                                  <p:stCondLst>
                                    <p:cond delay="1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7" dur="4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0" dur="4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3" dur="4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6" dur="4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5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5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5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29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132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6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3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144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1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152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9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25" dur="75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27" dur="75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5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5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7" dur="25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5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5" dur="25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5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3" dur="25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5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25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5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9" dur="25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5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7" dur="25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5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5" dur="25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68" name="矩形 53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0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171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179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6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95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7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198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2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9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210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7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218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5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92" dur="750" fill="hold"/>
                                        <p:tgtEl>
                                          <p:spTgt spid="1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94" dur="750" fill="hold"/>
                                        <p:tgtEl>
                                          <p:spTgt spid="1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5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5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25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5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12" dur="25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5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0" dur="25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5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8" dur="25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5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6" dur="25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5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" dur="25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5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2" dur="25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34" name="矩形 29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6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237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4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245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2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61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3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264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8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5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276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3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284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1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259" dur="750" fill="hold"/>
                                        <p:tgtEl>
                                          <p:spTgt spid="1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261" dur="750" fill="hold"/>
                                        <p:tgtEl>
                                          <p:spTgt spid="1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5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5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1" dur="25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5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9" dur="25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5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7" dur="25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5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5" dur="25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5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3" dur="25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5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25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5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9" dur="25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00" name="矩形 30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2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303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0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311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8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27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9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330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4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1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342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9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350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7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26" dur="750" fill="hold"/>
                                        <p:tgtEl>
                                          <p:spTgt spid="1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28" dur="750" fill="hold"/>
                                        <p:tgtEl>
                                          <p:spTgt spid="1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5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5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8" dur="25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5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46" dur="25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5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52" dur="1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4" dur="25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5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2" dur="25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5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0" dur="25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5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25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5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6" dur="25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5:50:44Z</dcterms:created>
  <dc:creator>微软中国</dc:creator>
  <dc:description/>
  <cp:keywords/>
  <dc:language>en-US</dc:language>
  <cp:lastModifiedBy>a</cp:lastModifiedBy>
  <dcterms:modified xsi:type="dcterms:W3CDTF">2014-07-21T06:43:45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