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E8BC4-6A23-4474-9CE8-A9F83EA6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D2AB0-50A8-4B5F-A82D-8DF60C26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D7533-C84E-4184-B880-DA7775C4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95AC-9082-47B5-A15B-CEC34F84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A85A-EECE-4AC1-99C6-4D09F9BE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26792-218E-42AC-9E68-D1FB970A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A4B9-D140-42D1-B876-3D614ECC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A94E-4DBA-4706-ADAC-0DB0CE62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3A24-CD39-4981-B9E7-9A4E175E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A214-866C-4D02-A819-74224600B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701C0-AAD4-4062-809B-6692E272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F42B2-84A3-4302-8C6E-7AC0BAF40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jhg jgj hg jtytit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3A96E3F-A559-4583-AD99-0ADE5BFA5402}"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9C8B-A565-4212-8921-4DB7A169732B}"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761E-EBB2-4826-B9C8-E69684851D5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81" name="Picture 3" descr="ièji uyiuyiuyikjtu uk,yi"/>
          <p:cNvPicPr/>
          <p:nvPr/>
        </p:nvPicPr>
        <p:blipFill>
          <a:blip r:embed="rId2"/>
          <a:stretch/>
        </p:blipFill>
        <p:spPr>
          <a:xfrm>
            <a:off x="0" y="0"/>
            <a:ext cx="9144000" cy="6858000"/>
          </a:xfrm>
          <a:prstGeom prst="rect">
            <a:avLst/>
          </a:prstGeom>
          <a:ln w="0">
            <a:noFill/>
          </a:ln>
        </p:spPr>
      </p:pic>
      <p:sp>
        <p:nvSpPr>
          <p:cNvPr id="82" name="Text Box 4"/>
          <p:cNvSpPr/>
          <p:nvPr/>
        </p:nvSpPr>
        <p:spPr>
          <a:xfrm>
            <a:off x="2087640" y="18900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31T04:38:42Z</dcterms:modified>
  <cp:revision>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