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0F9E-12B1-42BC-8913-A07ABCBE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29A9-D932-4A6B-B054-5DA71B5A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47AB7-67F0-4622-9AD9-6F10AD1A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4E071-0EB2-4AAD-9B1A-69D7F427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4DEA-B063-4327-98F9-F3E095A2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CA7DD-93E0-43C1-AA0A-6C37F12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9F7A9-F928-449D-9B7E-B52BE9B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56CEC-5CE6-4671-90A3-FAD76375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958D5-3261-40C1-9236-6DFEA414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CE83E-774B-4395-A0FF-BD3FE7AB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A163-6D62-4CD3-BA16-6CCEDF6F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DAC6F-CB85-4772-9AFA-2132ECD5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4493-C39D-45C7-AC84-953160C0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E4F92-4CEE-4B50-87DA-E0793707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220F3-AACE-44E8-B35E-AD1579E4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35117-7250-4EB2-A68D-5ACCE71F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7D750-10D9-4641-8F72-627E3574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79FE3-674F-4FF1-A3A5-CE523B52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DB272-2097-4D57-A933-8B5F790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40274-39B2-42C3-B3C8-1A91851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1112E-0D36-42AF-AE7E-16E6E97A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B73C3-79FF-49EE-8C1A-D5A10DAB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3D0FA-79EC-4AF9-94E5-F5D6E477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9DA1-B7E6-48D2-978E-DCA23775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A7743-C845-4907-8E28-376AA452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7E4A3-65E3-45A3-A4C0-C3AE9649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6EA14-D080-4D84-9CC1-EBCE796E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D6B5A-1808-43B9-8DA1-7F457B92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959A2-29BA-4C54-B5A0-21516C65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26245-D34A-4A38-873D-E0B67129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E8D17-06E2-43A1-8120-9E19E6B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61CCB-B8A0-4E54-A2B8-B7F9589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9D705-7C98-46B8-8157-006B03EF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A7CA5-E617-4EBF-AA6E-6E66388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9A40-1A7B-4B0F-8B0F-060C2C0A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72B0A-0C3E-4404-A030-74851FC0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83DD-530D-49F4-AE37-AED7CB25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02B4-EC7A-457A-AFC2-350A9B6C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45AD9-D248-42E3-9DCA-C3FC92AC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45742-CB07-4987-A9E1-8405B0A0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D4BDE-8F60-4602-951F-A4659F63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B0891-8082-4F81-B442-D2C04A4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C4D68-5731-460C-9DE7-73945206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E9FC3-7BCD-4918-9CCE-810B7295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9797E-759E-4FCA-B282-9A73E079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EC9D-70F9-45A7-8685-9E25AF51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B447E-F200-4B17-9107-B032EB7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6BA9C-DE9D-4B2D-9EAF-2E4AD93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66601-044F-4304-8006-685A498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FEB8-AD4E-4BBA-A5B4-C2B1996D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4D7BA-CAE3-47A8-96AB-7FEA70FD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A9C31-084C-4D2F-B33F-BE36DC47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542C2-16C6-4225-A947-DA80495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5C21D-DE1A-4E14-8D07-78686317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7CFC6-E5E8-4821-B93A-1C6DBEE4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CEEF0-6A6E-45DC-AFD9-6C596596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D3CE-0FF8-4AC8-923C-BDEDB0EF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6896C-A405-45BE-A211-4B0ED888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36ACE-3C8E-4EE5-899B-F5EFEAD9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7F101-3099-4F25-9222-10D6988A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35706-A044-4967-BA65-48C98A66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DD9E4-4397-44FA-9CF1-32A34A72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1BFFF-2E2E-4FBF-8666-2C33391C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688BC-011D-4BC3-9503-143CB60D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12ED8-BED1-48ED-B48B-52B0997A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92BC1-A66B-4640-A9BC-987D81B6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41752-FC48-43CD-A8F3-DD137DDB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EAA-D3CC-40F6-ACA4-46BDED3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777E8-D3D7-467A-BA88-0CEBD48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B3891-C5E6-4C85-896D-48FDAA2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59CAB-0C71-4E1A-A6D6-2D192998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0E9D4-946A-457F-B883-46483692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9C68A-A8C9-4886-9E6F-326C080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89196-83AC-42A9-8557-0360C42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D30CF-77C4-47B9-87AF-62A26C28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A4B4F-FE24-4C76-9C21-14DC208E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F84DA-E68B-45C3-B8BA-19CC57FF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2CD9-ED6D-48CD-9366-6B32D098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9789-E22B-4E90-B372-DFD51CF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E568-A5D4-484C-86AF-DA1A7DEA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5F38-9052-4140-8D28-49840C46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779-64BA-4A8A-9757-34096BB0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D7B1-7200-491B-93D5-11E5C99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5597-42DC-4BDA-81E1-91471903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6153-BA4C-404D-AA67-5A5FC847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85A9-6FB5-4324-87AA-6344B91E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80206-ED1E-4D26-A38D-3BF2FC1C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2EF24-087F-4467-A459-CF3011B6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4B05-7122-4C39-98E4-0088C45E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0FFE-5B75-4D47-BCC3-0385D6A8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E6AB-D1CC-4694-A26D-0CCE1CBF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871E-872A-4CF8-9E6B-CB02577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DD605-2A79-4841-A216-EF91E12D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E071-175A-468C-8CF2-43CCF74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C090-6FBC-450A-9730-8D80A275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5C75-0031-41DE-8695-196FE02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77F1-CD85-4146-930A-CC8E670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FFD4-61F2-4A8A-A988-56DD1E07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9A14-C2D4-479A-8348-E0ECC313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1F9B-CADA-440A-94C8-C1B63D58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04B8-1B7F-454B-8834-98B2425E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3466-763E-42BD-9235-0C0094A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F047-8DAA-4574-8938-5A032AE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989D-DC11-4E8E-9388-2EB278C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CFB4-1D93-4DF1-8910-5441847D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7C4B-5B70-4A04-9D68-E4655B4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E1AF-4FB9-4F72-A64D-2F4D815C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C0F6-2551-4182-8253-5396FE2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1A57-CC87-4B57-9DD3-960A73E2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9159-61BC-496A-A2B3-C77CAE88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84A0-FFB7-4349-9699-5C2F3527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DDFA-5B76-4E5F-9DBA-5781FD69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EDF2A-6776-4544-9E92-628552A7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0A71-3B8E-46EF-948D-9FE2731A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6919-B897-4D2C-BAB6-E9D3FA9C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AA52A-74F5-4B2F-8A33-7D81CD6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F0F47-8EAA-4E45-90DE-2A99AC8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9D2B-46DB-48BA-A0E7-AAC55163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D615-DF19-4E17-88A0-715AFDB4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62D5-DD9D-46A6-800D-F6A9EBE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62D3-2164-4994-A38B-792D774B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6E4D-755A-49EF-A5A5-77CA7AA0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C6A3C-FCF1-41BD-A2C0-0E0D24C3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4F2F-44B0-45B9-945C-345B27B8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C173-837A-4708-AAC7-5B28D972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46C14-A04C-42E1-BCAC-57E0D7AE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72522-DEC6-4287-BEFF-2D66467B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80C6-9F19-440C-9AD0-2F046C9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19687-12A6-4BB0-82F4-5E91C8D6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46623-A7B9-4865-AF02-5E8FABBB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1255-DD6C-4E57-B6F2-5404FC65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4A35-C4E1-4E3D-8722-BF74B3A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3EBB6-6165-48D6-8256-731D5CD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3A84-C8CD-4DA4-8574-48278DC8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3489-3DCC-4795-AC4E-1DCAAF7F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CA24-2DF3-416C-906C-1E26916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B6EB-43D8-4DA4-BB84-A6A5E45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864B3-1C3A-402B-BE60-2682FEBE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EEA77-B389-455F-BC97-4CF3C47F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34C9-4E9B-4541-B705-FBD1163A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5AE6A-03F3-4E0D-874C-DD29AD8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80310-49E2-4A49-A2B8-3475164E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6B28B-78EC-4D7E-8E30-32ED1151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77860-917B-436B-8B35-DF335ADE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A61B6-E18D-44CC-8115-2E859CD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92E4-01B5-4675-9051-0BBB1D40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3A13-206F-4825-BB33-27F910C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51C5F-4398-45B3-A67B-951154E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CA593-9469-4C1B-858A-2C4E2F2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A4841-4481-4941-97E1-26FE3179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FE7A-C031-4111-B510-FA6C75B9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9064D-1D91-45DA-A66A-7E118599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47F7A-35E8-45D4-93E6-155AFD76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5AB84-C5D2-4812-9A1B-EB2F9E0B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CDBE5-A61A-4F7B-A744-36A8859D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25E2D-6864-40B4-9383-10C2A43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62E7E-1BD1-4D39-B551-BB52844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C86E-2851-452F-B51A-EAF04970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B947E-6C1E-48B5-9ADF-1693C513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84728-2DDA-4A83-B92D-6CA99DC7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065CE-3A32-4DC3-9750-624E8A41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FF75D-A5D6-4344-9885-CFECB07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DEEF7-DD73-4A87-ACB3-FF75E336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6E79-8526-4909-B0CE-FF0D88C3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AE488-DE63-4F21-9037-14C173DE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DA573-DF16-48EB-9723-EA93854E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F3D49-7C91-4045-8B82-9A729447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AC85-1F6E-47B1-B711-30CC50DF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511440"/>
            <a:ext cx="9144000" cy="3346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2014560"/>
            <a:ext cx="2135160" cy="4843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6699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E18B-79CB-4905-96B4-93A42C2A8441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Oval 11"/>
          <p:cNvSpPr/>
          <p:nvPr/>
        </p:nvSpPr>
        <p:spPr>
          <a:xfrm>
            <a:off x="547560" y="365040"/>
            <a:ext cx="1122480" cy="11224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Text Box 12"/>
          <p:cNvSpPr/>
          <p:nvPr/>
        </p:nvSpPr>
        <p:spPr>
          <a:xfrm>
            <a:off x="404640" y="7095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7168320" y="6232680"/>
            <a:ext cx="14857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8D4E-1B7A-45C8-A26E-B1B1FBF04EA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A7C-8787-48B8-8626-1132D26903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5D9E-E65C-4820-A344-33A3677B709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046F-E547-46FE-A4EB-454991FD42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09FE-A6CC-4D11-BE10-2947E8EC66D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FEF4-518A-43B5-8336-D0FF5FD835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CAA-9271-407E-A585-E41030A023F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EBE-CA31-4268-B519-DA0B7C15C0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52CB-342A-48EA-9C6D-B59C005AE80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BB65-4465-4636-8D82-6838FE4962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BE56-2236-4CFC-8B52-3F64D3C15BC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ED70-4E18-4A2F-BE7F-47D1483D8D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6699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AC32-8DB5-4905-8DCF-35449CAC9FC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2E42-BC28-4FCF-8C78-3E17894C2EB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0453-7B4A-4DDC-AEB2-76063F2016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20F1-DF6D-4EFC-8BF4-13E941C787B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01D1-9865-4DAD-A757-E7ED33B1E6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634D-4B24-4C67-8EB2-FEC99A13D77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7A68-93D2-4C4C-9047-9E2513520B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4121-D99D-49D8-B680-E36B43D6F9E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6D6-4BE6-44CE-B36B-C51DDE22F4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631-F8B7-4D6E-A772-70EB65CE941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3DC-3E45-41F7-A16D-8FDFC9E6E3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3DEC-ECBD-4731-A1F4-C1A8A9763D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F91E-5FEF-43E5-A137-D9DBD40E5C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PowerPoin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5500" spc="-1" strike="noStrike">
                <a:solidFill>
                  <a:srgbClr val="66ffff"/>
                </a:solidFill>
                <a:latin typeface="Verdana"/>
              </a:rPr>
              <a:t>Template</a:t>
            </a:r>
            <a:endParaRPr b="1" lang="en-US" sz="5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ff"/>
                </a:solidFill>
                <a:latin typeface="Verdana"/>
                <a:ea typeface="Gulim"/>
              </a:rPr>
              <a:t>Add your company slogan</a:t>
            </a:r>
            <a:endParaRPr b="1" lang="en-US" sz="2200" spc="-1" strike="noStrike">
              <a:solidFill>
                <a:srgbClr val="66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248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Strengths</a:t>
            </a:r>
            <a:r>
              <a:rPr b="1" lang="en-US" sz="2000" spc="-1" strike="noStrike">
                <a:solidFill>
                  <a:srgbClr val="6699ff"/>
                </a:solidFill>
                <a:latin typeface="Verdana"/>
                <a:ea typeface="Gulim"/>
              </a:rPr>
              <a:t> </a:t>
            </a: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5" name="Group 3"/>
          <p:cNvGrpSpPr/>
          <p:nvPr/>
        </p:nvGrpSpPr>
        <p:grpSpPr>
          <a:xfrm>
            <a:off x="1752480" y="2022480"/>
            <a:ext cx="5648400" cy="644400"/>
            <a:chOff x="1752480" y="2022480"/>
            <a:chExt cx="5648400" cy="644400"/>
          </a:xfrm>
        </p:grpSpPr>
        <p:sp>
          <p:nvSpPr>
            <p:cNvPr id="586" name="AutoShape 4"/>
            <p:cNvSpPr/>
            <p:nvPr/>
          </p:nvSpPr>
          <p:spPr>
            <a:xfrm>
              <a:off x="1752480" y="20224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Rectangle 5"/>
            <p:cNvSpPr/>
            <p:nvPr/>
          </p:nvSpPr>
          <p:spPr>
            <a:xfrm>
              <a:off x="2117520" y="214308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1. Introd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6"/>
          <p:cNvGrpSpPr/>
          <p:nvPr/>
        </p:nvGrpSpPr>
        <p:grpSpPr>
          <a:xfrm>
            <a:off x="1752480" y="2860560"/>
            <a:ext cx="5648400" cy="644400"/>
            <a:chOff x="1752480" y="2860560"/>
            <a:chExt cx="5648400" cy="644400"/>
          </a:xfrm>
        </p:grpSpPr>
        <p:sp>
          <p:nvSpPr>
            <p:cNvPr id="589" name="AutoShape 7"/>
            <p:cNvSpPr/>
            <p:nvPr/>
          </p:nvSpPr>
          <p:spPr>
            <a:xfrm>
              <a:off x="1752480" y="286056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2117520" y="298116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2. Strateg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roup 9"/>
          <p:cNvGrpSpPr/>
          <p:nvPr/>
        </p:nvGrpSpPr>
        <p:grpSpPr>
          <a:xfrm>
            <a:off x="1752480" y="3699000"/>
            <a:ext cx="5648400" cy="644400"/>
            <a:chOff x="1752480" y="3699000"/>
            <a:chExt cx="5648400" cy="644400"/>
          </a:xfrm>
        </p:grpSpPr>
        <p:sp>
          <p:nvSpPr>
            <p:cNvPr id="592" name="AutoShape 10"/>
            <p:cNvSpPr/>
            <p:nvPr/>
          </p:nvSpPr>
          <p:spPr>
            <a:xfrm>
              <a:off x="1752480" y="36990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Rectangle 11"/>
            <p:cNvSpPr/>
            <p:nvPr/>
          </p:nvSpPr>
          <p:spPr>
            <a:xfrm>
              <a:off x="2117520" y="381960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3. Challenges forw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1752480" y="4537080"/>
            <a:ext cx="5648400" cy="644400"/>
            <a:chOff x="1752480" y="4537080"/>
            <a:chExt cx="5648400" cy="644400"/>
          </a:xfrm>
        </p:grpSpPr>
        <p:sp>
          <p:nvSpPr>
            <p:cNvPr id="595" name="AutoShape 13"/>
            <p:cNvSpPr/>
            <p:nvPr/>
          </p:nvSpPr>
          <p:spPr>
            <a:xfrm>
              <a:off x="1752480" y="45370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50000">
                  <a:srgbClr val="6699f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Rectangle 14"/>
            <p:cNvSpPr/>
            <p:nvPr/>
          </p:nvSpPr>
          <p:spPr>
            <a:xfrm>
              <a:off x="2117520" y="4657680"/>
              <a:ext cx="491040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4. Conclu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On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AutoShape 3"/>
          <p:cNvSpPr/>
          <p:nvPr/>
        </p:nvSpPr>
        <p:spPr>
          <a:xfrm>
            <a:off x="1049400" y="1782720"/>
            <a:ext cx="7047000" cy="3487680"/>
          </a:xfrm>
          <a:prstGeom prst="roundRect">
            <a:avLst>
              <a:gd name="adj" fmla="val 16667"/>
            </a:avLst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1187280" y="1925640"/>
            <a:ext cx="6280200" cy="259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2122560" y="2475000"/>
            <a:ext cx="5843520" cy="265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371600" y="20574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4038480" y="3581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.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Two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762120" y="2286000"/>
            <a:ext cx="7618320" cy="1338120"/>
            <a:chOff x="762120" y="2286000"/>
            <a:chExt cx="7618320" cy="1338120"/>
          </a:xfrm>
        </p:grpSpPr>
        <p:sp>
          <p:nvSpPr>
            <p:cNvPr id="605" name="AutoShape 4"/>
            <p:cNvSpPr/>
            <p:nvPr/>
          </p:nvSpPr>
          <p:spPr>
            <a:xfrm>
              <a:off x="762120" y="228600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AutoShape 5"/>
            <p:cNvSpPr/>
            <p:nvPr/>
          </p:nvSpPr>
          <p:spPr>
            <a:xfrm>
              <a:off x="2251080" y="240516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Rectangle 6"/>
            <p:cNvSpPr/>
            <p:nvPr/>
          </p:nvSpPr>
          <p:spPr>
            <a:xfrm>
              <a:off x="803520" y="232236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8" name="Group 7"/>
          <p:cNvGrpSpPr/>
          <p:nvPr/>
        </p:nvGrpSpPr>
        <p:grpSpPr>
          <a:xfrm>
            <a:off x="762120" y="3809880"/>
            <a:ext cx="7618320" cy="1338120"/>
            <a:chOff x="762120" y="3809880"/>
            <a:chExt cx="7618320" cy="1338120"/>
          </a:xfrm>
        </p:grpSpPr>
        <p:sp>
          <p:nvSpPr>
            <p:cNvPr id="609" name="AutoShape 8"/>
            <p:cNvSpPr/>
            <p:nvPr/>
          </p:nvSpPr>
          <p:spPr>
            <a:xfrm>
              <a:off x="762120" y="3809880"/>
              <a:ext cx="7618320" cy="1338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AutoShape 9"/>
            <p:cNvSpPr/>
            <p:nvPr/>
          </p:nvSpPr>
          <p:spPr>
            <a:xfrm>
              <a:off x="2251080" y="3929040"/>
              <a:ext cx="6016680" cy="109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Rectangle 10"/>
            <p:cNvSpPr/>
            <p:nvPr/>
          </p:nvSpPr>
          <p:spPr>
            <a:xfrm>
              <a:off x="803520" y="384624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2" name="Rectangle 11"/>
          <p:cNvSpPr/>
          <p:nvPr/>
        </p:nvSpPr>
        <p:spPr>
          <a:xfrm>
            <a:off x="2362320" y="1752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Three Column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813280" y="3573360"/>
            <a:ext cx="31932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4"/>
          <p:cNvSpPr/>
          <p:nvPr/>
        </p:nvSpPr>
        <p:spPr>
          <a:xfrm>
            <a:off x="3036960" y="3573360"/>
            <a:ext cx="31896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665280" y="2341440"/>
            <a:ext cx="2241360" cy="2994120"/>
            <a:chOff x="665280" y="2341440"/>
            <a:chExt cx="2241360" cy="2994120"/>
          </a:xfrm>
        </p:grpSpPr>
        <p:sp>
          <p:nvSpPr>
            <p:cNvPr id="617" name="AutoShape 6"/>
            <p:cNvSpPr/>
            <p:nvPr/>
          </p:nvSpPr>
          <p:spPr>
            <a:xfrm>
              <a:off x="665280" y="234144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AutoShape 7"/>
            <p:cNvSpPr/>
            <p:nvPr/>
          </p:nvSpPr>
          <p:spPr>
            <a:xfrm>
              <a:off x="787320" y="2828880"/>
              <a:ext cx="1996560" cy="2390760"/>
            </a:xfrm>
            <a:custGeom>
              <a:avLst/>
              <a:gdLst>
                <a:gd name="textAreaLeft" fmla="*/ 97200 w 1996560"/>
                <a:gd name="textAreaRight" fmla="*/ 1899360 w 199656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64">
                  <a:moveTo>
                    <a:pt x="3600" y="0"/>
                  </a:moveTo>
                  <a:arcTo wR="3600" hR="3600" stAng="16200000" swAng="-5400000"/>
                  <a:lnTo>
                    <a:pt x="0" y="22264"/>
                  </a:lnTo>
                  <a:arcTo wR="3600" hR="3600" stAng="10800000" swAng="-5400000"/>
                  <a:lnTo>
                    <a:pt x="18000" y="258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761760" y="2438280"/>
              <a:ext cx="205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0" name="Group 9"/>
          <p:cNvGrpSpPr/>
          <p:nvPr/>
        </p:nvGrpSpPr>
        <p:grpSpPr>
          <a:xfrm>
            <a:off x="3436920" y="2347920"/>
            <a:ext cx="2241720" cy="2994120"/>
            <a:chOff x="3436920" y="2347920"/>
            <a:chExt cx="2241720" cy="2994120"/>
          </a:xfrm>
        </p:grpSpPr>
        <p:sp>
          <p:nvSpPr>
            <p:cNvPr id="621" name="AutoShape 10"/>
            <p:cNvSpPr/>
            <p:nvPr/>
          </p:nvSpPr>
          <p:spPr>
            <a:xfrm>
              <a:off x="3436920" y="2347920"/>
              <a:ext cx="2241720" cy="2994120"/>
            </a:xfrm>
            <a:custGeom>
              <a:avLst/>
              <a:gdLst>
                <a:gd name="textAreaLeft" fmla="*/ 109440 w 2241720"/>
                <a:gd name="textAreaRight" fmla="*/ 2132280 w 2241720"/>
                <a:gd name="textAreaTop" fmla="*/ 109440 h 2994120"/>
                <a:gd name="textAreaBottom" fmla="*/ 2884680 h 29941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AutoShape 11"/>
            <p:cNvSpPr/>
            <p:nvPr/>
          </p:nvSpPr>
          <p:spPr>
            <a:xfrm>
              <a:off x="3559320" y="283536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3505320" y="2438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Group 13"/>
          <p:cNvGrpSpPr/>
          <p:nvPr/>
        </p:nvGrpSpPr>
        <p:grpSpPr>
          <a:xfrm>
            <a:off x="6248520" y="2347920"/>
            <a:ext cx="2241360" cy="2994120"/>
            <a:chOff x="6248520" y="2347920"/>
            <a:chExt cx="2241360" cy="2994120"/>
          </a:xfrm>
        </p:grpSpPr>
        <p:sp>
          <p:nvSpPr>
            <p:cNvPr id="625" name="AutoShape 14"/>
            <p:cNvSpPr/>
            <p:nvPr/>
          </p:nvSpPr>
          <p:spPr>
            <a:xfrm>
              <a:off x="6248520" y="234792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AutoShape 15"/>
            <p:cNvSpPr/>
            <p:nvPr/>
          </p:nvSpPr>
          <p:spPr>
            <a:xfrm>
              <a:off x="6400440" y="281952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>
              <a:off x="6324480" y="2438280"/>
              <a:ext cx="2057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3.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Rectangle 17"/>
          <p:cNvSpPr/>
          <p:nvPr/>
        </p:nvSpPr>
        <p:spPr>
          <a:xfrm>
            <a:off x="236232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30" name="Object 3"/>
          <p:cNvGraphicFramePr/>
          <p:nvPr/>
        </p:nvGraphicFramePr>
        <p:xfrm>
          <a:off x="2133720" y="1676520"/>
          <a:ext cx="624816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62481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ThemeGallery</dc:creator>
  <dc:description/>
  <cp:keywords/>
  <dc:language>en-US</dc:language>
  <cp:lastModifiedBy>a</cp:lastModifiedBy>
  <dcterms:modified xsi:type="dcterms:W3CDTF">2014-08-13T04:14:34Z</dcterms:modified>
  <cp:revision>51</cp:revision>
  <dc:subject/>
  <dc:title>040TGp_time_mon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