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FFC-464B-42D2-986B-9092E2B1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0BE-0C96-48F9-8930-06E903B2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3CC-D98F-4877-96F2-0D0AA123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F3E-F621-4F19-A754-9A300DE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75D7-685E-4819-9A19-1CE1DD31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4DC6-D3DD-4F8D-B3EB-8D172D9A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E4A2-D9E5-476D-A19E-C41AC18D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94AE-DBDA-42E9-9690-6C40DD0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6CDE-8A50-4540-8FF4-C52D4B82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64B3-4B47-4D4E-BB57-2890E12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688E-C99A-4C39-89D7-6FA8B7C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9D5-C5AF-43F5-AA57-73A5C9F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3A7-9A6A-4213-9DDE-6EA077B1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639-6FF5-4AE1-A7D3-F2AC414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44B4-AE7D-4B66-A644-532A526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2CD-7C86-49B7-8880-1DAB268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CBB6-EA04-4BA6-B03E-9D70F14F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037-CA68-4C64-94BC-DFF2B83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F69-6915-4318-A751-099BE580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F3F-3E2E-4524-B5E6-535228D4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B37-A97A-4A1E-B155-4611D208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4CD-511D-44EE-86E5-6A7FE9B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4B8-1CF8-464F-9557-88BE081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75C-8AA0-4430-8B05-23BD058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47E-5E8F-489F-9C93-C2A02014D8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B38-89AB-417C-B29C-DB09E86896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92A0-DC55-417F-9514-E2C27C4A2921}" type="datetime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FCC-13AE-4433-B96E-6121859220F5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078840" cy="571644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7308720" y="-1440"/>
            <a:ext cx="1909800" cy="5716440"/>
          </a:xfrm>
          <a:prstGeom prst="rect">
            <a:avLst/>
          </a:prstGeom>
          <a:solidFill>
            <a:srgbClr val="0062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1360" y="-696600"/>
            <a:ext cx="793800" cy="64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8334360" y="523800"/>
            <a:ext cx="7938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在此添加标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4"/>
          <p:cNvSpPr/>
          <p:nvPr/>
        </p:nvSpPr>
        <p:spPr>
          <a:xfrm>
            <a:off x="0" y="-7920"/>
            <a:ext cx="9158400" cy="33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-15840" y="0"/>
            <a:ext cx="9174240" cy="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98280" y="0"/>
            <a:ext cx="3265560" cy="1457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252360"/>
            <a:ext cx="25639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目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3060720" y="4086360"/>
            <a:ext cx="3456000" cy="863640"/>
            <a:chOff x="3060720" y="4086360"/>
            <a:chExt cx="3456000" cy="863640"/>
          </a:xfrm>
        </p:grpSpPr>
        <p:pic>
          <p:nvPicPr>
            <p:cNvPr id="91" name="Picture 2" descr=""/>
            <p:cNvPicPr/>
            <p:nvPr/>
          </p:nvPicPr>
          <p:blipFill>
            <a:blip r:embed="rId2"/>
            <a:stretch/>
          </p:blipFill>
          <p:spPr>
            <a:xfrm>
              <a:off x="3060720" y="408636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直接连接符 6"/>
            <p:cNvSpPr/>
            <p:nvPr/>
          </p:nvSpPr>
          <p:spPr>
            <a:xfrm>
              <a:off x="3687480" y="480600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"/>
            <p:cNvSpPr/>
            <p:nvPr/>
          </p:nvSpPr>
          <p:spPr>
            <a:xfrm>
              <a:off x="3852720" y="43023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3060720" y="3348000"/>
            <a:ext cx="3456000" cy="863640"/>
            <a:chOff x="3060720" y="3348000"/>
            <a:chExt cx="3456000" cy="8636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3060720" y="334800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直接连接符 10"/>
            <p:cNvSpPr/>
            <p:nvPr/>
          </p:nvSpPr>
          <p:spPr>
            <a:xfrm>
              <a:off x="3687480" y="406764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852720" y="356400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3060720" y="2610000"/>
            <a:ext cx="3456000" cy="865080"/>
            <a:chOff x="3060720" y="2610000"/>
            <a:chExt cx="3456000" cy="86508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3060720" y="2610000"/>
              <a:ext cx="626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直接连接符 14"/>
            <p:cNvSpPr/>
            <p:nvPr/>
          </p:nvSpPr>
          <p:spPr>
            <a:xfrm>
              <a:off x="3687480" y="333108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5"/>
            <p:cNvSpPr/>
            <p:nvPr/>
          </p:nvSpPr>
          <p:spPr>
            <a:xfrm>
              <a:off x="3852720" y="28263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8"/>
          <p:cNvGrpSpPr/>
          <p:nvPr/>
        </p:nvGrpSpPr>
        <p:grpSpPr>
          <a:xfrm>
            <a:off x="3060720" y="1873080"/>
            <a:ext cx="3456000" cy="863640"/>
            <a:chOff x="3060720" y="1873080"/>
            <a:chExt cx="3456000" cy="863640"/>
          </a:xfrm>
        </p:grpSpPr>
        <p:pic>
          <p:nvPicPr>
            <p:cNvPr id="103" name="Picture 2" descr=""/>
            <p:cNvPicPr/>
            <p:nvPr/>
          </p:nvPicPr>
          <p:blipFill>
            <a:blip r:embed="rId5"/>
            <a:stretch/>
          </p:blipFill>
          <p:spPr>
            <a:xfrm>
              <a:off x="3060720" y="187308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直接连接符 18"/>
            <p:cNvSpPr/>
            <p:nvPr/>
          </p:nvSpPr>
          <p:spPr>
            <a:xfrm>
              <a:off x="3687480" y="259272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3852720" y="20890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"/>
          <p:cNvPicPr/>
          <p:nvPr/>
        </p:nvPicPr>
        <p:blipFill>
          <a:blip r:embed="rId6"/>
          <a:stretch/>
        </p:blipFill>
        <p:spPr>
          <a:xfrm>
            <a:off x="7459560" y="4124160"/>
            <a:ext cx="173052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7"/>
          <a:stretch/>
        </p:blipFill>
        <p:spPr>
          <a:xfrm>
            <a:off x="7378560" y="-766800"/>
            <a:ext cx="1689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0"/>
          <p:cNvSpPr/>
          <p:nvPr/>
        </p:nvSpPr>
        <p:spPr>
          <a:xfrm>
            <a:off x="0" y="-7920"/>
            <a:ext cx="9158400" cy="42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743280" y="720720"/>
            <a:ext cx="5400720" cy="4994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2843280" y="2305080"/>
            <a:ext cx="3456000" cy="863640"/>
            <a:chOff x="2843280" y="2305080"/>
            <a:chExt cx="3456000" cy="863640"/>
          </a:xfrm>
        </p:grpSpPr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2843280" y="230508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直接连接符 7"/>
            <p:cNvSpPr/>
            <p:nvPr/>
          </p:nvSpPr>
          <p:spPr>
            <a:xfrm>
              <a:off x="3470040" y="302472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8"/>
            <p:cNvSpPr/>
            <p:nvPr/>
          </p:nvSpPr>
          <p:spPr>
            <a:xfrm>
              <a:off x="3635280" y="25210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078840" cy="571644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7308720" y="-1440"/>
            <a:ext cx="1909800" cy="5716440"/>
          </a:xfrm>
          <a:prstGeom prst="rect">
            <a:avLst/>
          </a:prstGeom>
          <a:solidFill>
            <a:srgbClr val="0062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02120" y="-2251800"/>
            <a:ext cx="793800" cy="10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8101080" y="552600"/>
            <a:ext cx="793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谢谢大家的支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119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4:00Z</dcterms:created>
  <dc:creator>王琳</dc:creator>
  <dc:description/>
  <cp:keywords/>
  <dc:language>en-US</dc:language>
  <cp:lastModifiedBy>a</cp:lastModifiedBy>
  <dcterms:modified xsi:type="dcterms:W3CDTF">2014-08-03T07:36:57Z</dcterms:modified>
  <cp:revision>7</cp:revision>
  <dc:subject/>
  <dc:title>在此添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