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423-B423-4669-8FAC-CC773B41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32ED-F3A0-4DD8-9A63-C63D95D0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0285-59B6-4622-B0D3-12672250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C2A-9F4D-4C5D-8946-158A2DA8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F79F-3C95-48EF-BF18-D303EA78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F9FB-8C1C-473D-8F80-49D756EC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81CC-212E-447B-A689-41E82CCC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EF5B-0FC8-4FD1-9A62-C57D18EA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19C8-3FD9-4E1F-BC13-42EBB1D4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6E59-8611-421F-BE4A-424E1707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2F0C-C13B-4B46-B258-338FBEF6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175-C513-4488-9B5A-7E2FCDF0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C94C-A379-4E6E-882F-BC8903C7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9722-A460-402E-A30E-DA72DFD9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2EF2-E561-438F-8D7D-6709F1B2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1089-D171-4E97-A938-B646C012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95CD-B9B7-4487-9364-0AAEB655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FF8AE-E780-4851-A317-93533555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05B9A-3FC9-4585-9663-CDB56C44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0A795-7CBF-479E-BA22-D85CE4FB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ABE62-CB4A-4BC5-8A85-A8198A7F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3C820-5B65-4B9F-8562-84686B34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1300-2C1C-497A-9D2A-D5C3C61E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EBA9D-09A5-4CBC-A40B-B7AE1CC9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A9C26-F42C-46BA-9AED-B4B4FC64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91588-6B2D-49CC-B760-C5EDC033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4F718-208D-4DAC-B431-1750AA24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70D6F-A972-49DA-9B88-258039CB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F67AF-4770-498A-90B3-6010D9F0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585D5-1BDE-42C1-86DF-2B0EC7AB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AAE2-B74C-4ACC-A594-607E0CFC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2E5A-F0BB-42C4-9C7F-6E477CBF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2E27-EBB7-44AD-B2E0-9316B036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D10-EC2F-4488-BEC3-4BD47218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418C-EDD0-4E18-BB36-B2A25A26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F6F1-D8B1-498B-AC11-B3EBB34A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8BF6-D982-47A4-AA9B-376D9314C0EE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FF2F-5198-439D-AFD4-F4650581BE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5F70-E190-4739-A420-E8B99F82EA0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A354-FB36-4AC3-95B9-4D5666E9C1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C:\Users\Public\Pictures\标题.png"/>
          <p:cNvPicPr/>
          <p:nvPr/>
        </p:nvPicPr>
        <p:blipFill>
          <a:blip r:embed="rId2"/>
          <a:stretch/>
        </p:blipFill>
        <p:spPr>
          <a:xfrm>
            <a:off x="2700360" y="3836880"/>
            <a:ext cx="628488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792440" y="1844640"/>
            <a:ext cx="583236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华文细黑"/>
                <a:ea typeface="华文细黑"/>
              </a:rPr>
              <a:t>“</a:t>
            </a:r>
            <a:r>
              <a:rPr b="0" lang="zh-CN" sz="3200" spc="-1" strike="noStrike">
                <a:solidFill>
                  <a:srgbClr val="404040"/>
                </a:solidFill>
                <a:latin typeface="华文细黑"/>
                <a:ea typeface="华文细黑"/>
              </a:rPr>
              <a:t>螺丝钉”精神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华文细黑"/>
                <a:ea typeface="华文细黑"/>
              </a:rPr>
              <a:t>“</a:t>
            </a:r>
            <a:r>
              <a:rPr b="0" lang="zh-CN" sz="3200" spc="-1" strike="noStrike">
                <a:solidFill>
                  <a:srgbClr val="404040"/>
                </a:solidFill>
                <a:latin typeface="华文细黑"/>
                <a:ea typeface="华文细黑"/>
              </a:rPr>
              <a:t>螺丝钉”精神内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华文细黑"/>
                <a:ea typeface="华文细黑"/>
              </a:rPr>
              <a:t>“</a:t>
            </a:r>
            <a:r>
              <a:rPr b="0" lang="zh-CN" sz="3200" spc="-1" strike="noStrike">
                <a:solidFill>
                  <a:srgbClr val="404040"/>
                </a:solidFill>
                <a:latin typeface="华文细黑"/>
                <a:ea typeface="华文细黑"/>
              </a:rPr>
              <a:t>螺丝钉”精神过时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华文细黑"/>
                <a:ea typeface="华文细黑"/>
              </a:rPr>
              <a:t>“</a:t>
            </a:r>
            <a:r>
              <a:rPr b="0" lang="zh-CN" sz="3200" spc="-1" strike="noStrike">
                <a:solidFill>
                  <a:srgbClr val="404040"/>
                </a:solidFill>
                <a:latin typeface="华文细黑"/>
                <a:ea typeface="华文细黑"/>
              </a:rPr>
              <a:t>螺丝钉”精神永不过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:\Users\Public\Pictures\目录.png"/>
          <p:cNvPicPr/>
          <p:nvPr/>
        </p:nvPicPr>
        <p:blipFill>
          <a:blip r:embed="rId2"/>
          <a:stretch/>
        </p:blipFill>
        <p:spPr>
          <a:xfrm>
            <a:off x="1547640" y="692280"/>
            <a:ext cx="607716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203640" y="396252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“</a:t>
            </a:r>
            <a:r>
              <a:rPr b="0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螺丝钉”精神由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螺丝钉"/>
          <p:cNvPicPr/>
          <p:nvPr/>
        </p:nvPicPr>
        <p:blipFill>
          <a:blip r:embed="rId2"/>
          <a:stretch/>
        </p:blipFill>
        <p:spPr>
          <a:xfrm rot="2520000">
            <a:off x="1993680" y="3763800"/>
            <a:ext cx="125712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539640" y="1851120"/>
            <a:ext cx="79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个人的作用，对于革命事业来说，就如一架机器上的一颗螺丝钉。机器由于有许许多多的螺丝钉的联接和固定，才成了一个坚实的整体，才能够运转自如，发挥它巨大的工作能量。螺丝钉虽小，其作用是不可估计的。我愿永远做一个螺丝钉。”雷锋在日记中这样写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197000" y="33984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“</a:t>
            </a: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螺丝钉”精神由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螺丝钉"/>
          <p:cNvPicPr/>
          <p:nvPr/>
        </p:nvPicPr>
        <p:blipFill>
          <a:blip r:embed="rId2"/>
          <a:stretch/>
        </p:blipFill>
        <p:spPr>
          <a:xfrm rot="2520000">
            <a:off x="285480" y="284040"/>
            <a:ext cx="83016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Users\Public\Pictures\标题2.png"/>
          <p:cNvPicPr/>
          <p:nvPr/>
        </p:nvPicPr>
        <p:blipFill>
          <a:blip r:embed="rId2"/>
          <a:stretch/>
        </p:blipFill>
        <p:spPr>
          <a:xfrm>
            <a:off x="466560" y="3860640"/>
            <a:ext cx="607716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</cp:lastModifiedBy>
  <dcterms:modified xsi:type="dcterms:W3CDTF">2014-08-13T04:17:08Z</dcterms:modified>
  <cp:revision>2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