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178-4DFD-4C05-AFA4-74A33FF9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17B-59B1-4EE5-8EF4-7FCB204A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66B7D-BD67-4330-8154-96E98790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205C6-9016-4CB6-982F-FA634726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4E431-E83A-4CDC-9016-277A4A35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0B0FC-625D-4483-8B14-931EA33C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0963D-E9A4-4CEF-BE90-15305FCE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2A4A1-7551-462C-8D16-1755773D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7968E-FEDC-4102-912A-57B8C0B3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B7AC3-F90A-4407-9A1E-C0ABF554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ECC5B-5BC2-4653-A3CB-39866B84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EE657-0C17-4116-B6E4-78CBFF72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8D9-E55D-4FD7-86FA-0B35DF7E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EAE41-319E-4EEC-92D8-431FEF63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C81F9-B2CD-4013-9259-8728CEA8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5430B-C003-4E26-A0C4-6E2903F4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FF1C4-42F5-457F-9C75-AEEBF5E0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F0F0A-7B72-4CD5-A74E-45CDD965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441FE-8BC3-407F-9A9E-A06EC926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C32CA-62EC-4894-A71D-6852FB2C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FEC1D-EF9E-43B5-BF63-5D66B24C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8E327-32CA-40F5-841B-8B100928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47F53-B73F-46C1-BBC4-B61A444C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958-F9BA-4334-BF04-475C359A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F999D-5F90-4C20-B180-8A215B21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B023B-032B-4241-894D-FADAF220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386FE-C931-4F48-BE07-21EB395D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70CC5-AEA5-4835-B0BA-BF519298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E2048-F44A-4E27-82AA-A839324D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E0C05-D0F7-437A-A011-8A9806B6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4B038-5069-45F5-9B9A-00F644D1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E2695-ECEE-4511-AB27-531575F1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F911C-0362-40B8-B07F-2A67B2F4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840A9-E0A9-457C-8022-5F509CC8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8726-6839-4DFA-89D2-7FBE1A61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E02ED-ED11-4885-BE31-A9E51DB9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AC511-7B82-4D56-92C6-6042067D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0B22C-FAA2-4769-878B-9749CD8C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3E2ED-DB04-4F54-AF80-C3D87243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3141C-CA16-4607-9400-09C95B68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0E16A-0341-4C28-8044-3D081B89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92135-9343-4105-997D-B53C271B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3F14F-9643-4F95-8119-BA6CAAA8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919DA-F075-4C92-BAD5-6EEA0CE4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7C19F-ED58-42A4-ADC1-BC4EC3A1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ED83-4939-4AB2-962B-59408FE7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83325-0E0D-4E05-A322-8AAAD62A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D5C52-B1B6-4242-9019-CEC5479C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78034-3F88-4674-BDF7-8FDA90C1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BFE19-5385-4DFA-871C-16BC27C1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AE37F-3986-42F0-8CC8-732DA607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5F1FB-91FA-4A98-9151-292D36C2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5909A-8EBB-4A77-9418-AB741164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AF836-F52B-4777-A632-FFBA8B5A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6ECEA-5A36-4F08-8B48-1A3A5F82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34FF0-314F-4CA3-B2EA-56F1B9B2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D28C-C0F2-4713-9FEC-1BFBED97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A5E09-3079-48FC-A0FF-4C1A974D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EEEFC-13C9-4613-B332-7FD6C2FF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D8CB4-F007-4501-B1BE-1247605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25CC8-ADBE-474A-85AE-E476167C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92942-63BD-42ED-A003-71945CA6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145E5-9615-4CB9-825A-CFDBB22A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DE5E9-4756-48DA-BCAF-2ADED1F5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18E0-89D0-4180-B494-ACB3D933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573E-4447-4E43-BE48-AA78CBB4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F51B-7F44-4041-AD1F-44EDCB92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20E4-93FB-4AFB-83AB-83FB1628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5E6-C149-4E4C-BA60-3359962A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BCFA-8A42-43AE-9D3F-AAC432B8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BD98-39AB-47F5-ACE2-2154F675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0A2A-54EE-4D33-BBAA-E0C40E1C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D6CB-0E06-4530-B413-22472421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BC27-DF16-4163-A8BD-4C42DD5F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59ADD-3D78-426F-9EBF-7AC260E3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3904-C9F7-4639-ACF6-C5E0CD07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05833-631E-408D-A756-D24592C2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8888-028C-41E0-919F-837C675C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1104-DAB3-44E4-BB8A-C90E2F68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48A-53F0-4A9F-911D-EBBFA2DC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19C1-6BB9-4EB8-8B1B-FD0974AD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96BE-96E7-4811-9791-4DFC7A9A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CC99-E3FF-411C-8D80-ADAC1C8E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FA73-447D-4A69-A0DA-C7E162D7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E63F6-40AE-452B-9E15-A967EEB0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86852-ED67-4CCE-99BA-222DA112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1AF82-D9E3-4337-8C32-36535AD4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EF175-6B30-4A03-9826-CEAFA744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DB0A7-8838-4CCD-9127-3DE0ABC6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C78A4-79C8-4A30-84C2-3FB5E994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E72-3275-450F-8A17-B2B55432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2DE9C-D2D8-4A7F-89BD-D3A58846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410A-3721-463D-9FC8-95A1B8A7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6B25-2F20-407D-B25E-B5EB6B2E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6EA32-FFA5-4D4E-983A-207F8023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18E34-DFAC-495D-B9DB-B3CEEEBB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485F2-31D9-4C3D-BA7D-E0FD9102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83179-BD19-4B56-990A-2E3DCC2F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A75A0-8A82-4AD7-BC5A-36B80E13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55BE-32D1-4D39-9DD9-CDAC3F41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FFBD5-388B-4A36-8644-29B3ED5D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2BB-5B8F-48DA-808C-B70CCF3F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4821-9AC2-48DB-8109-383AE8BF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94542-3FBE-4ADF-9BBD-3F020AB7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6A83A-C59F-44AE-BD23-A8676EE8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B7594-B5E1-4E8B-946E-517C5B98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F8D52-0E9E-4EE7-90EA-FE757E0F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4FF76-FEDC-4B48-BF9B-813990BB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8FC24-4910-4D5C-B359-EA9D1006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71C6A-DDBD-4902-BF94-159D2883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1DE3A-CDB1-4343-B503-47D8F618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96955-EB57-43CB-8DDC-CC87182B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8A8-2DAF-45ED-9D22-B0ED3FFA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18BBA-B914-45F9-90E9-A9292E0C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7147C-378D-4200-8452-1CF0C306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A0012-7BDA-4F78-965D-68A3DE73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6EDEC-BE1B-4BAF-90AB-FF6A6BDC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172DA-DF46-41C1-B3B6-92CEC000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3EE64-83B0-4F71-ACA2-9A769A3F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8E2A0-3E5F-4B52-87D6-77064EE4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00D41-0190-4121-AAEB-304C5ADE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037EA-141A-4590-893A-68EC028E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C8912-943B-4104-9FB6-5FC5C730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6B7-F807-48F2-99B9-FB8A5B2A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3CC8-61A9-4610-A889-B0977FA5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B7B1C-6A25-44AD-B56A-6E367361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CAC3E-A21A-4A49-A11A-FE6E1376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9A5B6-402C-43E0-A3F7-A9F5E98C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DE3CD-3535-491E-857E-A6ECCC09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B2189-AADC-448D-954D-0B810897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F9B93-6C7C-47B2-A9F0-F1325D14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6220E-2853-4911-B95A-37DF6F39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499CE-E6A4-40BC-8F7C-44D9572F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EBD64-2FC2-4BFA-8E02-B590CB47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464-75AC-4AA0-BEB2-C241D08D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B8979-F8AF-416B-9460-7E67D0BB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E0BC2-7EBE-4418-B238-2F53B622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92A0E-1839-4A2D-82CC-BBF2D566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E3D41-CFE3-4AF1-BA48-1D52BF17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24E8D-2342-403E-B7DD-EA019846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63FE2-1949-4232-B481-41B41490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D297B-8F23-4273-96FB-EA040DD0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BBDCE-AB06-4BF7-9367-CA4921AA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59AE5-57D4-48FF-B771-DF8A1DA5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223A3-1BE6-4E54-BB97-7F6D12C4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229-A8A5-45EA-A1D7-857AB5FF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ED52D-F011-4097-A86D-16823452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7E781-5126-40F3-B905-F4A6D89C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24F19-5231-47F1-906E-286E3048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502E7-DB7E-4615-9A00-DC9E6E03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B9084-F510-43EC-9DDC-BB325A63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0927A-B5BF-4CC1-AB38-F115B112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FB824-1119-41E8-A388-7A8CEAE6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A70E2-4B1A-4344-BC4A-FBEA486F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BFDBA-332D-4495-B877-ED0F3B26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7ABB8-B270-43A7-9DA8-DC2BF231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C64A-A8C6-4CDD-885A-8F4F36A378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26ED-B0A6-410C-8FD9-98C9F8C280C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4D9B-D462-4351-B8FA-5BAF710434F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ADBC-8D3C-4C09-9268-3EB11E30DEC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8B18-1B38-4FFF-AF78-A76EF90737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5E09-BDBF-4DBB-AF9E-13F11F0DD3D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2A50-9A1D-456A-B7FC-FC95677C81D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730C-EC84-44E5-AA01-A7BE001803E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353B-C66B-4062-A6E0-F92788ECF4E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6889-A607-4644-BF35-9D786FCFCF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CA8C-83ED-45BB-983E-A448C4A6E9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7641-796A-438E-B788-12AF238B78E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21AD-F089-498F-9648-14E92F16B67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5B51-3EE7-45F8-95AB-A13C224F1EC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7307-0C74-402D-BDF1-DF30AB7DEBA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2794-8C2C-4520-829D-BE00DD1D31B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67D7-DE37-4D93-BD54-62E496461AA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AA94-5ABF-4DAC-ABEA-A2CD697377D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4E56-5FFC-4574-B5FA-660F2BB0F84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66E0-F5AB-4BD5-B1B1-466E1B225DD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8A81-6FC9-4554-B6D1-1B508C98DE2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F464-FADC-4EF9-9FF6-E0B325825BD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521F-E04A-4ACC-9577-ED1D1E8CFD9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E115-3EB6-4FC5-91BB-16DBF33E722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EC68-3C7B-47BE-8F2E-A9DC8521DDE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LOGO"/>
          <p:cNvPicPr/>
          <p:nvPr/>
        </p:nvPicPr>
        <p:blipFill>
          <a:blip r:embed="rId2"/>
          <a:stretch/>
        </p:blipFill>
        <p:spPr>
          <a:xfrm>
            <a:off x="10118880" y="217440"/>
            <a:ext cx="1679400" cy="7761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4530600" y="3135240"/>
            <a:ext cx="896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9bd5"/>
                </a:solidFill>
                <a:latin typeface="Adobe Arabic"/>
                <a:ea typeface="Adobe Gothic Std B"/>
              </a:rPr>
              <a:t>PowerPoint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/>
          <p:nvPr/>
        </p:nvSpPr>
        <p:spPr>
          <a:xfrm>
            <a:off x="10321920" y="6465960"/>
            <a:ext cx="18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396120" y="1322280"/>
            <a:ext cx="90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9bd5"/>
                </a:solidFill>
                <a:latin typeface="Adobe Arabic"/>
              </a:rPr>
              <a:t>Click to add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4764240" y="2333520"/>
            <a:ext cx="90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9bd5"/>
                </a:solidFill>
                <a:latin typeface="Adobe Arabic"/>
              </a:rPr>
              <a:t>Click to add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6483240" y="3483000"/>
            <a:ext cx="90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9bd5"/>
                </a:solidFill>
                <a:latin typeface="Adobe Arabic"/>
              </a:rPr>
              <a:t>Click to add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803840" y="4641840"/>
            <a:ext cx="90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9bd5"/>
                </a:solidFill>
                <a:latin typeface="Adobe Arabic"/>
              </a:rPr>
              <a:t>Click to add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6" descr="LOGO"/>
          <p:cNvPicPr/>
          <p:nvPr/>
        </p:nvPicPr>
        <p:blipFill>
          <a:blip r:embed="rId2"/>
          <a:stretch/>
        </p:blipFill>
        <p:spPr>
          <a:xfrm>
            <a:off x="10883880" y="192240"/>
            <a:ext cx="11304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5046840" y="2712960"/>
            <a:ext cx="80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dobe Arabic"/>
              </a:rPr>
              <a:t>Add a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3" descr="LOGO"/>
          <p:cNvPicPr/>
          <p:nvPr/>
        </p:nvPicPr>
        <p:blipFill>
          <a:blip r:embed="rId2"/>
          <a:stretch/>
        </p:blipFill>
        <p:spPr>
          <a:xfrm>
            <a:off x="10896480" y="204840"/>
            <a:ext cx="11318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368280" y="612720"/>
            <a:ext cx="87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dobe Arabic"/>
              </a:rPr>
              <a:t>Add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3" descr="LOGO"/>
          <p:cNvPicPr/>
          <p:nvPr/>
        </p:nvPicPr>
        <p:blipFill>
          <a:blip r:embed="rId2"/>
          <a:stretch/>
        </p:blipFill>
        <p:spPr>
          <a:xfrm>
            <a:off x="10883880" y="192240"/>
            <a:ext cx="1130400" cy="5238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4"/>
          <p:cNvSpPr/>
          <p:nvPr/>
        </p:nvSpPr>
        <p:spPr>
          <a:xfrm>
            <a:off x="1363680" y="155412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9bd5"/>
                </a:solidFill>
                <a:latin typeface="Adobe Arabic"/>
              </a:rPr>
              <a:t>Add text 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5346720" y="2619360"/>
            <a:ext cx="94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dobe Arabic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8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</cp:lastModifiedBy>
  <dcterms:modified xsi:type="dcterms:W3CDTF">2015-01-12T08:55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