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7D9-9040-4C76-914B-029B65DF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1CD-BDEE-4C1F-ACA2-BA89B1F3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4E5-263F-40B3-AEC6-0D85AE7A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CD2-C5C5-4E0E-A433-EF7ED10E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DC0C-E1CD-4D69-8391-186E3435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2EC0-24BB-47EC-B0F7-D5EB65EA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4DB7-E512-4498-8975-AC342A1B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2371-2309-42A7-9B98-1C54EB35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32B9-0E75-482E-A6D0-46027958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CE5F-7E04-4968-9F99-A6BD962D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4193-FE76-42B2-B6E4-1C66B449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CB8-4E25-4326-B948-55A55416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1DB8-3859-481C-93CB-E6FC3CF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63BA-3AC5-48A7-BD05-D8BBC692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4D17-48B5-4FB3-8421-CD70A06C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C370-F505-4566-80FD-8606221F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5D41-EF1B-4379-BE65-E25FB0CA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B5131-2050-4ECB-8C4C-BB6C6184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E2CA-4047-42AD-A790-C7A84D80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8FFB-FA86-4508-BC47-70E51EA2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43A3-23D9-4F58-93E7-50ECFB65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B4E7-491E-4E05-B246-47461AB0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E58-AFF5-4E79-915C-C725E13E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CDB60-54B6-4D66-8C2F-359A70C9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EF172-3D76-4DC9-B93A-CF3A672C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009E-ADE4-45FA-9868-BBF69DD8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C9F4-C252-4833-929A-4C8A2FC5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DCB1-6707-49D9-A0EC-E8A4BDF1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64CD-DCB3-44D1-AAC3-4F9DA7FD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3B0F8-6384-40AC-A2C9-7F3065DA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EF4-13C4-48D8-9B19-82C50795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902-0A58-4697-808B-C08B0E49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CB9-B482-4280-92C2-F19CCB67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59F-4212-49B3-985A-2708D88B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CB1-F950-4190-ACD0-B67CF1EE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40B-0539-44BA-A29C-E12FACEF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BD21-0082-4540-8AB1-C74B5E11C9D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6593-53CE-4EF7-8BEB-60B881F523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3753-16AC-4045-81F4-2B792B6595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B98A-E57C-4B54-8761-7C7895D108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LOGO"/>
          <p:cNvPicPr/>
          <p:nvPr/>
        </p:nvPicPr>
        <p:blipFill>
          <a:blip r:embed="rId2"/>
          <a:stretch/>
        </p:blipFill>
        <p:spPr>
          <a:xfrm>
            <a:off x="2413080" y="2781360"/>
            <a:ext cx="446400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文字"/>
          <p:cNvPicPr/>
          <p:nvPr/>
        </p:nvPicPr>
        <p:blipFill>
          <a:blip r:embed="rId3"/>
          <a:stretch/>
        </p:blipFill>
        <p:spPr>
          <a:xfrm>
            <a:off x="3232080" y="4005360"/>
            <a:ext cx="29242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蓝色底线"/>
          <p:cNvPicPr/>
          <p:nvPr/>
        </p:nvPicPr>
        <p:blipFill>
          <a:blip r:embed="rId2"/>
          <a:stretch/>
        </p:blipFill>
        <p:spPr>
          <a:xfrm>
            <a:off x="2522520" y="1076400"/>
            <a:ext cx="4237200" cy="580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目录"/>
          <p:cNvPicPr/>
          <p:nvPr/>
        </p:nvPicPr>
        <p:blipFill>
          <a:blip r:embed="rId3"/>
          <a:stretch/>
        </p:blipFill>
        <p:spPr>
          <a:xfrm>
            <a:off x="3255840" y="0"/>
            <a:ext cx="2827440" cy="1162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粉丝红色块"/>
          <p:cNvPicPr/>
          <p:nvPr/>
        </p:nvPicPr>
        <p:blipFill>
          <a:blip r:embed="rId4"/>
          <a:stretch/>
        </p:blipFill>
        <p:spPr>
          <a:xfrm>
            <a:off x="3995640" y="1773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蓝色块"/>
          <p:cNvPicPr/>
          <p:nvPr/>
        </p:nvPicPr>
        <p:blipFill>
          <a:blip r:embed="rId5"/>
          <a:stretch/>
        </p:blipFill>
        <p:spPr>
          <a:xfrm>
            <a:off x="1846440" y="2781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黄色块"/>
          <p:cNvPicPr/>
          <p:nvPr/>
        </p:nvPicPr>
        <p:blipFill>
          <a:blip r:embed="rId6"/>
          <a:stretch/>
        </p:blipFill>
        <p:spPr>
          <a:xfrm>
            <a:off x="6083280" y="36450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绿色块"/>
          <p:cNvPicPr/>
          <p:nvPr/>
        </p:nvPicPr>
        <p:blipFill>
          <a:blip r:embed="rId7"/>
          <a:stretch/>
        </p:blipFill>
        <p:spPr>
          <a:xfrm>
            <a:off x="3198960" y="499752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男主角"/>
          <p:cNvPicPr/>
          <p:nvPr/>
        </p:nvPicPr>
        <p:blipFill>
          <a:blip r:embed="rId2"/>
          <a:stretch/>
        </p:blipFill>
        <p:spPr>
          <a:xfrm rot="20940000">
            <a:off x="6229440" y="2997360"/>
            <a:ext cx="3951360" cy="444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关于WILL文字"/>
          <p:cNvPicPr/>
          <p:nvPr/>
        </p:nvPicPr>
        <p:blipFill>
          <a:blip r:embed="rId3"/>
          <a:stretch/>
        </p:blipFill>
        <p:spPr>
          <a:xfrm>
            <a:off x="971640" y="693720"/>
            <a:ext cx="504036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2 -0.045833 C 0.044348 -0.045833 0.100348 0.028837 0.100348 0.120837 C 0.100348 0.212837 0.044348 0.287497 -0.024652 0.287497 C -0.093652 0.287497 -0.149652 0.212837 -0.149652 0.120837 C -0.149652 0.028837 -0.093652 -0.045833 -0.024652 -0.045833 Z">
                                      <p:cBhvr>
                                        <p:cTn id="12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长条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97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圆圈"/>
          <p:cNvPicPr/>
          <p:nvPr/>
        </p:nvPicPr>
        <p:blipFill>
          <a:blip r:embed="rId3"/>
          <a:stretch/>
        </p:blipFill>
        <p:spPr>
          <a:xfrm>
            <a:off x="324000" y="404640"/>
            <a:ext cx="1704960" cy="1486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关于"/>
          <p:cNvPicPr/>
          <p:nvPr/>
        </p:nvPicPr>
        <p:blipFill>
          <a:blip r:embed="rId4"/>
          <a:stretch/>
        </p:blipFill>
        <p:spPr>
          <a:xfrm>
            <a:off x="395280" y="476280"/>
            <a:ext cx="3325680" cy="1265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威尔薇儿人物"/>
          <p:cNvPicPr/>
          <p:nvPr/>
        </p:nvPicPr>
        <p:blipFill>
          <a:blip r:embed="rId5"/>
          <a:stretch/>
        </p:blipFill>
        <p:spPr>
          <a:xfrm>
            <a:off x="3067200" y="1557360"/>
            <a:ext cx="3282840" cy="1909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LOGO"/>
          <p:cNvPicPr/>
          <p:nvPr/>
        </p:nvPicPr>
        <p:blipFill>
          <a:blip r:embed="rId6"/>
          <a:stretch/>
        </p:blipFill>
        <p:spPr>
          <a:xfrm>
            <a:off x="2411280" y="3246480"/>
            <a:ext cx="446436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文字解释"/>
          <p:cNvPicPr/>
          <p:nvPr/>
        </p:nvPicPr>
        <p:blipFill>
          <a:blip r:embed="rId7"/>
          <a:stretch/>
        </p:blipFill>
        <p:spPr>
          <a:xfrm>
            <a:off x="1260360" y="4941720"/>
            <a:ext cx="6336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THANKS"/>
          <p:cNvPicPr/>
          <p:nvPr/>
        </p:nvPicPr>
        <p:blipFill>
          <a:blip r:embed="rId2"/>
          <a:stretch/>
        </p:blipFill>
        <p:spPr>
          <a:xfrm>
            <a:off x="2266920" y="2637000"/>
            <a:ext cx="4897440" cy="1093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白线"/>
          <p:cNvPicPr/>
          <p:nvPr/>
        </p:nvPicPr>
        <p:blipFill>
          <a:blip r:embed="rId3"/>
          <a:stretch/>
        </p:blipFill>
        <p:spPr>
          <a:xfrm>
            <a:off x="828720" y="4043520"/>
            <a:ext cx="7343640" cy="28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谢谢观赏"/>
          <p:cNvPicPr/>
          <p:nvPr/>
        </p:nvPicPr>
        <p:blipFill>
          <a:blip r:embed="rId4"/>
          <a:stretch/>
        </p:blipFill>
        <p:spPr>
          <a:xfrm>
            <a:off x="3813120" y="4075200"/>
            <a:ext cx="13352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1T06:54:41Z</dcterms:modified>
  <cp:revision>1</cp:revision>
  <dc:subject/>
  <dc:title>PowerPoint 演示文稿</dc:title>
</cp:coreProperties>
</file>