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2.wmf" ContentType="image/x-wmf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1C8-D78B-410E-BCC6-7E3BE6F5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F27-1D32-4F90-9EF7-800F542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48A2-EC2D-445C-9B2A-01F1BBB1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A7090-B312-42D3-8F93-99676C71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83B1-CE1E-414F-A7A9-7D760512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9D61-5F0C-432A-90DE-83FB43E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7395-4CC1-4CC5-ABFB-9B8CD12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B1DFB-BDF7-496C-9C3D-9A9F06D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43D0-4B18-45C1-B7CA-5973E711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D423C-C1C0-4F6D-8A3E-D479465D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DBB72-1DA8-4C38-BBCC-37C352C1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5F737-73BE-45C6-A841-0427D8D6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A9A-9349-446F-9FB5-F5D3035F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4FEB7-E1B2-4627-82F0-8E7B18CC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0F036-F44B-45FC-A572-2E4065DF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1414D-6DAA-464F-B8FF-E194984B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53F80-E7E0-489A-BC06-4375D5B9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60994-4A09-45CB-952E-F8EE0DE7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449F7-BD94-4574-8897-8B5C60AD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F22B5-6661-4DF1-9F4D-7FFA607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529E-ECFE-476F-9C29-ED905BE7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3406-CA15-4631-874B-7DFE850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6FFE-6792-4370-834F-AAAA455D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3BD-3612-4914-A508-5740FBD5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C512B-B371-408F-98AE-269B4752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06EA7-F45B-41F0-97DD-C1A9FCAA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7EE6C-CF94-4989-A451-30208E52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2F17B-6584-4359-98D2-EC8D9C5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16B49-21D0-4FE4-8261-8E7EA33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DF6F7-49A3-4452-B1A2-C479CAAB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E55C8-BA89-4FF9-9118-E7AB2DB4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B3E50-EEDA-4265-8C00-2A81634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C1021-3DBC-4B90-AA34-952106C4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488B4-E1AB-4A59-8C56-413FDD03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9EEA-F1D0-4F17-9AD9-9D7EA49A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29DE9-3A2A-42BF-8DE8-A77EEA1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03B2E-4573-4F0A-99F8-F8DD8858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19ADA-554C-4B5D-9DDF-C0FD65AA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1E389-4B07-4EEA-8C8F-954616D4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91671-A5CB-4D82-ADFD-3E5016A0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47290-E46D-4363-8B99-A9F58550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27AFB-6F26-4FFE-B75F-498BC7B7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B765E-FB3A-48C5-A86C-0C5E681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82AD2-9459-4118-A589-0F4F82F4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E7FCA-8687-485F-94B5-40954B56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880A-A2F9-43D6-BACC-288B007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FF770-7C96-4A99-B324-12A0AE1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0C3E6-1DE9-4B26-8E01-1220349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AC6D2-A446-4F95-815D-9446F13B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FA710-5252-4715-A277-EFA5D14A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4FB42-A21D-4703-8152-79DB4BFA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5A183-633D-462F-893D-B5DD2E5A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4D423-313A-4774-B5F8-7ECF9B5F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A2320-01BF-4978-952A-CE66CA64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DB9E-5E7C-4AF3-A539-5FB533D2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792B-45A4-47A7-826C-652839EB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8F3A-5369-4918-B98B-B6C2FF70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48992-333B-43E1-9D0E-76079647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483C-8113-4CF5-8791-318C820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5DDE7-AFA5-4DBE-B959-1D21A83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18747-7080-40F7-897F-81255E52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CF624-CB11-4972-AD31-D456B85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2C3BF-14B1-4234-97AB-3A9A3690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9ED07-8714-4589-9CCA-A7D6AF18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1F200-4478-4B2C-A189-75FEEBD9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93016-E5F6-48B1-A003-AEE7176A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510E4-9336-4839-A2C9-C3343F75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5EE7-D640-4DFD-AB96-1CB1A3D2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187A2-71C8-4F6F-B2A3-B901F4BC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8588C-735D-481E-88AB-FF2A23E0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0A0C1-9F7A-4103-964A-CA63A43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0AF2C-B5F6-4495-B252-6471D1DA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DB430-CC91-4F76-8758-1CCF59F2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01F72-3B91-4D5D-AC60-AF59B47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9AB32-623B-4DAD-B483-EA2865B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B7A77-5B4A-4E8A-B8FF-6AE4976F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DA22A-D484-4FE0-B657-8B717C95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908D3-B645-47F7-8766-2C26DC56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83DD-1FC9-4CA2-A0D4-6D929D94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A8437-15A6-4E97-A932-C4CD71EC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3CBCD-F4A1-4BCF-A96C-4A0AAE0D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40E71-9874-4927-8954-77280A8A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B5A70-94D3-46C1-94B1-8BFD8A7E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D3B4E-F0A4-4365-B401-9822FB8D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FCE36-A854-44B8-8E93-38489207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90413-3B01-431E-8B08-AB859C1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08EAA-21A8-4A88-AD47-96BD00F7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94F37-6E80-4790-9F42-EB16F35C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DFD31-9843-4B94-B6D4-CE7982B7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DA93-197C-45F7-BA6A-C0061AB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540ED-E90C-417C-B1CE-7B64A6B9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B7A34-C46D-40D4-939D-6DBD7331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67E12-5099-496F-9386-B5560AF9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3BC7F-2E90-40D0-951C-A8A8008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850EF-44DE-45EF-9662-9AD8D9A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02CB5-0481-4282-8620-AAAC2E9D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5C3CA-A6C3-47E4-BE8D-18C00F97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3148C-5FB0-456F-9A65-D93D551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1D035-4AC9-4FEB-B222-EF13A37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3847F-DDA9-4E86-B4AA-78BB51EA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7165-534B-4916-A16D-F4A79E19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F2590-9EF2-4AF2-B249-54496567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5E277-8F4A-46C7-8B1E-9128C391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4435A-76BF-4409-A475-E3C0E421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120-E7AC-4A59-AB55-59E7CF79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D8B5-AB66-410E-BE77-01D8223C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FBB7-8353-40F6-9E1C-9C6C7EAE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AD5F-FE8D-4619-95BA-D0A9AB0C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3A11-C7D2-41A1-96FA-A496E666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8B18-CDAE-4A4E-898B-F51360C9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F97D-745B-47BE-90F0-D735FBDF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AB58-806C-4B51-BD17-C86FBC9A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C325-462B-47A9-87DB-0762E9B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37C4-733A-4F12-B1FC-A6869CF0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B416-FE93-4548-BB6B-5739B0D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F22-C540-4552-8B97-8C8AFD6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12CB-2DDC-49F6-9AB2-A236FD0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9B24-2F6F-44F4-86E8-AFCDDE0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8E60-771F-423D-B1D3-2F0C20D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23F7-2CF3-4F4F-92F1-82A13EC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413A-931F-4E68-B553-44F2219A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B5381-2EAC-40E2-A3F9-B7891276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FE7B-93D6-4AAD-86CF-BE1EF303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FC4-EAC9-494E-998B-66241A5A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789-01C2-40D2-9464-400980F7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50F-1228-42A6-83AB-93CC9B1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D845-5137-4F91-84BF-605CCF67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C228-D082-493F-B060-5A71CC9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62BBC-E110-464A-BCB6-E96A130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B57E-857F-43A3-9D72-606DFE2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D9B4-F7A7-4837-B9D9-BFF2C60D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3FA1-D070-4BF4-9DA7-1B2E4DE6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846B-5295-4B58-B485-2A0114D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058B-B0F9-4F18-BBB1-6923009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9DFA-2465-4AF3-AF56-4CEABD4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A71-32B1-4F32-B13D-939C2C7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EC9B-3360-45F5-BCA7-884506F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870A-6293-4961-8674-16BF4291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03CA-1F58-439A-9440-76F6E882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DF85-2D6C-40DD-BFBD-2F68BF7E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B51AE-05C2-4632-9FF3-0170CA62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60A4-2A48-4D8C-9B4E-8F54E7A0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CF201-E6A2-42DD-A354-3D50699D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6F19-A804-406B-B4F1-96A9CCC6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D79D-79BB-4D0B-B8E9-4901D0AD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D1744-A60C-4A22-8103-C80716A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485-2BE2-4A0A-A0E0-59AD6BB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B5D9-79B7-4A85-84BB-C2DEC7F8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9ACE-AC0A-4706-BBF6-01BA601C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EF0A-3D4C-4750-84BA-E6C5EAC3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FD69-224C-45BA-9EF1-4C6D78FD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E4C0-0EEE-4242-BA60-F84CB5B8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3E9C-6863-41EA-B4FC-C89ED06B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A3CB-78E0-4C29-9B02-01B69F05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708E-14DA-4650-B251-5D734421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E532-0E3C-4DD3-9BB2-604E939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CB63-2AC9-4277-8E56-2FBC996F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F42-875E-4D05-9FDF-1E3944C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9D21-1DC3-4CD0-B5EE-18CDF61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753D-71F4-4633-8563-1AFE8BA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CB17-1F24-4FBE-B128-16A4F83B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13236-1CC1-4B2A-9994-30D6584E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09DB-975A-44D7-B897-64355677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76541-623C-4D9F-890F-4E47417E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CF98-E7E0-4E89-A237-16D4E34B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ACB48-391F-4D30-8839-2DC03882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8DE9A-E63D-431E-A7BF-BD47159F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D8A9-6D3F-42B1-8493-0A49219B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3.png"/><Relationship Id="rId8" Type="http://schemas.openxmlformats.org/officeDocument/2006/relationships/image" Target="../media/image11.jpeg"/><Relationship Id="rId9" Type="http://schemas.openxmlformats.org/officeDocument/2006/relationships/image" Target="../media/image2.pn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553080" y="6019920"/>
            <a:ext cx="2392200" cy="563400"/>
            <a:chOff x="6553080" y="6019920"/>
            <a:chExt cx="2392200" cy="563400"/>
          </a:xfrm>
        </p:grpSpPr>
        <p:sp>
          <p:nvSpPr>
            <p:cNvPr id="1" name="未知"/>
            <p:cNvSpPr/>
            <p:nvPr/>
          </p:nvSpPr>
          <p:spPr>
            <a:xfrm>
              <a:off x="7089120" y="642312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7712280" y="639900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880320" y="630360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568720" y="630360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04120" y="640836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973640" y="633672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7125480" y="611100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8111520" y="630468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553080" y="619596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8246520" y="624240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726960" y="601992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737316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878112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7715520" y="605016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53156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843084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未知"/>
          <p:cNvSpPr/>
          <p:nvPr/>
        </p:nvSpPr>
        <p:spPr>
          <a:xfrm>
            <a:off x="0" y="6477120"/>
            <a:ext cx="914400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未知"/>
          <p:cNvSpPr/>
          <p:nvPr/>
        </p:nvSpPr>
        <p:spPr>
          <a:xfrm>
            <a:off x="0" y="6553080"/>
            <a:ext cx="9144000" cy="30492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185e25"/>
              </a:gs>
              <a:gs pos="100000">
                <a:srgbClr val="329a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未知"/>
          <p:cNvSpPr/>
          <p:nvPr/>
        </p:nvSpPr>
        <p:spPr>
          <a:xfrm>
            <a:off x="0" y="533520"/>
            <a:ext cx="9144000" cy="3808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未知"/>
          <p:cNvSpPr/>
          <p:nvPr/>
        </p:nvSpPr>
        <p:spPr>
          <a:xfrm>
            <a:off x="0" y="0"/>
            <a:ext cx="9144000" cy="8380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185e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89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3048120" y="63241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4800240" y="6324120"/>
            <a:ext cx="23115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7086240" y="632412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BBF-4625-4998-99F1-35A8BD44CC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28"/>
          <p:cNvSpPr/>
          <p:nvPr/>
        </p:nvSpPr>
        <p:spPr>
          <a:xfrm>
            <a:off x="144360" y="6443640"/>
            <a:ext cx="30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7" name="Picture 29" descr="5482911_143735027169_2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381880" y="0"/>
            <a:ext cx="673200" cy="762120"/>
          </a:xfrm>
          <a:prstGeom prst="rect">
            <a:avLst/>
          </a:prstGeom>
          <a:ln w="9360">
            <a:solidFill>
              <a:srgbClr val="329a2a"/>
            </a:solidFill>
            <a:miter/>
          </a:ln>
        </p:spPr>
      </p:pic>
      <p:sp>
        <p:nvSpPr>
          <p:cNvPr id="28" name="Text Box 30"/>
          <p:cNvSpPr/>
          <p:nvPr/>
        </p:nvSpPr>
        <p:spPr>
          <a:xfrm>
            <a:off x="4419720" y="380880"/>
            <a:ext cx="43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高中生物必修一第五章第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节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E06-8F9F-47DB-83F4-CAA3EDF63F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022E-6807-4081-80F6-510FB0F3F8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147E-7624-4783-B25A-30A173274A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C30-0709-44BE-A067-8C4D09ADDF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0B39-59BA-4F3F-98BF-0298F98D41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189A-0525-45DA-A664-79A4EF8C47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F0C-4065-465C-9583-BF68424CE6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A9DC-0982-4417-9C39-4BBDC4CE61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0959-35BC-4D71-9A9C-AC9964C81D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7FCC-E3E5-4399-AD93-60D86CFAFB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FA3-66EA-4904-BC61-1E66AD107E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0BE-1EC9-4DE9-82E9-266533689E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1E1-E259-4263-BA8A-E5E0E80115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687A-4D94-4FB4-9691-95E1FAEB46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6553080" y="6019920"/>
            <a:ext cx="2392200" cy="563400"/>
            <a:chOff x="6553080" y="6019920"/>
            <a:chExt cx="2392200" cy="563400"/>
          </a:xfrm>
        </p:grpSpPr>
        <p:sp>
          <p:nvSpPr>
            <p:cNvPr id="66" name="未知"/>
            <p:cNvSpPr/>
            <p:nvPr/>
          </p:nvSpPr>
          <p:spPr>
            <a:xfrm>
              <a:off x="7089120" y="642312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7712280" y="639900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6880320" y="630360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8568720" y="630360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8304120" y="640836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7973640" y="633672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7125480" y="611100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8111520" y="630468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553080" y="619596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8246520" y="624240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6726960" y="601992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37316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878112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7715520" y="605016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753156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843084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2" name="未知"/>
          <p:cNvSpPr/>
          <p:nvPr/>
        </p:nvSpPr>
        <p:spPr>
          <a:xfrm>
            <a:off x="0" y="6477120"/>
            <a:ext cx="914400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" name="未知"/>
          <p:cNvSpPr/>
          <p:nvPr/>
        </p:nvSpPr>
        <p:spPr>
          <a:xfrm>
            <a:off x="0" y="6553080"/>
            <a:ext cx="9144000" cy="30492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185e25"/>
              </a:gs>
              <a:gs pos="100000">
                <a:srgbClr val="329a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" name="未知"/>
          <p:cNvSpPr/>
          <p:nvPr/>
        </p:nvSpPr>
        <p:spPr>
          <a:xfrm>
            <a:off x="0" y="533520"/>
            <a:ext cx="9144000" cy="3808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" name="未知"/>
          <p:cNvSpPr/>
          <p:nvPr/>
        </p:nvSpPr>
        <p:spPr>
          <a:xfrm>
            <a:off x="0" y="0"/>
            <a:ext cx="9144000" cy="8380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185e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98280"/>
            <a:ext cx="7086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3048120" y="63241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4800240" y="6324120"/>
            <a:ext cx="23115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7086240" y="632412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2A2-6FB9-4EE0-AEDA-65A341BB5C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144360" y="6443640"/>
            <a:ext cx="30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92" name="Picture 29" descr="透明校徽2"/>
          <p:cNvPicPr/>
          <p:nvPr/>
        </p:nvPicPr>
        <p:blipFill>
          <a:blip r:embed="rId2"/>
          <a:stretch/>
        </p:blipFill>
        <p:spPr>
          <a:xfrm>
            <a:off x="7696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0" descr="华师一附中白副本"/>
          <p:cNvPicPr/>
          <p:nvPr/>
        </p:nvPicPr>
        <p:blipFill>
          <a:blip r:embed="rId3"/>
          <a:stretch/>
        </p:blipFill>
        <p:spPr>
          <a:xfrm>
            <a:off x="8153280" y="114480"/>
            <a:ext cx="914400" cy="26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Control 31"/>
          <p:cNvGraphicFramePr/>
          <p:nvPr/>
        </p:nvGraphicFramePr>
        <p:xfrm>
          <a:off x="76320" y="6553080"/>
          <a:ext cx="91440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Control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6553080"/>
                    <a:ext cx="914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A48-B38A-40AD-AD4F-99384A5260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8DDD-2800-4EB5-99ED-150FA78B02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962680" y="274320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867800" y="3505320"/>
            <a:ext cx="742680" cy="74448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105680" y="350532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105680" y="4267080"/>
            <a:ext cx="74304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781680" y="2743200"/>
            <a:ext cx="74304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0" y="6324480"/>
            <a:ext cx="9143640" cy="533160"/>
            <a:chOff x="0" y="6324480"/>
            <a:chExt cx="9143640" cy="533160"/>
          </a:xfrm>
        </p:grpSpPr>
        <p:sp>
          <p:nvSpPr>
            <p:cNvPr id="179" name="未知"/>
            <p:cNvSpPr/>
            <p:nvPr/>
          </p:nvSpPr>
          <p:spPr>
            <a:xfrm>
              <a:off x="0" y="632448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0" y="639000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6721560" y="6434280"/>
              <a:ext cx="2422080" cy="11772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0" y="685800"/>
            <a:ext cx="3911040" cy="685440"/>
            <a:chOff x="0" y="685800"/>
            <a:chExt cx="3911040" cy="685440"/>
          </a:xfrm>
        </p:grpSpPr>
        <p:sp>
          <p:nvSpPr>
            <p:cNvPr id="183" name="未知"/>
            <p:cNvSpPr/>
            <p:nvPr/>
          </p:nvSpPr>
          <p:spPr>
            <a:xfrm flipV="1">
              <a:off x="876600" y="685440"/>
              <a:ext cx="104760" cy="19476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 flipV="1">
              <a:off x="1895040" y="685440"/>
              <a:ext cx="120600" cy="2242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 flipV="1">
              <a:off x="534960" y="685440"/>
              <a:ext cx="391680" cy="34020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 flipV="1">
              <a:off x="3295440" y="685440"/>
              <a:ext cx="387000" cy="34020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 flipV="1">
              <a:off x="2862720" y="685440"/>
              <a:ext cx="239400" cy="2127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 flipV="1">
              <a:off x="2322720" y="685440"/>
              <a:ext cx="236520" cy="29988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 flipV="1">
              <a:off x="935640" y="685440"/>
              <a:ext cx="446040" cy="57420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 flipV="1">
              <a:off x="2548080" y="685440"/>
              <a:ext cx="247320" cy="33876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 flipV="1">
              <a:off x="0" y="685440"/>
              <a:ext cx="343800" cy="4712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 flipV="1">
              <a:off x="2768760" y="685440"/>
              <a:ext cx="182880" cy="4143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flipV="1">
              <a:off x="284400" y="685800"/>
              <a:ext cx="298440" cy="6854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 flipV="1">
              <a:off x="134100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flipV="1">
              <a:off x="364248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 flipV="1">
              <a:off x="1900800" y="685800"/>
              <a:ext cx="469800" cy="6487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 flipV="1">
              <a:off x="15994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 flipV="1">
              <a:off x="30700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99" name="Rectangle 28"/>
          <p:cNvSpPr/>
          <p:nvPr/>
        </p:nvSpPr>
        <p:spPr>
          <a:xfrm>
            <a:off x="0" y="6629400"/>
            <a:ext cx="9144000" cy="15228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00" name="Group 29"/>
          <p:cNvGrpSpPr/>
          <p:nvPr/>
        </p:nvGrpSpPr>
        <p:grpSpPr>
          <a:xfrm>
            <a:off x="0" y="0"/>
            <a:ext cx="9143640" cy="685800"/>
            <a:chOff x="0" y="0"/>
            <a:chExt cx="9143640" cy="685800"/>
          </a:xfrm>
        </p:grpSpPr>
        <p:sp>
          <p:nvSpPr>
            <p:cNvPr id="201" name="未知"/>
            <p:cNvSpPr/>
            <p:nvPr/>
          </p:nvSpPr>
          <p:spPr>
            <a:xfrm>
              <a:off x="0" y="190440"/>
              <a:ext cx="9143640" cy="4953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0" y="0"/>
              <a:ext cx="9143640" cy="63000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174713"/>
                </a:gs>
                <a:gs pos="100000">
                  <a:srgbClr val="329a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0" y="504000"/>
              <a:ext cx="2417400" cy="9396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04" name="Rectangle 33"/>
          <p:cNvSpPr/>
          <p:nvPr/>
        </p:nvSpPr>
        <p:spPr>
          <a:xfrm>
            <a:off x="7105680" y="1981080"/>
            <a:ext cx="741240" cy="743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6343560" y="1981080"/>
            <a:ext cx="743040" cy="743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5581800" y="3522600"/>
            <a:ext cx="74268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6724800" y="1219320"/>
            <a:ext cx="742680" cy="74268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8" name="Rectangle 37"/>
          <p:cNvSpPr/>
          <p:nvPr/>
        </p:nvSpPr>
        <p:spPr>
          <a:xfrm>
            <a:off x="6345360" y="4267080"/>
            <a:ext cx="74124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Rectangle 38"/>
          <p:cNvSpPr/>
          <p:nvPr/>
        </p:nvSpPr>
        <p:spPr>
          <a:xfrm>
            <a:off x="7486560" y="274320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0" name="Picture 39" descr="1"/>
          <p:cNvPicPr/>
          <p:nvPr/>
        </p:nvPicPr>
        <p:blipFill>
          <a:blip r:embed="rId7"/>
          <a:stretch/>
        </p:blipFill>
        <p:spPr>
          <a:xfrm>
            <a:off x="2362320" y="5181480"/>
            <a:ext cx="820440" cy="838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0"/>
          <p:cNvSpPr/>
          <p:nvPr/>
        </p:nvSpPr>
        <p:spPr>
          <a:xfrm>
            <a:off x="6342120" y="3505320"/>
            <a:ext cx="744480" cy="742680"/>
          </a:xfrm>
          <a:prstGeom prst="rect">
            <a:avLst/>
          </a:prstGeom>
          <a:blipFill rotWithShape="0">
            <a:blip r:embed="rId8">
              <a:alphaModFix amt="6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2" name="Picture 41" descr="1260262258111"/>
          <p:cNvPicPr/>
          <p:nvPr/>
        </p:nvPicPr>
        <p:blipFill>
          <a:blip r:embed="rId9"/>
          <a:stretch/>
        </p:blipFill>
        <p:spPr>
          <a:xfrm>
            <a:off x="2895480" y="565776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2"/>
          <p:cNvSpPr/>
          <p:nvPr/>
        </p:nvSpPr>
        <p:spPr>
          <a:xfrm>
            <a:off x="228600" y="1905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微软雅黑"/>
              </a:rPr>
              <a:t>酶的作用和本质</a:t>
            </a:r>
            <a:endParaRPr b="0" lang="en-US" sz="5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89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5962680" y="274320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867800" y="3505320"/>
            <a:ext cx="742680" cy="74448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7105680" y="350532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7105680" y="4267080"/>
            <a:ext cx="74304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724800" y="2743200"/>
            <a:ext cx="74268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0" y="6324480"/>
            <a:ext cx="9143640" cy="533160"/>
            <a:chOff x="0" y="6324480"/>
            <a:chExt cx="9143640" cy="533160"/>
          </a:xfrm>
        </p:grpSpPr>
        <p:sp>
          <p:nvSpPr>
            <p:cNvPr id="258" name="未知"/>
            <p:cNvSpPr/>
            <p:nvPr/>
          </p:nvSpPr>
          <p:spPr>
            <a:xfrm>
              <a:off x="0" y="632448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0" y="639000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6721560" y="6434280"/>
              <a:ext cx="2422080" cy="11772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61" name="Group 11"/>
          <p:cNvGrpSpPr/>
          <p:nvPr/>
        </p:nvGrpSpPr>
        <p:grpSpPr>
          <a:xfrm>
            <a:off x="0" y="685800"/>
            <a:ext cx="3911040" cy="685440"/>
            <a:chOff x="0" y="685800"/>
            <a:chExt cx="3911040" cy="685440"/>
          </a:xfrm>
        </p:grpSpPr>
        <p:sp>
          <p:nvSpPr>
            <p:cNvPr id="262" name="未知"/>
            <p:cNvSpPr/>
            <p:nvPr/>
          </p:nvSpPr>
          <p:spPr>
            <a:xfrm flipV="1">
              <a:off x="876600" y="685440"/>
              <a:ext cx="104760" cy="19476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 flipV="1">
              <a:off x="1895040" y="685440"/>
              <a:ext cx="120600" cy="2242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 flipV="1">
              <a:off x="534960" y="685440"/>
              <a:ext cx="391680" cy="34020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 flipV="1">
              <a:off x="3295440" y="685440"/>
              <a:ext cx="387000" cy="34020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 flipV="1">
              <a:off x="2862720" y="685440"/>
              <a:ext cx="239400" cy="2127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 flipV="1">
              <a:off x="2322720" y="685440"/>
              <a:ext cx="236520" cy="29988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 flipV="1">
              <a:off x="935640" y="685440"/>
              <a:ext cx="446040" cy="57420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flipV="1">
              <a:off x="2548080" y="685440"/>
              <a:ext cx="247320" cy="33876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 flipV="1">
              <a:off x="0" y="685440"/>
              <a:ext cx="343800" cy="4712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flipV="1">
              <a:off x="2768760" y="685440"/>
              <a:ext cx="182880" cy="4143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 flipV="1">
              <a:off x="284400" y="685800"/>
              <a:ext cx="298440" cy="6854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 flipV="1">
              <a:off x="134100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 flipV="1">
              <a:off x="364248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flipV="1">
              <a:off x="1900800" y="685800"/>
              <a:ext cx="469800" cy="6487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 flipV="1">
              <a:off x="15994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 flipV="1">
              <a:off x="30700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78" name="Rectangle 28"/>
          <p:cNvSpPr/>
          <p:nvPr/>
        </p:nvSpPr>
        <p:spPr>
          <a:xfrm>
            <a:off x="0" y="6629400"/>
            <a:ext cx="9144000" cy="15228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79" name="Group 29"/>
          <p:cNvGrpSpPr/>
          <p:nvPr/>
        </p:nvGrpSpPr>
        <p:grpSpPr>
          <a:xfrm>
            <a:off x="0" y="0"/>
            <a:ext cx="9143640" cy="685800"/>
            <a:chOff x="0" y="0"/>
            <a:chExt cx="9143640" cy="685800"/>
          </a:xfrm>
        </p:grpSpPr>
        <p:sp>
          <p:nvSpPr>
            <p:cNvPr id="280" name="未知"/>
            <p:cNvSpPr/>
            <p:nvPr/>
          </p:nvSpPr>
          <p:spPr>
            <a:xfrm>
              <a:off x="0" y="190440"/>
              <a:ext cx="9143640" cy="4953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0" y="0"/>
              <a:ext cx="9143640" cy="63000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174713"/>
                </a:gs>
                <a:gs pos="100000">
                  <a:srgbClr val="329a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0" y="504000"/>
              <a:ext cx="2417400" cy="9396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83" name="Rectangle 33"/>
          <p:cNvSpPr/>
          <p:nvPr/>
        </p:nvSpPr>
        <p:spPr>
          <a:xfrm>
            <a:off x="7105680" y="1981080"/>
            <a:ext cx="741240" cy="743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4" name="Rectangle 34"/>
          <p:cNvSpPr/>
          <p:nvPr/>
        </p:nvSpPr>
        <p:spPr>
          <a:xfrm>
            <a:off x="6343560" y="1981080"/>
            <a:ext cx="743040" cy="743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5581800" y="3522600"/>
            <a:ext cx="74268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6724800" y="1219320"/>
            <a:ext cx="742680" cy="74268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6345360" y="4267080"/>
            <a:ext cx="74124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7486560" y="274320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89" name="Picture 39" descr="1"/>
          <p:cNvPicPr/>
          <p:nvPr/>
        </p:nvPicPr>
        <p:blipFill>
          <a:blip r:embed="rId7"/>
          <a:stretch/>
        </p:blipFill>
        <p:spPr>
          <a:xfrm>
            <a:off x="2362320" y="5181480"/>
            <a:ext cx="820440" cy="8384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40"/>
          <p:cNvSpPr/>
          <p:nvPr/>
        </p:nvSpPr>
        <p:spPr>
          <a:xfrm>
            <a:off x="6342120" y="3505320"/>
            <a:ext cx="744480" cy="742680"/>
          </a:xfrm>
          <a:prstGeom prst="rect">
            <a:avLst/>
          </a:prstGeom>
          <a:blipFill rotWithShape="0">
            <a:blip r:embed="rId8">
              <a:alphaModFix amt="6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91" name="Picture 41" descr="透明校徽2"/>
          <p:cNvPicPr/>
          <p:nvPr/>
        </p:nvPicPr>
        <p:blipFill>
          <a:blip r:embed="rId9"/>
          <a:stretch/>
        </p:blipFill>
        <p:spPr>
          <a:xfrm>
            <a:off x="74674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华师一附中白副本"/>
          <p:cNvPicPr/>
          <p:nvPr/>
        </p:nvPicPr>
        <p:blipFill>
          <a:blip r:embed="rId10"/>
          <a:stretch/>
        </p:blipFill>
        <p:spPr>
          <a:xfrm>
            <a:off x="8153280" y="114480"/>
            <a:ext cx="914400" cy="2664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3"/>
          <p:cNvSpPr/>
          <p:nvPr/>
        </p:nvSpPr>
        <p:spPr>
          <a:xfrm>
            <a:off x="228600" y="1905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微软雅黑"/>
              </a:rPr>
              <a:t>酶的作用和本质</a:t>
            </a:r>
            <a:endParaRPr b="0" lang="en-US" sz="5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94" name="Picture 44" descr="5482911_143735027169_2"/>
          <p:cNvPicPr/>
          <p:nvPr/>
        </p:nvPicPr>
        <p:blipFill>
          <a:blip r:embed="rId11">
            <a:biLevel thresh="50000"/>
          </a:blip>
          <a:stretch/>
        </p:blipFill>
        <p:spPr>
          <a:xfrm>
            <a:off x="7467480" y="0"/>
            <a:ext cx="1675080" cy="533520"/>
          </a:xfrm>
          <a:prstGeom prst="rect">
            <a:avLst/>
          </a:prstGeom>
          <a:ln w="9360">
            <a:solidFill>
              <a:srgbClr val="329a2a"/>
            </a:solidFill>
            <a:miter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-98280"/>
            <a:ext cx="7086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1D42-5EF5-42DA-930C-E3F4DCD058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7711-D4E9-48E0-B13F-1B71DA905C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E860-69C0-48BD-BB19-27E89C9FB0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67DE-5482-4065-984D-E5FB7A340E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98F3-4856-4905-A85D-A870620490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B7ED-EEA8-4C44-8FE1-EA0A44C74E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1609-6E6D-49C2-B527-C0C11BFDF2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67AD-4237-4EB7-8CDA-6FB6253803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18.gif"/><Relationship Id="rId11" Type="http://schemas.openxmlformats.org/officeDocument/2006/relationships/image" Target="../media/image19.png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1430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1920" y="1080"/>
            <a:ext cx="632628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e89a"/>
                </a:solidFill>
                <a:latin typeface="Arial"/>
                <a:ea typeface="宋体"/>
              </a:rPr>
              <a:t>酶在细胞代谢中的作用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82224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590760" y="1371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实验验证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88" name="Group 5"/>
          <p:cNvGrpSpPr/>
          <p:nvPr/>
        </p:nvGrpSpPr>
        <p:grpSpPr>
          <a:xfrm>
            <a:off x="2743200" y="2743200"/>
            <a:ext cx="6553080" cy="648720"/>
            <a:chOff x="2743200" y="2743200"/>
            <a:chExt cx="6553080" cy="648720"/>
          </a:xfrm>
        </p:grpSpPr>
        <p:sp>
          <p:nvSpPr>
            <p:cNvPr id="789" name="Text Box 6"/>
            <p:cNvSpPr/>
            <p:nvPr/>
          </p:nvSpPr>
          <p:spPr>
            <a:xfrm>
              <a:off x="2743200" y="2743200"/>
              <a:ext cx="6553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 H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  +   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endParaRPr b="0" lang="en-US" sz="32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0" name="Line 7"/>
            <p:cNvSpPr/>
            <p:nvPr/>
          </p:nvSpPr>
          <p:spPr>
            <a:xfrm>
              <a:off x="4648320" y="312408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791" name="Rectangle 8"/>
          <p:cNvSpPr/>
          <p:nvPr/>
        </p:nvSpPr>
        <p:spPr>
          <a:xfrm>
            <a:off x="685800" y="2819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氧化氢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914400" y="51055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氧化氢酶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93" name="Picture 10" descr="300px-Catalase"/>
          <p:cNvPicPr/>
          <p:nvPr/>
        </p:nvPicPr>
        <p:blipFill>
          <a:blip r:embed="rId1"/>
          <a:stretch/>
        </p:blipFill>
        <p:spPr>
          <a:xfrm>
            <a:off x="3809880" y="3962520"/>
            <a:ext cx="1981440" cy="21333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1"/>
          <p:cNvSpPr/>
          <p:nvPr/>
        </p:nvSpPr>
        <p:spPr>
          <a:xfrm>
            <a:off x="6172200" y="510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氧化氢酶分子三维结构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2286000" y="1371600"/>
            <a:ext cx="548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同条件下的分解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4632480" y="255744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加热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7" name="Text Box 14"/>
          <p:cNvSpPr/>
          <p:nvPr/>
        </p:nvSpPr>
        <p:spPr>
          <a:xfrm>
            <a:off x="41911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zh-CN" sz="2400" spc="-1" strike="noStrike" baseline="30000">
                <a:solidFill>
                  <a:srgbClr val="ff0000"/>
                </a:solidFill>
                <a:latin typeface="Arial"/>
              </a:rPr>
              <a:t>3+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或过氧化氢酶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562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1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22960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主要材料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新鲜的肝脏研磨液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5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eCl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溶液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氧化氢溶液（反应底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主要用具：酒精灯、试管、量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105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1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220320" y="990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实验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步骤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539720" y="1135080"/>
          <a:ext cx="6858000" cy="3367080"/>
        </p:xfrm>
        <a:graphic>
          <a:graphicData uri="http://schemas.openxmlformats.org/drawingml/2006/table">
            <a:tbl>
              <a:tblPr/>
              <a:tblGrid>
                <a:gridCol w="700200"/>
                <a:gridCol w="900000"/>
                <a:gridCol w="1295640"/>
                <a:gridCol w="1371600"/>
                <a:gridCol w="1143000"/>
                <a:gridCol w="1447560"/>
              </a:tblGrid>
              <a:tr h="398880">
                <a:tc gridSpan="2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步骤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试管编号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5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H</a:t>
                      </a:r>
                      <a:r>
                        <a:rPr b="1" lang="zh-CN" sz="20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O</a:t>
                      </a:r>
                      <a:r>
                        <a:rPr b="1" lang="zh-CN" sz="20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浓度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9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反应条件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3" name="Text Box 47"/>
          <p:cNvSpPr/>
          <p:nvPr/>
        </p:nvSpPr>
        <p:spPr>
          <a:xfrm>
            <a:off x="7170840" y="271152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4" name="Text Box 48"/>
          <p:cNvSpPr/>
          <p:nvPr/>
        </p:nvSpPr>
        <p:spPr>
          <a:xfrm>
            <a:off x="4664160" y="27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5" name="Text Box 49"/>
          <p:cNvSpPr/>
          <p:nvPr/>
        </p:nvSpPr>
        <p:spPr>
          <a:xfrm>
            <a:off x="3292560" y="27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6" name="Text Box 50"/>
          <p:cNvSpPr/>
          <p:nvPr/>
        </p:nvSpPr>
        <p:spPr>
          <a:xfrm>
            <a:off x="5959440" y="2711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7" name="Text Box 51"/>
          <p:cNvSpPr/>
          <p:nvPr/>
        </p:nvSpPr>
        <p:spPr>
          <a:xfrm>
            <a:off x="3292560" y="2101680"/>
            <a:ext cx="9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8" name="Text Box 52"/>
          <p:cNvSpPr/>
          <p:nvPr/>
        </p:nvSpPr>
        <p:spPr>
          <a:xfrm>
            <a:off x="5959440" y="2101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9" name="Text Box 53"/>
          <p:cNvSpPr/>
          <p:nvPr/>
        </p:nvSpPr>
        <p:spPr>
          <a:xfrm>
            <a:off x="4664160" y="2101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0" name="Text Box 54"/>
          <p:cNvSpPr/>
          <p:nvPr/>
        </p:nvSpPr>
        <p:spPr>
          <a:xfrm>
            <a:off x="7178760" y="2101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1" name="Text Box 55"/>
          <p:cNvSpPr/>
          <p:nvPr/>
        </p:nvSpPr>
        <p:spPr>
          <a:xfrm>
            <a:off x="3292560" y="3381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温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2" name="Text Box 56"/>
          <p:cNvSpPr/>
          <p:nvPr/>
        </p:nvSpPr>
        <p:spPr>
          <a:xfrm>
            <a:off x="4664160" y="338148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℃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3" name="Text Box 57"/>
          <p:cNvSpPr/>
          <p:nvPr/>
        </p:nvSpPr>
        <p:spPr>
          <a:xfrm>
            <a:off x="5883120" y="33814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eCl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4" name="Text Box 58"/>
          <p:cNvSpPr/>
          <p:nvPr/>
        </p:nvSpPr>
        <p:spPr>
          <a:xfrm>
            <a:off x="7026120" y="33051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研磨液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5" name="Text Box 59"/>
          <p:cNvSpPr/>
          <p:nvPr/>
        </p:nvSpPr>
        <p:spPr>
          <a:xfrm>
            <a:off x="7102440" y="39909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6" name="Text Box 60"/>
          <p:cNvSpPr/>
          <p:nvPr/>
        </p:nvSpPr>
        <p:spPr>
          <a:xfrm>
            <a:off x="5730840" y="39909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7" name="Line 61"/>
          <p:cNvSpPr/>
          <p:nvPr/>
        </p:nvSpPr>
        <p:spPr>
          <a:xfrm>
            <a:off x="3124080" y="39625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8" name="Line 62"/>
          <p:cNvSpPr/>
          <p:nvPr/>
        </p:nvSpPr>
        <p:spPr>
          <a:xfrm>
            <a:off x="4419720" y="39625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9" name="Rectangle 63"/>
          <p:cNvSpPr/>
          <p:nvPr/>
        </p:nvSpPr>
        <p:spPr>
          <a:xfrm>
            <a:off x="0" y="4572000"/>
            <a:ext cx="9144000" cy="7632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0" name="AutoShape 64"/>
          <p:cNvSpPr/>
          <p:nvPr/>
        </p:nvSpPr>
        <p:spPr>
          <a:xfrm>
            <a:off x="3809880" y="5943600"/>
            <a:ext cx="533520" cy="83808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1523880" y="4648320"/>
          <a:ext cx="6826320" cy="1647720"/>
        </p:xfrm>
        <a:graphic>
          <a:graphicData uri="http://schemas.openxmlformats.org/drawingml/2006/table">
            <a:tbl>
              <a:tblPr/>
              <a:tblGrid>
                <a:gridCol w="695520"/>
                <a:gridCol w="979560"/>
                <a:gridCol w="5151240"/>
              </a:tblGrid>
              <a:tr h="658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气泡产生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卫生香燃烧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22" name="Group 79"/>
          <p:cNvGrpSpPr/>
          <p:nvPr/>
        </p:nvGrpSpPr>
        <p:grpSpPr>
          <a:xfrm>
            <a:off x="3429000" y="5029200"/>
            <a:ext cx="5105160" cy="990720"/>
            <a:chOff x="3429000" y="5029200"/>
            <a:chExt cx="5105160" cy="990720"/>
          </a:xfrm>
        </p:grpSpPr>
        <p:grpSp>
          <p:nvGrpSpPr>
            <p:cNvPr id="823" name="Group 80"/>
            <p:cNvGrpSpPr/>
            <p:nvPr/>
          </p:nvGrpSpPr>
          <p:grpSpPr>
            <a:xfrm>
              <a:off x="6922080" y="5029200"/>
              <a:ext cx="1612080" cy="990720"/>
              <a:chOff x="6922080" y="5029200"/>
              <a:chExt cx="1612080" cy="990720"/>
            </a:xfrm>
          </p:grpSpPr>
          <p:pic>
            <p:nvPicPr>
              <p:cNvPr id="824" name="Picture 81" descr=""/>
              <p:cNvPicPr/>
              <p:nvPr/>
            </p:nvPicPr>
            <p:blipFill>
              <a:blip r:embed="rId1"/>
              <a:stretch/>
            </p:blipFill>
            <p:spPr>
              <a:xfrm>
                <a:off x="6922080" y="5029200"/>
                <a:ext cx="161208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82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7540560" y="5563440"/>
                <a:ext cx="352440" cy="14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6" name="Group 83"/>
            <p:cNvGrpSpPr/>
            <p:nvPr/>
          </p:nvGrpSpPr>
          <p:grpSpPr>
            <a:xfrm>
              <a:off x="5757480" y="5029200"/>
              <a:ext cx="1701360" cy="990720"/>
              <a:chOff x="5757480" y="5029200"/>
              <a:chExt cx="1701360" cy="990720"/>
            </a:xfrm>
          </p:grpSpPr>
          <p:pic>
            <p:nvPicPr>
              <p:cNvPr id="827" name="Picture 84" descr=""/>
              <p:cNvPicPr/>
              <p:nvPr/>
            </p:nvPicPr>
            <p:blipFill>
              <a:blip r:embed="rId3"/>
              <a:stretch/>
            </p:blipFill>
            <p:spPr>
              <a:xfrm>
                <a:off x="5757480" y="5029200"/>
                <a:ext cx="17013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8" name="Picture 85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6541560" y="5597280"/>
                <a:ext cx="173520" cy="9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9" name="Picture 86" descr=""/>
            <p:cNvPicPr/>
            <p:nvPr/>
          </p:nvPicPr>
          <p:blipFill>
            <a:blip r:embed="rId5"/>
            <a:stretch/>
          </p:blipFill>
          <p:spPr>
            <a:xfrm>
              <a:off x="3429000" y="5029200"/>
              <a:ext cx="12535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87" descr=""/>
            <p:cNvPicPr/>
            <p:nvPr/>
          </p:nvPicPr>
          <p:blipFill>
            <a:blip r:embed="rId6"/>
            <a:stretch/>
          </p:blipFill>
          <p:spPr>
            <a:xfrm>
              <a:off x="4413960" y="5029200"/>
              <a:ext cx="179136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Text Box 88"/>
          <p:cNvSpPr/>
          <p:nvPr/>
        </p:nvSpPr>
        <p:spPr>
          <a:xfrm>
            <a:off x="2910240" y="3200400"/>
            <a:ext cx="4268160" cy="459720"/>
          </a:xfrm>
          <a:prstGeom prst="rect">
            <a:avLst/>
          </a:prstGeom>
          <a:solidFill>
            <a:srgbClr val="442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号试管没有加入任何试剂，它起的作用是什么？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66996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36216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实验现象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1219320" y="1523880"/>
          <a:ext cx="7162560" cy="3559320"/>
        </p:xfrm>
        <a:graphic>
          <a:graphicData uri="http://schemas.openxmlformats.org/drawingml/2006/table">
            <a:tbl>
              <a:tblPr/>
              <a:tblGrid>
                <a:gridCol w="699840"/>
                <a:gridCol w="1586160"/>
                <a:gridCol w="1295280"/>
                <a:gridCol w="1143000"/>
                <a:gridCol w="990720"/>
                <a:gridCol w="1447560"/>
              </a:tblGrid>
              <a:tr h="368280">
                <a:tc gridSpan="2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步骤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试管编号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H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O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浓度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二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气泡产生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卫生香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燃烧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5" name="Text Box 53"/>
          <p:cNvSpPr/>
          <p:nvPr/>
        </p:nvSpPr>
        <p:spPr>
          <a:xfrm>
            <a:off x="2057400" y="3124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反应条件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7086600" y="2743200"/>
            <a:ext cx="9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4876920" y="27432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3581280" y="2743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943600" y="2743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0" name="Text Box 58"/>
          <p:cNvSpPr/>
          <p:nvPr/>
        </p:nvSpPr>
        <p:spPr>
          <a:xfrm>
            <a:off x="3581280" y="22701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琥珀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1" name="Text Box 59"/>
          <p:cNvSpPr/>
          <p:nvPr/>
        </p:nvSpPr>
        <p:spPr>
          <a:xfrm>
            <a:off x="6019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2" name="Text Box 60"/>
          <p:cNvSpPr/>
          <p:nvPr/>
        </p:nvSpPr>
        <p:spPr>
          <a:xfrm>
            <a:off x="4952880" y="2270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3" name="Text Box 61"/>
          <p:cNvSpPr/>
          <p:nvPr/>
        </p:nvSpPr>
        <p:spPr>
          <a:xfrm>
            <a:off x="7162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4" name="Text Box 62"/>
          <p:cNvSpPr/>
          <p:nvPr/>
        </p:nvSpPr>
        <p:spPr>
          <a:xfrm>
            <a:off x="3581280" y="3124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常温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5" name="Text Box 63"/>
          <p:cNvSpPr/>
          <p:nvPr/>
        </p:nvSpPr>
        <p:spPr>
          <a:xfrm>
            <a:off x="4952880" y="3124080"/>
            <a:ext cx="9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90℃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6" name="Text Box 64"/>
          <p:cNvSpPr/>
          <p:nvPr/>
        </p:nvSpPr>
        <p:spPr>
          <a:xfrm>
            <a:off x="6095880" y="312408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7" name="Text Box 65"/>
          <p:cNvSpPr/>
          <p:nvPr/>
        </p:nvSpPr>
        <p:spPr>
          <a:xfrm>
            <a:off x="7086600" y="31082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研磨液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8" name="Text Box 66"/>
          <p:cNvSpPr/>
          <p:nvPr/>
        </p:nvSpPr>
        <p:spPr>
          <a:xfrm>
            <a:off x="7086600" y="3581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9" name="Text Box 67"/>
          <p:cNvSpPr/>
          <p:nvPr/>
        </p:nvSpPr>
        <p:spPr>
          <a:xfrm>
            <a:off x="5867280" y="3581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0" name="Line 68"/>
          <p:cNvSpPr/>
          <p:nvPr/>
        </p:nvSpPr>
        <p:spPr>
          <a:xfrm>
            <a:off x="3505320" y="3581280"/>
            <a:ext cx="12189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1" name="Line 69"/>
          <p:cNvSpPr/>
          <p:nvPr/>
        </p:nvSpPr>
        <p:spPr>
          <a:xfrm>
            <a:off x="4800600" y="35812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2" name="Rectangle 70"/>
          <p:cNvSpPr/>
          <p:nvPr/>
        </p:nvSpPr>
        <p:spPr>
          <a:xfrm>
            <a:off x="0" y="5181480"/>
            <a:ext cx="9144000" cy="7632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3" name="Text Box 71"/>
          <p:cNvSpPr/>
          <p:nvPr/>
        </p:nvSpPr>
        <p:spPr>
          <a:xfrm>
            <a:off x="213840" y="527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思考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4" name="Text Box 72"/>
          <p:cNvSpPr/>
          <p:nvPr/>
        </p:nvSpPr>
        <p:spPr>
          <a:xfrm>
            <a:off x="1295280" y="5334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与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试管分别对照，说明什么结论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5" name="Text Box 73"/>
          <p:cNvSpPr/>
          <p:nvPr/>
        </p:nvSpPr>
        <p:spPr>
          <a:xfrm>
            <a:off x="1295280" y="5958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与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试管对照，说明什么结论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56" name="Group 74"/>
          <p:cNvGrpSpPr/>
          <p:nvPr/>
        </p:nvGrpSpPr>
        <p:grpSpPr>
          <a:xfrm>
            <a:off x="3581280" y="4038480"/>
            <a:ext cx="4724280" cy="990720"/>
            <a:chOff x="3581280" y="4038480"/>
            <a:chExt cx="4724280" cy="990720"/>
          </a:xfrm>
        </p:grpSpPr>
        <p:grpSp>
          <p:nvGrpSpPr>
            <p:cNvPr id="857" name="Group 75"/>
            <p:cNvGrpSpPr/>
            <p:nvPr/>
          </p:nvGrpSpPr>
          <p:grpSpPr>
            <a:xfrm>
              <a:off x="6813720" y="4038480"/>
              <a:ext cx="1491840" cy="990720"/>
              <a:chOff x="6813720" y="4038480"/>
              <a:chExt cx="1491840" cy="990720"/>
            </a:xfrm>
          </p:grpSpPr>
          <p:pic>
            <p:nvPicPr>
              <p:cNvPr id="858" name="Picture 76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3720" y="4038480"/>
                <a:ext cx="149184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9" name="Picture 77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7386120" y="4572720"/>
                <a:ext cx="326160" cy="14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0" name="Group 78"/>
            <p:cNvGrpSpPr/>
            <p:nvPr/>
          </p:nvGrpSpPr>
          <p:grpSpPr>
            <a:xfrm>
              <a:off x="5735880" y="4038480"/>
              <a:ext cx="1574640" cy="990720"/>
              <a:chOff x="5735880" y="4038480"/>
              <a:chExt cx="1574640" cy="990720"/>
            </a:xfrm>
          </p:grpSpPr>
          <p:pic>
            <p:nvPicPr>
              <p:cNvPr id="861" name="Picture 79" descr=""/>
              <p:cNvPicPr/>
              <p:nvPr/>
            </p:nvPicPr>
            <p:blipFill>
              <a:blip r:embed="rId3"/>
              <a:stretch/>
            </p:blipFill>
            <p:spPr>
              <a:xfrm>
                <a:off x="5735880" y="4038480"/>
                <a:ext cx="157464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2" name="Picture 80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6461640" y="4606560"/>
                <a:ext cx="160560" cy="9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3" name="Picture 81" descr=""/>
            <p:cNvPicPr/>
            <p:nvPr/>
          </p:nvPicPr>
          <p:blipFill>
            <a:blip r:embed="rId5"/>
            <a:stretch/>
          </p:blipFill>
          <p:spPr>
            <a:xfrm>
              <a:off x="3581280" y="4038480"/>
              <a:ext cx="11602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82" descr=""/>
            <p:cNvPicPr/>
            <p:nvPr/>
          </p:nvPicPr>
          <p:blipFill>
            <a:blip r:embed="rId6"/>
            <a:stretch/>
          </p:blipFill>
          <p:spPr>
            <a:xfrm>
              <a:off x="4492800" y="4038480"/>
              <a:ext cx="165780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5" name="Text Box 83"/>
          <p:cNvSpPr/>
          <p:nvPr/>
        </p:nvSpPr>
        <p:spPr>
          <a:xfrm>
            <a:off x="1067400" y="228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76320" y="914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实验结论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7" name="Text Box 3"/>
          <p:cNvSpPr/>
          <p:nvPr/>
        </p:nvSpPr>
        <p:spPr>
          <a:xfrm>
            <a:off x="2209680" y="1523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2133720" y="2743200"/>
            <a:ext cx="53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2133720" y="3976560"/>
            <a:ext cx="53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2133720" y="5195880"/>
            <a:ext cx="53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71" name="Group 7"/>
          <p:cNvGrpSpPr/>
          <p:nvPr/>
        </p:nvGrpSpPr>
        <p:grpSpPr>
          <a:xfrm>
            <a:off x="-71280" y="1447920"/>
            <a:ext cx="2295000" cy="4723920"/>
            <a:chOff x="-71280" y="1447920"/>
            <a:chExt cx="2295000" cy="4723920"/>
          </a:xfrm>
        </p:grpSpPr>
        <p:grpSp>
          <p:nvGrpSpPr>
            <p:cNvPr id="872" name="Group 8"/>
            <p:cNvGrpSpPr/>
            <p:nvPr/>
          </p:nvGrpSpPr>
          <p:grpSpPr>
            <a:xfrm>
              <a:off x="717840" y="3707280"/>
              <a:ext cx="1076760" cy="1232280"/>
              <a:chOff x="717840" y="3707280"/>
              <a:chExt cx="1076760" cy="1232280"/>
            </a:xfrm>
          </p:grpSpPr>
          <p:pic>
            <p:nvPicPr>
              <p:cNvPr id="873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840" y="3707280"/>
                <a:ext cx="107676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Picture 10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1131120" y="4371840"/>
                <a:ext cx="235440" cy="18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5" name="Group 11"/>
            <p:cNvGrpSpPr/>
            <p:nvPr/>
          </p:nvGrpSpPr>
          <p:grpSpPr>
            <a:xfrm>
              <a:off x="757800" y="2474640"/>
              <a:ext cx="1036440" cy="1232280"/>
              <a:chOff x="757800" y="2474640"/>
              <a:chExt cx="1036440" cy="1232280"/>
            </a:xfrm>
          </p:grpSpPr>
          <p:pic>
            <p:nvPicPr>
              <p:cNvPr id="876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757800" y="2474640"/>
                <a:ext cx="103644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Picture 13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1235520" y="3180960"/>
                <a:ext cx="105480" cy="11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8" name="Picture 14" descr=""/>
            <p:cNvPicPr/>
            <p:nvPr/>
          </p:nvPicPr>
          <p:blipFill>
            <a:blip r:embed="rId5"/>
            <a:stretch/>
          </p:blipFill>
          <p:spPr>
            <a:xfrm>
              <a:off x="66600" y="1447920"/>
              <a:ext cx="829080" cy="10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15" descr=""/>
            <p:cNvPicPr/>
            <p:nvPr/>
          </p:nvPicPr>
          <p:blipFill>
            <a:blip r:embed="rId6"/>
            <a:stretch/>
          </p:blipFill>
          <p:spPr>
            <a:xfrm>
              <a:off x="782280" y="1447920"/>
              <a:ext cx="1313280" cy="10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16" descr=""/>
            <p:cNvPicPr/>
            <p:nvPr/>
          </p:nvPicPr>
          <p:blipFill>
            <a:blip r:embed="rId7"/>
            <a:stretch/>
          </p:blipFill>
          <p:spPr>
            <a:xfrm>
              <a:off x="66600" y="2680200"/>
              <a:ext cx="829080" cy="10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Text Box 17"/>
            <p:cNvSpPr/>
            <p:nvPr/>
          </p:nvSpPr>
          <p:spPr>
            <a:xfrm>
              <a:off x="536760" y="178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2" name="Text Box 18"/>
            <p:cNvSpPr/>
            <p:nvPr/>
          </p:nvSpPr>
          <p:spPr>
            <a:xfrm>
              <a:off x="1873800" y="185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883" name="Picture 19" descr=""/>
            <p:cNvPicPr/>
            <p:nvPr/>
          </p:nvPicPr>
          <p:blipFill>
            <a:blip r:embed="rId8"/>
            <a:stretch/>
          </p:blipFill>
          <p:spPr>
            <a:xfrm>
              <a:off x="66600" y="3912480"/>
              <a:ext cx="829080" cy="10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 Box 20"/>
            <p:cNvSpPr/>
            <p:nvPr/>
          </p:nvSpPr>
          <p:spPr>
            <a:xfrm>
              <a:off x="536760" y="30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5" name="Text Box 21"/>
            <p:cNvSpPr/>
            <p:nvPr/>
          </p:nvSpPr>
          <p:spPr>
            <a:xfrm>
              <a:off x="1412640" y="30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6" name="Text Box 22"/>
            <p:cNvSpPr/>
            <p:nvPr/>
          </p:nvSpPr>
          <p:spPr>
            <a:xfrm>
              <a:off x="536760" y="425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7" name="Text Box 23"/>
            <p:cNvSpPr/>
            <p:nvPr/>
          </p:nvSpPr>
          <p:spPr>
            <a:xfrm>
              <a:off x="1365480" y="425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88" name="Group 24"/>
            <p:cNvGrpSpPr/>
            <p:nvPr/>
          </p:nvGrpSpPr>
          <p:grpSpPr>
            <a:xfrm>
              <a:off x="717840" y="4939560"/>
              <a:ext cx="1076760" cy="1232280"/>
              <a:chOff x="717840" y="4939560"/>
              <a:chExt cx="1076760" cy="1232280"/>
            </a:xfrm>
          </p:grpSpPr>
          <p:pic>
            <p:nvPicPr>
              <p:cNvPr id="889" name="Picture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717840" y="4939560"/>
                <a:ext cx="107676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Picture 26" descr="火苗"/>
              <p:cNvPicPr/>
              <p:nvPr/>
            </p:nvPicPr>
            <p:blipFill>
              <a:blip r:embed="rId10"/>
              <a:stretch/>
            </p:blipFill>
            <p:spPr>
              <a:xfrm>
                <a:off x="1131120" y="5604120"/>
                <a:ext cx="235440" cy="18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1" name="Group 27"/>
            <p:cNvGrpSpPr/>
            <p:nvPr/>
          </p:nvGrpSpPr>
          <p:grpSpPr>
            <a:xfrm>
              <a:off x="-71280" y="4939560"/>
              <a:ext cx="1036440" cy="1232280"/>
              <a:chOff x="-71280" y="4939560"/>
              <a:chExt cx="1036440" cy="1232280"/>
            </a:xfrm>
          </p:grpSpPr>
          <p:pic>
            <p:nvPicPr>
              <p:cNvPr id="892" name="Picture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-71280" y="4939560"/>
                <a:ext cx="103644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29" descr="火苗"/>
              <p:cNvPicPr/>
              <p:nvPr/>
            </p:nvPicPr>
            <p:blipFill>
              <a:blip r:embed="rId12"/>
              <a:stretch/>
            </p:blipFill>
            <p:spPr>
              <a:xfrm>
                <a:off x="406440" y="5645880"/>
                <a:ext cx="105480" cy="11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4" name="Text Box 30"/>
            <p:cNvSpPr/>
            <p:nvPr/>
          </p:nvSpPr>
          <p:spPr>
            <a:xfrm>
              <a:off x="536760" y="548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5" name="Text Box 31"/>
            <p:cNvSpPr/>
            <p:nvPr/>
          </p:nvSpPr>
          <p:spPr>
            <a:xfrm>
              <a:off x="1365480" y="548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96" name="Rectangle 32"/>
          <p:cNvSpPr/>
          <p:nvPr/>
        </p:nvSpPr>
        <p:spPr>
          <a:xfrm>
            <a:off x="2819520" y="20574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加热可以加快过氧化氢分解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7" name="Rectangle 33"/>
          <p:cNvSpPr/>
          <p:nvPr/>
        </p:nvSpPr>
        <p:spPr>
          <a:xfrm>
            <a:off x="2819520" y="3276720"/>
            <a:ext cx="472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eCl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能催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解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8" name="Rectangle 34"/>
          <p:cNvSpPr/>
          <p:nvPr/>
        </p:nvSpPr>
        <p:spPr>
          <a:xfrm>
            <a:off x="2743200" y="452592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过氧化氢酶能催化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分解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743200" y="574524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过氧化氢酶的催化效率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eCl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0" name="Text Box 36"/>
          <p:cNvSpPr/>
          <p:nvPr/>
        </p:nvSpPr>
        <p:spPr>
          <a:xfrm>
            <a:off x="991440" y="228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8229600" cy="106668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实验结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热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过氧化氢酶都能够促进过氧化氢的分解；酶的催化效率高于无机催化剂，酶的催化作用具有高效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8"/>
          <p:cNvSpPr/>
          <p:nvPr/>
        </p:nvSpPr>
        <p:spPr>
          <a:xfrm>
            <a:off x="1452960" y="3352680"/>
            <a:ext cx="68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zh-CN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3" name="Text Box 39"/>
          <p:cNvSpPr/>
          <p:nvPr/>
        </p:nvSpPr>
        <p:spPr>
          <a:xfrm>
            <a:off x="1494360" y="449568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肝脏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研磨液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4" name="Text Box 40"/>
          <p:cNvSpPr/>
          <p:nvPr/>
        </p:nvSpPr>
        <p:spPr>
          <a:xfrm>
            <a:off x="81360" y="6095880"/>
            <a:ext cx="68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zh-CN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5" name="Text Box 41"/>
          <p:cNvSpPr/>
          <p:nvPr/>
        </p:nvSpPr>
        <p:spPr>
          <a:xfrm>
            <a:off x="0" y="61722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肝脏研磨液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23360" y="8524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e89a"/>
                </a:solidFill>
                <a:latin typeface="Arial"/>
                <a:ea typeface="宋体"/>
              </a:rPr>
              <a:t>二、酶的作用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7" name="Text Box 3"/>
          <p:cNvSpPr/>
          <p:nvPr/>
        </p:nvSpPr>
        <p:spPr>
          <a:xfrm>
            <a:off x="365040" y="147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0" y="685800"/>
          <a:ext cx="9144000" cy="4267080"/>
        </p:xfrm>
        <a:graphic>
          <a:graphicData uri="http://schemas.openxmlformats.org/drawingml/2006/table">
            <a:tbl>
              <a:tblPr/>
              <a:tblGrid>
                <a:gridCol w="814320"/>
                <a:gridCol w="1548000"/>
                <a:gridCol w="1295280"/>
                <a:gridCol w="1143000"/>
                <a:gridCol w="1295280"/>
                <a:gridCol w="1219320"/>
                <a:gridCol w="1828800"/>
              </a:tblGrid>
              <a:tr h="439560">
                <a:tc gridSpan="2"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试管编号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说明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H</a:t>
                      </a:r>
                      <a:r>
                        <a:rPr b="1" lang="zh-CN" sz="2000" spc="-1" strike="noStrike" baseline="-25000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O</a:t>
                      </a:r>
                      <a:r>
                        <a:rPr b="1" lang="zh-CN" sz="2000" spc="-1" strike="noStrike" baseline="-25000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2 </a:t>
                      </a: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浓度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剂量        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反应条件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常温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0℃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FeCl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溶液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新鲜肝脏研磨液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剂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量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滴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滴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气泡产生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卫生香燃烧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9" name="Text Box 66"/>
          <p:cNvSpPr/>
          <p:nvPr/>
        </p:nvSpPr>
        <p:spPr>
          <a:xfrm>
            <a:off x="2438280" y="533520"/>
            <a:ext cx="1127160" cy="398880"/>
          </a:xfrm>
          <a:prstGeom prst="rect">
            <a:avLst/>
          </a:prstGeom>
          <a:solidFill>
            <a:srgbClr val="185e2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对照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0" name="Text Box 67"/>
          <p:cNvSpPr/>
          <p:nvPr/>
        </p:nvSpPr>
        <p:spPr>
          <a:xfrm>
            <a:off x="3962520" y="533520"/>
            <a:ext cx="3047760" cy="398880"/>
          </a:xfrm>
          <a:prstGeom prst="rect">
            <a:avLst/>
          </a:prstGeom>
          <a:solidFill>
            <a:srgbClr val="185e2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实验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1" name="Text Box 68"/>
          <p:cNvSpPr/>
          <p:nvPr/>
        </p:nvSpPr>
        <p:spPr>
          <a:xfrm>
            <a:off x="529560" y="763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科学方法分析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12" name="Group 69"/>
          <p:cNvGrpSpPr/>
          <p:nvPr/>
        </p:nvGrpSpPr>
        <p:grpSpPr>
          <a:xfrm>
            <a:off x="2514600" y="3809880"/>
            <a:ext cx="4723920" cy="990720"/>
            <a:chOff x="2514600" y="3809880"/>
            <a:chExt cx="4723920" cy="990720"/>
          </a:xfrm>
        </p:grpSpPr>
        <p:grpSp>
          <p:nvGrpSpPr>
            <p:cNvPr id="913" name="Group 70"/>
            <p:cNvGrpSpPr/>
            <p:nvPr/>
          </p:nvGrpSpPr>
          <p:grpSpPr>
            <a:xfrm>
              <a:off x="5746680" y="3809880"/>
              <a:ext cx="1491840" cy="990720"/>
              <a:chOff x="5746680" y="3809880"/>
              <a:chExt cx="1491840" cy="990720"/>
            </a:xfrm>
          </p:grpSpPr>
          <p:pic>
            <p:nvPicPr>
              <p:cNvPr id="914" name="Picture 71" descr=""/>
              <p:cNvPicPr/>
              <p:nvPr/>
            </p:nvPicPr>
            <p:blipFill>
              <a:blip r:embed="rId1"/>
              <a:stretch/>
            </p:blipFill>
            <p:spPr>
              <a:xfrm>
                <a:off x="5746680" y="3809880"/>
                <a:ext cx="149184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5" name="Picture 72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6319080" y="4344120"/>
                <a:ext cx="326160" cy="14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6" name="Group 73"/>
            <p:cNvGrpSpPr/>
            <p:nvPr/>
          </p:nvGrpSpPr>
          <p:grpSpPr>
            <a:xfrm>
              <a:off x="4669200" y="3809880"/>
              <a:ext cx="1574280" cy="990720"/>
              <a:chOff x="4669200" y="3809880"/>
              <a:chExt cx="1574280" cy="990720"/>
            </a:xfrm>
          </p:grpSpPr>
          <p:pic>
            <p:nvPicPr>
              <p:cNvPr id="917" name="Picture 74" descr=""/>
              <p:cNvPicPr/>
              <p:nvPr/>
            </p:nvPicPr>
            <p:blipFill>
              <a:blip r:embed="rId3"/>
              <a:stretch/>
            </p:blipFill>
            <p:spPr>
              <a:xfrm>
                <a:off x="4669200" y="3809880"/>
                <a:ext cx="157428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8" name="Picture 75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5394960" y="4377960"/>
                <a:ext cx="160560" cy="9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19" name="Picture 76" descr=""/>
            <p:cNvPicPr/>
            <p:nvPr/>
          </p:nvPicPr>
          <p:blipFill>
            <a:blip r:embed="rId5"/>
            <a:stretch/>
          </p:blipFill>
          <p:spPr>
            <a:xfrm>
              <a:off x="2514600" y="3809880"/>
              <a:ext cx="1159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77" descr=""/>
            <p:cNvPicPr/>
            <p:nvPr/>
          </p:nvPicPr>
          <p:blipFill>
            <a:blip r:embed="rId6"/>
            <a:stretch/>
          </p:blipFill>
          <p:spPr>
            <a:xfrm>
              <a:off x="3426120" y="3809880"/>
              <a:ext cx="165780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Text Box 78"/>
          <p:cNvSpPr/>
          <p:nvPr/>
        </p:nvSpPr>
        <p:spPr>
          <a:xfrm>
            <a:off x="862200" y="5410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应遵循的原则：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2" name="Text Box 79"/>
          <p:cNvSpPr/>
          <p:nvPr/>
        </p:nvSpPr>
        <p:spPr>
          <a:xfrm>
            <a:off x="3429000" y="5257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等量性原则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3" name="Text Box 80"/>
          <p:cNvSpPr/>
          <p:nvPr/>
        </p:nvSpPr>
        <p:spPr>
          <a:xfrm>
            <a:off x="3429000" y="5867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单一变量原则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4" name="Text Box 81"/>
          <p:cNvSpPr/>
          <p:nvPr/>
        </p:nvSpPr>
        <p:spPr>
          <a:xfrm>
            <a:off x="1981080" y="5653080"/>
            <a:ext cx="5334120" cy="520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楷体"/>
              </a:rPr>
              <a:t>随自变量的变化而变化的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5" name="Line 82"/>
          <p:cNvSpPr/>
          <p:nvPr/>
        </p:nvSpPr>
        <p:spPr>
          <a:xfrm>
            <a:off x="2362320" y="31240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6" name="Line 83"/>
          <p:cNvSpPr/>
          <p:nvPr/>
        </p:nvSpPr>
        <p:spPr>
          <a:xfrm>
            <a:off x="3733920" y="31240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7" name="Text Box 84"/>
          <p:cNvSpPr/>
          <p:nvPr/>
        </p:nvSpPr>
        <p:spPr>
          <a:xfrm>
            <a:off x="4038480" y="5043600"/>
            <a:ext cx="3276720" cy="520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楷体"/>
              </a:rPr>
              <a:t>人为改变的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8" name="Text Box 85"/>
          <p:cNvSpPr/>
          <p:nvPr/>
        </p:nvSpPr>
        <p:spPr>
          <a:xfrm>
            <a:off x="1981080" y="6262560"/>
            <a:ext cx="5334120" cy="520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楷体"/>
              </a:rPr>
              <a:t>实验中可能存在的一些可变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9" name="Text Box 86"/>
          <p:cNvSpPr/>
          <p:nvPr/>
        </p:nvSpPr>
        <p:spPr>
          <a:xfrm>
            <a:off x="7391520" y="504360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自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0" name="Text Box 87"/>
          <p:cNvSpPr/>
          <p:nvPr/>
        </p:nvSpPr>
        <p:spPr>
          <a:xfrm>
            <a:off x="7391520" y="563868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因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1" name="Text Box 88"/>
          <p:cNvSpPr/>
          <p:nvPr/>
        </p:nvSpPr>
        <p:spPr>
          <a:xfrm>
            <a:off x="7391520" y="626256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无关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2" name="Text Box 89"/>
          <p:cNvSpPr/>
          <p:nvPr/>
        </p:nvSpPr>
        <p:spPr>
          <a:xfrm>
            <a:off x="7391520" y="624852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无关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3" name="Text Box 90"/>
          <p:cNvSpPr/>
          <p:nvPr/>
        </p:nvSpPr>
        <p:spPr>
          <a:xfrm>
            <a:off x="152280" y="762120"/>
            <a:ext cx="2057400" cy="64260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对照实验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4" name="Text Box 91"/>
          <p:cNvSpPr/>
          <p:nvPr/>
        </p:nvSpPr>
        <p:spPr>
          <a:xfrm>
            <a:off x="7467480" y="762120"/>
            <a:ext cx="1600200" cy="64260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变量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5" name="Text Box 92"/>
          <p:cNvSpPr/>
          <p:nvPr/>
        </p:nvSpPr>
        <p:spPr>
          <a:xfrm>
            <a:off x="3506760" y="838080"/>
            <a:ext cx="292392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楷体"/>
              </a:rPr>
              <a:t>实验中可以变化的因素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936" name="ShockwaveFlash1"/>
          <p:cNvGraphicFramePr/>
          <p:nvPr/>
        </p:nvGraphicFramePr>
        <p:xfrm>
          <a:off x="76320" y="6553080"/>
          <a:ext cx="106668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7" name="ShockwaveFlash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655308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WordArt 94"/>
          <p:cNvSpPr txBox="1"/>
          <p:nvPr/>
        </p:nvSpPr>
        <p:spPr>
          <a:xfrm>
            <a:off x="692316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39" name="WordArt 95"/>
          <p:cNvSpPr txBox="1"/>
          <p:nvPr/>
        </p:nvSpPr>
        <p:spPr>
          <a:xfrm>
            <a:off x="571500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0" name="WordArt 96"/>
          <p:cNvSpPr txBox="1"/>
          <p:nvPr/>
        </p:nvSpPr>
        <p:spPr>
          <a:xfrm>
            <a:off x="456084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1" name="WordArt 97"/>
          <p:cNvSpPr txBox="1"/>
          <p:nvPr/>
        </p:nvSpPr>
        <p:spPr>
          <a:xfrm>
            <a:off x="4560840" y="211464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2" name="WordArt 98"/>
          <p:cNvSpPr txBox="1"/>
          <p:nvPr/>
        </p:nvSpPr>
        <p:spPr>
          <a:xfrm>
            <a:off x="5715000" y="213372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3" name="WordArt 99"/>
          <p:cNvSpPr txBox="1"/>
          <p:nvPr/>
        </p:nvSpPr>
        <p:spPr>
          <a:xfrm>
            <a:off x="6923160" y="211464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4" name="WordArt 100"/>
          <p:cNvSpPr txBox="1"/>
          <p:nvPr/>
        </p:nvSpPr>
        <p:spPr>
          <a:xfrm>
            <a:off x="5715000" y="312408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5" name="WordArt 101"/>
          <p:cNvSpPr txBox="1"/>
          <p:nvPr/>
        </p:nvSpPr>
        <p:spPr>
          <a:xfrm>
            <a:off x="6923160" y="318132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6" name="WordArt 102"/>
          <p:cNvSpPr txBox="1"/>
          <p:nvPr/>
        </p:nvSpPr>
        <p:spPr>
          <a:xfrm>
            <a:off x="342900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7" name="WordArt 103"/>
          <p:cNvSpPr txBox="1"/>
          <p:nvPr/>
        </p:nvSpPr>
        <p:spPr>
          <a:xfrm>
            <a:off x="3429000" y="213372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463 L -0.00417 -0.37315 E">
                                      <p:cBhvr>
                                        <p:cTn id="219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672 L -0.00417 -0.23101 E">
                                      <p:cBhvr>
                                        <p:cTn id="223" dur="2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649 L -0.00417 -0.66204 E">
                                      <p:cBhvr>
                                        <p:cTn id="237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44 L -0.00417 -0.44884 E">
                                      <p:cBhvr>
                                        <p:cTn id="239" dur="2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e89a"/>
                </a:solidFill>
                <a:latin typeface="Arial"/>
              </a:rPr>
              <a:t>酶在细胞代谢中的作用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971440" y="2898720"/>
            <a:ext cx="30481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谢谢指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9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8T04:58:19Z</dcterms:modified>
  <cp:revision>1</cp:revision>
  <dc:subject/>
  <dc:title>PowerPoint 演示文稿</dc:title>
</cp:coreProperties>
</file>