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4A6-34B1-4851-B3D3-06113757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8915-DBC9-4B97-9D8D-926CA711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7C1B2-4E52-47CC-9B8F-B8FDB754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6B638-4724-4D9E-A2C6-BD217D53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FDF74-BC7E-485C-9D9E-06F68FAB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9C85F-B75F-43D1-B431-B9347B0C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E023D-A082-4CA6-80CF-715EFC57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C77A0-1A3A-4F81-83CB-5D470108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7AEBA-41FA-4400-A4DF-A09885F7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1E64C-0136-4771-9ABA-D19AE869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78F8D-BDFF-4FC5-8F3B-DDD2EF6E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6B045-0EAD-4D32-A60E-67D7F515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7DF-44F7-44DE-819D-37215C1F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E029A-B5D6-499A-8495-AEBE4E48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35546-AC6C-4D84-BA13-7E86BEB4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DF348-A00A-4FFE-BF20-87A05B9F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AA0CC-8FEF-4B2B-A251-6845F7D2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A6EC7-09F2-4B15-838B-2953ACCB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0F352-2606-46CE-B1E2-8FF5ED1C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0CB53-2AEC-4EAD-9154-D737AD47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E6E1F-586A-4B15-B734-33CB734F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B3BB2-3B83-4A0A-828D-60FF2859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5AB70-5453-413A-B6DA-FD8B2D8B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AB76-0072-43F4-A6BD-02645DE2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2E974-090C-4030-99BF-4B5D5EF4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55B19-AB90-4055-8EC0-9D83E81C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99C99-95C9-4940-9CFA-CB3ECF9F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76460-47F6-4CBC-8DFE-8D8A21BD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C0A81-1BD5-4FEF-9A27-F6A523CD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E16B0-AA92-4B05-AA03-D5D1492C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5D87E-F1EB-4159-8E9C-FB326883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10BF8-B3F2-4460-B3A2-88A1E11B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167CE-0BEF-4E97-BCBB-5C709689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972EC-38DD-434F-8169-0FCE9669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A66A-AE61-45DB-B91F-A0B1537B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7ABFB-8DF1-461D-9486-422BA06C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5BCCD-90BE-4530-B92E-C7197E4D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C6F46-DBB7-4D7A-85B5-0D50CBC5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B2D19-012D-42E7-9D68-AB009E3E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7221B-1D50-43CB-8E01-8539FF17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37C7E-4EF8-42BC-B731-530867B9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30CDF-ED4B-486A-8B25-B77F76E5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A278D-9A89-4026-93FB-10072257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28D9A-B4BF-4A23-8EB6-10CC9778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F3A50-F4F2-4CCB-92C3-36765D29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E542-F4DB-4050-A270-C37F19F8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F1944-005B-4981-B2A3-261CE39A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22035-4CAE-4121-AB81-282420C8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1CD4F-CD5D-4CCE-A9CD-26051353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DB637-4CE9-4567-A8CE-59FB1EE2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3D05C-F195-4D9D-A2E2-B5788F10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6F608-E178-4743-B011-6D6FECBB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2C3E1-DA57-4808-93C3-1F79BF0C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0CC8D-BA3B-44A0-82C9-125D1E45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B79D6-2731-402D-86B4-5F192B47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461FAF-142D-4A7C-81A0-BBA6B843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C7F2-0466-42EF-8B2D-0C20995D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B4EA45-192E-448D-B361-E2EA4503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3E425-319B-48B9-91E1-1A1F2BEC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A2F28-8C1D-4725-A408-59C9875D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5A2244-4F71-4A06-8F69-57FF0DC8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99A51-E365-4CEF-92E4-1256517E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F0C910-D1FE-45B8-8F78-0066E91F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F0C51-52E9-4199-BA48-CA758E3A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BAB6DA-672D-4F38-94F6-4EAF8411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7B4F93-D106-4839-91C9-729379FF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CD5373-9439-4DDA-912B-133403B4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0E1F-9FC1-4509-8BBD-3DFF3A02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B5C432-A2A0-4450-873B-03E76EDA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E21627-45EF-4C4B-932C-5A2606FA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2E450D-D945-4B92-92E3-73D05187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B34E05-532D-49F4-BDCB-83957394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BDB55B-D308-43A2-A42D-B06009F8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48FC6F-7FE0-4966-82A9-0E3B5979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ADCD5C-C308-4355-A130-71470DBD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E8736A-8FE3-4034-A3D2-6BF40054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AAAF6-907D-4FF8-A5FC-CFD17029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890DD1-4019-4E76-9AA5-3376B905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57DC-2E0B-4163-A097-F359C852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2DFFDA-F9AA-4A33-9BBF-BAA070D0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D56983-ACC6-4D13-A1CD-233F4CAF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A8E957-A6B8-4197-88FA-944307BB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A4F652-FAA3-4108-A965-613E3F89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1D1040-E882-4396-8B26-87AAC922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A1A030-5E22-40C8-9BD4-E672ED84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54ECB4-5184-49FC-BB53-E0B17377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6D108B-5D81-4BD0-A494-55741BEB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B1E51C-975A-46D4-B2D6-C3771569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5EB728-8356-4758-809F-4A5AD5B2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BC38-AE64-44C6-BFCF-ADE77DF8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7EE6D2-BB0B-4D89-BF95-07F76082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164E-3107-47BA-B8C0-9D918556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DA1-F048-4399-9639-D09F44D0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AAFF-893A-492E-BC32-B8F23779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B62D-FE76-4078-B6AB-DD74C59B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070F-43CC-4C12-B43C-A725A6DA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7509-F3D0-467E-AD70-56C7621C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668E-503E-434F-8014-A840D6BA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13F2D-3866-4DDE-A08C-A355D822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190B2-0962-4A78-9B3D-4EF1CAAD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8E47F-C2D9-4397-BEC6-CCB1FAF0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C3479-A864-4191-9487-56473616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5D3EB-BB58-42D7-95E3-9AAD91B5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8487-28D4-4807-9061-153E10D6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4333C-3CF2-499D-825A-F3368702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940F7-3802-49C4-8A30-BC308D47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5B58B-FD12-4C8B-B94B-7318450A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55F11-C362-4B3A-83E5-114B1E4F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F3F48-1BD2-4BD8-86F4-0B198558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788CB-6AAC-4A42-BC2C-B73C02EC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963F8-B197-4595-A739-DCA9E2B8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13157-A814-43D1-BBA0-E23AD623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5949A-8E4F-4A82-8D34-E70D3136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154C8-5699-42C9-AA2E-AF67CA9B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D63-D3EE-48E4-8D39-CD8130FF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D5FC5-0686-4E0A-9AE4-6E7E2838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37492-7FB6-4ED7-A385-77D73D2E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2E0EE-3E29-4DEB-B2B1-EC845F53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D4622-581B-4266-A8B3-250BC105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F1E63-8EA8-43E0-8E54-583E30EF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05A85-E125-452D-9A9A-13371A8C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D713B-AA7C-44C5-9FEE-DFD0A544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BB985-D131-4705-993C-94A47DA6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D5BDF-BBD4-4A9B-BDF6-D3FD8151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0972D-1460-4F27-92FF-9F6B0695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D20-CC52-45AF-AC5F-179D4BBD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93784-E4C4-4FB3-B262-C9E8F69D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C70F7-2074-4E81-B779-48B185F8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527CC-C1EE-4AE2-A46C-584ECA8E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EF2B4-85B1-470D-B44E-F3082B67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A9D98-339F-49C7-824D-C4B02361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478C4-1E56-414C-B94E-A220479B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2DCFC-CAB5-4343-B2DC-C5771623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06CCB-F996-4EFF-BA93-3B3CDC0E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C5673-7A0A-48E1-920B-77CE112B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B62E2-91FD-47BF-8B8A-68C1F53F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2E5-7058-4398-BC7A-CA3B5846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C1B04-FBAD-4F55-8EAD-2C703D0C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3A9D6-2251-4F61-BD9C-0B208A8F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2F47D-2ED9-40E9-B096-D2F44393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835ED-A486-4B7D-9E88-1D15B3BA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31C0A-3D33-46BC-BAF7-9BF48B3D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9A829-FE68-4718-8C31-B242C5DF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B6F6C-A391-4A39-AAAD-1AEE7949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13897-1378-4A56-8E2A-83CCF62E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51849-CA19-4597-92A9-48C8352C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CE6EE-BC8C-4E7E-AA42-3D43EAA0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06CA-2438-4BD7-92FB-D8E55C1E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E165C-9E7F-46D1-8696-977210F5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F5D37-6684-47A5-8DAC-3231B430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ED795-83B9-4600-B38E-A1882F9B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AA4E5-B8D7-4D2B-827A-888E1F25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81EF9-075F-4EB7-A35E-8BDD7D85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037E5-7620-4CDF-B78E-851AC331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53267-4E0C-49BF-8232-D1253F9A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1FC4F-EE2A-46A0-BED6-E91EE10C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29B24-923D-4FC5-A6B4-ABF5C8B1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03C38-7747-41FC-8E1E-95616E2D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3922-036A-462A-B45C-5C00833F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A29E5-74C1-4600-8AE4-16E4CE3A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5E636-BA7D-4668-932F-32FCAE5A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10DE2-03C9-433F-A787-BEB06B50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7E2C7-AFDD-4CE8-A33A-DB95648E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DEB5F-65CF-4B6E-9496-18452EC1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6576E-EBBF-4CB4-919B-94EA86B7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43EF6-CA87-41D9-B6D2-620B0C25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0F519-A999-4A79-96A2-FDA88ADB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A781D-8DF0-4F28-B76C-A6024134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E8D8D-DDC5-4B16-9F1B-57F1C0C9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4AB-455C-4CF8-9C92-750B1ADF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1F818-EF6A-45A6-B129-DAEC5E64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0BF39-CD0B-4991-BBC0-B9AD83B4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9FF7E-AD32-4960-B20A-F926A3F6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9477D-1F26-486D-950F-54142141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5FF32-53E6-4C75-ABB3-C72A2D86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28B57-2B8F-41DE-A85A-760E546A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2233C-3BF3-47E8-8050-3B8388B1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837B7-835F-4FFD-AA00-A0DCE2BE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06D8C-74A9-4C28-89BC-45AB53EC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4F984-1253-4894-86C0-928ADA22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Administrator\桌面\面具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Administrator\桌面\成熟的人需要面具。戴上，坚强面对社会；摘下，温柔面对家人。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173A-F497-4ED1-9359-501CAE5CC5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1100-83E3-4561-A74F-472BA1731EA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3177-B50A-4649-9F0A-5E5B0645A95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4A82-53F5-485E-A563-D6E1A6474E6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29DD-D6E7-47D3-9F5C-BEF4B977BF7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59F8-7451-43CC-AFF6-D4EBC5E5DA9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6C02-E625-4EA0-A738-C58AC8AB836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B922-09D2-4047-AC30-E78C6267EEE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218A-CDA6-45B9-9DE6-84E21DE048B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B150-EDF2-4884-AED0-0BA0CB083AD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C71E-5199-4FF0-9598-4451BFC3CF8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FD67-CA1F-4B4B-9221-6DC33DE72B6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ED11-6E86-433E-9340-9A36B4BC55A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Documents and Settings\Administrator\桌面\面具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Administrator\桌面\面具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Documents and Settings\Administrator\桌面\成熟的人需要面具。戴上，坚强面对社会；摘下，温柔面对家人。副本.png"/>
          <p:cNvPicPr/>
          <p:nvPr/>
        </p:nvPicPr>
        <p:blipFill>
          <a:blip r:embed="rId4"/>
          <a:srcRect l="11192" t="0" r="47742" b="26536"/>
          <a:stretch/>
        </p:blipFill>
        <p:spPr>
          <a:xfrm>
            <a:off x="0" y="0"/>
            <a:ext cx="2035080" cy="2730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6A8A-A3A8-4F7C-AA67-8CCBF2E08F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C:\Documents and Settings\Administrator\桌面\面具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Administrator\桌面\2副本.png"/>
          <p:cNvPicPr/>
          <p:nvPr/>
        </p:nvPicPr>
        <p:blipFill>
          <a:blip r:embed="rId3"/>
          <a:stretch/>
        </p:blipFill>
        <p:spPr>
          <a:xfrm>
            <a:off x="6978600" y="5410080"/>
            <a:ext cx="1406520" cy="1492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Documents and Settings\Administrator\桌面\22.png"/>
          <p:cNvPicPr/>
          <p:nvPr/>
        </p:nvPicPr>
        <p:blipFill>
          <a:blip r:embed="rId4"/>
          <a:srcRect l="30528" t="29902" r="51474" b="43251"/>
          <a:stretch/>
        </p:blipFill>
        <p:spPr>
          <a:xfrm flipH="1" rot="756000">
            <a:off x="7803720" y="5438880"/>
            <a:ext cx="1282680" cy="1434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9FAF-7DBB-46BF-9AD3-88A439659B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9586-BF60-4983-B257-17CC47F0317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7A42-0338-40B1-97E4-76504CDC0A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F161-428E-4B30-BEEF-893B6B88B3D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90E9-5BE0-45CC-93BE-6EBB6B5F404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846D-0222-42E9-B83C-8587B94487D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3757-8BDD-4290-B18E-FEB26F630F9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CDD0-0C05-4C0C-9935-F9357BA5E0E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8A09-1EB6-48DC-81F0-8FDCFB5339B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C4A3-ED71-4E42-9D48-A8E0BDDB587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E006-628B-437C-B1B8-4CEF9513FE3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3717-8141-4037-B574-9A4BF670A40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0B84-C8D6-48DA-A5A0-9B8B6E920AC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Box 4"/>
          <p:cNvSpPr/>
          <p:nvPr/>
        </p:nvSpPr>
        <p:spPr>
          <a:xfrm>
            <a:off x="6156360" y="1413000"/>
            <a:ext cx="178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953735"/>
                </a:solidFill>
                <a:latin typeface="方正毡笔黑简体"/>
                <a:ea typeface="方正毡笔黑简体"/>
              </a:rPr>
              <a:t>面具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Box 3"/>
          <p:cNvSpPr/>
          <p:nvPr/>
        </p:nvSpPr>
        <p:spPr>
          <a:xfrm>
            <a:off x="2928960" y="227664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53735"/>
                </a:solidFill>
                <a:latin typeface="方正毡笔黑简体"/>
                <a:ea typeface="方正毡笔黑简体"/>
              </a:rPr>
              <a:t>成熟的人需要面具。戴上，坚强面对社会；摘下，温柔面对家人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Box 3"/>
          <p:cNvSpPr/>
          <p:nvPr/>
        </p:nvSpPr>
        <p:spPr>
          <a:xfrm>
            <a:off x="2124000" y="245412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53735"/>
                </a:solidFill>
                <a:latin typeface="方正毡笔黑简体"/>
                <a:ea typeface="方正毡笔黑简体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02:41:18Z</dcterms:created>
  <dc:creator>Administrator</dc:creator>
  <dc:description/>
  <cp:keywords/>
  <dc:language>en-US</dc:language>
  <cp:lastModifiedBy>a</cp:lastModifiedBy>
  <dcterms:modified xsi:type="dcterms:W3CDTF">2014-07-20T08:02:47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