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DDC8-C908-4A21-BE2C-CB6161DA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864-8813-4864-AB56-46B6ED9C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77F69-4250-43A1-B262-C1FA3328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41680-9528-4D56-AEBC-934DB613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547DF-03D2-482C-A0D7-B6A784CB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22ACA-01C6-4B73-9ECD-CCD95A42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C5535-5668-46ED-B293-266E9063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DB255-5F24-4AB0-911A-1F6CBBB4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FD667-3939-4E51-B491-9C0C128E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F5B02-9327-4886-B872-06CE251C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6C590-6641-47AD-A8EB-2CE5CB82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17DBB-4296-4F5E-96C5-7CB176B7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33B-FD76-41CF-8DE7-5862C226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14667-923A-430D-97C5-9201CA66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0AA98-8357-4528-B85E-CBE2AF13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7E3F1-5538-48E3-9221-09C519F4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F328C-D310-4A49-AAF5-0E1429F2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7F5D6-0C04-41B9-97EE-B23B6B9A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9E561-AB56-409E-A67A-702BF351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72816-8917-4FD4-987E-45779861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ADE64-A8C2-4137-9054-FEEB4A10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8AC8A-D7B0-459F-B129-97786024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856FB-62F9-4A3E-A488-C71DB55B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D2C-52BE-410A-BCF8-81470FDE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2F8F5-F6A8-4631-975E-567AA439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ADFFF-AC9F-4866-A5DA-1BD35408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973EF-CBA7-4E0F-895C-79131F0B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3371B-3977-4C2D-80FD-847F61BA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75793-4D88-477D-A444-D1BEF5D4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A1B67-2473-40F8-AC43-868DD592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56F61-8498-4675-BB0B-CCD3328C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A5494-2C7B-4A87-B520-66231A76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FB1C2-D1AB-481D-AC41-990BC62C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53519-7F57-486B-887E-59E883FC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D679-8361-40A5-AD82-03C867D4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EC41A-406B-48C0-A456-599AD994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804B8-630E-4000-8B2D-95F1445F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F3DB7-D7CC-4119-A6DB-46974877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A21FC-CC15-4C0C-B6D4-D2C83C01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6E71F-1B02-4480-BF98-5FBEE479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BF44F-8200-46AA-B1C9-407CD4D9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92692-6D25-4F06-ABD8-BB84883F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F2498-9F0A-46C0-8A59-90D0A92A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6D254-5658-4145-B740-DD431952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6BFB0-7BD7-48AB-96AA-3CB67840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419E-106E-4FDD-BB33-074DEDAB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16872-107B-48B7-8FBF-248190FA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3CCF3-3B76-4520-B942-5B36C32D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70504-8DBC-488C-B82D-2CCD78D5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EF29C-18E4-49EF-B0D0-CB463917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A9B5D-65B3-431D-BD72-1D8A86A5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13806-0A06-463E-B0E0-EC29CD00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8F511-DB31-41FE-981D-BDB0946D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BF9A0-FB14-4478-8E5D-E3553901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33DB64-9966-435F-82E5-AA0E0018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5F050-8937-4CE8-B894-6E224535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46C0-FF74-4D22-9162-BD66C98B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79A6BE-075D-411C-9E50-D8E922CC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4B475-7A71-48D4-9A25-A0274801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7560E-A2CD-47B0-AA42-69B4AEEE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7B764-0093-454C-AB54-317B3666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D03FD-8FDE-4413-A312-88EB00A8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D8272-CDB8-4A71-A03E-850DF020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B7015-46CD-42F0-AAA2-A3C7E779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D90FA-814E-448A-94EE-761B5C57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594673-C870-4477-9BF7-55FE8B1F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C9B08E-C27E-4AE9-9953-ACF0055B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B0A7-ABE2-4DE5-BD48-64565B26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77EE87-8967-4ACA-82FB-21CE26C9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1D382-C25E-4DBF-AD4D-2D640F27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74913-BC3F-4394-8F52-C5DC307F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C8EBD-921E-4720-B071-43544CBC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3DE9B-C98A-4EB9-A533-8C23AB4B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26B23-8CE1-4D73-97A2-F413871F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7F4ACE-7B1A-4358-9E6C-21C13FBF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5E23F-E550-4C02-A4C9-AAF15683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9EF04-2024-4C5C-A4BF-D52024AE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56DD-5C78-4C69-815C-6A319A19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4467-8B64-4F45-A54C-1425E476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6BBE-7C6F-4AE0-AED7-72B235FD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75F-B290-4B25-B715-58EED33D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03E3-D4A8-4ABC-B301-EB244D37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E68B-61EA-4BD0-B39A-AAC42932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65D6-E9FA-4FDD-8323-0D5B70B8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86FA-555F-490D-964E-B5B41927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AD9C-E9E9-4BF4-8A66-FC84D362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5F10A-91B3-4972-AAA9-EEA997AB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00248-78F8-4C58-9F1D-12578BCC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5BCE-A941-4532-A351-9B7BF4D4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117B4-9C8C-4071-B62A-2D20749A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E7E0-EFAD-4167-A9FD-F001B476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2B9-95EE-4FDD-A79D-45B7413D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5FBAB-5DCA-411D-88C1-411D5461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AF8E0-BAD7-4140-A8E1-0F888D27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9F610-E414-437E-BF6A-E8A20201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32CE-EB38-45CF-8C4A-4F71595F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A43EE-DDC5-4DE5-B901-DAB3C383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0ED86-1E90-4EBB-8AE5-B750FE91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78145-EA84-47EB-8D0A-088A94DF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AD97A-C78E-43DE-B275-1FF43004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B447A-4C5B-4D35-864D-EB034CC7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FE889-E897-4DD9-BA81-A31B7E98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3A8-8619-45FC-84C3-F9FDE0F8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D6D1B-77D2-45CB-AAB6-BF9E97BC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C8109-F44E-4CE0-8FCB-0799CFAD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6D5B3-E2EF-492C-B62A-629139F6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3F148-2E40-4A61-B232-6E0355EC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E367A-101F-4510-88CA-DAD26903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5D98E-7FCB-433A-8F2F-4DE1B81D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17161-9FA1-478C-9EA0-FFCE1C37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96C16-F462-4A9E-9A14-DA44B645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91D44-EE34-4A94-B3A5-36B3A3A2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F878F-B907-4CAB-B507-8962D604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936-0CC2-4ED7-89E0-EA98BC2E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D88C1-B263-4261-B4FE-59CD0A8D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72FFE-E150-469E-9E22-D35EDC22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D3604-25B9-4D31-A6A9-30843CB6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C6D28-9482-44EA-BBBC-D4FA31DF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26B11-144C-4572-BB83-6DAFAD2C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C51A2-72BE-488B-AF00-28836C40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D9B4F-AA94-40B5-B8F9-85769D86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B9D5F-6309-45E4-92A2-ED4EE1BB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7D034-4C96-4DC2-BFEF-37040266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F4634-4330-44A2-8380-7F9A009E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324-E426-4758-95C5-4DDDF287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7FEB0-D5C9-4CAB-81BF-8B03450C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03868-34CD-4882-BFCF-1AC6428E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5F112-0A96-49DE-87B1-CEF1AB1C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3F832-3612-4799-BFB1-7DA22251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BA231-0A6D-4171-8075-EF7D86A5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DED34-8D5B-438E-ABDF-2466B65D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64396-E090-4EAE-A42F-5DAE0530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0ABDA-0FD7-44F8-A3CC-996D3CF2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6E097-AD6B-4046-8638-8D4ACF01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1F6D8-AA76-44D1-9D30-C91D00AE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0BC6-77D8-467B-949B-A96743A5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1C1C2-013C-4788-BA03-AAD114F8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8A885-8BFB-425D-89F6-22D91F94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91099-FD99-48FF-AC73-3BECCE62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535F2-0B3B-44E0-B7FD-88D2DFF4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4D901-E711-46B9-9D5F-0B1F909A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3367C-414C-4F56-9FF4-154B945B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A67E5-95D1-4D82-9FE5-A0C6AFB8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E7B8D-17C5-44C8-A955-6A221B65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2F53B-6410-42DD-9203-3CF0A3F6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2841A-D10E-43CC-9406-D3ECF378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7D3-F31B-47FF-8B7B-D1020C61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8B7C5-9932-4AC0-8E4E-CD35FBB0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2404C-F60A-4208-81FF-533A57CD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BA638-DFC5-4D28-BDC0-E7D1A285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DBF1B-FE5A-4BFB-B9FE-D1920FEF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8ECA4-0F79-4C65-B150-01E2C96A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8EB16-7EC0-4BBB-B076-56F85A0D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12090-C140-41D2-8868-B9BD09AF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E9770-ABC6-4505-B68F-6B5ECD20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6D67F-0F9F-440C-9D3F-B8AAB271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459B4-9081-4A04-ACD7-5948E566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971-E300-4DB3-8159-1EA5BA0F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49036-A015-4792-AB54-1514912A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DDBE3-6202-4D41-9C4C-2832284A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300A3-7EC5-42A2-BBD1-012B9F98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D7B36-3DE2-45FE-AE0C-40D40B93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9C452-4C05-4010-A20A-5BFDDE93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5E40F-8671-4B05-AB29-68997055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9905D-F10F-4C1B-9698-41046D7B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D1AB2-64D0-43F5-9E3B-EA37F4F3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FCDA7-9DFA-4248-9F62-079C28DF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CC637-71E0-40CE-9C1D-EDEF55E4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Administrator\桌面\33.jpg"/>
          <p:cNvPicPr/>
          <p:nvPr/>
        </p:nvPicPr>
        <p:blipFill>
          <a:blip r:embed="rId2"/>
          <a:stretch/>
        </p:blipFill>
        <p:spPr>
          <a:xfrm>
            <a:off x="0" y="-60480"/>
            <a:ext cx="9144000" cy="5797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Administrator\桌面\莲 (11).png"/>
          <p:cNvPicPr/>
          <p:nvPr/>
        </p:nvPicPr>
        <p:blipFill>
          <a:blip r:embed="rId3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:\Documents and Settings\Administrator\桌面\莲 2(1).png"/>
          <p:cNvPicPr/>
          <p:nvPr/>
        </p:nvPicPr>
        <p:blipFill>
          <a:blip r:embed="rId4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矩形 10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12" descr="C:\Documents and Settings\Administrator\桌面\2.png"/>
          <p:cNvPicPr/>
          <p:nvPr/>
        </p:nvPicPr>
        <p:blipFill>
          <a:blip r:embed="rId5"/>
          <a:stretch/>
        </p:blipFill>
        <p:spPr>
          <a:xfrm rot="20068800">
            <a:off x="1619280" y="-104760"/>
            <a:ext cx="3017880" cy="3249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5644-8CA9-485D-8020-F379A362F4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8E1A-6C6D-49FB-9657-F4D0789511AA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E30C-459E-4EDB-A3D7-AE00CF8A069B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24D5-5EDE-471A-905E-17763D6CD682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98F0-3799-454D-A229-328BFAF0062B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CAC5-697F-4558-93D7-8D56192BDECC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6AC7-CC44-475A-95C6-46D19CF36693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A890-A13B-481D-8207-562E26E59AB3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2940-22B9-4F1E-89E1-DD21A303059E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AC69-7377-4226-9BB9-B04CC05A07C7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2CE8-8454-43FC-A784-BF6576B8ED14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6" descr="C:\Documents and Settings\Administrator\桌面\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8" name="矩形 7"/>
          <p:cNvSpPr/>
          <p:nvPr/>
        </p:nvSpPr>
        <p:spPr>
          <a:xfrm>
            <a:off x="395280" y="-92160"/>
            <a:ext cx="8353440" cy="590256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Documents and Settings\Administrator\桌面\莲 2(1).png"/>
          <p:cNvPicPr/>
          <p:nvPr/>
        </p:nvPicPr>
        <p:blipFill>
          <a:blip r:embed="rId4"/>
          <a:stretch/>
        </p:blipFill>
        <p:spPr>
          <a:xfrm>
            <a:off x="549360" y="0"/>
            <a:ext cx="1182600" cy="1204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8970-5A98-4E6C-BA87-B4FD66538F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D6F2-FE3D-4DC4-B7A8-20FD59C32616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0D44-C329-46B3-8415-D25E4DAFCE46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211B-DFFB-4709-85CB-5DCA7912DFE0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5CC9-0EB7-438B-A667-CB99E1248498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623E-465F-4550-8173-3DCD2A69A0E5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069E-31FB-47B5-86B6-4A676CAA6890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63FA-CAFF-4810-A5CE-6E6485E0359F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FD25-0359-4AC4-810B-F850083C2A9D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25D8-174B-4312-B004-CCF525A7B48B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A0B3-5974-4C08-BE1C-EE61DEEAF840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D393-B0F8-4272-AE30-B18F00A5330A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B1FF-C195-4956-B491-5BE520EEC0B2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5584-29A7-4470-95E1-840ED988A84E}" type="datetime">
              <a:rPr b="0" lang="zh-CN" sz="11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A30D-A3F1-4710-842A-3C2B27B7DB69}" type="slidenum">
              <a:rPr b="0" lang="zh-CN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extBox 39" descr=""/>
          <p:cNvPicPr/>
          <p:nvPr/>
        </p:nvPicPr>
        <p:blipFill>
          <a:blip r:embed="rId1"/>
          <a:stretch/>
        </p:blipFill>
        <p:spPr>
          <a:xfrm>
            <a:off x="-277920" y="480960"/>
            <a:ext cx="3624480" cy="1865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汉鼎简魏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587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588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89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0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592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593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94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5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6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597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598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99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0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1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602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603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04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5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6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TextBox 2" descr=""/>
          <p:cNvPicPr/>
          <p:nvPr/>
        </p:nvPicPr>
        <p:blipFill>
          <a:blip r:embed="rId1"/>
          <a:stretch/>
        </p:blipFill>
        <p:spPr>
          <a:xfrm>
            <a:off x="-277920" y="480960"/>
            <a:ext cx="4776840" cy="1865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613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Box 7"/>
            <p:cNvSpPr/>
            <p:nvPr/>
          </p:nvSpPr>
          <p:spPr>
            <a:xfrm rot="20926800">
              <a:off x="2360160" y="2964960"/>
              <a:ext cx="38898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/>
  <dc:description/>
  <cp:keywords/>
  <dc:language>en-US</dc:language>
  <cp:lastModifiedBy>a</cp:lastModifiedBy>
  <dcterms:modified xsi:type="dcterms:W3CDTF">2014-07-21T06:54:15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