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50B-1BF3-46C8-A0E4-3F24ED41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715-B43F-4255-9456-AC0065E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5BBF6-67CA-4030-9FC0-152A4AE1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6CEE6-FF5E-4B63-B03F-47AC2568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56981-5A89-489D-84E7-6124237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712C8-6D31-44D3-8353-30C623D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5189F-CFCE-4621-B58A-2BD86442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56496-B94D-480E-866D-BB5DF18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F782F-F413-402C-96F0-091CC63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0EDB4-F863-4462-9792-24458877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0305-19C8-4207-A1BA-81C87BE2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82F4D-FD6A-4354-B65A-54709875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409-F9FC-4E25-8813-B81B5A15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46E4-6F1E-49C1-A252-DEA7895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90DA1-44A2-43A1-B2D6-4DF5780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A5B4B-7540-409C-9C5C-A3031BE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328D7-DF62-4FBC-824F-7286E550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20D79-49A3-4DA6-99C9-036B1EC6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F76C6-8C0F-459D-AAEA-302563D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4588C-0759-4AF8-A811-C4720A3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654F1-8210-4448-9E63-737956A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FFFC5-D5FF-4AC4-8EA9-A097305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C7DA2-FD90-4248-BD11-84FDABDB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C9D-6723-4FBB-8B10-015CD0BE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7E86-448D-4847-A3E2-BF594342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C0FE6-A02F-4602-A2FB-E1C52FCD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6844-47EF-428E-8074-161CB43A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A18E3-044F-4D13-B540-C342E24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84E51-5167-4B46-9C2A-37D1318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F59C-E8EE-4CD3-8938-223C41E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6AA3-A88B-430C-940E-AA58CDEC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529DF-46F2-4DC4-8FCE-E088109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86C4C-0321-48AC-A3FF-BAECF87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7EA8E-5A0D-4C83-A4BF-473A829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FB6-B803-484C-A30C-C0582B2A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B1102-CE9E-4784-8856-FA2B800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E6D6-2D92-4569-B5E7-5B13A620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16BF-AC26-4929-BFEC-1FB4ECDE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03D29-5AB9-46BC-A952-2843615F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C7CA7-828F-48E4-B650-014E650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F952E-5C2C-4592-9A54-AD92580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17A0D-98A4-4A30-A116-EE4F8169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3D177-8E13-4694-897B-0EA8805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2CC35-BD84-41DB-BF1D-69893B91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1C700-0B30-465F-BF28-F4C1A1C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AB3E-38FA-497E-ABB2-29F73AB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140A6-2EB0-4FC8-8686-7F020BF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3CB6-7747-4BC9-9C01-3AADC505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C855A-F588-42F7-B9E8-2975D0F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7F5C-FA87-4B8E-97F8-69E3B9EA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DC3A7-5536-4D31-8282-BD8AD1F5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21DFA-0D7A-4D33-A834-0980AF52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07871-68E2-4903-BF80-F6101F82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C0A16-1E39-458E-988F-3BA97E53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9EB99-4F47-4703-9DB1-40E9B5D1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AA38D-0B06-48D6-94F5-B15FF936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4F90-A87B-4241-8BFC-BFC6087C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2DE26-1ACE-4642-86E6-B38048A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E102A-D389-4E39-AF92-52CB28F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70743-96C3-42F4-AA59-E43484B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710FC-4CDB-4FEA-96E3-A077DC3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23E03-F379-4E17-B25C-CFB7D10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92541-5CED-4A7C-A6F9-2E36CB74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661D9-C76D-4EE9-82BD-D3069201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211B9-C735-4A20-8731-BD7A890A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CC7CF-35DA-4971-A3B2-722BADDD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3535B-18B4-4078-BD7A-9F147BDF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E8D0-2817-4409-8EDC-B074495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A997D-9759-4000-91B0-2C465EED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A4722-AC94-4876-8F55-AEBE6F7F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685D3-0686-467C-B926-C311149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FC28B-CE0A-4284-BB2B-2466BB02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3F1DC-DE01-48A4-97FF-C25FD85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04A9C-9E25-4220-8B09-B0547B9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C3085-FF82-4736-B42D-A3B763C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A1930-3688-45D5-B0AC-E47F3F35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C727A-3BAE-4B74-883D-A13C5142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5F43-D9A6-456D-B0FE-2B888063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9DB-A705-43AC-A155-FF1A193B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D356-3D72-469D-A5E1-DF275EB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F36-0031-4D83-A8BA-8B472D1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3013-287C-4661-94B1-F27F082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D40-9570-451C-BAF0-42BA2EF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4BF-951F-4726-88CB-54967BC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F127-FA7C-4AB9-B0D6-3EBBC83A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CBFD-16C1-4E43-9B21-BF60FBAB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7847-74F4-4605-940B-0E30FC87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62DB-816C-4114-ABE2-9D2C62E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CA46-DC90-4A83-9A34-E71814A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4E41-FB0B-4B37-A2C6-5DC2CC48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AD14-90E8-4866-BC7E-44EC8C3E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35D-99F5-404B-8B12-D8CD9CD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AB95-4B82-4CFE-81FC-3843B2D3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E27C-7F7B-4AA1-A3B2-79CDE99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FE33-478B-42B6-9827-1B7A93B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D9FA-5733-4BDE-9B15-EED61EA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6B445-FE44-410A-88F1-F4CB2A8C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A1B8-225F-4747-99FF-B19F1726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A96A-3BBA-4199-9AB9-35F5AFA6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5391-A327-4F68-964B-5EC4EBD5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948D-D943-4540-9788-BECD2FA7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B3515-7A70-4446-9E56-01962A69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F86-9FAD-408E-882B-5B58BED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5485-7C5D-4C56-B1CE-B5E170A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28E9-7435-4675-B5E7-24233EA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AF89-DA98-4176-B158-F4674288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937C-DF90-44A3-AB5C-DA7C2C3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F94D-D7E7-4F62-9225-15DB45D2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67F6-0463-4BC5-8D59-F4F9C9D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0926-0F54-40B1-96DF-B933E490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DDB1-734C-426C-A25E-B5DBC648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1801-B44E-4BC1-BEA1-E3E65147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842C-E4D1-4E02-8280-5A59E755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4BC-FBF8-4020-AA4E-D2E5F627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BBBF-7AF8-4550-BBA8-2AAC0291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ABAD9-4035-4923-9EFD-66CA57A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C1E0-436E-498F-BF3F-D492774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AD12-DF8D-4EF2-B883-82A41C8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9BF8-09CA-4131-8783-D5E01C1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6D08-0438-4BCC-A084-72E42C8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12DD-E615-4502-A235-5A262D3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492B-9EFB-4CEF-B248-E02D048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75B9-49B2-416F-9661-6087CDFD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BB1E-E672-46D4-B077-B835D65F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F73-386E-47E7-9668-BBAA148B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79F2-BD20-4CD0-9763-B590E40A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73CF6-3F11-4E12-A2D9-09B5E3C3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E148-944F-4B92-9933-0D7CEE9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6FBE0-4961-4FCC-8450-4B79E088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895D2-9950-487A-9B88-CD0CF47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C09E-615E-4F90-879E-0CA7CFF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31319-B7DB-4747-999E-B0346B75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9453-8A42-4E0F-BA8C-0FBC62AC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0322-A0F7-4473-A6EB-3DD6C7F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3D29-61C3-495A-93D2-29C8A9B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82F-D605-4701-A4A8-C1C89EA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D1A6-2774-4D7B-9DDE-ABFA3EC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3E96-9E98-4A2A-9EFF-965F43C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709F-6D87-480E-872B-23C4243E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8B1E-0385-4430-BC0B-B699A9E0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F428-6369-4F5C-9D51-EBC4FE42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C36DC-14C4-4D17-B249-DEC6AC4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4564-7FEB-4057-9717-518AC8F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F24E-9780-4B8B-93E2-A75978D3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AED0-75CC-42A4-AA43-2734F5E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C4FEE-CC8F-4BC6-A3E0-A55DE81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D18-BAB0-40CC-9241-6757414F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C302-C82D-421F-8DA2-0170295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2009C-7EA6-4C77-89A6-37C6A554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E681-A2F5-4BD4-86CE-11B81EA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E5CC-7785-4BCD-A400-F1A7615F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4721-3915-4134-BA2D-BB20EBB8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4451-1113-4F07-B20F-3FE51406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6122-95EB-423D-9285-FC5171E4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F841-E2F7-4FEF-9242-C94E96EF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AB662-BBD0-4D3E-8466-692E008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1606F-0432-4C1D-887E-34671F35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6AC-78F7-4AD8-910F-DB6701E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2456D-869C-4FFC-BD63-A23F97B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40AD7-22F7-4086-BAB1-6F913B6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DAE8C-9C69-424D-BA62-6483172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D24B-23B6-4362-AEAC-5319CD5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8629-01FC-4064-B912-9FA262B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AC9E-CD6D-43FC-964F-2DC1FCF1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9D53-9392-4583-AE68-00EF9EED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E90D9-3910-4FCE-B79C-B2D1451E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26F5-A95A-4FB1-9500-F0076FF3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17C2-6A04-4054-989A-D0742815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49AD-67D4-4D11-8AC6-F22ED27E70B1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393-D8B7-4717-9786-033C28ABB872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6AA-FAFC-4780-877A-B20307F30AA1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DFA0-6C4C-4AEF-B16F-700A7D9D4E54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557-63C9-4242-AF9F-3505CDDFE623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9475-F3C1-48AC-B81C-2636C0F47D75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ED35-1764-48A7-8540-3517A5BFA0CD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BC37-601D-43A6-8E62-9CD1CED12A74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73E-7C1C-4E46-AD64-02EA7BBE7A10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9FEA-08C0-4FB0-8CCB-7C2F052E8FA7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870-6691-4453-A2F5-05B21B76002D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407360" y="0"/>
            <a:ext cx="1260360" cy="433440"/>
            <a:chOff x="7407360" y="0"/>
            <a:chExt cx="1260360" cy="433440"/>
          </a:xfrm>
        </p:grpSpPr>
        <p:sp>
          <p:nvSpPr>
            <p:cNvPr id="42" name="矩形 7"/>
            <p:cNvSpPr/>
            <p:nvPr/>
          </p:nvSpPr>
          <p:spPr>
            <a:xfrm>
              <a:off x="7407360" y="0"/>
              <a:ext cx="1260360" cy="389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43" name="Picture 2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421040" y="0"/>
              <a:ext cx="12466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F2F-36ED-4C18-8959-DFE858880E64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CCAC-BA22-4433-9E56-B9F8E3030343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8A7-1D04-4DF4-AA63-36B900C5F8A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805E-27C4-4D01-8F00-BA4212984C18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648-CEC0-44B7-803D-B7DB2E78FFF8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C7F-40BB-44A5-9A02-3B659DAAEBD9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7DA0-5393-40C0-BB05-F137982616A8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EC90-FC6F-4BE3-A946-855680C1E69C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684-503A-431C-ABB9-96DE266B5C65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6E6-DB5D-47FD-BD5D-B91439B7B194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B8E-C6CC-4042-9DE3-4D4BA3591B6E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7068-D7B5-41CF-A774-AD1FA06148F0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B53-7BAA-4288-B464-F88F6E91006C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9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66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1666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11280" indent="-1666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EA9-135D-4196-9FB6-335F1748F434}" type="datetime">
              <a:rPr b="0" lang="zh-CN" sz="1000" spc="-1" strike="noStrike">
                <a:solidFill>
                  <a:srgbClr val="000000"/>
                </a:solidFill>
                <a:latin typeface="IKEA Sans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4589640"/>
            <a:ext cx="2895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4589640"/>
            <a:ext cx="21337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C456-90BE-4560-955A-3358CA8019E1}" type="slidenum">
              <a:rPr b="0" lang="zh-CN" sz="1000" spc="-1" strike="noStrike">
                <a:solidFill>
                  <a:srgbClr val="000000"/>
                </a:solidFill>
                <a:latin typeface="IKE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578" name="矩形 9"/>
          <p:cNvSpPr/>
          <p:nvPr/>
        </p:nvSpPr>
        <p:spPr>
          <a:xfrm>
            <a:off x="-81000" y="2070000"/>
            <a:ext cx="9225000" cy="26560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3132000" y="3635280"/>
            <a:ext cx="2416320" cy="1000080"/>
            <a:chOff x="3132000" y="3635280"/>
            <a:chExt cx="2416320" cy="1000080"/>
          </a:xfrm>
        </p:grpSpPr>
        <p:grpSp>
          <p:nvGrpSpPr>
            <p:cNvPr id="580" name="Group 5"/>
            <p:cNvGrpSpPr/>
            <p:nvPr/>
          </p:nvGrpSpPr>
          <p:grpSpPr>
            <a:xfrm>
              <a:off x="3596400" y="3635280"/>
              <a:ext cx="1951920" cy="749520"/>
              <a:chOff x="3596400" y="3635280"/>
              <a:chExt cx="1951920" cy="749520"/>
            </a:xfrm>
          </p:grpSpPr>
          <p:pic>
            <p:nvPicPr>
              <p:cNvPr id="581" name="Picture 2" descr=""/>
              <p:cNvPicPr/>
              <p:nvPr/>
            </p:nvPicPr>
            <p:blipFill>
              <a:blip r:embed="rId2"/>
              <a:srcRect l="0" t="0" r="3486" b="0"/>
              <a:stretch/>
            </p:blipFill>
            <p:spPr>
              <a:xfrm>
                <a:off x="3596400" y="3635280"/>
                <a:ext cx="195192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Box 12"/>
              <p:cNvSpPr/>
              <p:nvPr/>
            </p:nvSpPr>
            <p:spPr>
              <a:xfrm>
                <a:off x="3927600" y="4123440"/>
                <a:ext cx="1314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</a:t>
                </a:r>
                <a:endParaRPr b="0" lang="en-US" sz="11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583" name="TextBox 14"/>
            <p:cNvSpPr/>
            <p:nvPr/>
          </p:nvSpPr>
          <p:spPr>
            <a:xfrm>
              <a:off x="3132000" y="4389120"/>
              <a:ext cx="18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584" name="Group 9"/>
          <p:cNvGrpSpPr/>
          <p:nvPr/>
        </p:nvGrpSpPr>
        <p:grpSpPr>
          <a:xfrm>
            <a:off x="2738520" y="2612880"/>
            <a:ext cx="3040560" cy="703440"/>
            <a:chOff x="2738520" y="2612880"/>
            <a:chExt cx="3040560" cy="703440"/>
          </a:xfrm>
        </p:grpSpPr>
        <p:sp>
          <p:nvSpPr>
            <p:cNvPr id="585" name="矩形 8"/>
            <p:cNvSpPr/>
            <p:nvPr/>
          </p:nvSpPr>
          <p:spPr>
            <a:xfrm>
              <a:off x="3769560" y="261288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4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86" name="圆角矩形 3"/>
            <p:cNvSpPr/>
            <p:nvPr/>
          </p:nvSpPr>
          <p:spPr>
            <a:xfrm>
              <a:off x="2738520" y="2818080"/>
              <a:ext cx="404640" cy="405360"/>
            </a:xfrm>
            <a:custGeom>
              <a:avLst/>
              <a:gdLst>
                <a:gd name="textAreaLeft" fmla="*/ 19440 w 404640"/>
                <a:gd name="textAreaRight" fmla="*/ 385200 w 404640"/>
                <a:gd name="textAreaTop" fmla="*/ 19440 h 405360"/>
                <a:gd name="textAreaBottom" fmla="*/ 385920 h 405360"/>
              </a:gdLst>
              <a:ahLst/>
              <a:rect l="textAreaLeft" t="textAreaTop" r="textAreaRight" b="textAreaBottom"/>
              <a:pathLst>
                <a:path w="21600" h="21638">
                  <a:moveTo>
                    <a:pt x="3600" y="0"/>
                  </a:moveTo>
                  <a:arcTo wR="3600" hR="3600" stAng="16200000" swAng="-5400000"/>
                  <a:lnTo>
                    <a:pt x="0" y="18038"/>
                  </a:lnTo>
                  <a:arcTo wR="3600" hR="3600" stAng="10800000" swAng="-5400000"/>
                  <a:lnTo>
                    <a:pt x="18000" y="21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肆</a:t>
              </a:r>
              <a:endParaRPr b="0" lang="en-US" sz="2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501480" y="317520"/>
            <a:ext cx="3067200" cy="460044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"/>
          <p:cNvGrpSpPr/>
          <p:nvPr/>
        </p:nvGrpSpPr>
        <p:grpSpPr>
          <a:xfrm>
            <a:off x="259200" y="90720"/>
            <a:ext cx="550440" cy="2444400"/>
            <a:chOff x="259200" y="90720"/>
            <a:chExt cx="550440" cy="2444400"/>
          </a:xfrm>
        </p:grpSpPr>
        <p:sp>
          <p:nvSpPr>
            <p:cNvPr id="589" name="TextBox 2"/>
            <p:cNvSpPr/>
            <p:nvPr/>
          </p:nvSpPr>
          <p:spPr>
            <a:xfrm>
              <a:off x="354960" y="1703520"/>
              <a:ext cx="454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男士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90" name="TextBox 3"/>
            <p:cNvSpPr/>
            <p:nvPr/>
          </p:nvSpPr>
          <p:spPr>
            <a:xfrm>
              <a:off x="259200" y="415800"/>
              <a:ext cx="4546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91" name="TextBox 14"/>
            <p:cNvSpPr/>
            <p:nvPr/>
          </p:nvSpPr>
          <p:spPr>
            <a:xfrm>
              <a:off x="354960" y="90720"/>
              <a:ext cx="4546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592" name="Group 7"/>
          <p:cNvGrpSpPr/>
          <p:nvPr/>
        </p:nvGrpSpPr>
        <p:grpSpPr>
          <a:xfrm>
            <a:off x="2502000" y="539640"/>
            <a:ext cx="6175440" cy="441000"/>
            <a:chOff x="2502000" y="539640"/>
            <a:chExt cx="6175440" cy="441000"/>
          </a:xfrm>
        </p:grpSpPr>
        <p:sp>
          <p:nvSpPr>
            <p:cNvPr id="593" name="直接连接符 7"/>
            <p:cNvSpPr/>
            <p:nvPr/>
          </p:nvSpPr>
          <p:spPr>
            <a:xfrm>
              <a:off x="2502000" y="629280"/>
              <a:ext cx="198000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594" name="Group 9"/>
            <p:cNvGrpSpPr/>
            <p:nvPr/>
          </p:nvGrpSpPr>
          <p:grpSpPr>
            <a:xfrm>
              <a:off x="4470480" y="539640"/>
              <a:ext cx="4206960" cy="441000"/>
              <a:chOff x="4470480" y="539640"/>
              <a:chExt cx="4206960" cy="441000"/>
            </a:xfrm>
          </p:grpSpPr>
          <p:sp>
            <p:nvSpPr>
              <p:cNvPr id="595" name="矩形 8"/>
              <p:cNvSpPr/>
              <p:nvPr/>
            </p:nvSpPr>
            <p:spPr>
              <a:xfrm>
                <a:off x="4470480" y="734400"/>
                <a:ext cx="420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IKEA Sans"/>
                    <a:ea typeface="微软雅黑"/>
                  </a:rPr>
                  <a:t>不宜太长。最好在几天前理发，尽量避免在面试前一天理发，以免看上去不够自然。</a:t>
                </a:r>
                <a:endParaRPr b="0" lang="en-US" sz="10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grpSp>
            <p:nvGrpSpPr>
              <p:cNvPr id="596" name="Group 11"/>
              <p:cNvGrpSpPr/>
              <p:nvPr/>
            </p:nvGrpSpPr>
            <p:grpSpPr>
              <a:xfrm>
                <a:off x="4571640" y="539640"/>
                <a:ext cx="405000" cy="276480"/>
                <a:chOff x="4571640" y="539640"/>
                <a:chExt cx="405000" cy="276480"/>
              </a:xfrm>
            </p:grpSpPr>
            <p:sp>
              <p:nvSpPr>
                <p:cNvPr id="597" name="矩形 9"/>
                <p:cNvSpPr/>
                <p:nvPr/>
              </p:nvSpPr>
              <p:spPr>
                <a:xfrm>
                  <a:off x="4571640" y="584280"/>
                  <a:ext cx="405000" cy="1803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KEA Sans"/>
                  </a:endParaRPr>
                </a:p>
              </p:txBody>
            </p:sp>
            <p:sp>
              <p:nvSpPr>
                <p:cNvPr id="598" name="TextBox 10"/>
                <p:cNvSpPr/>
                <p:nvPr/>
              </p:nvSpPr>
              <p:spPr>
                <a:xfrm>
                  <a:off x="4605120" y="5396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IKEA Sans"/>
                      <a:ea typeface="微软雅黑"/>
                    </a:rPr>
                    <a:t>发型</a:t>
                  </a:r>
                  <a:endParaRPr b="0" lang="en-US" sz="1200" spc="-1" strike="noStrike">
                    <a:solidFill>
                      <a:srgbClr val="000000"/>
                    </a:solidFill>
                    <a:latin typeface="IKEA Sans"/>
                  </a:endParaRPr>
                </a:p>
              </p:txBody>
            </p:sp>
          </p:grpSp>
        </p:grpSp>
      </p:grpSp>
      <p:sp>
        <p:nvSpPr>
          <p:cNvPr id="599" name="直接连接符 15"/>
          <p:cNvSpPr/>
          <p:nvPr/>
        </p:nvSpPr>
        <p:spPr>
          <a:xfrm>
            <a:off x="2232000" y="1790640"/>
            <a:ext cx="22496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00" name="Group 15"/>
          <p:cNvGrpSpPr/>
          <p:nvPr/>
        </p:nvGrpSpPr>
        <p:grpSpPr>
          <a:xfrm>
            <a:off x="4470480" y="1655640"/>
            <a:ext cx="4206960" cy="440640"/>
            <a:chOff x="4470480" y="1655640"/>
            <a:chExt cx="4206960" cy="440640"/>
          </a:xfrm>
        </p:grpSpPr>
        <p:sp>
          <p:nvSpPr>
            <p:cNvPr id="601" name="矩形 24"/>
            <p:cNvSpPr/>
            <p:nvPr/>
          </p:nvSpPr>
          <p:spPr>
            <a:xfrm>
              <a:off x="4470480" y="1850040"/>
              <a:ext cx="420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纯真丝的领带，或者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50%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的羊毛和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50%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的真丝混合织成的领带应该是你面试时的选择。 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02" name="Group 17"/>
            <p:cNvGrpSpPr/>
            <p:nvPr/>
          </p:nvGrpSpPr>
          <p:grpSpPr>
            <a:xfrm>
              <a:off x="4571640" y="1655640"/>
              <a:ext cx="405000" cy="276480"/>
              <a:chOff x="4571640" y="1655640"/>
              <a:chExt cx="405000" cy="276480"/>
            </a:xfrm>
          </p:grpSpPr>
          <p:sp>
            <p:nvSpPr>
              <p:cNvPr id="603" name="矩形 26"/>
              <p:cNvSpPr/>
              <p:nvPr/>
            </p:nvSpPr>
            <p:spPr>
              <a:xfrm>
                <a:off x="4571640" y="1700280"/>
                <a:ext cx="40500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04" name="TextBox 27"/>
              <p:cNvSpPr/>
              <p:nvPr/>
            </p:nvSpPr>
            <p:spPr>
              <a:xfrm>
                <a:off x="4605120" y="1655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领带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05" name="直接连接符 30"/>
          <p:cNvSpPr/>
          <p:nvPr/>
        </p:nvSpPr>
        <p:spPr>
          <a:xfrm>
            <a:off x="2322360" y="1214280"/>
            <a:ext cx="215928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06" name="Group 21"/>
          <p:cNvGrpSpPr/>
          <p:nvPr/>
        </p:nvGrpSpPr>
        <p:grpSpPr>
          <a:xfrm>
            <a:off x="4470480" y="1125360"/>
            <a:ext cx="4206960" cy="440640"/>
            <a:chOff x="4470480" y="1125360"/>
            <a:chExt cx="4206960" cy="440640"/>
          </a:xfrm>
        </p:grpSpPr>
        <p:sp>
          <p:nvSpPr>
            <p:cNvPr id="607" name="矩形 32"/>
            <p:cNvSpPr/>
            <p:nvPr/>
          </p:nvSpPr>
          <p:spPr>
            <a:xfrm>
              <a:off x="4470480" y="1319760"/>
              <a:ext cx="420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原则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1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：总是穿长袖衬衫；原则</a:t>
              </a:r>
              <a:r>
                <a:rPr b="0" lang="en-US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2</a:t>
              </a: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：总是穿白色或淡蓝色衬衫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08" name="Group 23"/>
            <p:cNvGrpSpPr/>
            <p:nvPr/>
          </p:nvGrpSpPr>
          <p:grpSpPr>
            <a:xfrm>
              <a:off x="4571640" y="1125360"/>
              <a:ext cx="405000" cy="276480"/>
              <a:chOff x="4571640" y="1125360"/>
              <a:chExt cx="405000" cy="276480"/>
            </a:xfrm>
          </p:grpSpPr>
          <p:sp>
            <p:nvSpPr>
              <p:cNvPr id="609" name="矩形 34"/>
              <p:cNvSpPr/>
              <p:nvPr/>
            </p:nvSpPr>
            <p:spPr>
              <a:xfrm>
                <a:off x="4571640" y="1170000"/>
                <a:ext cx="40500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10" name="TextBox 35"/>
              <p:cNvSpPr/>
              <p:nvPr/>
            </p:nvSpPr>
            <p:spPr>
              <a:xfrm>
                <a:off x="4605120" y="112536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衬衫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11" name="直接连接符 37"/>
          <p:cNvSpPr/>
          <p:nvPr/>
        </p:nvSpPr>
        <p:spPr>
          <a:xfrm>
            <a:off x="2232000" y="2511360"/>
            <a:ext cx="22496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12" name="Group 27"/>
          <p:cNvGrpSpPr/>
          <p:nvPr/>
        </p:nvGrpSpPr>
        <p:grpSpPr>
          <a:xfrm>
            <a:off x="4470480" y="2376360"/>
            <a:ext cx="4206960" cy="601560"/>
            <a:chOff x="4470480" y="2376360"/>
            <a:chExt cx="4206960" cy="601560"/>
          </a:xfrm>
        </p:grpSpPr>
        <p:sp>
          <p:nvSpPr>
            <p:cNvPr id="613" name="矩形 39"/>
            <p:cNvSpPr/>
            <p:nvPr/>
          </p:nvSpPr>
          <p:spPr>
            <a:xfrm>
              <a:off x="4470480" y="257940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藏青色、黑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质地：纯羊毛，在视觉效果上比任何其他衣料都要好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14" name="Group 29"/>
            <p:cNvGrpSpPr/>
            <p:nvPr/>
          </p:nvGrpSpPr>
          <p:grpSpPr>
            <a:xfrm>
              <a:off x="4571640" y="2376360"/>
              <a:ext cx="405000" cy="276480"/>
              <a:chOff x="4571640" y="2376360"/>
              <a:chExt cx="405000" cy="276480"/>
            </a:xfrm>
          </p:grpSpPr>
          <p:sp>
            <p:nvSpPr>
              <p:cNvPr id="615" name="矩形 41"/>
              <p:cNvSpPr/>
              <p:nvPr/>
            </p:nvSpPr>
            <p:spPr>
              <a:xfrm>
                <a:off x="4571640" y="242100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16" name="TextBox 42"/>
              <p:cNvSpPr/>
              <p:nvPr/>
            </p:nvSpPr>
            <p:spPr>
              <a:xfrm>
                <a:off x="4605120" y="237636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西装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17" name="直接连接符 43"/>
          <p:cNvSpPr/>
          <p:nvPr/>
        </p:nvSpPr>
        <p:spPr>
          <a:xfrm>
            <a:off x="2035080" y="4140360"/>
            <a:ext cx="24465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18" name="Group 33"/>
          <p:cNvGrpSpPr/>
          <p:nvPr/>
        </p:nvGrpSpPr>
        <p:grpSpPr>
          <a:xfrm>
            <a:off x="4470480" y="4049640"/>
            <a:ext cx="4206960" cy="601560"/>
            <a:chOff x="4470480" y="4049640"/>
            <a:chExt cx="4206960" cy="601560"/>
          </a:xfrm>
        </p:grpSpPr>
        <p:sp>
          <p:nvSpPr>
            <p:cNvPr id="619" name="矩形 45"/>
            <p:cNvSpPr/>
            <p:nvPr/>
          </p:nvSpPr>
          <p:spPr>
            <a:xfrm>
              <a:off x="4470480" y="425268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黑色或棕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系鞋带的皮鞋是最保守的选择，无带的也较大方得体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20" name="Group 35"/>
            <p:cNvGrpSpPr/>
            <p:nvPr/>
          </p:nvGrpSpPr>
          <p:grpSpPr>
            <a:xfrm>
              <a:off x="4571640" y="4049640"/>
              <a:ext cx="405000" cy="276480"/>
              <a:chOff x="4571640" y="4049640"/>
              <a:chExt cx="405000" cy="276480"/>
            </a:xfrm>
          </p:grpSpPr>
          <p:sp>
            <p:nvSpPr>
              <p:cNvPr id="621" name="矩形 47"/>
              <p:cNvSpPr/>
              <p:nvPr/>
            </p:nvSpPr>
            <p:spPr>
              <a:xfrm>
                <a:off x="4571640" y="409428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22" name="TextBox 48"/>
              <p:cNvSpPr/>
              <p:nvPr/>
            </p:nvSpPr>
            <p:spPr>
              <a:xfrm>
                <a:off x="4605120" y="4049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皮鞋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23" name="Group 38"/>
          <p:cNvGrpSpPr/>
          <p:nvPr/>
        </p:nvGrpSpPr>
        <p:grpSpPr>
          <a:xfrm>
            <a:off x="4470480" y="3284640"/>
            <a:ext cx="4206960" cy="601200"/>
            <a:chOff x="4470480" y="3284640"/>
            <a:chExt cx="4206960" cy="601200"/>
          </a:xfrm>
        </p:grpSpPr>
        <p:sp>
          <p:nvSpPr>
            <p:cNvPr id="624" name="矩形 51"/>
            <p:cNvSpPr/>
            <p:nvPr/>
          </p:nvSpPr>
          <p:spPr>
            <a:xfrm>
              <a:off x="4470480" y="3487320"/>
              <a:ext cx="4206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颜色：黑色最佳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长度：应该以你跷腿时不露出太多的胫骨为宜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25" name="Group 40"/>
            <p:cNvGrpSpPr/>
            <p:nvPr/>
          </p:nvGrpSpPr>
          <p:grpSpPr>
            <a:xfrm>
              <a:off x="4571640" y="3284640"/>
              <a:ext cx="405000" cy="276480"/>
              <a:chOff x="4571640" y="3284640"/>
              <a:chExt cx="405000" cy="276480"/>
            </a:xfrm>
          </p:grpSpPr>
          <p:sp>
            <p:nvSpPr>
              <p:cNvPr id="626" name="矩形 53"/>
              <p:cNvSpPr/>
              <p:nvPr/>
            </p:nvSpPr>
            <p:spPr>
              <a:xfrm>
                <a:off x="4571640" y="3329280"/>
                <a:ext cx="405000" cy="180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27" name="TextBox 54"/>
              <p:cNvSpPr/>
              <p:nvPr/>
            </p:nvSpPr>
            <p:spPr>
              <a:xfrm>
                <a:off x="4605120" y="32846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袜子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1117440" y="317520"/>
            <a:ext cx="1835280" cy="460044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3"/>
          <p:cNvGrpSpPr/>
          <p:nvPr/>
        </p:nvGrpSpPr>
        <p:grpSpPr>
          <a:xfrm>
            <a:off x="259200" y="90720"/>
            <a:ext cx="550440" cy="2444400"/>
            <a:chOff x="259200" y="90720"/>
            <a:chExt cx="550440" cy="2444400"/>
          </a:xfrm>
        </p:grpSpPr>
        <p:sp>
          <p:nvSpPr>
            <p:cNvPr id="630" name="TextBox 2"/>
            <p:cNvSpPr/>
            <p:nvPr/>
          </p:nvSpPr>
          <p:spPr>
            <a:xfrm>
              <a:off x="354960" y="1703520"/>
              <a:ext cx="454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女士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31" name="TextBox 3"/>
            <p:cNvSpPr/>
            <p:nvPr/>
          </p:nvSpPr>
          <p:spPr>
            <a:xfrm>
              <a:off x="259200" y="415800"/>
              <a:ext cx="4546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32" name="TextBox 14"/>
            <p:cNvSpPr/>
            <p:nvPr/>
          </p:nvSpPr>
          <p:spPr>
            <a:xfrm>
              <a:off x="354960" y="90720"/>
              <a:ext cx="45468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面试着装指南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33" name="Group 7"/>
          <p:cNvGrpSpPr/>
          <p:nvPr/>
        </p:nvGrpSpPr>
        <p:grpSpPr>
          <a:xfrm>
            <a:off x="3357720" y="1246320"/>
            <a:ext cx="1618920" cy="463680"/>
            <a:chOff x="3357720" y="1246320"/>
            <a:chExt cx="1618920" cy="463680"/>
          </a:xfrm>
        </p:grpSpPr>
        <p:sp>
          <p:nvSpPr>
            <p:cNvPr id="634" name="矩形 8"/>
            <p:cNvSpPr/>
            <p:nvPr/>
          </p:nvSpPr>
          <p:spPr>
            <a:xfrm>
              <a:off x="3357720" y="1463760"/>
              <a:ext cx="161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裁剪合体，气质凸显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35" name="Group 9"/>
            <p:cNvGrpSpPr/>
            <p:nvPr/>
          </p:nvGrpSpPr>
          <p:grpSpPr>
            <a:xfrm>
              <a:off x="3458880" y="1246320"/>
              <a:ext cx="611640" cy="276480"/>
              <a:chOff x="3458880" y="1246320"/>
              <a:chExt cx="611640" cy="276480"/>
            </a:xfrm>
          </p:grpSpPr>
          <p:sp>
            <p:nvSpPr>
              <p:cNvPr id="636" name="矩形 9"/>
              <p:cNvSpPr/>
              <p:nvPr/>
            </p:nvSpPr>
            <p:spPr>
              <a:xfrm>
                <a:off x="3458880" y="1290960"/>
                <a:ext cx="611640" cy="179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37" name="TextBox 10"/>
              <p:cNvSpPr/>
              <p:nvPr/>
            </p:nvSpPr>
            <p:spPr>
              <a:xfrm>
                <a:off x="3542760" y="124632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小西装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38" name="Group 12"/>
          <p:cNvGrpSpPr/>
          <p:nvPr/>
        </p:nvGrpSpPr>
        <p:grpSpPr>
          <a:xfrm>
            <a:off x="3357720" y="1722600"/>
            <a:ext cx="4206600" cy="463680"/>
            <a:chOff x="3357720" y="1722600"/>
            <a:chExt cx="4206600" cy="463680"/>
          </a:xfrm>
        </p:grpSpPr>
        <p:sp>
          <p:nvSpPr>
            <p:cNvPr id="639" name="矩形 55"/>
            <p:cNvSpPr/>
            <p:nvPr/>
          </p:nvSpPr>
          <p:spPr>
            <a:xfrm>
              <a:off x="3357720" y="194004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面试的最好选择之一，不论是外加小西装，还是搭配一件合身的大开口毛衣都很不错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40" name="Group 14"/>
            <p:cNvGrpSpPr/>
            <p:nvPr/>
          </p:nvGrpSpPr>
          <p:grpSpPr>
            <a:xfrm>
              <a:off x="3458880" y="1722600"/>
              <a:ext cx="405000" cy="276480"/>
              <a:chOff x="3458880" y="1722600"/>
              <a:chExt cx="405000" cy="276480"/>
            </a:xfrm>
          </p:grpSpPr>
          <p:sp>
            <p:nvSpPr>
              <p:cNvPr id="641" name="矩形 57"/>
              <p:cNvSpPr/>
              <p:nvPr/>
            </p:nvSpPr>
            <p:spPr>
              <a:xfrm>
                <a:off x="3458880" y="176724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42" name="TextBox 58"/>
              <p:cNvSpPr/>
              <p:nvPr/>
            </p:nvSpPr>
            <p:spPr>
              <a:xfrm>
                <a:off x="3492360" y="172260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衬衫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43" name="Group 17"/>
          <p:cNvGrpSpPr/>
          <p:nvPr/>
        </p:nvGrpSpPr>
        <p:grpSpPr>
          <a:xfrm>
            <a:off x="3357720" y="3465360"/>
            <a:ext cx="4206600" cy="464040"/>
            <a:chOff x="3357720" y="3465360"/>
            <a:chExt cx="4206600" cy="464040"/>
          </a:xfrm>
        </p:grpSpPr>
        <p:sp>
          <p:nvSpPr>
            <p:cNvPr id="644" name="矩形 60"/>
            <p:cNvSpPr/>
            <p:nvPr/>
          </p:nvSpPr>
          <p:spPr>
            <a:xfrm>
              <a:off x="3357720" y="368316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带来干练的中性魅力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45" name="Group 19"/>
            <p:cNvGrpSpPr/>
            <p:nvPr/>
          </p:nvGrpSpPr>
          <p:grpSpPr>
            <a:xfrm>
              <a:off x="3458880" y="3465360"/>
              <a:ext cx="792000" cy="276480"/>
              <a:chOff x="3458880" y="3465360"/>
              <a:chExt cx="792000" cy="276480"/>
            </a:xfrm>
          </p:grpSpPr>
          <p:sp>
            <p:nvSpPr>
              <p:cNvPr id="646" name="矩形 62"/>
              <p:cNvSpPr/>
              <p:nvPr/>
            </p:nvSpPr>
            <p:spPr>
              <a:xfrm>
                <a:off x="3458880" y="3510000"/>
                <a:ext cx="792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47" name="TextBox 63"/>
              <p:cNvSpPr/>
              <p:nvPr/>
            </p:nvSpPr>
            <p:spPr>
              <a:xfrm>
                <a:off x="3593520" y="34653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直筒长裤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grpSp>
        <p:nvGrpSpPr>
          <p:cNvPr id="648" name="Group 22"/>
          <p:cNvGrpSpPr/>
          <p:nvPr/>
        </p:nvGrpSpPr>
        <p:grpSpPr>
          <a:xfrm>
            <a:off x="3357720" y="2424240"/>
            <a:ext cx="4206600" cy="464040"/>
            <a:chOff x="3357720" y="2424240"/>
            <a:chExt cx="4206600" cy="464040"/>
          </a:xfrm>
        </p:grpSpPr>
        <p:sp>
          <p:nvSpPr>
            <p:cNvPr id="649" name="矩形 65"/>
            <p:cNvSpPr/>
            <p:nvPr/>
          </p:nvSpPr>
          <p:spPr>
            <a:xfrm>
              <a:off x="3357720" y="264204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当地搭配一些饰品无疑会使你的形象锦上添花，但搭配饰品也应讲求少而精，一条丝巾，一枚胸花，一条项链，就能恰到好处地体现你的气质和神韵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50" name="Group 24"/>
            <p:cNvGrpSpPr/>
            <p:nvPr/>
          </p:nvGrpSpPr>
          <p:grpSpPr>
            <a:xfrm>
              <a:off x="3458880" y="2424240"/>
              <a:ext cx="405000" cy="276480"/>
              <a:chOff x="3458880" y="2424240"/>
              <a:chExt cx="405000" cy="276480"/>
            </a:xfrm>
          </p:grpSpPr>
          <p:sp>
            <p:nvSpPr>
              <p:cNvPr id="651" name="矩形 67"/>
              <p:cNvSpPr/>
              <p:nvPr/>
            </p:nvSpPr>
            <p:spPr>
              <a:xfrm>
                <a:off x="3458880" y="246888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52" name="TextBox 68"/>
              <p:cNvSpPr/>
              <p:nvPr/>
            </p:nvSpPr>
            <p:spPr>
              <a:xfrm>
                <a:off x="3492360" y="242424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配饰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53" name="直接连接符 5"/>
          <p:cNvSpPr/>
          <p:nvPr/>
        </p:nvSpPr>
        <p:spPr>
          <a:xfrm flipH="1">
            <a:off x="2501640" y="1384200"/>
            <a:ext cx="8874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4" name="直接连接符 11"/>
          <p:cNvSpPr/>
          <p:nvPr/>
        </p:nvSpPr>
        <p:spPr>
          <a:xfrm flipH="1" flipV="1">
            <a:off x="2035080" y="1856880"/>
            <a:ext cx="1354320" cy="3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5" name="直接连接符 13"/>
          <p:cNvSpPr/>
          <p:nvPr/>
        </p:nvSpPr>
        <p:spPr>
          <a:xfrm flipH="1" flipV="1">
            <a:off x="2501640" y="2557080"/>
            <a:ext cx="887400" cy="4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56" name="直接连接符 19"/>
          <p:cNvSpPr/>
          <p:nvPr/>
        </p:nvSpPr>
        <p:spPr>
          <a:xfrm flipH="1" flipV="1">
            <a:off x="2276280" y="3600000"/>
            <a:ext cx="1112760" cy="3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57" name="Group 31"/>
          <p:cNvGrpSpPr/>
          <p:nvPr/>
        </p:nvGrpSpPr>
        <p:grpSpPr>
          <a:xfrm>
            <a:off x="3357720" y="596880"/>
            <a:ext cx="4206600" cy="463680"/>
            <a:chOff x="3357720" y="596880"/>
            <a:chExt cx="4206600" cy="463680"/>
          </a:xfrm>
        </p:grpSpPr>
        <p:sp>
          <p:nvSpPr>
            <p:cNvPr id="658" name="矩形 75"/>
            <p:cNvSpPr/>
            <p:nvPr/>
          </p:nvSpPr>
          <p:spPr>
            <a:xfrm>
              <a:off x="3357720" y="814320"/>
              <a:ext cx="420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IKEA Sans"/>
                  <a:ea typeface="微软雅黑"/>
                </a:rPr>
                <a:t>用薄而透明的粉底营造健康的肤色，用浅色口红增加自然美感，用棕色眉笔调整眉形，用睫毛膏让眼睛更加有神。越淡雅自然。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grpSp>
          <p:nvGrpSpPr>
            <p:cNvPr id="659" name="Group 33"/>
            <p:cNvGrpSpPr/>
            <p:nvPr/>
          </p:nvGrpSpPr>
          <p:grpSpPr>
            <a:xfrm>
              <a:off x="3458880" y="596880"/>
              <a:ext cx="405000" cy="276480"/>
              <a:chOff x="3458880" y="596880"/>
              <a:chExt cx="405000" cy="276480"/>
            </a:xfrm>
          </p:grpSpPr>
          <p:sp>
            <p:nvSpPr>
              <p:cNvPr id="660" name="矩形 77"/>
              <p:cNvSpPr/>
              <p:nvPr/>
            </p:nvSpPr>
            <p:spPr>
              <a:xfrm>
                <a:off x="3458880" y="641520"/>
                <a:ext cx="405000" cy="180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61" name="TextBox 78"/>
              <p:cNvSpPr/>
              <p:nvPr/>
            </p:nvSpPr>
            <p:spPr>
              <a:xfrm>
                <a:off x="3492360" y="596880"/>
                <a:ext cx="36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IKEA Sans"/>
                    <a:ea typeface="微软雅黑"/>
                  </a:rPr>
                  <a:t>淡妆</a:t>
                </a:r>
                <a:endParaRPr b="0" lang="en-US" sz="12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  <p:sp>
        <p:nvSpPr>
          <p:cNvPr id="662" name="直接连接符 22"/>
          <p:cNvSpPr/>
          <p:nvPr/>
        </p:nvSpPr>
        <p:spPr>
          <a:xfrm flipH="1">
            <a:off x="2097000" y="735120"/>
            <a:ext cx="12924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1211400" y="0"/>
            <a:ext cx="6222960" cy="5040360"/>
            <a:chOff x="1211400" y="0"/>
            <a:chExt cx="6222960" cy="5040360"/>
          </a:xfrm>
        </p:grpSpPr>
        <p:sp>
          <p:nvSpPr>
            <p:cNvPr id="664" name="矩形 4"/>
            <p:cNvSpPr/>
            <p:nvPr/>
          </p:nvSpPr>
          <p:spPr>
            <a:xfrm>
              <a:off x="1697760" y="0"/>
              <a:ext cx="4944240" cy="5356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9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211400" y="1260000"/>
              <a:ext cx="6222960" cy="37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2621160" y="2609640"/>
              <a:ext cx="343044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3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7:50:35Z</dcterms:created>
  <dc:creator>sg</dc:creator>
  <dc:description/>
  <dc:language>en-US</dc:language>
  <cp:lastModifiedBy>a</cp:lastModifiedBy>
  <dcterms:modified xsi:type="dcterms:W3CDTF">2015-01-14T07:51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