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14BF9-5665-4145-B963-4608F22C3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40BD8-2A0E-42ED-80C5-4AFAF847F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BE382-6624-4CE3-B1F9-C82C7526F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FA415-3496-4E86-9C9B-D98216254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9CEEC-3504-46AF-A671-5FA537158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05072-F9CB-4A18-9F05-F043577A8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4433-28AB-4C3D-B1D3-2373A4D3D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FCE7A-F5DC-4D8B-8B36-EC7E978C1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37135-8C4D-484E-AA6F-A1578CD22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E21FF-757F-4678-A02F-C094475CA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F1672-88CF-4EE4-AB36-18B15FC65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250FD-56FE-4D1B-8C37-135A5C340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Free Powerpoint Templates</a:t>
            </a:r>
            <a:endParaRPr b="0" lang="en-US" sz="1800" spc="-1" strike="noStrike">
              <a:solidFill>
                <a:srgbClr val="000000"/>
              </a:solidFill>
              <a:latin typeface="Arial"/>
            </a:endParaRPr>
          </a:p>
        </p:txBody>
      </p:sp>
      <p:pic>
        <p:nvPicPr>
          <p:cNvPr id="1" name="Picture 3" descr=" kjhkiupufgjhrtiyiopm "/>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宋体"/>
              </a:rPr>
              <a:t>Page </a:t>
            </a:r>
            <a:fld id="{9BCEE58A-1D2C-4AB0-A40D-B21D6A2DF52F}" type="slidenum">
              <a:rPr b="1" lang="fr-FR"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377F-FCA4-48B1-A4DD-CC8179BC1F2A}"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E422-2AE6-4167-9E71-8B81738E585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Free Powerpoint Templates</a:t>
            </a:r>
            <a:endParaRPr b="0" lang="en-US" sz="1800" spc="-1" strike="noStrike">
              <a:solidFill>
                <a:srgbClr val="000000"/>
              </a:solidFill>
              <a:latin typeface="Arial"/>
            </a:endParaRPr>
          </a:p>
        </p:txBody>
      </p:sp>
      <p:pic>
        <p:nvPicPr>
          <p:cNvPr id="81" name="Picture 3" descr="kgh kg eryek yu"/>
          <p:cNvPicPr/>
          <p:nvPr/>
        </p:nvPicPr>
        <p:blipFill>
          <a:blip r:embed="rId2"/>
          <a:stretch/>
        </p:blipFill>
        <p:spPr>
          <a:xfrm>
            <a:off x="0" y="0"/>
            <a:ext cx="9144000" cy="6858000"/>
          </a:xfrm>
          <a:prstGeom prst="rect">
            <a:avLst/>
          </a:prstGeom>
          <a:ln w="0">
            <a:noFill/>
          </a:ln>
        </p:spPr>
      </p:pic>
      <p:sp>
        <p:nvSpPr>
          <p:cNvPr id="82" name="Text Box 4"/>
          <p:cNvSpPr/>
          <p:nvPr/>
        </p:nvSpPr>
        <p:spPr>
          <a:xfrm>
            <a:off x="1187280" y="549360"/>
            <a:ext cx="687708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8520" y="40176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755640" y="206064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18120" y="40176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755640" y="206064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12T02:02:09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