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94F-28A1-4702-BDF0-A321AC58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31C-BB7C-4475-850F-431C4BB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23F-6829-4538-8113-1DAA1882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80B-5086-4B3F-B8BC-7F75D7C2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217-7C52-457D-8AAE-B8560D0E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DD27-95E8-4F91-8CCD-F1DF347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3DF5-6E9E-4DF3-98D3-92927C5D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9E06-658B-45F5-9148-6AC55532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C8F-5016-49D1-8834-A304B37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B10E-85DB-4E18-975B-29EDB769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8394-144F-4821-8648-E4930CD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A4E-5AE0-4A42-BFBA-F5B7C07C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F944-220A-4B60-BB15-0B12428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984-2091-4E3B-B8DD-F03F263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101-28AA-4044-AB6F-90D9661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A5C8-B1BA-4C22-AA4F-43B153C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022-CF77-48A9-9B55-B571E301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B176-B78A-47F8-94B1-8DF538B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5998-FEB4-4EFC-859D-7F09137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B2DB-0281-49FF-BF2E-C57CC466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8457-8B14-4C5A-BA1E-C24F4AD9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3F09-155F-4191-BFB7-B7584A4C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427-D46C-423E-92EA-3BF43679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5DD9-7DF5-4B1B-8FB0-7C4D518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6AFF-8F10-4DA2-A698-7C41C6C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2919-4D23-4F3D-90D4-2C07A3BF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1A06-8281-4F85-B3F9-6B81899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BEB5-59F5-47BC-9887-B3AFDC33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0A70-18CB-4057-AEF7-53CB71D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4682-3F59-4211-963E-AD1EE8F5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3D6-2B0A-4470-8BF4-5722D7E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6CA-EF38-44A9-BDD3-B77B1962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D3A-7889-4D8A-9996-19F5D14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CD8-C9C2-4B5B-A014-D6341CA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7F6-23FE-4BED-925F-6531AA1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E82-551B-4860-8DAE-AB78B48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4AD0-0DF5-48AE-8D86-9092C2B8A81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FB62-0B9D-4A6B-93B9-E4C0EC7E26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302-72BA-4483-BF12-B85139A06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0F12-6F62-4CB7-AD11-A22614D0AD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572000" y="126828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邯郸体-韩绍杰邯郸体"/>
              </a:rPr>
              <a:t>奋斗、进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804000" y="256860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马之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57280" y="1622520"/>
            <a:ext cx="718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马在中华民族的文化中地位极高，具有一系列的象征和寓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龙马精神是中华民族自古以来所崇尚的奋斗不止、自强不息的进取、向上的民族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  <a:ea typeface="楷体"/>
              </a:rPr>
              <a:t>马是能力、圣贤、人才、有作为的象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36680" y="450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00000" y="1666800"/>
            <a:ext cx="7128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马有着神采骏逸的形象，潇洒昂扬的身姿。马是是刚健、明亮、热烈、高昂、升腾、饱满、昌盛、发达的代名词。《易经》中干脆说：“乾为马”，它是天的象征，又代表着君王、父亲、大人、君子、祖考、金玉、敬畏、威严、健康、善良、远大、原始、生生不息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132000" y="4935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482920" y="533520"/>
            <a:ext cx="50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820880"/>
            <a:ext cx="8209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希望每个人都能拥有马之精神，积极进取、为梦想奋斗，用饱满的热情去实现自己价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祝大家都能马到成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500720" y="2709720"/>
            <a:ext cx="395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邯郸体-韩绍杰邯郸体"/>
                <a:ea typeface="邯郸体-韩绍杰邯郸体"/>
              </a:rPr>
              <a:t>谢谢欣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2T02:45:43Z</dcterms:modified>
  <cp:revision>1</cp:revision>
  <dc:subject/>
  <dc:title>PowerPoint 演示文稿</dc:title>
</cp:coreProperties>
</file>