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413-7A37-47FB-A909-C24C91D0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9EE-A4B2-4D6C-B898-DC393113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DE1-EB23-4550-92FB-9B24CF28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B16-23D8-4BC9-B121-2CD4333BE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CEB1-D016-462F-9386-CDE2C93A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A1981-054D-4D9C-9369-499E8900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64E5-076E-4342-82B5-B78CA3AB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E389-C6F5-43FA-91AF-4C9BC393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1205-1CC6-488C-BDE9-9F3C547C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F4B8-B246-4060-83BF-060C89B9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5A15-C9F6-4081-B747-4E0BEA4D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A58-D136-4DF3-AA4B-320395A9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4183-1412-453D-97E5-DED2A788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1AFC-E6A2-4977-822E-20B53FEA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DFCC-6C77-4F40-9D06-D877F622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A2081-EF94-4A67-B0F7-7C89054A1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0892-5E13-4221-8920-995E14203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2342-E47C-4044-8CCE-E4C174AA9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6B8B-0ADF-4590-823C-A9C2ADCC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E26A-1C5A-4BA1-B1BA-F3860B14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E747-7BBD-41BF-9150-35855D89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31E-4A18-40B6-9D75-31E52DA9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CF7A-8775-48FA-94F9-C1A9C89B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26D-F1BD-4016-AD7D-961304B6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738F-A3E1-42FD-B390-CE480AA927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3B22-3406-47AD-9F91-9133CFF191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A5109-0963-4C33-9679-185B6037CD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555954066347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"/>
              </a:rPr>
              <a:t>论文题目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97164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      </a:t>
            </a: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答辩学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指导老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111111"/>
                </a:solidFill>
                <a:latin typeface="微软雅黑"/>
                <a:ea typeface="微软雅黑"/>
              </a:rPr>
              <a:t>所属专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fc8c8904-ab09-40a4-b2eb-dcb05a4254d9"/>
          <p:cNvPicPr/>
          <p:nvPr/>
        </p:nvPicPr>
        <p:blipFill>
          <a:blip r:embed="rId2"/>
          <a:stretch/>
        </p:blipFill>
        <p:spPr>
          <a:xfrm>
            <a:off x="324000" y="5734080"/>
            <a:ext cx="71424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p_large_63VX_25090013e9b35c43"/>
          <p:cNvPicPr/>
          <p:nvPr/>
        </p:nvPicPr>
        <p:blipFill>
          <a:blip r:embed="rId3"/>
          <a:stretch/>
        </p:blipFill>
        <p:spPr>
          <a:xfrm>
            <a:off x="1042920" y="5805360"/>
            <a:ext cx="2089080" cy="4111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1763640" y="61657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届本科生论文答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致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4920" y="1413000"/>
            <a:ext cx="68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4211640" y="587700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4555954066347副本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547640" y="3357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Thanks</a:t>
            </a:r>
            <a:r>
              <a:rPr b="1" lang="zh-CN" sz="66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研究概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59280" y="1628640"/>
            <a:ext cx="4176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背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论文结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调查对象与方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5928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对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研究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据处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调查对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2276640"/>
            <a:ext cx="7570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微软雅黑"/>
              </a:rPr>
              <a:t>研究方法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43280" y="23320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数据处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885680" y="1915920"/>
            <a:ext cx="54226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调查结果与结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"/>
              </a:rPr>
              <a:t>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428472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讨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31640" y="2332080"/>
            <a:ext cx="8507160" cy="21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421164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p_large_m1N9_7e0700002d682d12副本副本副本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微软雅黑"/>
              </a:rPr>
              <a:t>建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00000" y="1341360"/>
            <a:ext cx="73436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yezi_副本"/>
          <p:cNvPicPr/>
          <p:nvPr/>
        </p:nvPicPr>
        <p:blipFill>
          <a:blip r:embed="rId2"/>
          <a:stretch/>
        </p:blipFill>
        <p:spPr>
          <a:xfrm rot="1824000">
            <a:off x="4211640" y="5734080"/>
            <a:ext cx="784080" cy="8906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4211640" y="5950080"/>
            <a:ext cx="93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4:24:37Z</dcterms:created>
  <dc:creator>JIAGE</dc:creator>
  <dc:description/>
  <cp:keywords/>
  <dc:language>en-US</dc:language>
  <cp:lastModifiedBy>a</cp:lastModifiedBy>
  <dcterms:modified xsi:type="dcterms:W3CDTF">2014-05-31T02:18:17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