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786-D6F4-437C-B210-40AD4DB6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5A3-EEA0-4E70-8AB8-F88311EA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BBD-B8D1-4FB8-9529-34F343D7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22E-90C3-45C4-99FE-BC81989C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ACC-EA34-423C-BCFD-73F40F94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201D-2D40-44A3-8A7D-7B9F1E87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76E5-CD6F-4979-B886-EA9ABF91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290-9072-4DEA-B42F-EBE31CF6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97DC-E7EA-48A5-8DA7-5A3B4D7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FEBB-58B2-4F4F-80FF-57B7489C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1FD7-C34D-4424-B336-1784397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1DA-89AD-43A9-A362-8C5BB79F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F47D-9DC2-47A5-B037-6016DA8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6939-CB81-416E-9FB3-DE1B6D5E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58D3-E652-43EB-AA24-03CB417C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1998-0AA5-43D5-A6F2-58362B28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37B1-7911-480F-AD32-921EB238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C44-D92A-48ED-B6CD-A676B96B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596-3A0D-4E83-92CF-0B8C79D3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72A-263A-4CDF-B9D0-3C9B5163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E35-B4B1-41B9-AA31-DFD08F8E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49C-076C-4108-BE57-15DFF90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499-9B74-4717-BE65-AF146E40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F43-B819-4C39-9845-4631D80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9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7E7-C10C-4879-88E3-049A4E4EB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941C-DB65-415E-A135-4D5B3222E8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973E-FD26-4DDA-A45D-7D00FBC92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56000" y="1557360"/>
            <a:ext cx="3816360" cy="381636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 rot="2700000">
            <a:off x="757080" y="635040"/>
            <a:ext cx="2547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7440000">
            <a:off x="4282560" y="407520"/>
            <a:ext cx="17946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 rot="20340000">
            <a:off x="6373800" y="4020840"/>
            <a:ext cx="1181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 rot="4800000">
            <a:off x="4866480" y="379620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39600" y="3139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你快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8520" y="213372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其实很简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只是你习惯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所以不觉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2987640" y="1917720"/>
            <a:ext cx="2881440" cy="287964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558960" y="2060640"/>
            <a:ext cx="166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20720" y="1808280"/>
            <a:ext cx="720720" cy="720720"/>
            <a:chOff x="1620720" y="1808280"/>
            <a:chExt cx="720720" cy="720720"/>
          </a:xfrm>
        </p:grpSpPr>
        <p:sp>
          <p:nvSpPr>
            <p:cNvPr id="89" name="Rectangle 3"/>
            <p:cNvSpPr/>
            <p:nvPr/>
          </p:nvSpPr>
          <p:spPr>
            <a:xfrm>
              <a:off x="1620720" y="180828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1710000" y="189828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1620720" y="2997360"/>
            <a:ext cx="720720" cy="720720"/>
            <a:chOff x="1620720" y="2997360"/>
            <a:chExt cx="720720" cy="720720"/>
          </a:xfrm>
        </p:grpSpPr>
        <p:sp>
          <p:nvSpPr>
            <p:cNvPr id="92" name="Rectangle 6"/>
            <p:cNvSpPr/>
            <p:nvPr/>
          </p:nvSpPr>
          <p:spPr>
            <a:xfrm>
              <a:off x="1620720" y="299736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710000" y="308736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1620720" y="4184640"/>
            <a:ext cx="720720" cy="720720"/>
            <a:chOff x="1620720" y="4184640"/>
            <a:chExt cx="720720" cy="720720"/>
          </a:xfrm>
        </p:grpSpPr>
        <p:sp>
          <p:nvSpPr>
            <p:cNvPr id="95" name="Rectangle 9"/>
            <p:cNvSpPr/>
            <p:nvPr/>
          </p:nvSpPr>
          <p:spPr>
            <a:xfrm>
              <a:off x="1620720" y="418464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1710000" y="427464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1620720" y="5372280"/>
            <a:ext cx="720720" cy="720720"/>
            <a:chOff x="1620720" y="5372280"/>
            <a:chExt cx="720720" cy="720720"/>
          </a:xfrm>
        </p:grpSpPr>
        <p:sp>
          <p:nvSpPr>
            <p:cNvPr id="98" name="Rectangle 12"/>
            <p:cNvSpPr/>
            <p:nvPr/>
          </p:nvSpPr>
          <p:spPr>
            <a:xfrm>
              <a:off x="1620720" y="537228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1710000" y="546228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2197080" y="404640"/>
            <a:ext cx="287280" cy="10796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1835280" y="404640"/>
            <a:ext cx="1440" cy="10814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>
            <a:off x="1961640" y="404640"/>
            <a:ext cx="1800" cy="107964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212400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 flipH="1">
            <a:off x="2556000" y="404640"/>
            <a:ext cx="144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270036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658800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6730560" y="404640"/>
            <a:ext cx="1800" cy="107964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6877080" y="404640"/>
            <a:ext cx="0" cy="107964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H="1">
            <a:off x="7020000" y="404640"/>
            <a:ext cx="144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 flipH="1">
            <a:off x="7164360" y="404640"/>
            <a:ext cx="1440" cy="107964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730872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667680" y="333360"/>
            <a:ext cx="184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66"/>
                </a:solidFill>
                <a:latin typeface="Arial"/>
                <a:ea typeface="微软雅黑"/>
              </a:rPr>
              <a:t>目  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7" descr="未标题-1"/>
          <p:cNvPicPr/>
          <p:nvPr/>
        </p:nvPicPr>
        <p:blipFill>
          <a:blip r:embed="rId1"/>
          <a:stretch/>
        </p:blipFill>
        <p:spPr>
          <a:xfrm>
            <a:off x="1697040" y="1628640"/>
            <a:ext cx="785880" cy="84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未标题-1"/>
          <p:cNvPicPr/>
          <p:nvPr/>
        </p:nvPicPr>
        <p:blipFill>
          <a:blip r:embed="rId2"/>
          <a:stretch/>
        </p:blipFill>
        <p:spPr>
          <a:xfrm>
            <a:off x="1692360" y="2798640"/>
            <a:ext cx="784080" cy="84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未标题-1"/>
          <p:cNvPicPr/>
          <p:nvPr/>
        </p:nvPicPr>
        <p:blipFill>
          <a:blip r:embed="rId3"/>
          <a:stretch/>
        </p:blipFill>
        <p:spPr>
          <a:xfrm>
            <a:off x="1692360" y="4022640"/>
            <a:ext cx="784080" cy="8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0" descr="未标题-1"/>
          <p:cNvPicPr/>
          <p:nvPr/>
        </p:nvPicPr>
        <p:blipFill>
          <a:blip r:embed="rId4"/>
          <a:stretch/>
        </p:blipFill>
        <p:spPr>
          <a:xfrm>
            <a:off x="1692360" y="5248440"/>
            <a:ext cx="784080" cy="84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1"/>
          <p:cNvSpPr/>
          <p:nvPr/>
        </p:nvSpPr>
        <p:spPr>
          <a:xfrm>
            <a:off x="4462920" y="177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4462920" y="2997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4716720" y="4168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种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3903840" y="537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其实很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125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1763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890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205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248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2626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651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6659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6804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694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709308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23600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258800" y="3068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900160" y="2492280"/>
            <a:ext cx="318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一首自己百听不厌的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可以让你很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125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763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890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205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48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 flipH="1">
            <a:off x="2626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651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6659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H="1">
            <a:off x="6804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694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709308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723600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258800" y="3068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33680" y="2492280"/>
            <a:ext cx="318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独自一人吟诗作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可以让你很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909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1547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674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 flipH="1">
            <a:off x="183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26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2410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H="1">
            <a:off x="673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6875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7020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716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30872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745164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225320" y="3068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种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728080" y="2492280"/>
            <a:ext cx="353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每个周末可以睡到自然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也是一种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909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1547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674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H="1">
            <a:off x="183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226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H="1">
            <a:off x="2410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673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6875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7020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716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730872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45164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412440" y="3068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其实很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9T07:06:57Z</dcterms:modified>
  <cp:revision>1</cp:revision>
  <dc:subject/>
  <dc:title>PowerPoint 演示文稿</dc:title>
</cp:coreProperties>
</file>