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6A7AB-1531-496F-89AE-577B0CBC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44B62-007C-48B9-9902-013AB6DA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DE968-E7B2-47F0-BF14-B6F76563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2FBF3-6546-4EB8-B796-3D58D582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E4481-E95B-4952-ACB3-E0CD6747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93E77-93D6-4F6C-A064-0A6A53BF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1400A-8CA5-497A-AB3A-9C695D59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AAF5F-09E5-46EB-8C9D-E9862790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48030-21D4-4725-ABE6-F17E5186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55580-DD91-4FA6-A6C2-5BB3D038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7791F-8581-4179-8C7A-5A19CFEF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D67E6-F486-43DA-862F-79B8F873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0D0D3-D7EA-4446-A93A-6B3CE076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101FE-0CFE-4E7B-8E30-BC4B8BD5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83E67-F4AA-4A39-ABAC-230DECA7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0AC18-8DF3-4183-9C8D-D4A32396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7FEA7-CD56-4A77-B134-33F55C55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064A4-885A-4FAA-85EF-B24F3103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9DEB3-189F-4DA7-AFBF-B03C6160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5BB3D-D1FD-40C4-A526-456A7576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9B52F-AF01-417A-861E-3BC547D6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C973E-F5D6-4E2A-ACE9-63D77AB8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75503-AE76-4385-80E2-1D4574F4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B6563-D27E-4DE7-ACC1-9294CF7F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9810A-A7C8-46BF-A8A8-82BFDE6D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8B74D-FA02-4B7E-9B6A-003D0E53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7E81E-CAFE-424E-949E-8C7F3C14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FEB77-30D9-4BD3-BE02-1DE68BFB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FFDA0-558F-499E-AC0C-DEFCF8EE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5330D-902F-409D-AEDB-CF2BC4CC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BE8-7A09-47A1-B39D-6801C3C9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6B1DC-8162-4477-80D5-0FAD7C09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B0C2E-9294-4978-93BC-88CDC085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8F410-A576-4EF9-95A3-7B647E37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FD9DF-8460-4F08-A980-B12FF391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4D7DA-36D5-4FC2-80D4-D882E0CD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118BD-E114-4C89-B706-E3BAFB2A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B1D34-5DEB-4467-995C-08972BA4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D1B13-0721-4499-B843-2E5058DD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3D587-E2E0-4007-8399-0CCB24BF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BBA9D-FDE6-49A4-BE01-B33E3F9B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1D6-B8F3-4954-BA37-35F52F4B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07B17-35D2-4352-A9A9-7EACAD56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7B587-321B-48A6-95E7-304C6528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4F3D4-43C0-4918-BB5C-0BC2A990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4F803-A353-480B-BA49-4AE079BF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9B222-655A-4566-9237-F9AEA146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6EE98-523A-47C5-8535-1DE729D7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F8F4E-24BE-4B1C-80FF-07D3AC53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BD49C-EED6-48EF-BB22-98CCB416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0DFE5-6EBF-4A72-B4D7-F8405CBE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02179-A724-42F3-AB10-D258E941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318-CC27-49D8-ADCE-C307EFF1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7EE5C-EE1E-409B-8846-CD1D6FB1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F8DC1-3ED6-426A-9AC2-CD8D1718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6AB7B-56E7-47A4-9D52-9A278811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7C28F-128B-4926-812E-9E6697B2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9B999-16E9-4DA7-8643-21C1514E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7B6C2-6F49-41FE-80A2-F9617D8B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93AA7-F6F6-4A08-A850-0154CF42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1F1B7-3393-4409-A15C-47125006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55B09-DC7B-4001-89F0-87B1721E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2F289-21CE-45EB-BDB3-C4B07551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DCE-CECC-4DAA-9013-CAA59C8D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EAAA4-03FA-4445-8810-6FE40565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6FD2D-B566-4FB7-A942-D0ECB6DF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AC4E4-A5F7-4F33-A382-32F800D7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E5D08-7019-4E49-B440-807A87C4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D3F42-0AF5-4B72-87D7-B7466CCA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9745E-AADB-4863-9622-02DE1437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78E59-27A2-4BDB-AC15-9B99EFFD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CFB3C-7AF1-422A-8662-34770337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E59CE-A071-45C1-8114-8D5850A0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70B1E-52F7-4AC6-B271-67B803D0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052-6ADA-400F-B2DC-3E024B2F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5A8ED-CB15-49DF-A706-2E5EABC9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32BF63-C49B-4878-9C52-1318A886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8F29A-A5C7-4AC2-93A2-CD873C24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CC9C4-FBDF-4473-B177-5440F1F5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2D1E1-6414-4AB3-8421-FE9A21F0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B2661-AF0D-4D65-BE36-CA972573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9BBE3-2F2F-411F-BF76-CC7413E8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8EED8-8CA8-45FC-93FB-45E8F41C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D4FA7-7F85-4D65-8F63-1159100A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E99C1-F7D1-4F7C-9EDA-01F57330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322-AB26-4143-AA5F-FB6D0102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5AE8F-8134-47B7-8E01-4A29CF19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1DB-64A4-44D8-A602-A6F151C7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6E9-F982-4398-B724-83B5A76B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6BB-FFD1-456A-B1D0-CA2C548B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694-9065-4ACE-97CA-4495D615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6B3-DDEF-4EE1-8789-99B55E2F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EE8-C4CC-4C0F-83F0-F8BA1814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BD2C-698A-46C6-AA9B-EFCF7B63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D0C3-7263-422E-96FF-18DB5EDE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60A4-CAF5-495D-A066-7C1378BE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DD55-9BC1-4DEF-B000-6C354512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88A7-BDEE-4622-8A3E-D63CD59B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D8C8-9F8F-4CE1-8438-3C6F8AD1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2869-12B5-4CA9-A110-567F9946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8F3C-71F8-434F-ABDF-3D7E40A4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1575-B431-4DDC-B59A-E672046D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2289-ED07-4D53-8331-A0F1905A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F8F1-E042-4E9B-9EDE-51AC97CC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43A0-A0AA-471A-99BD-0EEEAE74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EFCF1-57CC-4E1B-B9D3-6C1427C6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048C3-EF4D-455F-A5E2-3D5B086D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5595B-9823-4472-9AD0-C0FBA82B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158F8-98E6-4761-AAF5-26001DFF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FADD5-D7B9-42A9-A8C4-329D3D53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9DC8-EB32-4571-AEB0-C86CA54B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226B6-A9AA-453B-BBB4-580C85E9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09F8F-EA70-4C60-A425-F28FD220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223D1-9F84-4410-A1B3-DD410880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54C2E-C557-4BEB-A901-AD16EC03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73787-543A-4266-A2ED-6565D14F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BFD5-235B-4E65-891E-45DC786C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C2973-602D-435F-8EFF-1102FC5F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FFC5A-9AA2-4304-9BC2-FFF10FE2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76148-C3BB-4395-B610-05B0C7C7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90AA7-CB37-431D-B408-B21A8C62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807E1-F64A-4D75-8C7E-3AAE86B1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6B0EA-D796-4F10-B4DC-2C2424A4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5C46E-4FB5-4FB8-ABFC-0A60FA13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6A7D1-512C-4BB1-86C4-A3B547F5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21DE5-1976-4EC6-91B4-3448F864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16FE5-436B-4826-AEBB-B95B5B4D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DC70B-444C-4945-9AA0-A2092F1A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D18F4-A4DB-4840-870A-02D25BFB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2B904-8A77-4746-A9D1-D10EC576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24ECE-F9B2-4453-B664-F09F31D7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BDB73-CBA4-4532-914F-04E7691A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A6525-B430-44B9-8464-5A2A6E15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382EA-3637-4D44-97DC-C4E9796E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6803D-8665-4B57-8E8E-F621E970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7C86B-2CF6-49D2-AEBE-9D58EB8B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F9CC2-98B7-4F32-BA3C-B71B74E9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B9FC6-C7A6-4D7C-96B8-9A81804C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72954-C3DF-4E04-AA99-C8B49819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0CBD6-8032-4536-BBA6-CE01E244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DFEC0-F450-4D85-B993-E6FF5943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85BC7-306D-461A-908E-526D5DAE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A420C-CADB-4B74-B397-5CAA7CA0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B6946-8EFC-4FBF-AD91-E5B1FBD8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216C0-E386-451E-B18B-9FAADBA9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D039F-CC41-49A1-9F9E-6FDD2471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42ADF-9995-4605-AF24-7D4C58A8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17DC3-7FD7-4A2E-926D-8E7EDA87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96E40-39F7-40A8-A971-FDA7A001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44B5D-CB75-45AC-A20E-232218FD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7CC7F-B62B-40F4-B903-72DDC8CD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B6922-767B-408A-8E3B-6E131809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05B92-530B-47D9-86C2-8FE7E31A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3FF94-A9D7-4C50-8112-38EA0536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ED268-F98D-4759-AA56-ED48BE5B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AE941-D80C-435B-8E32-03FEB5E9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E43B-C775-4490-A95C-DB7D9746AFE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9706-99E4-4012-9710-38E8AE2461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EBDA-7976-48F7-A749-3DB77FAE29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95EE-74C5-4D09-AAF7-A21683DDEB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9F18-47FD-425A-A1A9-46D18706B0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5012-773D-410A-975C-D0978F9393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81B3-2BE1-4817-8D06-AD2002690A5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06A9-667B-42D9-83EE-96C63E8BF6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3614-2748-4D43-9373-BCBAB5F908A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8282-FADD-4711-A3A5-ADC9AE7B2F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9F42-9C1F-446D-8C09-F862BBE00C1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8A5D-F0A8-4CBF-B4A0-7E59A1F67E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25D4-A5F0-4922-A493-863015B22B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0818-9684-4D11-8381-A736610233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6215-3229-4030-B4CB-A0D6A1CD09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7825-E1E5-4435-B7E2-DB423483914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25F7-8978-4B2E-B996-CA7D5315B6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69D2-1E78-4110-968A-243E28B3448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2972-4F44-4342-8E62-54F21D6352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B6ED-C71B-45DD-BB9F-985035B1BF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24B8-27F3-4FD6-ADA2-83618FA7E8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8803-B2BE-495B-A35E-EF43CB7A230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F623-A42C-4E5D-B012-C91A96F7F5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C94E-65D8-44EF-B29E-651A25900F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EB55-A8C1-4D60-952C-5C59170DF4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561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2376360"/>
            <a:ext cx="462456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95280" y="14860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/>
  <dc:description/>
  <cp:keywords/>
  <dc:language>en-US</dc:language>
  <cp:lastModifiedBy>a</cp:lastModifiedBy>
  <dcterms:modified xsi:type="dcterms:W3CDTF">2014-08-04T02:38:48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