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BF5-7BB1-4C68-AF77-F1B024A6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0C64-F465-4B67-B1D2-CED93F8D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964-98A5-4A91-B361-DE497195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8376-C655-40C5-A3AF-88EE9057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642D-19AF-4D79-86AD-761AFE12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689E-137F-42CC-B332-ADE0FBB4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C16A-6501-43D5-8C0E-9506A4F9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CCDF-55FE-4C1A-95C4-C1319352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A8CC-43EB-4508-AE3C-88D1F299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74ED-06C4-4594-8F29-B727E358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C8D7-3D7D-4FD9-A4FF-AB828E9B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D9B-98FD-4A6B-BB76-5FC898D9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D25D-3465-458E-B50E-CA330C3F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AB2B-9A75-4FD7-A894-ECE90F43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8AD5-C8FF-47D0-BA9C-ABE575CA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CB92-31CF-4AE6-8B04-7396A409C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F93D-D104-4071-8217-765F8036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2CE44-BBAF-4951-9AF7-956EF9CB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E3BC-FAA6-483E-AB4F-EADB618B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85624-1217-4DD5-8707-EEE2DE59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0380-AE2D-40E7-AD7F-3DF05968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617AA-3A8E-407E-A13E-64B253DD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B56-3DFE-4AA3-8736-51CAD26E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B91B3-86A5-4C62-B3EC-1E03502E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F9524-9296-458B-9595-716EFC9B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2703-DE6F-4500-A48C-816E7FA9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1C12E-5CD6-41F5-AA45-264A99EA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4D51D-2BC5-4880-B1AB-48E848CD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B4395-F6FF-4944-B14D-B36CEF1F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24DA7-ECC4-496D-82CF-95E9B408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5AC9-562F-4E1D-BB55-578BC536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CCC-B066-49DB-AF64-22F6CFAF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231-AD58-4E73-93B0-7EC2F805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857-2125-4167-B383-43D86B6E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566-3B29-464F-8188-4645549E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798-FC18-4DEA-991B-C03BB46A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5602-9024-4BEF-B1FD-7A70F98176BC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CFCC-1B88-4939-AEEF-59A095D2C5A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056E-2A94-4604-83E8-940D49A4F8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974F-5E42-4C44-85B9-9ED8E5E489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1440" y="0"/>
            <a:ext cx="918072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"/>
          <p:cNvPicPr/>
          <p:nvPr/>
        </p:nvPicPr>
        <p:blipFill>
          <a:blip r:embed="rId1"/>
          <a:stretch/>
        </p:blipFill>
        <p:spPr>
          <a:xfrm>
            <a:off x="1440" y="-19080"/>
            <a:ext cx="9180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3"/>
          <p:cNvPicPr/>
          <p:nvPr/>
        </p:nvPicPr>
        <p:blipFill>
          <a:blip r:embed="rId1"/>
          <a:stretch/>
        </p:blipFill>
        <p:spPr>
          <a:xfrm>
            <a:off x="-27000" y="-19080"/>
            <a:ext cx="9352080" cy="70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4"/>
          <p:cNvPicPr/>
          <p:nvPr/>
        </p:nvPicPr>
        <p:blipFill>
          <a:blip r:embed="rId1"/>
          <a:stretch/>
        </p:blipFill>
        <p:spPr>
          <a:xfrm>
            <a:off x="-28440" y="-19080"/>
            <a:ext cx="92088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5"/>
          <p:cNvPicPr/>
          <p:nvPr/>
        </p:nvPicPr>
        <p:blipFill>
          <a:blip r:embed="rId1"/>
          <a:stretch/>
        </p:blipFill>
        <p:spPr>
          <a:xfrm>
            <a:off x="1440" y="-19080"/>
            <a:ext cx="9180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8T10:31:01Z</dcterms:modified>
  <cp:revision>1</cp:revision>
  <dc:subject/>
  <dc:title>PowerPoint 演示文稿</dc:title>
</cp:coreProperties>
</file>