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B2148-C864-49D3-95A9-A7D62B07E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A6771-E0B3-4F49-9161-861984469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D605A-C369-4E56-8638-53CAE3015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7B17E-434B-4F7E-A4E4-DEE1A2625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610E5-9D22-4700-94DC-FACF41438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4BBD4-8CC6-4062-8D2E-61192D2D0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043EE-E239-4DBA-B77D-A58E0781A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8511E-59E4-41A8-80C9-0EE83267E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A300C-0374-4BA0-ACC7-FA2ACC9C4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9C789-6BD4-4B2C-87DC-CCF2DD6D5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7E7D0-04F6-4BEF-A6E4-143FBE44A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E6660-D7F9-49D0-9C71-860491B64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ImageImzaroipioggfdaningdiezage11"/>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03D776BE-2B69-453F-89F8-E593C9BD87F8}"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F759-F8E8-405F-9474-D368A9B7FBB7}"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F2F7-43FB-4B9A-8C98-A58CB313C13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Imzaroipioggfdaningdiezage1"/>
          <p:cNvPicPr/>
          <p:nvPr/>
        </p:nvPicPr>
        <p:blipFill>
          <a:blip r:embed="rId1"/>
          <a:stretch/>
        </p:blipFill>
        <p:spPr>
          <a:xfrm>
            <a:off x="0" y="0"/>
            <a:ext cx="9144000" cy="6858000"/>
          </a:xfrm>
          <a:prstGeom prst="rect">
            <a:avLst/>
          </a:prstGeom>
          <a:ln w="0">
            <a:noFill/>
          </a:ln>
        </p:spPr>
      </p:pic>
      <p:sp>
        <p:nvSpPr>
          <p:cNvPr id="80" name="Text Box 3"/>
          <p:cNvSpPr/>
          <p:nvPr/>
        </p:nvSpPr>
        <p:spPr>
          <a:xfrm>
            <a:off x="922320" y="404640"/>
            <a:ext cx="5851440" cy="155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433800" y="11268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Verdana"/>
                <a:ea typeface="宋体"/>
              </a:rPr>
              <a:t>First Page :</a:t>
            </a:r>
            <a:endParaRPr b="0" lang="en-US" sz="3200" spc="-1" strike="noStrike">
              <a:solidFill>
                <a:srgbClr val="000000"/>
              </a:solidFill>
              <a:latin typeface="Arial"/>
            </a:endParaRPr>
          </a:p>
        </p:txBody>
      </p:sp>
      <p:sp>
        <p:nvSpPr>
          <p:cNvPr id="82" name="Text Box 3"/>
          <p:cNvSpPr/>
          <p:nvPr/>
        </p:nvSpPr>
        <p:spPr>
          <a:xfrm>
            <a:off x="1042920" y="836640"/>
            <a:ext cx="7345440" cy="417672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occaecat cupidatat non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proident, sunt in culpa qui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officia deserunt mollit anim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73760" y="11268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Verdana"/>
                <a:ea typeface="宋体"/>
              </a:rPr>
              <a:t>Second Page :</a:t>
            </a:r>
            <a:endParaRPr b="0" lang="en-US" sz="3200" spc="-1" strike="noStrike">
              <a:solidFill>
                <a:srgbClr val="000000"/>
              </a:solidFill>
              <a:latin typeface="Arial"/>
            </a:endParaRPr>
          </a:p>
        </p:txBody>
      </p:sp>
      <p:sp>
        <p:nvSpPr>
          <p:cNvPr id="84" name="Text Box 3"/>
          <p:cNvSpPr/>
          <p:nvPr/>
        </p:nvSpPr>
        <p:spPr>
          <a:xfrm>
            <a:off x="1042920" y="836640"/>
            <a:ext cx="7345440" cy="417672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occaecat cupidatat non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proident, sunt in culpa qui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officia deserunt mollit anim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8-12T02:01:38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