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E1409-4956-4307-8D4F-69B0AE30D2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5CED60-E03C-4889-A46E-8F66E7E2E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15EECE-ECE3-4819-990C-58C946ABEE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3156C-1477-4AA5-B3DD-4769FC548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71CED3-6A09-4200-BD1E-9FD2344BAA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80E0C9-168C-47EF-9C9F-A387DA7D65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810B90-E7DF-4F62-ACD2-093C681895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A65251-5AA3-4F79-A341-6657166375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F147FE-C089-40A6-B34B-81C2021252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B1032C-8BFC-4A53-ABC9-3754BBDCE0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F55448-C031-4AA5-82DA-31DBE28C51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3EC4E4-1AAB-4CB2-961C-628924C4BF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E9EAB1-21BE-440A-B9AB-77D6F23DFB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000B70-2B8F-4BDB-957E-CE98AFB49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77EC09-1131-49B2-8DB4-96028FFA5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1CDB2A-47C0-46C6-9394-DFD0CAED96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05FE09-333D-4732-87AF-A5DD353729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4D674-B0B5-4B69-9AB5-396D04E18D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680D40-DB2C-426A-9C70-5FEBF81D92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03106C-E6F3-4C8A-9556-DD99A7B896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1617DC-327C-4CB9-BCDD-B0681E745A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0EDA2C-31BD-4E19-BFAA-EE9C6EE24F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D104BF-2812-4BAB-8C99-4FD00379E2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D97195-8780-4AB7-AB34-A476E2339C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FCD752-1DB7-404A-B3C8-2046F5E239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35462A-1703-441D-9ED6-EF50F5C436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C1DE48-1D70-4293-8B35-0A9984ABBE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2A58C-901B-4811-96C5-55B65FD847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1B742F-175B-49BA-A67E-186112E845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21B6E-00FE-4D51-AF8A-09FBED0B5B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E0F79-F9C6-4BC3-B926-98CC0E1E5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9CE48F-2209-4DC7-BE8C-15A3179AC7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0EBDF9-3932-487A-B8EC-DA6F4DD75A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C86FE5-CEBA-4D91-9C28-253FE2D854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18D946-3511-4616-9A5E-94D2E209A6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A382CF-D3CD-4B37-B4F9-718514D741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3ACA56-B6ED-4FF9-A8E1-F87BB27ACC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68ADEC-ED6C-49A1-AEC9-0A64DF7AAE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38A93C-2EF8-47B9-AAFE-A33C07130D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C5DB4B-D81A-4437-9E89-8DBC8ADCE2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EA63BD-3CAC-4086-8D13-F1C184563B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A4580-0209-4FED-A390-5D2075F44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484A35-14FE-4B6A-86D1-5140DBAB63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3AF8D4-EDF3-42CD-96E6-E84577DC1A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49F3B2-9338-4FD6-BFDC-050F48CBE1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8B7B90-B145-4283-9001-53462B248B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1915AD-DCA5-4C9D-8A53-F92FD1F98F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95F1DA-C444-4C2E-90DC-A1DC2D8F7A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16E66A-7C0F-4BC6-ABEB-3DB6A4D49D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EA32CC-D0D1-44D7-93E2-DC46F49F0D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77B951-857F-4B19-8751-B2CB1A6444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16601A-9B96-46F4-A7A9-97E0F1739C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CED43-9544-492A-83F0-19CE6C6E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E95AA6-0AE2-4448-9ED6-E65A304868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A041F1-94F4-4077-880F-FDC703A86A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156C9C-2F97-4069-B74D-843E5D03EE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F74A34-47BF-4AA7-A19B-7D030134D7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52F46D-638A-4A3A-893C-A71274460F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07BF55-FDBA-4A41-87E3-4601886DA1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2FE2D3-1984-4B70-962E-BAB3A4BE16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7EF156-FED5-46CF-BFDC-773BE5737B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06E3EB-AB9D-4E0F-B4E3-78E05EB792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E6A031-29ED-4C21-9B93-4CD971119B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EA36E-5A9E-4873-B33C-F20C4FDF4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F5A007-B555-4C62-98C5-5CF6EDCF02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65E121-47E4-41CF-AC5C-4CD10CC454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CD3E36-0BFE-4D77-970A-99DF03C83B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55ADC6-10B8-4ABA-8D11-D4A8D48BBE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AB881A-7FD6-4076-AEDB-92AB59ABE5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A9D85D-5C3D-4477-9910-9B34A315EB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E07336-0F6B-49B8-BE96-A1635FD702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5223EA-0782-4CB9-80CC-A263C89C0F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0C1DD5-FBE2-42F3-ADB1-DAB8090AFFF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0E545-627E-4C44-A105-16E86F78A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5874A-6CFB-49DD-AE54-FE9E1F7FB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35ABE-F780-47AE-A095-984D0C80C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61C7-D153-411F-B7D7-0451813E2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1185-F83C-48DA-B7CF-A05F9066F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DC753-A47D-408B-93B0-1222A2169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53E3F-880C-4734-890F-D7AE1E3D8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65053-DE55-444F-B1AF-4C41F05E7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05251-7244-45FA-B6D3-0631DA847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77BA4-A059-4C37-B3E6-8644903C5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3BD48-AFA2-434E-AB3D-34057D214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48330-7AA5-41E5-902F-EE5E4A631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9E353-C712-436A-8B2B-4A312CF7B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78517-E8D9-4F13-A155-06D3AFA42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2DD9B-9F5F-4F60-BC5C-446C5C4C8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A4C7D-0164-4B92-820A-FE14C6D41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1437E-7C1A-4469-833B-019D91870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97FAA-38D8-4B5A-B92A-7E33BFBAE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F66ED-D8E4-4488-B048-087D7656A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7D970-4B03-4E26-9BE2-2BE5C116A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A7B592-AACE-4204-8EF9-EDCCA61CEF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5480E-CA29-4926-9FA7-E25DF6B779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2414D-444F-47DB-9A8F-09EBF837A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14DE7-4584-43DE-AE50-E13FE177D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9969D-0C39-43F2-BAE7-2CEA3EF83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975B80-20A4-4323-8687-DA15D5687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C9F2D-A7A8-409B-8D26-9793A70C5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0CB03-F9B2-4426-8BEE-26388228C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F394E-1BEF-42B1-A736-B40640886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CD0BC-2726-4C04-95D8-6C4AC7F1E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CDE846-8AE2-4DFB-A09F-2D3E0B372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1D419E-AEEB-454F-A2AC-1D93028A4E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8DFB8E-186E-4922-998F-9299E5CBBF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B015E-0D2D-441E-BDED-8EE0AA1C41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E643A-F468-47E9-B081-C784520361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4F6BC4-9507-4A2F-8631-F3CC4F2B11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F9458-E506-45D9-B0F5-C0438DD20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F4846-CC0D-494F-A85F-E8AAFA6996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9F1D4-8B3C-4BA2-8142-6E959EB48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FEF9D-F54E-465B-BE60-56E77F769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19023-00C7-42A4-BCA7-7D5BFD111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FA625-C091-4C7D-A276-176DC3DF22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AFCE1D-E262-478F-91E5-AA64244490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E5DA28-97CF-49BF-BED3-D269051A39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9B3431-18DA-436A-9FAF-6B55142E47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63248-0F85-443B-A97F-1E0E56A9D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52119C-1541-40C5-B58E-3EF86DA49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61C596-E8BB-4E50-9736-1FDB7D234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F37FB-D1B3-4328-9198-EEAFA7652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34D13-408D-41CC-83E7-93C4FD208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48EF1-6660-4645-B347-B865BF78F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425AA-9C24-4351-890D-B7F59BDB5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0A24A-945B-471A-9A23-9DC541658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65C8C-ADEE-49FD-B5D5-95F24CE45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E865FE-E64B-4D34-8B9C-E941CDB0F6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1F6C00-F0FE-4A36-BBD6-0EC6D1FF2F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B89442-5E27-4DC3-B23D-81BFB0160A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108663-F04E-4766-B389-8F140370B7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197AD-9645-4ED9-BA11-437FBA80CB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96517B-6C8A-4D19-BE8D-ADD92BA310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7671E-54EB-4511-A0AC-84DD0CB0A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720E54-1A72-45E9-8DB4-DA98EFDCEE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F23092-0C46-4234-8883-ACAD9BC67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396E4-0A5D-4692-BB92-1AC01DF64B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82736-299F-4B6D-AC4E-74CDFEA5B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25D2D4-A6F0-4314-B299-A45D8DB736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A9FEE5-14A8-4381-AD16-0AA8B7A96A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6B6F87-D5E3-4956-B8D6-2087D96F48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C8B09C-2769-4D2A-B790-BABFA74E8E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FBC8E-EAA0-4DDC-ACFC-0631A5182D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69570-5E61-44DA-81F4-C3F79A47A5D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51000"/>
            <a:ext cx="8458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1440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CC60-DB30-4232-80FE-40628CCCFBB1}"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36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EC8E-76C5-4357-A18D-41E33AB70D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48ED-3A2F-4ADC-B481-014825F500A6}"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12BA-135F-46AF-82D5-E3C3AC83A7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7CD3-4D94-47C1-AAA8-5DFF55A50A58}"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44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2D7C-3E61-41CD-865E-4A8586E1C2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C6D1-72D8-4349-924D-F4500146F556}"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4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3899-2EAA-4CC6-89C6-F808A6E899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B9FB-D81D-4BEB-A7B7-07DE4EC98EC6}"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53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28B8-1ABA-4E73-A794-ED065AC98C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D10C-B13D-4327-8736-5CFB29C03390}"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CD72-0F70-42BA-AEF3-DA683AE445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51000"/>
            <a:ext cx="8458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80" name="PlaceHolder 2"/>
          <p:cNvSpPr>
            <a:spLocks noGrp="1"/>
          </p:cNvSpPr>
          <p:nvPr>
            <p:ph type="body"/>
          </p:nvPr>
        </p:nvSpPr>
        <p:spPr>
          <a:xfrm>
            <a:off x="91440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4698-051B-4DB4-B6AB-FA0B424928AF}"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BF8A-CABE-40A1-9473-F002805E7D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9884-19DA-479F-BFB5-EA8798B5B476}"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16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21E9-150F-4D26-94E2-794EE9C5B9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D296-D35E-4E7E-8905-D96FC1DBDF7B}"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B1C1-FA59-429E-BA07-25AC6F5472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731D-8E0F-450E-9C9B-623046594075}"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D56F-46A4-42AD-B9E0-2C74C449C1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5D9B-AC7A-4566-95F3-06E324BF204E}"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FDB6-551F-4387-ABB5-9AFDB0D69F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6C49-A2A0-46D5-8699-1FBBFB8FF05F}"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32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257D-7102-4501-AC62-448CF2ACD8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5640" y="2438280"/>
            <a:ext cx="426708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Microsoft Sans Serif"/>
              <a:ea typeface="宋体"/>
            </a:endParaRPr>
          </a:p>
        </p:txBody>
      </p:sp>
      <p:sp>
        <p:nvSpPr>
          <p:cNvPr id="569" name="PlaceHolder 2"/>
          <p:cNvSpPr>
            <a:spLocks noGrp="1"/>
          </p:cNvSpPr>
          <p:nvPr>
            <p:ph type="subTitle"/>
          </p:nvPr>
        </p:nvSpPr>
        <p:spPr>
          <a:xfrm>
            <a:off x="2285640" y="3504960"/>
            <a:ext cx="426708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Microsoft Sans Serif"/>
                <a:ea typeface="宋体"/>
              </a:rPr>
              <a:t>Company name</a:t>
            </a:r>
            <a:endParaRPr b="0" lang="en-US" sz="2400" spc="-1" strike="noStrike">
              <a:solidFill>
                <a:srgbClr val="ffffff"/>
              </a:solidFill>
              <a:latin typeface="Microsoft Sans Serif"/>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4560" y="351000"/>
            <a:ext cx="8458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571" name="PlaceHolder 2"/>
          <p:cNvSpPr>
            <a:spLocks noGrp="1"/>
          </p:cNvSpPr>
          <p:nvPr>
            <p:ph/>
          </p:nvPr>
        </p:nvSpPr>
        <p:spPr>
          <a:xfrm>
            <a:off x="914400" y="1600200"/>
            <a:ext cx="7315200" cy="4191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573"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
        <p:nvSpPr>
          <p:cNvPr id="574" name=""/>
          <p:cNvSpPr/>
          <p:nvPr/>
        </p:nvSpPr>
        <p:spPr>
          <a:xfrm>
            <a:off x="6661080" y="6237360"/>
            <a:ext cx="237492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黑体"/>
              </a:rPr>
              <a:t> </a:t>
            </a:r>
            <a:r>
              <a:rPr b="1" lang="en-US" sz="1300" spc="-1" strike="noStrike">
                <a:solidFill>
                  <a:srgbClr val="1c1c1c"/>
                </a:solidFill>
                <a:latin typeface="Arial"/>
                <a:ea typeface="黑体"/>
              </a:rPr>
              <a:t>免费</a:t>
            </a:r>
            <a:r>
              <a:rPr b="1" lang="en-US" sz="1300" spc="-1" strike="noStrike">
                <a:solidFill>
                  <a:srgbClr val="1c1c1c"/>
                </a:solidFill>
                <a:latin typeface="Arial"/>
                <a:ea typeface="黑体"/>
              </a:rPr>
              <a:t>PPT</a:t>
            </a:r>
            <a:r>
              <a:rPr b="1" lang="en-US" sz="1300" spc="-1" strike="noStrike">
                <a:solidFill>
                  <a:srgbClr val="1c1c1c"/>
                </a:solidFill>
                <a:latin typeface="Arial"/>
                <a:ea typeface="黑体"/>
              </a:rPr>
              <a:t>模板下载</a:t>
            </a:r>
            <a:endParaRPr b="0" lang="en-US" sz="13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1c1c1c"/>
                </a:solidFill>
                <a:latin typeface="Arial"/>
              </a:rPr>
              <a:t>   </a:t>
            </a:r>
            <a:r>
              <a:rPr b="1" i="1" lang="en-US" sz="1400" spc="-1" strike="noStrike">
                <a:solidFill>
                  <a:srgbClr val="1c1c1c"/>
                </a:solidFill>
                <a:latin typeface="Arial"/>
              </a:rPr>
              <a:t> </a:t>
            </a:r>
            <a:r>
              <a:rPr b="1" i="1" lang="zh-CN" sz="1400" spc="-1" strike="noStrike">
                <a:solidFill>
                  <a:srgbClr val="1c1c1c"/>
                </a:solidFill>
                <a:latin typeface="Arial"/>
              </a:rPr>
              <a:t>http://</a:t>
            </a:r>
            <a:r>
              <a:rPr b="1" lang="zh-CN" sz="1400" spc="-1" strike="noStrike">
                <a:solidFill>
                  <a:srgbClr val="1c1c1c"/>
                </a:solidFill>
                <a:latin typeface="华文中宋"/>
                <a:ea typeface="华文中宋"/>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75" name="Group 2"/>
          <p:cNvGrpSpPr/>
          <p:nvPr/>
        </p:nvGrpSpPr>
        <p:grpSpPr>
          <a:xfrm>
            <a:off x="0" y="0"/>
            <a:ext cx="8466120" cy="6858000"/>
            <a:chOff x="0" y="0"/>
            <a:chExt cx="8466120" cy="6858000"/>
          </a:xfrm>
        </p:grpSpPr>
        <p:sp>
          <p:nvSpPr>
            <p:cNvPr id="57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欢迎访问</a:t>
              </a:r>
              <a:r>
                <a:rPr b="1" lang="en-US" sz="4000" spc="-1" strike="noStrike">
                  <a:solidFill>
                    <a:srgbClr val="000000"/>
                  </a:solidFill>
                  <a:latin typeface="微软雅黑"/>
                  <a:ea typeface="微软雅黑"/>
                </a:rPr>
                <a:t>PPT</a:t>
              </a:r>
              <a:r>
                <a:rPr b="1" lang="en-US" sz="4000" spc="-1" strike="noStrike">
                  <a:solidFill>
                    <a:srgbClr val="000000"/>
                  </a:solidFill>
                  <a:latin typeface="微软雅黑"/>
                  <a:ea typeface="微软雅黑"/>
                </a:rPr>
                <a:t>之家</a:t>
              </a:r>
              <a:r>
                <a:rPr b="1" lang="en-US" sz="4000" spc="-1" strike="noStrike">
                  <a:solidFill>
                    <a:srgbClr val="000000"/>
                  </a:solidFill>
                  <a:latin typeface="微软雅黑"/>
                  <a:ea typeface="微软雅黑"/>
                </a:rPr>
                <a:t>--- eeppt.com </a:t>
              </a:r>
              <a:endParaRPr b="0" lang="en-US" sz="4000" spc="-1" strike="noStrike">
                <a:solidFill>
                  <a:srgbClr val="4d4d4d"/>
                </a:solidFill>
                <a:latin typeface="Arial"/>
              </a:endParaRPr>
            </a:p>
          </p:txBody>
        </p:sp>
        <p:pic>
          <p:nvPicPr>
            <p:cNvPr id="57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7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免费</a:t>
              </a:r>
              <a:r>
                <a:rPr b="1" lang="en-US" sz="3200" spc="-1" strike="noStrike">
                  <a:solidFill>
                    <a:srgbClr val="0070c0"/>
                  </a:solidFill>
                  <a:latin typeface="微软雅黑"/>
                  <a:ea typeface="微软雅黑"/>
                </a:rPr>
                <a:t>ppt</a:t>
              </a:r>
              <a:r>
                <a:rPr b="1" lang="en-US"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en-US"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a</cp:lastModifiedBy>
  <dcterms:modified xsi:type="dcterms:W3CDTF">2015-01-14T08:34:00Z</dcterms:modified>
  <cp:revision>46</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