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B9F-1CFC-4F51-8C99-E0393729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D1D-E8BC-47AA-AC7F-2E773449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3F7-4981-4490-BE72-839AC937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389-30E1-4F93-BB60-963C565D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DEEE-E6DC-45C3-89EB-7866C8F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B533-251E-4099-86FE-F0C21077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1E81-B5D6-41C8-A0EE-F2435A3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0233-ABA7-4552-8195-7BD6816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7C3C-DE7A-4AE1-95A1-2E8E408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989C-B221-4B27-A97B-6DAC6C8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2B49-CECE-407D-8348-8B50B3A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579-EB08-45C5-8A0B-27DDBD8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6723-C6D3-49CC-9BF5-E635CF4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67E-C8FB-40A3-8C12-BFDDB97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A7E-E0DC-41C7-BE1C-601589E3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973E-4C99-4939-8370-D891AECB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4873-2AFC-4427-865A-8E2C3AB2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1F1-F031-4762-B8B0-12B27F1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104-8172-4594-83A2-185D01B1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AF6-E224-45ED-A950-7FA77586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E4-09AF-4910-BFFB-1C2B8BD6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D99-93D3-4B73-BC07-47D03B8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55E-419D-428C-8CFB-3313BD3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830-60FE-448B-8DEB-F489FB4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C7E4-61C3-49CF-A330-7CABE28D1F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F7CD-7115-46C6-8190-F700652F76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4EA9-6025-4A8C-9934-2FAC86C355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C2E9-3FE1-4247-9B83-4B4EEFC15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66"/>
          <p:cNvSpPr/>
          <p:nvPr/>
        </p:nvSpPr>
        <p:spPr>
          <a:xfrm>
            <a:off x="0" y="5014800"/>
            <a:ext cx="8729640" cy="1843200"/>
          </a:xfrm>
          <a:custGeom>
            <a:avLst/>
            <a:gdLst>
              <a:gd name="textAreaLeft" fmla="*/ 0 w 8729640"/>
              <a:gd name="textAreaRight" fmla="*/ 8730000 w 872964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8729771" h="1843318">
                <a:moveTo>
                  <a:pt x="5766259" y="239"/>
                </a:moveTo>
                <a:cubicBezTo>
                  <a:pt x="5857163" y="-4255"/>
                  <a:pt x="6186878" y="55616"/>
                  <a:pt x="6281581" y="75660"/>
                </a:cubicBezTo>
                <a:cubicBezTo>
                  <a:pt x="6376284" y="95704"/>
                  <a:pt x="6319046" y="103062"/>
                  <a:pt x="6334473" y="120500"/>
                </a:cubicBezTo>
                <a:cubicBezTo>
                  <a:pt x="6349900" y="137938"/>
                  <a:pt x="6365326" y="162848"/>
                  <a:pt x="6374142" y="180286"/>
                </a:cubicBezTo>
                <a:cubicBezTo>
                  <a:pt x="6382958" y="197724"/>
                  <a:pt x="6363123" y="202706"/>
                  <a:pt x="6387365" y="225126"/>
                </a:cubicBezTo>
                <a:cubicBezTo>
                  <a:pt x="6411607" y="247546"/>
                  <a:pt x="6462296" y="287404"/>
                  <a:pt x="6519595" y="314806"/>
                </a:cubicBezTo>
                <a:cubicBezTo>
                  <a:pt x="6576894" y="342208"/>
                  <a:pt x="6603340" y="372101"/>
                  <a:pt x="6731163" y="389539"/>
                </a:cubicBezTo>
                <a:cubicBezTo>
                  <a:pt x="6858986" y="406978"/>
                  <a:pt x="7114630" y="389539"/>
                  <a:pt x="7286529" y="419433"/>
                </a:cubicBezTo>
                <a:cubicBezTo>
                  <a:pt x="7458428" y="449326"/>
                  <a:pt x="7643550" y="509113"/>
                  <a:pt x="7762557" y="568899"/>
                </a:cubicBezTo>
                <a:cubicBezTo>
                  <a:pt x="7881564" y="628686"/>
                  <a:pt x="7894787" y="631177"/>
                  <a:pt x="8000571" y="778152"/>
                </a:cubicBezTo>
                <a:cubicBezTo>
                  <a:pt x="8106355" y="925127"/>
                  <a:pt x="8309107" y="1318723"/>
                  <a:pt x="8397260" y="1450752"/>
                </a:cubicBezTo>
                <a:cubicBezTo>
                  <a:pt x="8485414" y="1582780"/>
                  <a:pt x="8450152" y="1470680"/>
                  <a:pt x="8529490" y="1570325"/>
                </a:cubicBezTo>
                <a:cubicBezTo>
                  <a:pt x="8569159" y="1620148"/>
                  <a:pt x="8632519" y="1706714"/>
                  <a:pt x="8697257" y="1797328"/>
                </a:cubicBezTo>
                <a:lnTo>
                  <a:pt x="8729771" y="1843318"/>
                </a:lnTo>
                <a:lnTo>
                  <a:pt x="0" y="1843318"/>
                </a:lnTo>
                <a:lnTo>
                  <a:pt x="0" y="789125"/>
                </a:lnTo>
                <a:lnTo>
                  <a:pt x="5823" y="788545"/>
                </a:lnTo>
                <a:cubicBezTo>
                  <a:pt x="54652" y="782356"/>
                  <a:pt x="102034" y="774416"/>
                  <a:pt x="146111" y="763206"/>
                </a:cubicBezTo>
                <a:cubicBezTo>
                  <a:pt x="322418" y="718366"/>
                  <a:pt x="478890" y="646124"/>
                  <a:pt x="635362" y="568899"/>
                </a:cubicBezTo>
                <a:cubicBezTo>
                  <a:pt x="791834" y="491675"/>
                  <a:pt x="1007810" y="347191"/>
                  <a:pt x="1084944" y="299860"/>
                </a:cubicBezTo>
                <a:cubicBezTo>
                  <a:pt x="1162078" y="252528"/>
                  <a:pt x="1076128" y="297368"/>
                  <a:pt x="1098167" y="284913"/>
                </a:cubicBezTo>
                <a:cubicBezTo>
                  <a:pt x="1120206" y="272458"/>
                  <a:pt x="1124613" y="227618"/>
                  <a:pt x="1217174" y="225126"/>
                </a:cubicBezTo>
                <a:cubicBezTo>
                  <a:pt x="1309735" y="222635"/>
                  <a:pt x="1653533" y="269966"/>
                  <a:pt x="1653533" y="269966"/>
                </a:cubicBezTo>
                <a:lnTo>
                  <a:pt x="2446912" y="255020"/>
                </a:lnTo>
                <a:cubicBezTo>
                  <a:pt x="2618811" y="250038"/>
                  <a:pt x="2568124" y="242564"/>
                  <a:pt x="2684926" y="240073"/>
                </a:cubicBezTo>
                <a:cubicBezTo>
                  <a:pt x="2801729" y="237581"/>
                  <a:pt x="2914125" y="222635"/>
                  <a:pt x="3147731" y="240073"/>
                </a:cubicBezTo>
                <a:cubicBezTo>
                  <a:pt x="3381338" y="257511"/>
                  <a:pt x="3791251" y="327261"/>
                  <a:pt x="4086564" y="344699"/>
                </a:cubicBezTo>
                <a:cubicBezTo>
                  <a:pt x="4381877" y="362138"/>
                  <a:pt x="4919613" y="344699"/>
                  <a:pt x="4919613" y="344699"/>
                </a:cubicBezTo>
                <a:cubicBezTo>
                  <a:pt x="5179665" y="344699"/>
                  <a:pt x="5510788" y="385046"/>
                  <a:pt x="5646877" y="344699"/>
                </a:cubicBezTo>
                <a:cubicBezTo>
                  <a:pt x="5782967" y="304353"/>
                  <a:pt x="5716255" y="160029"/>
                  <a:pt x="5736152" y="102619"/>
                </a:cubicBezTo>
                <a:cubicBezTo>
                  <a:pt x="5756049" y="45209"/>
                  <a:pt x="5675355" y="4733"/>
                  <a:pt x="5766259" y="239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7"/>
          <p:cNvSpPr/>
          <p:nvPr/>
        </p:nvSpPr>
        <p:spPr>
          <a:xfrm>
            <a:off x="404640" y="4340160"/>
            <a:ext cx="5577120" cy="1487520"/>
          </a:xfrm>
          <a:custGeom>
            <a:avLst/>
            <a:gdLst>
              <a:gd name="textAreaLeft" fmla="*/ 0 w 5577120"/>
              <a:gd name="textAreaRight" fmla="*/ 5577120 w 5577120"/>
              <a:gd name="textAreaTop" fmla="*/ 0 h 1487520"/>
              <a:gd name="textAreaBottom" fmla="*/ 1487880 h 1487520"/>
            </a:gdLst>
            <a:ahLst/>
            <a:rect l="textAreaLeft" t="textAreaTop" r="textAreaRight" b="textAreaBottom"/>
            <a:pathLst>
              <a:path w="7324392" h="1952405">
                <a:moveTo>
                  <a:pt x="413028" y="1834336"/>
                </a:moveTo>
                <a:cubicBezTo>
                  <a:pt x="-596310" y="1794362"/>
                  <a:pt x="552937" y="1711916"/>
                  <a:pt x="622891" y="1654454"/>
                </a:cubicBezTo>
                <a:cubicBezTo>
                  <a:pt x="692845" y="1596992"/>
                  <a:pt x="747809" y="1539529"/>
                  <a:pt x="832753" y="1489562"/>
                </a:cubicBezTo>
                <a:cubicBezTo>
                  <a:pt x="917697" y="1439595"/>
                  <a:pt x="975159" y="1382133"/>
                  <a:pt x="1132556" y="1354651"/>
                </a:cubicBezTo>
                <a:cubicBezTo>
                  <a:pt x="1289953" y="1327169"/>
                  <a:pt x="1597251" y="1334663"/>
                  <a:pt x="1777133" y="1324670"/>
                </a:cubicBezTo>
                <a:cubicBezTo>
                  <a:pt x="1957015" y="1314676"/>
                  <a:pt x="2074438" y="1324670"/>
                  <a:pt x="2211848" y="1294690"/>
                </a:cubicBezTo>
                <a:cubicBezTo>
                  <a:pt x="2349258" y="1264710"/>
                  <a:pt x="2456687" y="1189758"/>
                  <a:pt x="2601592" y="1144788"/>
                </a:cubicBezTo>
                <a:cubicBezTo>
                  <a:pt x="2746497" y="1099818"/>
                  <a:pt x="2938871" y="1052349"/>
                  <a:pt x="3081278" y="1024867"/>
                </a:cubicBezTo>
                <a:cubicBezTo>
                  <a:pt x="3223685" y="997385"/>
                  <a:pt x="3456032" y="979897"/>
                  <a:pt x="3456032" y="979897"/>
                </a:cubicBezTo>
                <a:cubicBezTo>
                  <a:pt x="3600937" y="962408"/>
                  <a:pt x="3768327" y="979897"/>
                  <a:pt x="3950707" y="919936"/>
                </a:cubicBezTo>
                <a:cubicBezTo>
                  <a:pt x="4133087" y="859975"/>
                  <a:pt x="4395416" y="685090"/>
                  <a:pt x="4550314" y="620133"/>
                </a:cubicBezTo>
                <a:cubicBezTo>
                  <a:pt x="4705212" y="555176"/>
                  <a:pt x="4702714" y="550179"/>
                  <a:pt x="4880097" y="530192"/>
                </a:cubicBezTo>
                <a:cubicBezTo>
                  <a:pt x="5057480" y="510205"/>
                  <a:pt x="5429736" y="525195"/>
                  <a:pt x="5614615" y="500211"/>
                </a:cubicBezTo>
                <a:cubicBezTo>
                  <a:pt x="5799494" y="475227"/>
                  <a:pt x="5869448" y="422762"/>
                  <a:pt x="5989369" y="380290"/>
                </a:cubicBezTo>
                <a:cubicBezTo>
                  <a:pt x="6109290" y="337818"/>
                  <a:pt x="6249574" y="289881"/>
                  <a:pt x="6334143" y="245379"/>
                </a:cubicBezTo>
                <a:cubicBezTo>
                  <a:pt x="6418712" y="200877"/>
                  <a:pt x="6423365" y="148036"/>
                  <a:pt x="6496786" y="113278"/>
                </a:cubicBezTo>
                <a:cubicBezTo>
                  <a:pt x="6570207" y="78520"/>
                  <a:pt x="6704900" y="-67166"/>
                  <a:pt x="6774667" y="36828"/>
                </a:cubicBezTo>
                <a:cubicBezTo>
                  <a:pt x="6844434" y="140822"/>
                  <a:pt x="6857644" y="581626"/>
                  <a:pt x="6915387" y="737243"/>
                </a:cubicBezTo>
                <a:cubicBezTo>
                  <a:pt x="6973130" y="892860"/>
                  <a:pt x="7118629" y="768161"/>
                  <a:pt x="7121127" y="970528"/>
                </a:cubicBezTo>
                <a:cubicBezTo>
                  <a:pt x="7123625" y="1172895"/>
                  <a:pt x="7796933" y="1750329"/>
                  <a:pt x="6678917" y="1894297"/>
                </a:cubicBezTo>
                <a:cubicBezTo>
                  <a:pt x="5560901" y="2038265"/>
                  <a:pt x="1422366" y="1874310"/>
                  <a:pt x="413028" y="1834336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 rot="795000">
            <a:off x="4289040" y="3652920"/>
            <a:ext cx="520560" cy="823680"/>
          </a:xfrm>
          <a:custGeom>
            <a:avLst/>
            <a:gdLst>
              <a:gd name="textAreaLeft" fmla="*/ 0 w 520560"/>
              <a:gd name="textAreaRight" fmla="*/ 520560 w 52056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682580" h="1568837">
                <a:moveTo>
                  <a:pt x="545328" y="0"/>
                </a:moveTo>
                <a:lnTo>
                  <a:pt x="682580" y="396860"/>
                </a:lnTo>
                <a:lnTo>
                  <a:pt x="682580" y="1568837"/>
                </a:lnTo>
                <a:lnTo>
                  <a:pt x="0" y="1568837"/>
                </a:lnTo>
                <a:cubicBezTo>
                  <a:pt x="110762" y="1245941"/>
                  <a:pt x="114401" y="928308"/>
                  <a:pt x="225163" y="605412"/>
                </a:cubicBezTo>
                <a:lnTo>
                  <a:pt x="545328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111400" y="3632040"/>
            <a:ext cx="554040" cy="1062360"/>
          </a:xfrm>
          <a:custGeom>
            <a:avLst/>
            <a:gdLst>
              <a:gd name="textAreaLeft" fmla="*/ 0 w 554040"/>
              <a:gd name="textAreaRight" fmla="*/ 554400 w 554040"/>
              <a:gd name="textAreaTop" fmla="*/ 0 h 1062360"/>
              <a:gd name="textAreaBottom" fmla="*/ 1062720 h 1062360"/>
            </a:gdLst>
            <a:ahLst/>
            <a:rect l="textAreaLeft" t="textAreaTop" r="textAreaRight" b="textAreaBottom"/>
            <a:pathLst>
              <a:path w="682580" h="1236372">
                <a:moveTo>
                  <a:pt x="167425" y="0"/>
                </a:moveTo>
                <a:lnTo>
                  <a:pt x="601300" y="469768"/>
                </a:lnTo>
                <a:lnTo>
                  <a:pt x="682580" y="1236372"/>
                </a:lnTo>
                <a:lnTo>
                  <a:pt x="0" y="1236372"/>
                </a:lnTo>
                <a:lnTo>
                  <a:pt x="16742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 rot="793800">
            <a:off x="2877840" y="3682800"/>
            <a:ext cx="552240" cy="968040"/>
          </a:xfrm>
          <a:custGeom>
            <a:avLst/>
            <a:gdLst>
              <a:gd name="textAreaLeft" fmla="*/ 0 w 552240"/>
              <a:gd name="textAreaRight" fmla="*/ 552600 w 552240"/>
              <a:gd name="textAreaTop" fmla="*/ 0 h 968040"/>
              <a:gd name="textAreaBottom" fmla="*/ 968400 h 968040"/>
            </a:gdLst>
            <a:ahLst/>
            <a:rect l="textAreaLeft" t="textAreaTop" r="textAreaRight" b="textAreaBottom"/>
            <a:pathLst>
              <a:path w="682580" h="1475073">
                <a:moveTo>
                  <a:pt x="287405" y="0"/>
                </a:moveTo>
                <a:lnTo>
                  <a:pt x="682580" y="303096"/>
                </a:lnTo>
                <a:lnTo>
                  <a:pt x="682580" y="1475073"/>
                </a:lnTo>
                <a:lnTo>
                  <a:pt x="0" y="1475073"/>
                </a:lnTo>
                <a:lnTo>
                  <a:pt x="287405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1576440" y="3762360"/>
            <a:ext cx="619200" cy="1054080"/>
          </a:xfrm>
          <a:custGeom>
            <a:avLst/>
            <a:gdLst>
              <a:gd name="textAreaLeft" fmla="*/ 0 w 619200"/>
              <a:gd name="textAreaRight" fmla="*/ 619560 w 61920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63859" h="1306351">
                <a:moveTo>
                  <a:pt x="248704" y="0"/>
                </a:moveTo>
                <a:lnTo>
                  <a:pt x="627225" y="86330"/>
                </a:lnTo>
                <a:lnTo>
                  <a:pt x="763859" y="1236372"/>
                </a:lnTo>
                <a:lnTo>
                  <a:pt x="0" y="1306351"/>
                </a:lnTo>
                <a:lnTo>
                  <a:pt x="248704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42"/>
          <p:cNvSpPr/>
          <p:nvPr/>
        </p:nvSpPr>
        <p:spPr>
          <a:xfrm>
            <a:off x="1795320" y="1255680"/>
            <a:ext cx="3179880" cy="1525680"/>
          </a:xfrm>
          <a:custGeom>
            <a:avLst/>
            <a:gdLst>
              <a:gd name="textAreaLeft" fmla="*/ 0 w 3179880"/>
              <a:gd name="textAreaRight" fmla="*/ 3180240 w 317988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4175105" h="2004112">
                <a:moveTo>
                  <a:pt x="10078" y="314843"/>
                </a:moveTo>
                <a:cubicBezTo>
                  <a:pt x="-6161" y="303600"/>
                  <a:pt x="-22400" y="292358"/>
                  <a:pt x="130000" y="239892"/>
                </a:cubicBezTo>
                <a:cubicBezTo>
                  <a:pt x="282400" y="187426"/>
                  <a:pt x="567213" y="2547"/>
                  <a:pt x="924478" y="49"/>
                </a:cubicBezTo>
                <a:cubicBezTo>
                  <a:pt x="1281743" y="-2449"/>
                  <a:pt x="1938813" y="222404"/>
                  <a:pt x="2273593" y="224902"/>
                </a:cubicBezTo>
                <a:cubicBezTo>
                  <a:pt x="2608373" y="227400"/>
                  <a:pt x="2680826" y="42521"/>
                  <a:pt x="2933160" y="15039"/>
                </a:cubicBezTo>
                <a:cubicBezTo>
                  <a:pt x="3185494" y="-12443"/>
                  <a:pt x="3635200" y="-4948"/>
                  <a:pt x="3787600" y="60010"/>
                </a:cubicBezTo>
                <a:cubicBezTo>
                  <a:pt x="3940000" y="124967"/>
                  <a:pt x="3785101" y="277368"/>
                  <a:pt x="3847560" y="404784"/>
                </a:cubicBezTo>
                <a:cubicBezTo>
                  <a:pt x="3910019" y="532200"/>
                  <a:pt x="4119882" y="657118"/>
                  <a:pt x="4162354" y="824508"/>
                </a:cubicBezTo>
                <a:cubicBezTo>
                  <a:pt x="4204826" y="991898"/>
                  <a:pt x="4129875" y="1294200"/>
                  <a:pt x="4102393" y="1409125"/>
                </a:cubicBezTo>
                <a:cubicBezTo>
                  <a:pt x="4074911" y="1524050"/>
                  <a:pt x="4077410" y="1491571"/>
                  <a:pt x="3997462" y="1514056"/>
                </a:cubicBezTo>
                <a:cubicBezTo>
                  <a:pt x="3917514" y="1536541"/>
                  <a:pt x="3830072" y="1464089"/>
                  <a:pt x="3622708" y="1544036"/>
                </a:cubicBezTo>
                <a:cubicBezTo>
                  <a:pt x="3415344" y="1623983"/>
                  <a:pt x="2928163" y="1941275"/>
                  <a:pt x="2753278" y="1993741"/>
                </a:cubicBezTo>
                <a:cubicBezTo>
                  <a:pt x="2578393" y="2046207"/>
                  <a:pt x="2695816" y="1883814"/>
                  <a:pt x="2573396" y="1858830"/>
                </a:cubicBezTo>
                <a:cubicBezTo>
                  <a:pt x="2450976" y="1833846"/>
                  <a:pt x="2193645" y="1831347"/>
                  <a:pt x="2018760" y="1843839"/>
                </a:cubicBezTo>
                <a:cubicBezTo>
                  <a:pt x="1843875" y="1856331"/>
                  <a:pt x="1634013" y="1921288"/>
                  <a:pt x="1524085" y="1933780"/>
                </a:cubicBezTo>
                <a:cubicBezTo>
                  <a:pt x="1414157" y="1946272"/>
                  <a:pt x="1386675" y="1932531"/>
                  <a:pt x="1359193" y="1918790"/>
                </a:cubicBezTo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299560" y="-455760"/>
            <a:ext cx="190296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70"/>
          <p:cNvSpPr/>
          <p:nvPr/>
        </p:nvSpPr>
        <p:spPr>
          <a:xfrm rot="436800">
            <a:off x="9861120" y="2398320"/>
            <a:ext cx="1187640" cy="14432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443240"/>
              <a:gd name="textAreaBottom" fmla="*/ 1443600 h 1443240"/>
            </a:gdLst>
            <a:ahLst/>
            <a:rect l="textAreaLeft" t="textAreaTop" r="textAreaRight" b="textAreaBottom"/>
            <a:pathLst>
              <a:path w="1937658" h="2177143">
                <a:moveTo>
                  <a:pt x="0" y="2177143"/>
                </a:moveTo>
                <a:lnTo>
                  <a:pt x="152400" y="1763486"/>
                </a:lnTo>
                <a:lnTo>
                  <a:pt x="740229" y="1959428"/>
                </a:lnTo>
                <a:lnTo>
                  <a:pt x="827315" y="1480457"/>
                </a:lnTo>
                <a:lnTo>
                  <a:pt x="1132115" y="1458686"/>
                </a:lnTo>
                <a:lnTo>
                  <a:pt x="1197429" y="1284514"/>
                </a:lnTo>
                <a:lnTo>
                  <a:pt x="1306286" y="805543"/>
                </a:lnTo>
                <a:lnTo>
                  <a:pt x="1545772" y="892628"/>
                </a:lnTo>
                <a:lnTo>
                  <a:pt x="1937658" y="0"/>
                </a:lnTo>
              </a:path>
            </a:pathLst>
          </a:custGeom>
          <a:noFill/>
          <a:ln w="254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74"/>
          <p:cNvSpPr/>
          <p:nvPr/>
        </p:nvSpPr>
        <p:spPr>
          <a:xfrm rot="1525800">
            <a:off x="10731600" y="1660320"/>
            <a:ext cx="957240" cy="1225440"/>
          </a:xfrm>
          <a:custGeom>
            <a:avLst/>
            <a:gdLst>
              <a:gd name="textAreaLeft" fmla="*/ 0 w 957240"/>
              <a:gd name="textAreaRight" fmla="*/ 957600 w 9572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957685" h="1277821">
                <a:moveTo>
                  <a:pt x="0" y="1277821"/>
                </a:moveTo>
                <a:lnTo>
                  <a:pt x="571011" y="0"/>
                </a:lnTo>
                <a:lnTo>
                  <a:pt x="957685" y="1277821"/>
                </a:lnTo>
                <a:cubicBezTo>
                  <a:pt x="782335" y="1277596"/>
                  <a:pt x="652089" y="953219"/>
                  <a:pt x="476739" y="952994"/>
                </a:cubicBezTo>
                <a:lnTo>
                  <a:pt x="0" y="127782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9"/>
          <p:cNvSpPr/>
          <p:nvPr/>
        </p:nvSpPr>
        <p:spPr>
          <a:xfrm>
            <a:off x="0" y="-1440"/>
            <a:ext cx="12192120" cy="37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9"/>
          <p:cNvGrpSpPr/>
          <p:nvPr/>
        </p:nvGrpSpPr>
        <p:grpSpPr>
          <a:xfrm>
            <a:off x="7439040" y="789120"/>
            <a:ext cx="1079640" cy="907920"/>
            <a:chOff x="7439040" y="789120"/>
            <a:chExt cx="1079640" cy="907920"/>
          </a:xfrm>
        </p:grpSpPr>
        <p:sp>
          <p:nvSpPr>
            <p:cNvPr id="130" name="椭圆 82"/>
            <p:cNvSpPr/>
            <p:nvPr/>
          </p:nvSpPr>
          <p:spPr>
            <a:xfrm>
              <a:off x="7439040" y="834120"/>
              <a:ext cx="835560" cy="8337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55"/>
            <p:cNvSpPr/>
            <p:nvPr/>
          </p:nvSpPr>
          <p:spPr>
            <a:xfrm>
              <a:off x="7508160" y="1328040"/>
              <a:ext cx="1010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84"/>
            <p:cNvSpPr/>
            <p:nvPr/>
          </p:nvSpPr>
          <p:spPr>
            <a:xfrm>
              <a:off x="7508160" y="789120"/>
              <a:ext cx="9093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44" name="任意多边形 121"/>
          <p:cNvSpPr/>
          <p:nvPr/>
        </p:nvSpPr>
        <p:spPr>
          <a:xfrm>
            <a:off x="9820440" y="2886120"/>
            <a:ext cx="822240" cy="550800"/>
          </a:xfrm>
          <a:custGeom>
            <a:avLst/>
            <a:gdLst>
              <a:gd name="textAreaLeft" fmla="*/ 0 w 822240"/>
              <a:gd name="textAreaRight" fmla="*/ 822600 w 82224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609938" h="1747058">
                <a:moveTo>
                  <a:pt x="1297348" y="1285546"/>
                </a:moveTo>
                <a:cubicBezTo>
                  <a:pt x="1756934" y="1277564"/>
                  <a:pt x="2219061" y="1415864"/>
                  <a:pt x="2609938" y="1701728"/>
                </a:cubicBezTo>
                <a:lnTo>
                  <a:pt x="0" y="1747058"/>
                </a:lnTo>
                <a:cubicBezTo>
                  <a:pt x="380716" y="1447793"/>
                  <a:pt x="837761" y="1293528"/>
                  <a:pt x="1297348" y="1285546"/>
                </a:cubicBezTo>
                <a:close/>
                <a:moveTo>
                  <a:pt x="1299746" y="979749"/>
                </a:moveTo>
                <a:cubicBezTo>
                  <a:pt x="1447801" y="978770"/>
                  <a:pt x="1575566" y="1199766"/>
                  <a:pt x="1575893" y="1243303"/>
                </a:cubicBezTo>
                <a:cubicBezTo>
                  <a:pt x="1484497" y="1242527"/>
                  <a:pt x="1403986" y="1198207"/>
                  <a:pt x="1312590" y="1197431"/>
                </a:cubicBezTo>
                <a:cubicBezTo>
                  <a:pt x="1221059" y="1199417"/>
                  <a:pt x="1118641" y="1244946"/>
                  <a:pt x="1027110" y="1246933"/>
                </a:cubicBezTo>
                <a:cubicBezTo>
                  <a:pt x="1031080" y="1098928"/>
                  <a:pt x="1151691" y="980729"/>
                  <a:pt x="1299746" y="979749"/>
                </a:cubicBezTo>
                <a:close/>
                <a:moveTo>
                  <a:pt x="1192239" y="789944"/>
                </a:moveTo>
                <a:cubicBezTo>
                  <a:pt x="1192239" y="849357"/>
                  <a:pt x="1240403" y="897521"/>
                  <a:pt x="1299816" y="897521"/>
                </a:cubicBezTo>
                <a:cubicBezTo>
                  <a:pt x="1359229" y="897521"/>
                  <a:pt x="1407393" y="849357"/>
                  <a:pt x="1407393" y="789944"/>
                </a:cubicBezTo>
                <a:cubicBezTo>
                  <a:pt x="1381997" y="823804"/>
                  <a:pt x="1342142" y="843732"/>
                  <a:pt x="1299816" y="843732"/>
                </a:cubicBezTo>
                <a:cubicBezTo>
                  <a:pt x="1257490" y="843732"/>
                  <a:pt x="1217634" y="823804"/>
                  <a:pt x="1192239" y="789944"/>
                </a:cubicBezTo>
                <a:close/>
                <a:moveTo>
                  <a:pt x="435599" y="617767"/>
                </a:moveTo>
                <a:cubicBezTo>
                  <a:pt x="594535" y="617767"/>
                  <a:pt x="740596" y="962977"/>
                  <a:pt x="723378" y="1088163"/>
                </a:cubicBezTo>
                <a:cubicBezTo>
                  <a:pt x="706160" y="1213349"/>
                  <a:pt x="491230" y="1368883"/>
                  <a:pt x="332293" y="1368883"/>
                </a:cubicBezTo>
                <a:cubicBezTo>
                  <a:pt x="173357" y="1368883"/>
                  <a:pt x="147819" y="1347955"/>
                  <a:pt x="147819" y="1088163"/>
                </a:cubicBezTo>
                <a:cubicBezTo>
                  <a:pt x="147819" y="828371"/>
                  <a:pt x="276662" y="617767"/>
                  <a:pt x="435599" y="617767"/>
                </a:cubicBezTo>
                <a:close/>
                <a:moveTo>
                  <a:pt x="2178410" y="576944"/>
                </a:moveTo>
                <a:cubicBezTo>
                  <a:pt x="2337346" y="576944"/>
                  <a:pt x="2466189" y="787548"/>
                  <a:pt x="2466189" y="1047340"/>
                </a:cubicBezTo>
                <a:cubicBezTo>
                  <a:pt x="2466189" y="1307132"/>
                  <a:pt x="2440652" y="1328060"/>
                  <a:pt x="2281715" y="1328060"/>
                </a:cubicBezTo>
                <a:cubicBezTo>
                  <a:pt x="2122779" y="1328060"/>
                  <a:pt x="1907848" y="1172526"/>
                  <a:pt x="1890630" y="1047340"/>
                </a:cubicBezTo>
                <a:cubicBezTo>
                  <a:pt x="1873413" y="922154"/>
                  <a:pt x="2019473" y="576944"/>
                  <a:pt x="2178410" y="576944"/>
                </a:cubicBezTo>
                <a:close/>
                <a:moveTo>
                  <a:pt x="1301561" y="527959"/>
                </a:moveTo>
                <a:cubicBezTo>
                  <a:pt x="1414286" y="527959"/>
                  <a:pt x="1505668" y="619341"/>
                  <a:pt x="1505668" y="732066"/>
                </a:cubicBezTo>
                <a:cubicBezTo>
                  <a:pt x="1505668" y="844791"/>
                  <a:pt x="1414286" y="936173"/>
                  <a:pt x="1301561" y="936173"/>
                </a:cubicBezTo>
                <a:cubicBezTo>
                  <a:pt x="1188836" y="936173"/>
                  <a:pt x="1097454" y="844791"/>
                  <a:pt x="1097454" y="732066"/>
                </a:cubicBezTo>
                <a:cubicBezTo>
                  <a:pt x="1097454" y="619341"/>
                  <a:pt x="1188836" y="527959"/>
                  <a:pt x="1301561" y="527959"/>
                </a:cubicBezTo>
                <a:close/>
                <a:moveTo>
                  <a:pt x="376074" y="372196"/>
                </a:moveTo>
                <a:cubicBezTo>
                  <a:pt x="376074" y="449350"/>
                  <a:pt x="438620" y="511896"/>
                  <a:pt x="515774" y="511896"/>
                </a:cubicBezTo>
                <a:cubicBezTo>
                  <a:pt x="592928" y="511896"/>
                  <a:pt x="655474" y="449350"/>
                  <a:pt x="655474" y="372196"/>
                </a:cubicBezTo>
                <a:cubicBezTo>
                  <a:pt x="622495" y="416168"/>
                  <a:pt x="570738" y="442046"/>
                  <a:pt x="515774" y="442046"/>
                </a:cubicBezTo>
                <a:cubicBezTo>
                  <a:pt x="460810" y="442046"/>
                  <a:pt x="409053" y="416168"/>
                  <a:pt x="376074" y="372196"/>
                </a:cubicBezTo>
                <a:close/>
                <a:moveTo>
                  <a:pt x="1919481" y="302345"/>
                </a:moveTo>
                <a:cubicBezTo>
                  <a:pt x="1919481" y="379499"/>
                  <a:pt x="1982027" y="442045"/>
                  <a:pt x="2059181" y="442045"/>
                </a:cubicBezTo>
                <a:cubicBezTo>
                  <a:pt x="2136335" y="442045"/>
                  <a:pt x="2198881" y="379499"/>
                  <a:pt x="2198881" y="302345"/>
                </a:cubicBezTo>
                <a:cubicBezTo>
                  <a:pt x="2165902" y="346317"/>
                  <a:pt x="2114145" y="372195"/>
                  <a:pt x="2059181" y="372195"/>
                </a:cubicBezTo>
                <a:cubicBezTo>
                  <a:pt x="2004217" y="372195"/>
                  <a:pt x="1952460" y="346317"/>
                  <a:pt x="1919481" y="302345"/>
                </a:cubicBezTo>
                <a:close/>
                <a:moveTo>
                  <a:pt x="2147924" y="0"/>
                </a:moveTo>
                <a:cubicBezTo>
                  <a:pt x="2290788" y="0"/>
                  <a:pt x="2406603" y="115815"/>
                  <a:pt x="2406603" y="258679"/>
                </a:cubicBezTo>
                <a:cubicBezTo>
                  <a:pt x="2406603" y="401543"/>
                  <a:pt x="2290788" y="517358"/>
                  <a:pt x="2147924" y="517358"/>
                </a:cubicBezTo>
                <a:cubicBezTo>
                  <a:pt x="2005060" y="517358"/>
                  <a:pt x="1889245" y="401543"/>
                  <a:pt x="1889245" y="258679"/>
                </a:cubicBezTo>
                <a:cubicBezTo>
                  <a:pt x="1889245" y="115815"/>
                  <a:pt x="2005060" y="0"/>
                  <a:pt x="2147924" y="0"/>
                </a:cubicBezTo>
                <a:close/>
                <a:moveTo>
                  <a:pt x="425404" y="0"/>
                </a:moveTo>
                <a:cubicBezTo>
                  <a:pt x="584723" y="0"/>
                  <a:pt x="713876" y="129153"/>
                  <a:pt x="713876" y="288472"/>
                </a:cubicBezTo>
                <a:cubicBezTo>
                  <a:pt x="713876" y="447791"/>
                  <a:pt x="584723" y="576944"/>
                  <a:pt x="425404" y="576944"/>
                </a:cubicBezTo>
                <a:cubicBezTo>
                  <a:pt x="266085" y="576944"/>
                  <a:pt x="136932" y="447791"/>
                  <a:pt x="136932" y="288472"/>
                </a:cubicBezTo>
                <a:cubicBezTo>
                  <a:pt x="136932" y="129153"/>
                  <a:pt x="266085" y="0"/>
                  <a:pt x="42540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23"/>
          <p:cNvSpPr/>
          <p:nvPr/>
        </p:nvSpPr>
        <p:spPr>
          <a:xfrm>
            <a:off x="10374480" y="1427040"/>
            <a:ext cx="502920" cy="463680"/>
          </a:xfrm>
          <a:custGeom>
            <a:avLst/>
            <a:gdLst>
              <a:gd name="textAreaLeft" fmla="*/ 0 w 502920"/>
              <a:gd name="textAreaRight" fmla="*/ 503280 w 502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244246" h="1145520">
                <a:moveTo>
                  <a:pt x="939639" y="792804"/>
                </a:moveTo>
                <a:lnTo>
                  <a:pt x="939639" y="838523"/>
                </a:lnTo>
                <a:lnTo>
                  <a:pt x="1063754" y="838523"/>
                </a:lnTo>
                <a:lnTo>
                  <a:pt x="1063754" y="792804"/>
                </a:lnTo>
                <a:lnTo>
                  <a:pt x="939639" y="792804"/>
                </a:lnTo>
                <a:close/>
                <a:moveTo>
                  <a:pt x="719374" y="792804"/>
                </a:moveTo>
                <a:lnTo>
                  <a:pt x="719374" y="838523"/>
                </a:lnTo>
                <a:lnTo>
                  <a:pt x="843489" y="838523"/>
                </a:lnTo>
                <a:lnTo>
                  <a:pt x="843489" y="792804"/>
                </a:lnTo>
                <a:lnTo>
                  <a:pt x="719374" y="792804"/>
                </a:lnTo>
                <a:close/>
                <a:moveTo>
                  <a:pt x="499109" y="792804"/>
                </a:moveTo>
                <a:lnTo>
                  <a:pt x="499109" y="838523"/>
                </a:lnTo>
                <a:lnTo>
                  <a:pt x="623224" y="838523"/>
                </a:lnTo>
                <a:lnTo>
                  <a:pt x="623224" y="792804"/>
                </a:lnTo>
                <a:lnTo>
                  <a:pt x="499109" y="792804"/>
                </a:lnTo>
                <a:close/>
                <a:moveTo>
                  <a:pt x="938538" y="651753"/>
                </a:moveTo>
                <a:lnTo>
                  <a:pt x="938538" y="697472"/>
                </a:lnTo>
                <a:lnTo>
                  <a:pt x="1062653" y="697472"/>
                </a:lnTo>
                <a:lnTo>
                  <a:pt x="1062653" y="651753"/>
                </a:lnTo>
                <a:lnTo>
                  <a:pt x="938538" y="651753"/>
                </a:lnTo>
                <a:close/>
                <a:moveTo>
                  <a:pt x="718273" y="651753"/>
                </a:moveTo>
                <a:lnTo>
                  <a:pt x="718273" y="697472"/>
                </a:lnTo>
                <a:lnTo>
                  <a:pt x="842388" y="697472"/>
                </a:lnTo>
                <a:lnTo>
                  <a:pt x="842388" y="651753"/>
                </a:lnTo>
                <a:lnTo>
                  <a:pt x="718273" y="651753"/>
                </a:lnTo>
                <a:close/>
                <a:moveTo>
                  <a:pt x="498008" y="651753"/>
                </a:moveTo>
                <a:lnTo>
                  <a:pt x="498008" y="697472"/>
                </a:lnTo>
                <a:lnTo>
                  <a:pt x="622123" y="697472"/>
                </a:lnTo>
                <a:lnTo>
                  <a:pt x="622123" y="651753"/>
                </a:lnTo>
                <a:lnTo>
                  <a:pt x="498008" y="651753"/>
                </a:lnTo>
                <a:close/>
                <a:moveTo>
                  <a:pt x="938538" y="510702"/>
                </a:moveTo>
                <a:lnTo>
                  <a:pt x="938538" y="556421"/>
                </a:lnTo>
                <a:lnTo>
                  <a:pt x="1062653" y="556421"/>
                </a:lnTo>
                <a:lnTo>
                  <a:pt x="1062653" y="510702"/>
                </a:lnTo>
                <a:lnTo>
                  <a:pt x="938538" y="510702"/>
                </a:lnTo>
                <a:close/>
                <a:moveTo>
                  <a:pt x="718273" y="510702"/>
                </a:moveTo>
                <a:lnTo>
                  <a:pt x="718273" y="556421"/>
                </a:lnTo>
                <a:lnTo>
                  <a:pt x="842388" y="556421"/>
                </a:lnTo>
                <a:lnTo>
                  <a:pt x="842388" y="510702"/>
                </a:lnTo>
                <a:lnTo>
                  <a:pt x="718273" y="510702"/>
                </a:lnTo>
                <a:close/>
                <a:moveTo>
                  <a:pt x="498008" y="510702"/>
                </a:moveTo>
                <a:lnTo>
                  <a:pt x="498008" y="556421"/>
                </a:lnTo>
                <a:lnTo>
                  <a:pt x="622123" y="556421"/>
                </a:lnTo>
                <a:lnTo>
                  <a:pt x="622123" y="510702"/>
                </a:lnTo>
                <a:lnTo>
                  <a:pt x="498008" y="510702"/>
                </a:lnTo>
                <a:close/>
                <a:moveTo>
                  <a:pt x="485554" y="215356"/>
                </a:moveTo>
                <a:lnTo>
                  <a:pt x="485554" y="400182"/>
                </a:lnTo>
                <a:lnTo>
                  <a:pt x="1088669" y="400182"/>
                </a:lnTo>
                <a:lnTo>
                  <a:pt x="1088669" y="215356"/>
                </a:lnTo>
                <a:lnTo>
                  <a:pt x="485554" y="215356"/>
                </a:lnTo>
                <a:close/>
                <a:moveTo>
                  <a:pt x="192723" y="93759"/>
                </a:moveTo>
                <a:cubicBezTo>
                  <a:pt x="283043" y="93759"/>
                  <a:pt x="356261" y="166977"/>
                  <a:pt x="356261" y="257297"/>
                </a:cubicBezTo>
                <a:cubicBezTo>
                  <a:pt x="356261" y="433143"/>
                  <a:pt x="356260" y="608990"/>
                  <a:pt x="356260" y="784836"/>
                </a:cubicBezTo>
                <a:cubicBezTo>
                  <a:pt x="356260" y="875156"/>
                  <a:pt x="283042" y="948374"/>
                  <a:pt x="192722" y="948374"/>
                </a:cubicBezTo>
                <a:lnTo>
                  <a:pt x="192723" y="948373"/>
                </a:lnTo>
                <a:cubicBezTo>
                  <a:pt x="102403" y="948373"/>
                  <a:pt x="29185" y="875155"/>
                  <a:pt x="29185" y="784835"/>
                </a:cubicBezTo>
                <a:lnTo>
                  <a:pt x="29185" y="257297"/>
                </a:lnTo>
                <a:cubicBezTo>
                  <a:pt x="29185" y="166977"/>
                  <a:pt x="102403" y="93759"/>
                  <a:pt x="192723" y="93759"/>
                </a:cubicBezTo>
                <a:close/>
                <a:moveTo>
                  <a:pt x="67952" y="65006"/>
                </a:moveTo>
                <a:lnTo>
                  <a:pt x="41848" y="96645"/>
                </a:lnTo>
                <a:cubicBezTo>
                  <a:pt x="18213" y="131631"/>
                  <a:pt x="4411" y="173806"/>
                  <a:pt x="4411" y="219205"/>
                </a:cubicBezTo>
                <a:lnTo>
                  <a:pt x="4411" y="858001"/>
                </a:lnTo>
                <a:lnTo>
                  <a:pt x="3846" y="856181"/>
                </a:lnTo>
                <a:cubicBezTo>
                  <a:pt x="1324" y="843856"/>
                  <a:pt x="0" y="831095"/>
                  <a:pt x="0" y="818025"/>
                </a:cubicBezTo>
                <a:lnTo>
                  <a:pt x="0" y="207307"/>
                </a:lnTo>
                <a:cubicBezTo>
                  <a:pt x="0" y="155027"/>
                  <a:pt x="21190" y="107695"/>
                  <a:pt x="55451" y="73435"/>
                </a:cubicBezTo>
                <a:lnTo>
                  <a:pt x="67952" y="65006"/>
                </a:lnTo>
                <a:close/>
                <a:moveTo>
                  <a:pt x="223616" y="0"/>
                </a:moveTo>
                <a:cubicBezTo>
                  <a:pt x="284148" y="0"/>
                  <a:pt x="338949" y="24535"/>
                  <a:pt x="378617" y="64203"/>
                </a:cubicBezTo>
                <a:lnTo>
                  <a:pt x="417981" y="122588"/>
                </a:lnTo>
                <a:lnTo>
                  <a:pt x="417981" y="115560"/>
                </a:lnTo>
                <a:lnTo>
                  <a:pt x="580076" y="115560"/>
                </a:lnTo>
                <a:lnTo>
                  <a:pt x="580076" y="119534"/>
                </a:lnTo>
                <a:lnTo>
                  <a:pt x="599759" y="115560"/>
                </a:lnTo>
                <a:lnTo>
                  <a:pt x="1062468" y="115560"/>
                </a:lnTo>
                <a:cubicBezTo>
                  <a:pt x="1162861" y="115560"/>
                  <a:pt x="1244246" y="196945"/>
                  <a:pt x="1244246" y="297338"/>
                </a:cubicBezTo>
                <a:lnTo>
                  <a:pt x="1244246" y="848182"/>
                </a:lnTo>
                <a:cubicBezTo>
                  <a:pt x="1244246" y="948575"/>
                  <a:pt x="1162861" y="1029960"/>
                  <a:pt x="1062468" y="1029960"/>
                </a:cubicBezTo>
                <a:lnTo>
                  <a:pt x="599759" y="1029960"/>
                </a:lnTo>
                <a:lnTo>
                  <a:pt x="580076" y="1025986"/>
                </a:lnTo>
                <a:lnTo>
                  <a:pt x="580076" y="1029960"/>
                </a:lnTo>
                <a:lnTo>
                  <a:pt x="417981" y="1029960"/>
                </a:lnTo>
                <a:lnTo>
                  <a:pt x="417981" y="1022931"/>
                </a:lnTo>
                <a:lnTo>
                  <a:pt x="378616" y="1081317"/>
                </a:lnTo>
                <a:cubicBezTo>
                  <a:pt x="338948" y="1120985"/>
                  <a:pt x="284147" y="1145520"/>
                  <a:pt x="223615" y="1145520"/>
                </a:cubicBezTo>
                <a:lnTo>
                  <a:pt x="223616" y="1145519"/>
                </a:lnTo>
                <a:cubicBezTo>
                  <a:pt x="102552" y="1145519"/>
                  <a:pt x="4411" y="1047378"/>
                  <a:pt x="4411" y="926314"/>
                </a:cubicBezTo>
                <a:lnTo>
                  <a:pt x="4411" y="858001"/>
                </a:lnTo>
                <a:lnTo>
                  <a:pt x="14878" y="891719"/>
                </a:lnTo>
                <a:cubicBezTo>
                  <a:pt x="43619" y="959670"/>
                  <a:pt x="110903" y="1007349"/>
                  <a:pt x="189323" y="1007349"/>
                </a:cubicBezTo>
                <a:lnTo>
                  <a:pt x="189322" y="1007350"/>
                </a:lnTo>
                <a:cubicBezTo>
                  <a:pt x="293882" y="1007350"/>
                  <a:pt x="378645" y="922587"/>
                  <a:pt x="378645" y="818026"/>
                </a:cubicBezTo>
                <a:cubicBezTo>
                  <a:pt x="378645" y="614453"/>
                  <a:pt x="378646" y="410880"/>
                  <a:pt x="378646" y="207307"/>
                </a:cubicBezTo>
                <a:cubicBezTo>
                  <a:pt x="378646" y="102746"/>
                  <a:pt x="293883" y="17983"/>
                  <a:pt x="189323" y="17983"/>
                </a:cubicBezTo>
                <a:cubicBezTo>
                  <a:pt x="163183" y="17983"/>
                  <a:pt x="138280" y="23281"/>
                  <a:pt x="115630" y="32861"/>
                </a:cubicBezTo>
                <a:lnTo>
                  <a:pt x="67952" y="65006"/>
                </a:lnTo>
                <a:lnTo>
                  <a:pt x="68614" y="64203"/>
                </a:lnTo>
                <a:cubicBezTo>
                  <a:pt x="108283" y="24535"/>
                  <a:pt x="163084" y="0"/>
                  <a:pt x="2236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25"/>
          <p:cNvSpPr/>
          <p:nvPr/>
        </p:nvSpPr>
        <p:spPr>
          <a:xfrm>
            <a:off x="9553680" y="1452600"/>
            <a:ext cx="588960" cy="350640"/>
          </a:xfrm>
          <a:custGeom>
            <a:avLst/>
            <a:gdLst/>
            <a:ahLst/>
            <a:rect l="l" t="t" r="r" b="b"/>
            <a:pathLst>
              <a:path w="3043824" h="1810193">
                <a:moveTo>
                  <a:pt x="449999" y="1205901"/>
                </a:moveTo>
                <a:lnTo>
                  <a:pt x="449999" y="1359437"/>
                </a:lnTo>
                <a:lnTo>
                  <a:pt x="1214087" y="1359437"/>
                </a:lnTo>
                <a:lnTo>
                  <a:pt x="1214087" y="1231491"/>
                </a:lnTo>
                <a:cubicBezTo>
                  <a:pt x="1214087" y="1217358"/>
                  <a:pt x="1202630" y="1205901"/>
                  <a:pt x="1188497" y="1205901"/>
                </a:cubicBezTo>
                <a:lnTo>
                  <a:pt x="449999" y="1205901"/>
                </a:lnTo>
                <a:close/>
                <a:moveTo>
                  <a:pt x="449999" y="895609"/>
                </a:moveTo>
                <a:lnTo>
                  <a:pt x="449999" y="1049145"/>
                </a:lnTo>
                <a:lnTo>
                  <a:pt x="1214087" y="1049145"/>
                </a:lnTo>
                <a:lnTo>
                  <a:pt x="1214087" y="921199"/>
                </a:lnTo>
                <a:cubicBezTo>
                  <a:pt x="1214087" y="907066"/>
                  <a:pt x="1202630" y="895609"/>
                  <a:pt x="1188497" y="895609"/>
                </a:cubicBezTo>
                <a:lnTo>
                  <a:pt x="449999" y="895609"/>
                </a:lnTo>
                <a:close/>
                <a:moveTo>
                  <a:pt x="2079744" y="635604"/>
                </a:moveTo>
                <a:cubicBezTo>
                  <a:pt x="2290791" y="635604"/>
                  <a:pt x="2461879" y="806692"/>
                  <a:pt x="2461879" y="1017739"/>
                </a:cubicBezTo>
                <a:cubicBezTo>
                  <a:pt x="2461879" y="1228786"/>
                  <a:pt x="2290791" y="1399874"/>
                  <a:pt x="2079744" y="1399874"/>
                </a:cubicBezTo>
                <a:cubicBezTo>
                  <a:pt x="1868697" y="1399874"/>
                  <a:pt x="1697609" y="1228786"/>
                  <a:pt x="1697609" y="1017739"/>
                </a:cubicBezTo>
                <a:cubicBezTo>
                  <a:pt x="1697609" y="806692"/>
                  <a:pt x="1868697" y="635604"/>
                  <a:pt x="2079744" y="635604"/>
                </a:cubicBezTo>
                <a:close/>
                <a:moveTo>
                  <a:pt x="449999" y="594802"/>
                </a:moveTo>
                <a:lnTo>
                  <a:pt x="449999" y="748338"/>
                </a:lnTo>
                <a:lnTo>
                  <a:pt x="1214087" y="748338"/>
                </a:lnTo>
                <a:lnTo>
                  <a:pt x="1214087" y="620392"/>
                </a:lnTo>
                <a:cubicBezTo>
                  <a:pt x="1214087" y="606259"/>
                  <a:pt x="1202630" y="594802"/>
                  <a:pt x="1188497" y="594802"/>
                </a:cubicBezTo>
                <a:lnTo>
                  <a:pt x="449999" y="594802"/>
                </a:lnTo>
                <a:close/>
                <a:moveTo>
                  <a:pt x="2086507" y="425885"/>
                </a:moveTo>
                <a:cubicBezTo>
                  <a:pt x="1759635" y="425885"/>
                  <a:pt x="1494652" y="690868"/>
                  <a:pt x="1494652" y="1017740"/>
                </a:cubicBezTo>
                <a:cubicBezTo>
                  <a:pt x="1494652" y="1344612"/>
                  <a:pt x="1759635" y="1609595"/>
                  <a:pt x="2086507" y="1609595"/>
                </a:cubicBezTo>
                <a:cubicBezTo>
                  <a:pt x="2413379" y="1609595"/>
                  <a:pt x="2678362" y="1344612"/>
                  <a:pt x="2678362" y="1017740"/>
                </a:cubicBezTo>
                <a:cubicBezTo>
                  <a:pt x="2678362" y="690868"/>
                  <a:pt x="2413379" y="425885"/>
                  <a:pt x="2086507" y="425885"/>
                </a:cubicBezTo>
                <a:close/>
                <a:moveTo>
                  <a:pt x="237995" y="0"/>
                </a:moveTo>
                <a:lnTo>
                  <a:pt x="592898" y="0"/>
                </a:lnTo>
                <a:cubicBezTo>
                  <a:pt x="632100" y="0"/>
                  <a:pt x="663880" y="31780"/>
                  <a:pt x="663880" y="70982"/>
                </a:cubicBezTo>
                <a:lnTo>
                  <a:pt x="663880" y="119180"/>
                </a:lnTo>
                <a:lnTo>
                  <a:pt x="2761983" y="119180"/>
                </a:lnTo>
                <a:cubicBezTo>
                  <a:pt x="2917639" y="119180"/>
                  <a:pt x="3043824" y="245365"/>
                  <a:pt x="3043824" y="401021"/>
                </a:cubicBezTo>
                <a:lnTo>
                  <a:pt x="3043824" y="1528352"/>
                </a:lnTo>
                <a:cubicBezTo>
                  <a:pt x="3043824" y="1684008"/>
                  <a:pt x="2917639" y="1810193"/>
                  <a:pt x="2761983" y="1810193"/>
                </a:cubicBezTo>
                <a:lnTo>
                  <a:pt x="281841" y="1810193"/>
                </a:lnTo>
                <a:cubicBezTo>
                  <a:pt x="126185" y="1810193"/>
                  <a:pt x="0" y="1684008"/>
                  <a:pt x="0" y="1528352"/>
                </a:cubicBezTo>
                <a:lnTo>
                  <a:pt x="0" y="401021"/>
                </a:lnTo>
                <a:cubicBezTo>
                  <a:pt x="0" y="264822"/>
                  <a:pt x="96610" y="151187"/>
                  <a:pt x="225040" y="124906"/>
                </a:cubicBezTo>
                <a:lnTo>
                  <a:pt x="237995" y="123600"/>
                </a:lnTo>
                <a:lnTo>
                  <a:pt x="2379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46"/>
          <p:cNvSpPr/>
          <p:nvPr/>
        </p:nvSpPr>
        <p:spPr>
          <a:xfrm rot="6799800">
            <a:off x="6847560" y="2763000"/>
            <a:ext cx="716040" cy="930240"/>
          </a:xfrm>
          <a:custGeom>
            <a:avLst/>
            <a:gdLst>
              <a:gd name="textAreaLeft" fmla="*/ 0 w 716040"/>
              <a:gd name="textAreaRight" fmla="*/ 716400 w 71604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1668849" h="2166508">
                <a:moveTo>
                  <a:pt x="1102662" y="1799457"/>
                </a:moveTo>
                <a:cubicBezTo>
                  <a:pt x="1041320" y="1619526"/>
                  <a:pt x="1369131" y="1440332"/>
                  <a:pt x="1494914" y="1322392"/>
                </a:cubicBezTo>
                <a:lnTo>
                  <a:pt x="1668849" y="1811212"/>
                </a:lnTo>
                <a:cubicBezTo>
                  <a:pt x="1512809" y="1840397"/>
                  <a:pt x="1164003" y="1979388"/>
                  <a:pt x="1102662" y="1799457"/>
                </a:cubicBezTo>
                <a:close/>
                <a:moveTo>
                  <a:pt x="507526" y="419927"/>
                </a:moveTo>
                <a:cubicBezTo>
                  <a:pt x="418731" y="251839"/>
                  <a:pt x="759181" y="93482"/>
                  <a:pt x="887484" y="0"/>
                </a:cubicBezTo>
                <a:lnTo>
                  <a:pt x="1123714" y="461945"/>
                </a:lnTo>
                <a:cubicBezTo>
                  <a:pt x="951611" y="472515"/>
                  <a:pt x="596320" y="588013"/>
                  <a:pt x="507526" y="419927"/>
                </a:cubicBezTo>
                <a:close/>
                <a:moveTo>
                  <a:pt x="1022365" y="1909570"/>
                </a:moveTo>
                <a:cubicBezTo>
                  <a:pt x="1049836" y="1897719"/>
                  <a:pt x="1062498" y="1865841"/>
                  <a:pt x="1050647" y="1838370"/>
                </a:cubicBezTo>
                <a:cubicBezTo>
                  <a:pt x="1038796" y="1810898"/>
                  <a:pt x="1006918" y="1798235"/>
                  <a:pt x="979447" y="1810086"/>
                </a:cubicBezTo>
                <a:cubicBezTo>
                  <a:pt x="1000170" y="1815075"/>
                  <a:pt x="1017334" y="1829528"/>
                  <a:pt x="1025777" y="1849099"/>
                </a:cubicBezTo>
                <a:cubicBezTo>
                  <a:pt x="1034219" y="1868669"/>
                  <a:pt x="1032956" y="1891074"/>
                  <a:pt x="1022365" y="1909570"/>
                </a:cubicBezTo>
                <a:close/>
                <a:moveTo>
                  <a:pt x="415245" y="502263"/>
                </a:moveTo>
                <a:cubicBezTo>
                  <a:pt x="442716" y="490411"/>
                  <a:pt x="455379" y="458535"/>
                  <a:pt x="443527" y="431062"/>
                </a:cubicBezTo>
                <a:cubicBezTo>
                  <a:pt x="431675" y="403590"/>
                  <a:pt x="399798" y="390928"/>
                  <a:pt x="372328" y="402779"/>
                </a:cubicBezTo>
                <a:cubicBezTo>
                  <a:pt x="393049" y="407767"/>
                  <a:pt x="410214" y="422221"/>
                  <a:pt x="418657" y="441792"/>
                </a:cubicBezTo>
                <a:cubicBezTo>
                  <a:pt x="427099" y="461362"/>
                  <a:pt x="425835" y="483766"/>
                  <a:pt x="415245" y="502263"/>
                </a:cubicBezTo>
                <a:close/>
                <a:moveTo>
                  <a:pt x="768888" y="1517759"/>
                </a:moveTo>
                <a:cubicBezTo>
                  <a:pt x="669569" y="1282335"/>
                  <a:pt x="1080671" y="1099496"/>
                  <a:pt x="1284327" y="945181"/>
                </a:cubicBezTo>
                <a:lnTo>
                  <a:pt x="1451758" y="1325429"/>
                </a:lnTo>
                <a:lnTo>
                  <a:pt x="1397505" y="1359215"/>
                </a:lnTo>
                <a:cubicBezTo>
                  <a:pt x="1253236" y="1448127"/>
                  <a:pt x="1083209" y="1554741"/>
                  <a:pt x="1062912" y="1664543"/>
                </a:cubicBezTo>
                <a:cubicBezTo>
                  <a:pt x="1062721" y="1668981"/>
                  <a:pt x="1062530" y="1673419"/>
                  <a:pt x="1062339" y="1677856"/>
                </a:cubicBezTo>
                <a:lnTo>
                  <a:pt x="1050089" y="1679675"/>
                </a:lnTo>
                <a:cubicBezTo>
                  <a:pt x="864905" y="1700485"/>
                  <a:pt x="818547" y="1635470"/>
                  <a:pt x="768888" y="1517759"/>
                </a:cubicBezTo>
                <a:close/>
                <a:moveTo>
                  <a:pt x="483410" y="856019"/>
                </a:moveTo>
                <a:cubicBezTo>
                  <a:pt x="431860" y="739124"/>
                  <a:pt x="416376" y="660790"/>
                  <a:pt x="558584" y="540362"/>
                </a:cubicBezTo>
                <a:lnTo>
                  <a:pt x="568313" y="532698"/>
                </a:lnTo>
                <a:cubicBezTo>
                  <a:pt x="571671" y="535605"/>
                  <a:pt x="575032" y="538511"/>
                  <a:pt x="578390" y="541418"/>
                </a:cubicBezTo>
                <a:cubicBezTo>
                  <a:pt x="672191" y="601997"/>
                  <a:pt x="866415" y="551471"/>
                  <a:pt x="1030087" y="507536"/>
                </a:cubicBezTo>
                <a:lnTo>
                  <a:pt x="1091892" y="491255"/>
                </a:lnTo>
                <a:lnTo>
                  <a:pt x="1253605" y="873969"/>
                </a:lnTo>
                <a:cubicBezTo>
                  <a:pt x="1001607" y="916226"/>
                  <a:pt x="586513" y="1089811"/>
                  <a:pt x="483410" y="856019"/>
                </a:cubicBezTo>
                <a:close/>
                <a:moveTo>
                  <a:pt x="855467" y="1945022"/>
                </a:moveTo>
                <a:cubicBezTo>
                  <a:pt x="833025" y="1893004"/>
                  <a:pt x="870255" y="1826926"/>
                  <a:pt x="938620" y="1797433"/>
                </a:cubicBezTo>
                <a:cubicBezTo>
                  <a:pt x="1006986" y="1767939"/>
                  <a:pt x="1080599" y="1786200"/>
                  <a:pt x="1103040" y="1838218"/>
                </a:cubicBezTo>
                <a:cubicBezTo>
                  <a:pt x="1125481" y="1890237"/>
                  <a:pt x="1088252" y="1956315"/>
                  <a:pt x="1019886" y="1985808"/>
                </a:cubicBezTo>
                <a:cubicBezTo>
                  <a:pt x="951521" y="2015301"/>
                  <a:pt x="877907" y="1997041"/>
                  <a:pt x="855467" y="1945022"/>
                </a:cubicBezTo>
                <a:close/>
                <a:moveTo>
                  <a:pt x="232016" y="499859"/>
                </a:moveTo>
                <a:cubicBezTo>
                  <a:pt x="209575" y="447839"/>
                  <a:pt x="246804" y="381762"/>
                  <a:pt x="315169" y="352269"/>
                </a:cubicBezTo>
                <a:cubicBezTo>
                  <a:pt x="383535" y="322775"/>
                  <a:pt x="457148" y="341035"/>
                  <a:pt x="479590" y="393054"/>
                </a:cubicBezTo>
                <a:cubicBezTo>
                  <a:pt x="502031" y="445072"/>
                  <a:pt x="464802" y="511150"/>
                  <a:pt x="396435" y="540644"/>
                </a:cubicBezTo>
                <a:cubicBezTo>
                  <a:pt x="328070" y="570137"/>
                  <a:pt x="254457" y="551877"/>
                  <a:pt x="232016" y="499859"/>
                </a:cubicBezTo>
                <a:close/>
                <a:moveTo>
                  <a:pt x="630585" y="1602453"/>
                </a:moveTo>
                <a:cubicBezTo>
                  <a:pt x="661526" y="1609901"/>
                  <a:pt x="687155" y="1631483"/>
                  <a:pt x="699762" y="1660705"/>
                </a:cubicBezTo>
                <a:cubicBezTo>
                  <a:pt x="712369" y="1689927"/>
                  <a:pt x="710481" y="1723380"/>
                  <a:pt x="694668" y="1750998"/>
                </a:cubicBezTo>
                <a:cubicBezTo>
                  <a:pt x="735687" y="1733302"/>
                  <a:pt x="754595" y="1685704"/>
                  <a:pt x="736898" y="1644684"/>
                </a:cubicBezTo>
                <a:cubicBezTo>
                  <a:pt x="719202" y="1603664"/>
                  <a:pt x="671604" y="1584757"/>
                  <a:pt x="630585" y="1602453"/>
                </a:cubicBezTo>
                <a:close/>
                <a:moveTo>
                  <a:pt x="326900" y="898510"/>
                </a:moveTo>
                <a:cubicBezTo>
                  <a:pt x="367920" y="880814"/>
                  <a:pt x="386828" y="833216"/>
                  <a:pt x="369131" y="792196"/>
                </a:cubicBezTo>
                <a:cubicBezTo>
                  <a:pt x="351435" y="751176"/>
                  <a:pt x="303837" y="732270"/>
                  <a:pt x="262817" y="749965"/>
                </a:cubicBezTo>
                <a:cubicBezTo>
                  <a:pt x="293758" y="757414"/>
                  <a:pt x="319388" y="778994"/>
                  <a:pt x="331995" y="808217"/>
                </a:cubicBezTo>
                <a:cubicBezTo>
                  <a:pt x="344601" y="837439"/>
                  <a:pt x="342714" y="870892"/>
                  <a:pt x="326900" y="898510"/>
                </a:cubicBezTo>
                <a:close/>
                <a:moveTo>
                  <a:pt x="760814" y="2142007"/>
                </a:moveTo>
                <a:lnTo>
                  <a:pt x="806202" y="2122426"/>
                </a:lnTo>
                <a:lnTo>
                  <a:pt x="745680" y="1982134"/>
                </a:lnTo>
                <a:lnTo>
                  <a:pt x="700291" y="2001715"/>
                </a:lnTo>
                <a:lnTo>
                  <a:pt x="760814" y="2142007"/>
                </a:lnTo>
                <a:close/>
                <a:moveTo>
                  <a:pt x="83851" y="572805"/>
                </a:moveTo>
                <a:lnTo>
                  <a:pt x="129239" y="553224"/>
                </a:lnTo>
                <a:lnTo>
                  <a:pt x="68717" y="412932"/>
                </a:lnTo>
                <a:lnTo>
                  <a:pt x="23328" y="432513"/>
                </a:lnTo>
                <a:lnTo>
                  <a:pt x="83851" y="572805"/>
                </a:lnTo>
                <a:close/>
                <a:moveTo>
                  <a:pt x="741027" y="2152866"/>
                </a:moveTo>
                <a:lnTo>
                  <a:pt x="736621" y="2142654"/>
                </a:lnTo>
                <a:lnTo>
                  <a:pt x="716595" y="2096234"/>
                </a:lnTo>
                <a:lnTo>
                  <a:pt x="678814" y="2008655"/>
                </a:lnTo>
                <a:cubicBezTo>
                  <a:pt x="673873" y="1997204"/>
                  <a:pt x="679151" y="1983916"/>
                  <a:pt x="690603" y="1978976"/>
                </a:cubicBezTo>
                <a:lnTo>
                  <a:pt x="742438" y="1956614"/>
                </a:lnTo>
                <a:lnTo>
                  <a:pt x="773540" y="1943196"/>
                </a:lnTo>
                <a:cubicBezTo>
                  <a:pt x="784992" y="1938256"/>
                  <a:pt x="798279" y="1943534"/>
                  <a:pt x="803220" y="1954986"/>
                </a:cubicBezTo>
                <a:lnTo>
                  <a:pt x="841002" y="2042565"/>
                </a:lnTo>
                <a:lnTo>
                  <a:pt x="899658" y="2079050"/>
                </a:lnTo>
                <a:lnTo>
                  <a:pt x="861027" y="2088985"/>
                </a:lnTo>
                <a:lnTo>
                  <a:pt x="865433" y="2099197"/>
                </a:lnTo>
                <a:cubicBezTo>
                  <a:pt x="870373" y="2110649"/>
                  <a:pt x="865095" y="2123936"/>
                  <a:pt x="853643" y="2128877"/>
                </a:cubicBezTo>
                <a:lnTo>
                  <a:pt x="822542" y="2142294"/>
                </a:lnTo>
                <a:lnTo>
                  <a:pt x="770707" y="2164656"/>
                </a:lnTo>
                <a:cubicBezTo>
                  <a:pt x="759255" y="2169596"/>
                  <a:pt x="745967" y="2164318"/>
                  <a:pt x="741027" y="2152866"/>
                </a:cubicBezTo>
                <a:close/>
                <a:moveTo>
                  <a:pt x="64065" y="583665"/>
                </a:moveTo>
                <a:lnTo>
                  <a:pt x="59659" y="573452"/>
                </a:lnTo>
                <a:lnTo>
                  <a:pt x="39634" y="527033"/>
                </a:lnTo>
                <a:lnTo>
                  <a:pt x="1852" y="439454"/>
                </a:lnTo>
                <a:cubicBezTo>
                  <a:pt x="-3088" y="428002"/>
                  <a:pt x="2190" y="414714"/>
                  <a:pt x="13642" y="409774"/>
                </a:cubicBezTo>
                <a:lnTo>
                  <a:pt x="65477" y="387412"/>
                </a:lnTo>
                <a:lnTo>
                  <a:pt x="96578" y="373995"/>
                </a:lnTo>
                <a:cubicBezTo>
                  <a:pt x="108030" y="369054"/>
                  <a:pt x="121318" y="374333"/>
                  <a:pt x="126258" y="385784"/>
                </a:cubicBezTo>
                <a:lnTo>
                  <a:pt x="164040" y="473363"/>
                </a:lnTo>
                <a:lnTo>
                  <a:pt x="225570" y="539197"/>
                </a:lnTo>
                <a:lnTo>
                  <a:pt x="184066" y="519783"/>
                </a:lnTo>
                <a:lnTo>
                  <a:pt x="188471" y="529995"/>
                </a:lnTo>
                <a:cubicBezTo>
                  <a:pt x="193411" y="541447"/>
                  <a:pt x="188133" y="554735"/>
                  <a:pt x="176681" y="559675"/>
                </a:cubicBezTo>
                <a:lnTo>
                  <a:pt x="145580" y="573092"/>
                </a:lnTo>
                <a:lnTo>
                  <a:pt x="93745" y="595454"/>
                </a:lnTo>
                <a:cubicBezTo>
                  <a:pt x="82293" y="600395"/>
                  <a:pt x="69005" y="595116"/>
                  <a:pt x="64065" y="583665"/>
                </a:cubicBezTo>
                <a:close/>
                <a:moveTo>
                  <a:pt x="437873" y="1794192"/>
                </a:moveTo>
                <a:cubicBezTo>
                  <a:pt x="405370" y="1718852"/>
                  <a:pt x="459290" y="1623148"/>
                  <a:pt x="558307" y="1580432"/>
                </a:cubicBezTo>
                <a:cubicBezTo>
                  <a:pt x="657324" y="1537716"/>
                  <a:pt x="763941" y="1564163"/>
                  <a:pt x="796443" y="1639503"/>
                </a:cubicBezTo>
                <a:cubicBezTo>
                  <a:pt x="828945" y="1714843"/>
                  <a:pt x="775024" y="1810547"/>
                  <a:pt x="676008" y="1853263"/>
                </a:cubicBezTo>
                <a:cubicBezTo>
                  <a:pt x="576991" y="1895979"/>
                  <a:pt x="470375" y="1869532"/>
                  <a:pt x="437873" y="1794192"/>
                </a:cubicBezTo>
                <a:close/>
                <a:moveTo>
                  <a:pt x="55187" y="907125"/>
                </a:moveTo>
                <a:cubicBezTo>
                  <a:pt x="22686" y="831784"/>
                  <a:pt x="76606" y="736081"/>
                  <a:pt x="175623" y="693365"/>
                </a:cubicBezTo>
                <a:cubicBezTo>
                  <a:pt x="274639" y="650649"/>
                  <a:pt x="381256" y="677096"/>
                  <a:pt x="413759" y="752436"/>
                </a:cubicBezTo>
                <a:cubicBezTo>
                  <a:pt x="446261" y="827777"/>
                  <a:pt x="392340" y="923479"/>
                  <a:pt x="293323" y="966196"/>
                </a:cubicBezTo>
                <a:cubicBezTo>
                  <a:pt x="194306" y="1008913"/>
                  <a:pt x="87689" y="982465"/>
                  <a:pt x="55187" y="907125"/>
                </a:cubicBezTo>
                <a:close/>
                <a:moveTo>
                  <a:pt x="170442" y="1316542"/>
                </a:moveTo>
                <a:lnTo>
                  <a:pt x="234284" y="1289000"/>
                </a:lnTo>
                <a:lnTo>
                  <a:pt x="149154" y="1091670"/>
                </a:lnTo>
                <a:lnTo>
                  <a:pt x="85313" y="1119211"/>
                </a:lnTo>
                <a:lnTo>
                  <a:pt x="170442" y="1316542"/>
                </a:lnTo>
                <a:close/>
                <a:moveTo>
                  <a:pt x="140570" y="1332698"/>
                </a:moveTo>
                <a:lnTo>
                  <a:pt x="87427" y="1209512"/>
                </a:lnTo>
                <a:lnTo>
                  <a:pt x="59260" y="1144220"/>
                </a:lnTo>
                <a:lnTo>
                  <a:pt x="53063" y="1129856"/>
                </a:lnTo>
                <a:cubicBezTo>
                  <a:pt x="46114" y="1113749"/>
                  <a:pt x="53539" y="1095058"/>
                  <a:pt x="69646" y="1088109"/>
                </a:cubicBezTo>
                <a:lnTo>
                  <a:pt x="142556" y="1056656"/>
                </a:lnTo>
                <a:lnTo>
                  <a:pt x="186302" y="1037783"/>
                </a:lnTo>
                <a:cubicBezTo>
                  <a:pt x="202409" y="1030835"/>
                  <a:pt x="221100" y="1038259"/>
                  <a:pt x="228048" y="1054366"/>
                </a:cubicBezTo>
                <a:lnTo>
                  <a:pt x="234245" y="1068731"/>
                </a:lnTo>
                <a:lnTo>
                  <a:pt x="281695" y="1038794"/>
                </a:lnTo>
                <a:lnTo>
                  <a:pt x="262412" y="1134023"/>
                </a:lnTo>
                <a:lnTo>
                  <a:pt x="315555" y="1257209"/>
                </a:lnTo>
                <a:cubicBezTo>
                  <a:pt x="322504" y="1273316"/>
                  <a:pt x="315079" y="1292007"/>
                  <a:pt x="298972" y="1298955"/>
                </a:cubicBezTo>
                <a:lnTo>
                  <a:pt x="255227" y="1317828"/>
                </a:lnTo>
                <a:lnTo>
                  <a:pt x="182317" y="1349281"/>
                </a:lnTo>
                <a:cubicBezTo>
                  <a:pt x="166210" y="1356230"/>
                  <a:pt x="147519" y="1348805"/>
                  <a:pt x="140570" y="1332698"/>
                </a:cubicBezTo>
                <a:close/>
                <a:moveTo>
                  <a:pt x="210666" y="1763020"/>
                </a:moveTo>
                <a:lnTo>
                  <a:pt x="274508" y="1735479"/>
                </a:lnTo>
                <a:lnTo>
                  <a:pt x="189379" y="1538148"/>
                </a:lnTo>
                <a:lnTo>
                  <a:pt x="125537" y="1565690"/>
                </a:lnTo>
                <a:lnTo>
                  <a:pt x="210666" y="1763020"/>
                </a:lnTo>
                <a:close/>
                <a:moveTo>
                  <a:pt x="180794" y="1779175"/>
                </a:moveTo>
                <a:lnTo>
                  <a:pt x="174597" y="1764811"/>
                </a:lnTo>
                <a:lnTo>
                  <a:pt x="146430" y="1699519"/>
                </a:lnTo>
                <a:lnTo>
                  <a:pt x="93287" y="1576333"/>
                </a:lnTo>
                <a:cubicBezTo>
                  <a:pt x="86338" y="1560226"/>
                  <a:pt x="93763" y="1541535"/>
                  <a:pt x="109870" y="1534586"/>
                </a:cubicBezTo>
                <a:lnTo>
                  <a:pt x="182780" y="1503133"/>
                </a:lnTo>
                <a:lnTo>
                  <a:pt x="226526" y="1484261"/>
                </a:lnTo>
                <a:cubicBezTo>
                  <a:pt x="242633" y="1477312"/>
                  <a:pt x="261324" y="1484737"/>
                  <a:pt x="268272" y="1500844"/>
                </a:cubicBezTo>
                <a:lnTo>
                  <a:pt x="321415" y="1624029"/>
                </a:lnTo>
                <a:lnTo>
                  <a:pt x="403919" y="1675347"/>
                </a:lnTo>
                <a:lnTo>
                  <a:pt x="349582" y="1689322"/>
                </a:lnTo>
                <a:lnTo>
                  <a:pt x="355779" y="1703686"/>
                </a:lnTo>
                <a:cubicBezTo>
                  <a:pt x="362728" y="1719793"/>
                  <a:pt x="355303" y="1738484"/>
                  <a:pt x="339196" y="1745433"/>
                </a:cubicBezTo>
                <a:lnTo>
                  <a:pt x="295451" y="1764305"/>
                </a:lnTo>
                <a:lnTo>
                  <a:pt x="222541" y="1795758"/>
                </a:lnTo>
                <a:cubicBezTo>
                  <a:pt x="206434" y="1802707"/>
                  <a:pt x="187743" y="1795283"/>
                  <a:pt x="180794" y="1779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49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688857" h="1436015">
                  <a:moveTo>
                    <a:pt x="917993" y="1163096"/>
                  </a:moveTo>
                  <a:cubicBezTo>
                    <a:pt x="834476" y="918120"/>
                    <a:pt x="1280791" y="674147"/>
                    <a:pt x="1452044" y="513573"/>
                  </a:cubicBezTo>
                  <a:lnTo>
                    <a:pt x="1688857" y="1179100"/>
                  </a:lnTo>
                  <a:cubicBezTo>
                    <a:pt x="1476408" y="1218836"/>
                    <a:pt x="1001510" y="1408071"/>
                    <a:pt x="917993" y="1163096"/>
                  </a:cubicBezTo>
                  <a:close/>
                  <a:moveTo>
                    <a:pt x="808669" y="1313015"/>
                  </a:moveTo>
                  <a:cubicBezTo>
                    <a:pt x="846071" y="1296879"/>
                    <a:pt x="863311" y="1253478"/>
                    <a:pt x="847176" y="1216076"/>
                  </a:cubicBezTo>
                  <a:cubicBezTo>
                    <a:pt x="831041" y="1178674"/>
                    <a:pt x="787639" y="1161434"/>
                    <a:pt x="750237" y="1177569"/>
                  </a:cubicBezTo>
                  <a:lnTo>
                    <a:pt x="750238" y="1177571"/>
                  </a:lnTo>
                  <a:cubicBezTo>
                    <a:pt x="778451" y="1184362"/>
                    <a:pt x="801820" y="1204040"/>
                    <a:pt x="813315" y="1230685"/>
                  </a:cubicBezTo>
                  <a:cubicBezTo>
                    <a:pt x="824810" y="1257329"/>
                    <a:pt x="823088" y="1287832"/>
                    <a:pt x="808669" y="1313015"/>
                  </a:cubicBezTo>
                  <a:close/>
                  <a:moveTo>
                    <a:pt x="463560" y="779564"/>
                  </a:moveTo>
                  <a:cubicBezTo>
                    <a:pt x="328338" y="459035"/>
                    <a:pt x="888052" y="210099"/>
                    <a:pt x="1165330" y="0"/>
                  </a:cubicBezTo>
                  <a:lnTo>
                    <a:pt x="1393287" y="517707"/>
                  </a:lnTo>
                  <a:lnTo>
                    <a:pt x="1319423" y="563707"/>
                  </a:lnTo>
                  <a:cubicBezTo>
                    <a:pt x="1123000" y="684760"/>
                    <a:pt x="891509" y="829916"/>
                    <a:pt x="863874" y="979411"/>
                  </a:cubicBezTo>
                  <a:cubicBezTo>
                    <a:pt x="863614" y="985452"/>
                    <a:pt x="863353" y="991495"/>
                    <a:pt x="863094" y="997537"/>
                  </a:cubicBezTo>
                  <a:lnTo>
                    <a:pt x="846416" y="1000013"/>
                  </a:lnTo>
                  <a:cubicBezTo>
                    <a:pt x="594288" y="1028346"/>
                    <a:pt x="531171" y="939828"/>
                    <a:pt x="463560" y="779564"/>
                  </a:cubicBezTo>
                  <a:close/>
                  <a:moveTo>
                    <a:pt x="581437" y="1361283"/>
                  </a:moveTo>
                  <a:cubicBezTo>
                    <a:pt x="550884" y="1290460"/>
                    <a:pt x="601571" y="1200495"/>
                    <a:pt x="694651" y="1160340"/>
                  </a:cubicBezTo>
                  <a:cubicBezTo>
                    <a:pt x="787731" y="1120185"/>
                    <a:pt x="887955" y="1145046"/>
                    <a:pt x="918508" y="1215868"/>
                  </a:cubicBezTo>
                  <a:cubicBezTo>
                    <a:pt x="949062" y="1286692"/>
                    <a:pt x="898374" y="1376657"/>
                    <a:pt x="805294" y="1416812"/>
                  </a:cubicBezTo>
                  <a:cubicBezTo>
                    <a:pt x="712215" y="1456967"/>
                    <a:pt x="611990" y="1432106"/>
                    <a:pt x="581437" y="1361283"/>
                  </a:cubicBezTo>
                  <a:close/>
                  <a:moveTo>
                    <a:pt x="275262" y="894876"/>
                  </a:moveTo>
                  <a:cubicBezTo>
                    <a:pt x="317390" y="905017"/>
                    <a:pt x="352284" y="934399"/>
                    <a:pt x="369448" y="974186"/>
                  </a:cubicBezTo>
                  <a:cubicBezTo>
                    <a:pt x="386612" y="1013972"/>
                    <a:pt x="384042" y="1059518"/>
                    <a:pt x="362511" y="1097120"/>
                  </a:cubicBezTo>
                  <a:cubicBezTo>
                    <a:pt x="418360" y="1073027"/>
                    <a:pt x="444102" y="1008222"/>
                    <a:pt x="420009" y="952373"/>
                  </a:cubicBezTo>
                  <a:cubicBezTo>
                    <a:pt x="395915" y="896525"/>
                    <a:pt x="331110" y="870782"/>
                    <a:pt x="275262" y="894876"/>
                  </a:cubicBezTo>
                  <a:close/>
                  <a:moveTo>
                    <a:pt x="12883" y="1155927"/>
                  </a:moveTo>
                  <a:cubicBezTo>
                    <a:pt x="-31369" y="1053353"/>
                    <a:pt x="42044" y="923051"/>
                    <a:pt x="176855" y="864893"/>
                  </a:cubicBezTo>
                  <a:cubicBezTo>
                    <a:pt x="311666" y="806735"/>
                    <a:pt x="456825" y="842743"/>
                    <a:pt x="501077" y="945319"/>
                  </a:cubicBezTo>
                  <a:cubicBezTo>
                    <a:pt x="545328" y="1047894"/>
                    <a:pt x="471915" y="1178195"/>
                    <a:pt x="337105" y="1236353"/>
                  </a:cubicBezTo>
                  <a:cubicBezTo>
                    <a:pt x="202293" y="1294511"/>
                    <a:pt x="57135" y="1258502"/>
                    <a:pt x="12883" y="11559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56"/>
            <p:cNvSpPr/>
            <p:nvPr/>
          </p:nvSpPr>
          <p:spPr>
            <a:xfrm>
              <a:off x="8537760" y="3138480"/>
              <a:ext cx="496800" cy="31752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287300" h="821679">
                  <a:moveTo>
                    <a:pt x="353218" y="0"/>
                  </a:moveTo>
                  <a:lnTo>
                    <a:pt x="906336" y="0"/>
                  </a:lnTo>
                  <a:cubicBezTo>
                    <a:pt x="963634" y="0"/>
                    <a:pt x="1010084" y="46450"/>
                    <a:pt x="1010084" y="103748"/>
                  </a:cubicBezTo>
                  <a:lnTo>
                    <a:pt x="1010084" y="118745"/>
                  </a:lnTo>
                  <a:lnTo>
                    <a:pt x="1170142" y="118745"/>
                  </a:lnTo>
                  <a:cubicBezTo>
                    <a:pt x="1234847" y="118745"/>
                    <a:pt x="1287300" y="171198"/>
                    <a:pt x="1287300" y="235903"/>
                  </a:cubicBezTo>
                  <a:lnTo>
                    <a:pt x="1287300" y="704521"/>
                  </a:lnTo>
                  <a:cubicBezTo>
                    <a:pt x="1287300" y="769226"/>
                    <a:pt x="1234847" y="821679"/>
                    <a:pt x="1170142" y="821679"/>
                  </a:cubicBezTo>
                  <a:lnTo>
                    <a:pt x="117158" y="821679"/>
                  </a:lnTo>
                  <a:cubicBezTo>
                    <a:pt x="52453" y="821679"/>
                    <a:pt x="0" y="769226"/>
                    <a:pt x="0" y="704521"/>
                  </a:cubicBezTo>
                  <a:lnTo>
                    <a:pt x="0" y="235903"/>
                  </a:lnTo>
                  <a:cubicBezTo>
                    <a:pt x="0" y="171198"/>
                    <a:pt x="52453" y="118745"/>
                    <a:pt x="117158" y="118745"/>
                  </a:cubicBezTo>
                  <a:lnTo>
                    <a:pt x="249470" y="118745"/>
                  </a:lnTo>
                  <a:lnTo>
                    <a:pt x="249470" y="103748"/>
                  </a:lnTo>
                  <a:cubicBezTo>
                    <a:pt x="249470" y="46450"/>
                    <a:pt x="295920" y="0"/>
                    <a:pt x="353218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52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0240 w 146160"/>
                <a:gd name="textAreaRight" fmla="*/ 115920 w 146160"/>
                <a:gd name="textAreaTop" fmla="*/ 36000 h 172800"/>
                <a:gd name="textAreaBottom" fmla="*/ 1368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6800 w 224280"/>
                <a:gd name="textAreaRight" fmla="*/ 177840 w 224280"/>
                <a:gd name="textAreaTop" fmla="*/ 55080 h 264960"/>
                <a:gd name="textAreaBottom" fmla="*/ 20988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6800 w 224280"/>
                <a:gd name="textAreaRight" fmla="*/ 177840 w 224280"/>
                <a:gd name="textAreaTop" fmla="*/ 55080 h 264960"/>
                <a:gd name="textAreaBottom" fmla="*/ 20988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72"/>
          <p:cNvSpPr/>
          <p:nvPr/>
        </p:nvSpPr>
        <p:spPr>
          <a:xfrm>
            <a:off x="10352160" y="2162160"/>
            <a:ext cx="604800" cy="419040"/>
          </a:xfrm>
          <a:custGeom>
            <a:avLst/>
            <a:gdLst>
              <a:gd name="textAreaLeft" fmla="*/ 0 w 604800"/>
              <a:gd name="textAreaRight" fmla="*/ 605160 w 604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268187" h="1579418">
                <a:moveTo>
                  <a:pt x="154380" y="1555667"/>
                </a:moveTo>
                <a:lnTo>
                  <a:pt x="154380" y="819398"/>
                </a:lnTo>
                <a:lnTo>
                  <a:pt x="0" y="819398"/>
                </a:lnTo>
                <a:lnTo>
                  <a:pt x="819398" y="0"/>
                </a:lnTo>
                <a:lnTo>
                  <a:pt x="1413164" y="593766"/>
                </a:lnTo>
                <a:lnTo>
                  <a:pt x="1603169" y="403761"/>
                </a:lnTo>
                <a:lnTo>
                  <a:pt x="2268187" y="1068779"/>
                </a:lnTo>
                <a:lnTo>
                  <a:pt x="2244437" y="1116281"/>
                </a:lnTo>
                <a:lnTo>
                  <a:pt x="2137559" y="1116281"/>
                </a:lnTo>
                <a:lnTo>
                  <a:pt x="2137559" y="1579418"/>
                </a:lnTo>
                <a:lnTo>
                  <a:pt x="1805050" y="1579418"/>
                </a:lnTo>
                <a:lnTo>
                  <a:pt x="1805050" y="1151907"/>
                </a:lnTo>
                <a:lnTo>
                  <a:pt x="1567543" y="1151907"/>
                </a:lnTo>
                <a:lnTo>
                  <a:pt x="1567543" y="1567543"/>
                </a:lnTo>
                <a:lnTo>
                  <a:pt x="973777" y="1567543"/>
                </a:lnTo>
                <a:lnTo>
                  <a:pt x="973777" y="938151"/>
                </a:lnTo>
                <a:lnTo>
                  <a:pt x="712520" y="938151"/>
                </a:lnTo>
                <a:lnTo>
                  <a:pt x="712520" y="1543792"/>
                </a:lnTo>
                <a:lnTo>
                  <a:pt x="154380" y="15556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74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>
              <a:gd name="textAreaLeft" fmla="*/ 0 w 5772240"/>
              <a:gd name="textAreaRight" fmla="*/ 5772600 w 5772240"/>
              <a:gd name="textAreaTop" fmla="*/ 0 h 4078080"/>
              <a:gd name="textAreaBottom" fmla="*/ 4078440 h 407808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>
              <a:gd name="textAreaLeft" fmla="*/ 0 w 390240"/>
              <a:gd name="textAreaRight" fmla="*/ 390600 w 3902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44"/>
          <p:cNvSpPr/>
          <p:nvPr/>
        </p:nvSpPr>
        <p:spPr>
          <a:xfrm rot="10800000">
            <a:off x="2358720" y="2974680"/>
            <a:ext cx="1849320" cy="146844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46"/>
          <p:cNvSpPr/>
          <p:nvPr/>
        </p:nvSpPr>
        <p:spPr>
          <a:xfrm rot="16200000">
            <a:off x="2216880" y="3342240"/>
            <a:ext cx="733320" cy="1468440"/>
          </a:xfrm>
          <a:custGeom>
            <a:avLst/>
            <a:gdLst>
              <a:gd name="textAreaLeft" fmla="*/ 0 w 733320"/>
              <a:gd name="textAreaRight" fmla="*/ 733680 w 733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71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77" name="空心弧 7"/>
            <p:cNvSpPr/>
            <p:nvPr/>
          </p:nvSpPr>
          <p:spPr>
            <a:xfrm rot="7189200">
              <a:off x="6456960" y="1330920"/>
              <a:ext cx="2034720" cy="2033640"/>
            </a:xfrm>
            <a:custGeom>
              <a:avLst/>
              <a:gdLst>
                <a:gd name="textAreaLeft" fmla="*/ 0 w 2034720"/>
                <a:gd name="textAreaRight" fmla="*/ 2035080 w 2034720"/>
                <a:gd name="textAreaTop" fmla="*/ 0 h 2033640"/>
                <a:gd name="textAreaBottom" fmla="*/ 360360 h 20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18" y="8353"/>
                  </a:moveTo>
                  <a:cubicBezTo>
                    <a:pt x="5622" y="5817"/>
                    <a:pt x="8072" y="4152"/>
                    <a:pt x="10799" y="4152"/>
                  </a:cubicBezTo>
                  <a:cubicBezTo>
                    <a:pt x="13527" y="4152"/>
                    <a:pt x="15977" y="5817"/>
                    <a:pt x="16981" y="8353"/>
                  </a:cubicBezTo>
                  <a:lnTo>
                    <a:pt x="20841" y="6824"/>
                  </a:lnTo>
                  <a:cubicBezTo>
                    <a:pt x="19211" y="2705"/>
                    <a:pt x="15230" y="0"/>
                    <a:pt x="10800" y="0"/>
                  </a:cubicBezTo>
                  <a:cubicBezTo>
                    <a:pt x="6369" y="0"/>
                    <a:pt x="2388" y="2705"/>
                    <a:pt x="758" y="6824"/>
                  </a:cubicBezTo>
                  <a:lnTo>
                    <a:pt x="4618" y="8353"/>
                  </a:lnTo>
                  <a:close/>
                </a:path>
              </a:pathLst>
            </a:cu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空心弧 8"/>
            <p:cNvSpPr/>
            <p:nvPr/>
          </p:nvSpPr>
          <p:spPr>
            <a:xfrm>
              <a:off x="6458040" y="1320840"/>
              <a:ext cx="2033640" cy="20347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2034720"/>
                <a:gd name="textAreaBottom" fmla="*/ 244800 h 203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031" y="7467"/>
                  </a:moveTo>
                  <a:cubicBezTo>
                    <a:pt x="6221" y="5406"/>
                    <a:pt x="8420" y="4138"/>
                    <a:pt x="10799" y="4138"/>
                  </a:cubicBezTo>
                  <a:cubicBezTo>
                    <a:pt x="13179" y="4138"/>
                    <a:pt x="15378" y="5406"/>
                    <a:pt x="16568" y="7467"/>
                  </a:cubicBezTo>
                  <a:lnTo>
                    <a:pt x="20151" y="5397"/>
                  </a:lnTo>
                  <a:cubicBezTo>
                    <a:pt x="18221" y="2057"/>
                    <a:pt x="14657" y="0"/>
                    <a:pt x="10800" y="0"/>
                  </a:cubicBezTo>
                  <a:cubicBezTo>
                    <a:pt x="6942" y="0"/>
                    <a:pt x="3378" y="2057"/>
                    <a:pt x="1448" y="5397"/>
                  </a:cubicBezTo>
                  <a:lnTo>
                    <a:pt x="5031" y="746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空心弧 9"/>
            <p:cNvSpPr/>
            <p:nvPr/>
          </p:nvSpPr>
          <p:spPr>
            <a:xfrm>
              <a:off x="6458040" y="1330920"/>
              <a:ext cx="2033640" cy="20347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2034720"/>
                <a:gd name="textAreaBottom" fmla="*/ 1994400 h 203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958" y="17405"/>
                  </a:moveTo>
                  <a:cubicBezTo>
                    <a:pt x="6633" y="16982"/>
                    <a:pt x="4141" y="14152"/>
                    <a:pt x="4141" y="10800"/>
                  </a:cubicBezTo>
                  <a:cubicBezTo>
                    <a:pt x="4141" y="7122"/>
                    <a:pt x="7122" y="4141"/>
                    <a:pt x="10800" y="4141"/>
                  </a:cubicBezTo>
                  <a:cubicBezTo>
                    <a:pt x="14477" y="4141"/>
                    <a:pt x="17459" y="7122"/>
                    <a:pt x="17459" y="10800"/>
                  </a:cubicBezTo>
                  <a:cubicBezTo>
                    <a:pt x="17459" y="14152"/>
                    <a:pt x="14966" y="16982"/>
                    <a:pt x="11641" y="17405"/>
                  </a:cubicBezTo>
                  <a:lnTo>
                    <a:pt x="12164" y="21513"/>
                  </a:lnTo>
                  <a:cubicBezTo>
                    <a:pt x="17558" y="20826"/>
                    <a:pt x="21600" y="1623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237"/>
                    <a:pt x="4041" y="20826"/>
                    <a:pt x="9435" y="21513"/>
                  </a:cubicBezTo>
                  <a:lnTo>
                    <a:pt x="9958" y="17405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任意多边形 28"/>
          <p:cNvSpPr/>
          <p:nvPr/>
        </p:nvSpPr>
        <p:spPr>
          <a:xfrm>
            <a:off x="5794200" y="606600"/>
            <a:ext cx="5770800" cy="4078080"/>
          </a:xfrm>
          <a:custGeom>
            <a:avLst/>
            <a:gdLst>
              <a:gd name="textAreaLeft" fmla="*/ 0 w 5770800"/>
              <a:gd name="textAreaRight" fmla="*/ 5771160 w 5770800"/>
              <a:gd name="textAreaTop" fmla="*/ 0 h 4078080"/>
              <a:gd name="textAreaBottom" fmla="*/ 4078440 h 407808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42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>
              <a:gd name="textAreaLeft" fmla="*/ 0 w 390240"/>
              <a:gd name="textAreaRight" fmla="*/ 390600 w 3902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43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44"/>
          <p:cNvSpPr/>
          <p:nvPr/>
        </p:nvSpPr>
        <p:spPr>
          <a:xfrm rot="10800000">
            <a:off x="2357280" y="2977920"/>
            <a:ext cx="1849680" cy="1468440"/>
          </a:xfrm>
          <a:custGeom>
            <a:avLst/>
            <a:gdLst>
              <a:gd name="textAreaLeft" fmla="*/ 0 w 1849680"/>
              <a:gd name="textAreaRight" fmla="*/ 1850040 w 18496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45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46"/>
          <p:cNvSpPr/>
          <p:nvPr/>
        </p:nvSpPr>
        <p:spPr>
          <a:xfrm rot="16200000">
            <a:off x="2237760" y="3350160"/>
            <a:ext cx="733320" cy="1468440"/>
          </a:xfrm>
          <a:custGeom>
            <a:avLst/>
            <a:gdLst>
              <a:gd name="textAreaLeft" fmla="*/ 0 w 733320"/>
              <a:gd name="textAreaRight" fmla="*/ 733680 w 733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字不如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任意多边形 41"/>
          <p:cNvSpPr/>
          <p:nvPr/>
        </p:nvSpPr>
        <p:spPr>
          <a:xfrm>
            <a:off x="7504200" y="960480"/>
            <a:ext cx="3427200" cy="2557440"/>
          </a:xfrm>
          <a:custGeom>
            <a:avLst/>
            <a:gdLst>
              <a:gd name="textAreaLeft" fmla="*/ 0 w 3427200"/>
              <a:gd name="textAreaRight" fmla="*/ 3427560 w 3427200"/>
              <a:gd name="textAreaTop" fmla="*/ 0 h 2557440"/>
              <a:gd name="textAreaBottom" fmla="*/ 2557440 h 2557440"/>
            </a:gdLst>
            <a:ahLst/>
            <a:rect l="textAreaLeft" t="textAreaTop" r="textAreaRight" b="textAreaBottom"/>
            <a:pathLst>
              <a:path w="3399692" h="2555631">
                <a:moveTo>
                  <a:pt x="773723" y="0"/>
                </a:moveTo>
                <a:lnTo>
                  <a:pt x="0" y="2555631"/>
                </a:lnTo>
                <a:lnTo>
                  <a:pt x="3399692" y="2016369"/>
                </a:lnTo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98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8"/>
            <p:cNvSpPr/>
            <p:nvPr/>
          </p:nvSpPr>
          <p:spPr>
            <a:xfrm>
              <a:off x="6482520" y="3520440"/>
              <a:ext cx="322920" cy="4881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203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3"/>
            <p:cNvSpPr/>
            <p:nvPr/>
          </p:nvSpPr>
          <p:spPr>
            <a:xfrm>
              <a:off x="8223120" y="365436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206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6"/>
            <p:cNvSpPr/>
            <p:nvPr/>
          </p:nvSpPr>
          <p:spPr>
            <a:xfrm>
              <a:off x="8502480" y="378324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209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9"/>
            <p:cNvSpPr/>
            <p:nvPr/>
          </p:nvSpPr>
          <p:spPr>
            <a:xfrm>
              <a:off x="8794800" y="3608640"/>
              <a:ext cx="311040" cy="40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212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22"/>
            <p:cNvSpPr/>
            <p:nvPr/>
          </p:nvSpPr>
          <p:spPr>
            <a:xfrm>
              <a:off x="9109080" y="3780000"/>
              <a:ext cx="311040" cy="40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215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5"/>
            <p:cNvSpPr/>
            <p:nvPr/>
          </p:nvSpPr>
          <p:spPr>
            <a:xfrm>
              <a:off x="9404280" y="3573720"/>
              <a:ext cx="311400" cy="4078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218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8"/>
            <p:cNvSpPr/>
            <p:nvPr/>
          </p:nvSpPr>
          <p:spPr>
            <a:xfrm>
              <a:off x="9690120" y="379440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221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1"/>
            <p:cNvSpPr/>
            <p:nvPr/>
          </p:nvSpPr>
          <p:spPr>
            <a:xfrm>
              <a:off x="9988560" y="357372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224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4"/>
            <p:cNvSpPr/>
            <p:nvPr/>
          </p:nvSpPr>
          <p:spPr>
            <a:xfrm>
              <a:off x="10274400" y="378000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227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37"/>
            <p:cNvSpPr/>
            <p:nvPr/>
          </p:nvSpPr>
          <p:spPr>
            <a:xfrm>
              <a:off x="10569600" y="3573720"/>
              <a:ext cx="309600" cy="4078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47103" h="760664">
                  <a:moveTo>
                    <a:pt x="550646" y="0"/>
                  </a:moveTo>
                  <a:lnTo>
                    <a:pt x="696457" y="0"/>
                  </a:lnTo>
                  <a:cubicBezTo>
                    <a:pt x="1000570" y="0"/>
                    <a:pt x="1247103" y="246533"/>
                    <a:pt x="1247103" y="550646"/>
                  </a:cubicBezTo>
                  <a:lnTo>
                    <a:pt x="1247103" y="760664"/>
                  </a:lnTo>
                  <a:lnTo>
                    <a:pt x="0" y="760664"/>
                  </a:lnTo>
                  <a:lnTo>
                    <a:pt x="0" y="550646"/>
                  </a:lnTo>
                  <a:cubicBezTo>
                    <a:pt x="0" y="246533"/>
                    <a:pt x="246533" y="0"/>
                    <a:pt x="550646" y="0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任意多边形 3"/>
          <p:cNvSpPr/>
          <p:nvPr/>
        </p:nvSpPr>
        <p:spPr>
          <a:xfrm>
            <a:off x="5781600" y="606600"/>
            <a:ext cx="5772240" cy="4078080"/>
          </a:xfrm>
          <a:custGeom>
            <a:avLst/>
            <a:gdLst>
              <a:gd name="textAreaLeft" fmla="*/ 0 w 5772240"/>
              <a:gd name="textAreaRight" fmla="*/ 5772600 w 5772240"/>
              <a:gd name="textAreaTop" fmla="*/ 0 h 4078080"/>
              <a:gd name="textAreaBottom" fmla="*/ 4078440 h 407808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44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>
              <a:gd name="textAreaLeft" fmla="*/ 0 w 390240"/>
              <a:gd name="textAreaRight" fmla="*/ 390600 w 3902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46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47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48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49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>
              <a:gd name="textAreaLeft" fmla="*/ 0 w 734760"/>
              <a:gd name="textAreaRight" fmla="*/ 734760 w 73476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正粗黑简体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任意多边形 15"/>
          <p:cNvSpPr/>
          <p:nvPr/>
        </p:nvSpPr>
        <p:spPr>
          <a:xfrm>
            <a:off x="5769000" y="606600"/>
            <a:ext cx="5772240" cy="4078080"/>
          </a:xfrm>
          <a:custGeom>
            <a:avLst/>
            <a:gdLst>
              <a:gd name="textAreaLeft" fmla="*/ 0 w 5772240"/>
              <a:gd name="textAreaRight" fmla="*/ 5772600 w 5772240"/>
              <a:gd name="textAreaTop" fmla="*/ 0 h 4078080"/>
              <a:gd name="textAreaBottom" fmla="*/ 4078440 h 407808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43" name="Group 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44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custGeom>
                <a:avLst/>
                <a:gdLst>
                  <a:gd name="textAreaLeft" fmla="*/ 0 w 1458000"/>
                  <a:gd name="textAreaRight" fmla="*/ 1458360 w 1458000"/>
                  <a:gd name="textAreaTop" fmla="*/ -360 h 970200"/>
                  <a:gd name="textAreaBottom" fmla="*/ 970200 h 970200"/>
                </a:gdLst>
                <a:ahLst/>
                <a:rect l="textAreaLeft" t="textAreaTop" r="textAreaRight" b="textAreaBottom"/>
                <a:pathLst>
                  <a:path w="4354157" h="2898183">
                    <a:moveTo>
                      <a:pt x="1008170" y="2898183"/>
                    </a:moveTo>
                    <a:lnTo>
                      <a:pt x="3351258" y="2898183"/>
                    </a:lnTo>
                    <a:lnTo>
                      <a:pt x="3391240" y="2884277"/>
                    </a:lnTo>
                    <a:cubicBezTo>
                      <a:pt x="3682189" y="2766858"/>
                      <a:pt x="3952463" y="2608449"/>
                      <a:pt x="4194761" y="2416071"/>
                    </a:cubicBezTo>
                    <a:lnTo>
                      <a:pt x="4354157" y="2276719"/>
                    </a:lnTo>
                    <a:lnTo>
                      <a:pt x="4273561" y="1954336"/>
                    </a:lnTo>
                    <a:lnTo>
                      <a:pt x="3784977" y="0"/>
                    </a:lnTo>
                    <a:lnTo>
                      <a:pt x="569080" y="0"/>
                    </a:lnTo>
                    <a:lnTo>
                      <a:pt x="79940" y="1956561"/>
                    </a:lnTo>
                    <a:lnTo>
                      <a:pt x="0" y="2276321"/>
                    </a:lnTo>
                    <a:lnTo>
                      <a:pt x="93327" y="2362329"/>
                    </a:lnTo>
                    <a:cubicBezTo>
                      <a:pt x="330501" y="2560990"/>
                      <a:pt x="596532" y="2726426"/>
                      <a:pt x="884304" y="2851429"/>
                    </a:cubicBezTo>
                    <a:lnTo>
                      <a:pt x="1008170" y="2898183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custGeom>
                <a:avLst/>
                <a:gdLst>
                  <a:gd name="textAreaLeft" fmla="*/ 0 w 1982880"/>
                  <a:gd name="textAreaRight" fmla="*/ 1983240 w 198288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5921839" h="3035866">
                    <a:moveTo>
                      <a:pt x="2682245" y="0"/>
                    </a:moveTo>
                    <a:lnTo>
                      <a:pt x="2534631" y="1530630"/>
                    </a:lnTo>
                    <a:lnTo>
                      <a:pt x="2989784" y="2075327"/>
                    </a:lnTo>
                    <a:lnTo>
                      <a:pt x="3444939" y="1530630"/>
                    </a:lnTo>
                    <a:lnTo>
                      <a:pt x="3261186" y="2132"/>
                    </a:lnTo>
                    <a:lnTo>
                      <a:pt x="3355321" y="11625"/>
                    </a:lnTo>
                    <a:cubicBezTo>
                      <a:pt x="3742830" y="63654"/>
                      <a:pt x="4122318" y="192715"/>
                      <a:pt x="4470116" y="398765"/>
                    </a:cubicBezTo>
                    <a:cubicBezTo>
                      <a:pt x="5397579" y="948233"/>
                      <a:pt x="5953126" y="1958351"/>
                      <a:pt x="5920475" y="3035866"/>
                    </a:cubicBezTo>
                    <a:lnTo>
                      <a:pt x="5116245" y="3011496"/>
                    </a:lnTo>
                    <a:cubicBezTo>
                      <a:pt x="5137052" y="2324874"/>
                      <a:pt x="4829894" y="1675831"/>
                      <a:pt x="4300291" y="1256226"/>
                    </a:cubicBezTo>
                    <a:lnTo>
                      <a:pt x="4281899" y="1242637"/>
                    </a:lnTo>
                    <a:lnTo>
                      <a:pt x="4362264" y="1459251"/>
                    </a:lnTo>
                    <a:cubicBezTo>
                      <a:pt x="4495735" y="1855941"/>
                      <a:pt x="4582879" y="2313216"/>
                      <a:pt x="4609396" y="2804190"/>
                    </a:cubicBezTo>
                    <a:lnTo>
                      <a:pt x="4615548" y="3033268"/>
                    </a:lnTo>
                    <a:lnTo>
                      <a:pt x="1306288" y="3033268"/>
                    </a:lnTo>
                    <a:lnTo>
                      <a:pt x="1312441" y="2804190"/>
                    </a:lnTo>
                    <a:cubicBezTo>
                      <a:pt x="1338958" y="2313216"/>
                      <a:pt x="1426102" y="1855941"/>
                      <a:pt x="1559573" y="1459251"/>
                    </a:cubicBezTo>
                    <a:lnTo>
                      <a:pt x="1640055" y="1242323"/>
                    </a:lnTo>
                    <a:lnTo>
                      <a:pt x="1627370" y="1251627"/>
                    </a:lnTo>
                    <a:cubicBezTo>
                      <a:pt x="1096326" y="1669407"/>
                      <a:pt x="786937" y="2317390"/>
                      <a:pt x="805380" y="3004079"/>
                    </a:cubicBezTo>
                    <a:lnTo>
                      <a:pt x="1071" y="3025681"/>
                    </a:lnTo>
                    <a:cubicBezTo>
                      <a:pt x="-27872" y="1948061"/>
                      <a:pt x="531147" y="939860"/>
                      <a:pt x="1460496" y="393587"/>
                    </a:cubicBezTo>
                    <a:cubicBezTo>
                      <a:pt x="1809003" y="188735"/>
                      <a:pt x="2188932" y="60981"/>
                      <a:pt x="2576619" y="10285"/>
                    </a:cubicBezTo>
                    <a:lnTo>
                      <a:pt x="2682245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09240"/>
                  <a:gd name="textAreaBottom" fmla="*/ 3960 h 30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27" y="3177"/>
                    </a:moveTo>
                    <a:cubicBezTo>
                      <a:pt x="6999" y="2068"/>
                      <a:pt x="8876" y="1474"/>
                      <a:pt x="10799" y="1474"/>
                    </a:cubicBezTo>
                    <a:cubicBezTo>
                      <a:pt x="12723" y="1474"/>
                      <a:pt x="14600" y="2068"/>
                      <a:pt x="16172" y="3177"/>
                    </a:cubicBezTo>
                    <a:lnTo>
                      <a:pt x="17021" y="1972"/>
                    </a:lnTo>
                    <a:cubicBezTo>
                      <a:pt x="15201" y="688"/>
                      <a:pt x="13027" y="0"/>
                      <a:pt x="10800" y="0"/>
                    </a:cubicBezTo>
                    <a:cubicBezTo>
                      <a:pt x="8572" y="0"/>
                      <a:pt x="6398" y="688"/>
                      <a:pt x="4578" y="1972"/>
                    </a:cubicBezTo>
                    <a:lnTo>
                      <a:pt x="5427" y="3177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4760 w 70920"/>
                  <a:gd name="textAreaRight" fmla="*/ 56160 w 70920"/>
                  <a:gd name="textAreaTop" fmla="*/ 30240 h 146520"/>
                  <a:gd name="textAreaBottom" fmla="*/ 11592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1104840"/>
                <a:gd name="textAreaBottom" fmla="*/ 1105200 h 1104840"/>
              </a:gdLst>
              <a:ahLst/>
              <a:rect l="textAreaLeft" t="textAreaTop" r="textAreaRight" b="textAreaBottom"/>
              <a:pathLst>
                <a:path w="2819320" h="1609066">
                  <a:moveTo>
                    <a:pt x="764189" y="1598232"/>
                  </a:moveTo>
                  <a:lnTo>
                    <a:pt x="843389" y="1598904"/>
                  </a:lnTo>
                  <a:lnTo>
                    <a:pt x="786488" y="1609066"/>
                  </a:lnTo>
                  <a:lnTo>
                    <a:pt x="764189" y="1598232"/>
                  </a:lnTo>
                  <a:close/>
                  <a:moveTo>
                    <a:pt x="705566" y="1569749"/>
                  </a:moveTo>
                  <a:lnTo>
                    <a:pt x="950133" y="1579842"/>
                  </a:lnTo>
                  <a:lnTo>
                    <a:pt x="856765" y="1596515"/>
                  </a:lnTo>
                  <a:lnTo>
                    <a:pt x="746177" y="1589481"/>
                  </a:lnTo>
                  <a:lnTo>
                    <a:pt x="705566" y="1569749"/>
                  </a:lnTo>
                  <a:close/>
                  <a:moveTo>
                    <a:pt x="1273550" y="25279"/>
                  </a:moveTo>
                  <a:lnTo>
                    <a:pt x="1453960" y="974286"/>
                  </a:lnTo>
                  <a:lnTo>
                    <a:pt x="1326030" y="16791"/>
                  </a:lnTo>
                  <a:lnTo>
                    <a:pt x="1500993" y="1135750"/>
                  </a:lnTo>
                  <a:lnTo>
                    <a:pt x="1408917" y="6944"/>
                  </a:lnTo>
                  <a:lnTo>
                    <a:pt x="1508887" y="967776"/>
                  </a:lnTo>
                  <a:lnTo>
                    <a:pt x="1461925" y="2899"/>
                  </a:lnTo>
                  <a:lnTo>
                    <a:pt x="1524956" y="890202"/>
                  </a:lnTo>
                  <a:lnTo>
                    <a:pt x="1505731" y="871"/>
                  </a:lnTo>
                  <a:lnTo>
                    <a:pt x="1548123" y="965939"/>
                  </a:lnTo>
                  <a:lnTo>
                    <a:pt x="1558886" y="0"/>
                  </a:lnTo>
                  <a:lnTo>
                    <a:pt x="1567356" y="760134"/>
                  </a:lnTo>
                  <a:lnTo>
                    <a:pt x="1590742" y="305"/>
                  </a:lnTo>
                  <a:lnTo>
                    <a:pt x="1582543" y="966337"/>
                  </a:lnTo>
                  <a:lnTo>
                    <a:pt x="1643870" y="2219"/>
                  </a:lnTo>
                  <a:lnTo>
                    <a:pt x="1597171" y="1133859"/>
                  </a:lnTo>
                  <a:lnTo>
                    <a:pt x="1727086" y="8732"/>
                  </a:lnTo>
                  <a:lnTo>
                    <a:pt x="1637684" y="970639"/>
                  </a:lnTo>
                  <a:lnTo>
                    <a:pt x="1779865" y="15106"/>
                  </a:lnTo>
                  <a:lnTo>
                    <a:pt x="1668574" y="897710"/>
                  </a:lnTo>
                  <a:lnTo>
                    <a:pt x="1823225" y="21663"/>
                  </a:lnTo>
                  <a:lnTo>
                    <a:pt x="1676518" y="976518"/>
                  </a:lnTo>
                  <a:lnTo>
                    <a:pt x="1875529" y="31179"/>
                  </a:lnTo>
                  <a:lnTo>
                    <a:pt x="1735543" y="778354"/>
                  </a:lnTo>
                  <a:lnTo>
                    <a:pt x="1906710" y="37708"/>
                  </a:lnTo>
                  <a:lnTo>
                    <a:pt x="1710216" y="983534"/>
                  </a:lnTo>
                  <a:lnTo>
                    <a:pt x="1958443" y="49950"/>
                  </a:lnTo>
                  <a:lnTo>
                    <a:pt x="1691884" y="1150689"/>
                  </a:lnTo>
                  <a:lnTo>
                    <a:pt x="2038788" y="72572"/>
                  </a:lnTo>
                  <a:lnTo>
                    <a:pt x="1763463" y="998507"/>
                  </a:lnTo>
                  <a:lnTo>
                    <a:pt x="2089309" y="89120"/>
                  </a:lnTo>
                  <a:lnTo>
                    <a:pt x="1807989" y="933004"/>
                  </a:lnTo>
                  <a:lnTo>
                    <a:pt x="2130557" y="104010"/>
                  </a:lnTo>
                  <a:lnTo>
                    <a:pt x="1800401" y="1011862"/>
                  </a:lnTo>
                  <a:lnTo>
                    <a:pt x="2179999" y="123547"/>
                  </a:lnTo>
                  <a:lnTo>
                    <a:pt x="1896905" y="829138"/>
                  </a:lnTo>
                  <a:lnTo>
                    <a:pt x="2209318" y="136028"/>
                  </a:lnTo>
                  <a:lnTo>
                    <a:pt x="1832062" y="1025374"/>
                  </a:lnTo>
                  <a:lnTo>
                    <a:pt x="2257669" y="158127"/>
                  </a:lnTo>
                  <a:lnTo>
                    <a:pt x="1781468" y="1185744"/>
                  </a:lnTo>
                  <a:lnTo>
                    <a:pt x="2332057" y="195989"/>
                  </a:lnTo>
                  <a:lnTo>
                    <a:pt x="1881363" y="1050446"/>
                  </a:lnTo>
                  <a:lnTo>
                    <a:pt x="2378379" y="222076"/>
                  </a:lnTo>
                  <a:lnTo>
                    <a:pt x="1937810" y="994892"/>
                  </a:lnTo>
                  <a:lnTo>
                    <a:pt x="2415929" y="244727"/>
                  </a:lnTo>
                  <a:lnTo>
                    <a:pt x="1914977" y="1070761"/>
                  </a:lnTo>
                  <a:lnTo>
                    <a:pt x="2460609" y="273534"/>
                  </a:lnTo>
                  <a:lnTo>
                    <a:pt x="2045324" y="910298"/>
                  </a:lnTo>
                  <a:lnTo>
                    <a:pt x="2486926" y="291494"/>
                  </a:lnTo>
                  <a:lnTo>
                    <a:pt x="1943437" y="1090124"/>
                  </a:lnTo>
                  <a:lnTo>
                    <a:pt x="2530037" y="322601"/>
                  </a:lnTo>
                  <a:lnTo>
                    <a:pt x="1862521" y="1237554"/>
                  </a:lnTo>
                  <a:lnTo>
                    <a:pt x="2595611" y="374249"/>
                  </a:lnTo>
                  <a:lnTo>
                    <a:pt x="1986887" y="1124351"/>
                  </a:lnTo>
                  <a:lnTo>
                    <a:pt x="2635952" y="408871"/>
                  </a:lnTo>
                  <a:lnTo>
                    <a:pt x="2053097" y="1080864"/>
                  </a:lnTo>
                  <a:lnTo>
                    <a:pt x="2668362" y="438412"/>
                  </a:lnTo>
                  <a:lnTo>
                    <a:pt x="2015921" y="1150804"/>
                  </a:lnTo>
                  <a:lnTo>
                    <a:pt x="2706563" y="475383"/>
                  </a:lnTo>
                  <a:lnTo>
                    <a:pt x="2175022" y="1018902"/>
                  </a:lnTo>
                  <a:lnTo>
                    <a:pt x="2728871" y="498133"/>
                  </a:lnTo>
                  <a:lnTo>
                    <a:pt x="2039999" y="1175406"/>
                  </a:lnTo>
                  <a:lnTo>
                    <a:pt x="2765084" y="537053"/>
                  </a:lnTo>
                  <a:lnTo>
                    <a:pt x="1931883" y="1304208"/>
                  </a:lnTo>
                  <a:lnTo>
                    <a:pt x="2819320" y="600500"/>
                  </a:lnTo>
                  <a:lnTo>
                    <a:pt x="2075934" y="1217450"/>
                  </a:lnTo>
                  <a:lnTo>
                    <a:pt x="2712668" y="745664"/>
                  </a:lnTo>
                  <a:lnTo>
                    <a:pt x="2699506" y="760773"/>
                  </a:lnTo>
                  <a:lnTo>
                    <a:pt x="2149351" y="1187720"/>
                  </a:lnTo>
                  <a:lnTo>
                    <a:pt x="2606019" y="868095"/>
                  </a:lnTo>
                  <a:lnTo>
                    <a:pt x="2583867" y="893525"/>
                  </a:lnTo>
                  <a:lnTo>
                    <a:pt x="2099246" y="1249060"/>
                  </a:lnTo>
                  <a:lnTo>
                    <a:pt x="2504251" y="984923"/>
                  </a:lnTo>
                  <a:lnTo>
                    <a:pt x="2476149" y="1017184"/>
                  </a:lnTo>
                  <a:lnTo>
                    <a:pt x="2281027" y="1150728"/>
                  </a:lnTo>
                  <a:lnTo>
                    <a:pt x="2453832" y="1042803"/>
                  </a:lnTo>
                  <a:lnTo>
                    <a:pt x="2423691" y="1077405"/>
                  </a:lnTo>
                  <a:lnTo>
                    <a:pt x="2118120" y="1277849"/>
                  </a:lnTo>
                  <a:lnTo>
                    <a:pt x="2382781" y="1124369"/>
                  </a:lnTo>
                  <a:lnTo>
                    <a:pt x="2350751" y="1161138"/>
                  </a:lnTo>
                  <a:lnTo>
                    <a:pt x="1986945" y="1383091"/>
                  </a:lnTo>
                  <a:lnTo>
                    <a:pt x="2295184" y="1224929"/>
                  </a:lnTo>
                  <a:lnTo>
                    <a:pt x="2262336" y="1262639"/>
                  </a:lnTo>
                  <a:lnTo>
                    <a:pt x="2145148" y="1326107"/>
                  </a:lnTo>
                  <a:lnTo>
                    <a:pt x="2250334" y="1276416"/>
                  </a:lnTo>
                  <a:lnTo>
                    <a:pt x="2185829" y="1350468"/>
                  </a:lnTo>
                  <a:lnTo>
                    <a:pt x="2161865" y="1361650"/>
                  </a:lnTo>
                  <a:lnTo>
                    <a:pt x="2183730" y="1352877"/>
                  </a:lnTo>
                  <a:lnTo>
                    <a:pt x="2176854" y="1360770"/>
                  </a:lnTo>
                  <a:lnTo>
                    <a:pt x="980301" y="1574454"/>
                  </a:lnTo>
                  <a:lnTo>
                    <a:pt x="632620" y="1534309"/>
                  </a:lnTo>
                  <a:lnTo>
                    <a:pt x="593176" y="1515145"/>
                  </a:lnTo>
                  <a:lnTo>
                    <a:pt x="906480" y="1544264"/>
                  </a:lnTo>
                  <a:lnTo>
                    <a:pt x="541258" y="1489920"/>
                  </a:lnTo>
                  <a:lnTo>
                    <a:pt x="504006" y="1471821"/>
                  </a:lnTo>
                  <a:lnTo>
                    <a:pt x="833538" y="1513373"/>
                  </a:lnTo>
                  <a:lnTo>
                    <a:pt x="450271" y="1445714"/>
                  </a:lnTo>
                  <a:lnTo>
                    <a:pt x="416319" y="1429218"/>
                  </a:lnTo>
                  <a:lnTo>
                    <a:pt x="912343" y="1505429"/>
                  </a:lnTo>
                  <a:lnTo>
                    <a:pt x="313856" y="1379436"/>
                  </a:lnTo>
                  <a:lnTo>
                    <a:pt x="286940" y="1366358"/>
                  </a:lnTo>
                  <a:lnTo>
                    <a:pt x="714182" y="1446404"/>
                  </a:lnTo>
                  <a:lnTo>
                    <a:pt x="213566" y="1330710"/>
                  </a:lnTo>
                  <a:lnTo>
                    <a:pt x="193407" y="1320915"/>
                  </a:lnTo>
                  <a:lnTo>
                    <a:pt x="919344" y="1471727"/>
                  </a:lnTo>
                  <a:lnTo>
                    <a:pt x="1534" y="1227693"/>
                  </a:lnTo>
                  <a:lnTo>
                    <a:pt x="0" y="1226948"/>
                  </a:lnTo>
                  <a:lnTo>
                    <a:pt x="1086516" y="1490062"/>
                  </a:lnTo>
                  <a:lnTo>
                    <a:pt x="8398" y="1143158"/>
                  </a:lnTo>
                  <a:lnTo>
                    <a:pt x="934334" y="1418483"/>
                  </a:lnTo>
                  <a:lnTo>
                    <a:pt x="24946" y="1092637"/>
                  </a:lnTo>
                  <a:lnTo>
                    <a:pt x="868830" y="1373957"/>
                  </a:lnTo>
                  <a:lnTo>
                    <a:pt x="39836" y="1051389"/>
                  </a:lnTo>
                  <a:lnTo>
                    <a:pt x="947681" y="1381542"/>
                  </a:lnTo>
                  <a:lnTo>
                    <a:pt x="59373" y="1001947"/>
                  </a:lnTo>
                  <a:lnTo>
                    <a:pt x="764948" y="1285034"/>
                  </a:lnTo>
                  <a:lnTo>
                    <a:pt x="71854" y="972630"/>
                  </a:lnTo>
                  <a:lnTo>
                    <a:pt x="961211" y="1349889"/>
                  </a:lnTo>
                  <a:lnTo>
                    <a:pt x="93953" y="924279"/>
                  </a:lnTo>
                  <a:lnTo>
                    <a:pt x="1121571" y="1400479"/>
                  </a:lnTo>
                  <a:lnTo>
                    <a:pt x="131815" y="849890"/>
                  </a:lnTo>
                  <a:lnTo>
                    <a:pt x="986282" y="1300590"/>
                  </a:lnTo>
                  <a:lnTo>
                    <a:pt x="157902" y="803568"/>
                  </a:lnTo>
                  <a:lnTo>
                    <a:pt x="930722" y="1244140"/>
                  </a:lnTo>
                  <a:lnTo>
                    <a:pt x="180553" y="766018"/>
                  </a:lnTo>
                  <a:lnTo>
                    <a:pt x="1006565" y="1266955"/>
                  </a:lnTo>
                  <a:lnTo>
                    <a:pt x="209360" y="721337"/>
                  </a:lnTo>
                  <a:lnTo>
                    <a:pt x="846124" y="1136622"/>
                  </a:lnTo>
                  <a:lnTo>
                    <a:pt x="227320" y="695020"/>
                  </a:lnTo>
                  <a:lnTo>
                    <a:pt x="1025959" y="1238516"/>
                  </a:lnTo>
                  <a:lnTo>
                    <a:pt x="258427" y="651909"/>
                  </a:lnTo>
                  <a:lnTo>
                    <a:pt x="1173380" y="1319426"/>
                  </a:lnTo>
                  <a:lnTo>
                    <a:pt x="310075" y="586336"/>
                  </a:lnTo>
                  <a:lnTo>
                    <a:pt x="1060167" y="1195051"/>
                  </a:lnTo>
                  <a:lnTo>
                    <a:pt x="344697" y="545994"/>
                  </a:lnTo>
                  <a:lnTo>
                    <a:pt x="1016690" y="1128848"/>
                  </a:lnTo>
                  <a:lnTo>
                    <a:pt x="374238" y="513585"/>
                  </a:lnTo>
                  <a:lnTo>
                    <a:pt x="1086639" y="1166033"/>
                  </a:lnTo>
                  <a:lnTo>
                    <a:pt x="411209" y="475383"/>
                  </a:lnTo>
                  <a:lnTo>
                    <a:pt x="954731" y="1006926"/>
                  </a:lnTo>
                  <a:lnTo>
                    <a:pt x="433959" y="453076"/>
                  </a:lnTo>
                  <a:lnTo>
                    <a:pt x="1111235" y="1141951"/>
                  </a:lnTo>
                  <a:lnTo>
                    <a:pt x="472879" y="416862"/>
                  </a:lnTo>
                  <a:lnTo>
                    <a:pt x="1240035" y="1250063"/>
                  </a:lnTo>
                  <a:lnTo>
                    <a:pt x="536325" y="362626"/>
                  </a:lnTo>
                  <a:lnTo>
                    <a:pt x="1153273" y="1106008"/>
                  </a:lnTo>
                  <a:lnTo>
                    <a:pt x="578153" y="329813"/>
                  </a:lnTo>
                  <a:lnTo>
                    <a:pt x="1123538" y="1032585"/>
                  </a:lnTo>
                  <a:lnTo>
                    <a:pt x="613450" y="303789"/>
                  </a:lnTo>
                  <a:lnTo>
                    <a:pt x="1184889" y="1082705"/>
                  </a:lnTo>
                  <a:lnTo>
                    <a:pt x="657163" y="273534"/>
                  </a:lnTo>
                  <a:lnTo>
                    <a:pt x="1086559" y="900927"/>
                  </a:lnTo>
                  <a:lnTo>
                    <a:pt x="683831" y="256094"/>
                  </a:lnTo>
                  <a:lnTo>
                    <a:pt x="1213678" y="1063830"/>
                  </a:lnTo>
                  <a:lnTo>
                    <a:pt x="729068" y="228169"/>
                  </a:lnTo>
                  <a:lnTo>
                    <a:pt x="1318917" y="1195001"/>
                  </a:lnTo>
                  <a:lnTo>
                    <a:pt x="801877" y="187352"/>
                  </a:lnTo>
                  <a:lnTo>
                    <a:pt x="1261927" y="1036785"/>
                  </a:lnTo>
                  <a:lnTo>
                    <a:pt x="849302" y="163330"/>
                  </a:lnTo>
                  <a:lnTo>
                    <a:pt x="1247091" y="958977"/>
                  </a:lnTo>
                  <a:lnTo>
                    <a:pt x="888997" y="144693"/>
                  </a:lnTo>
                  <a:lnTo>
                    <a:pt x="1297482" y="1020094"/>
                  </a:lnTo>
                  <a:lnTo>
                    <a:pt x="937773" y="123547"/>
                  </a:lnTo>
                  <a:lnTo>
                    <a:pt x="1236480" y="822565"/>
                  </a:lnTo>
                  <a:lnTo>
                    <a:pt x="967320" y="111637"/>
                  </a:lnTo>
                  <a:lnTo>
                    <a:pt x="1329426" y="1007273"/>
                  </a:lnTo>
                  <a:lnTo>
                    <a:pt x="1017136" y="93074"/>
                  </a:lnTo>
                  <a:lnTo>
                    <a:pt x="1407047" y="1156442"/>
                  </a:lnTo>
                  <a:lnTo>
                    <a:pt x="1096509" y="67246"/>
                  </a:lnTo>
                  <a:lnTo>
                    <a:pt x="1382016" y="990147"/>
                  </a:lnTo>
                  <a:lnTo>
                    <a:pt x="1147710" y="52938"/>
                  </a:lnTo>
                  <a:lnTo>
                    <a:pt x="1382644" y="910941"/>
                  </a:lnTo>
                  <a:lnTo>
                    <a:pt x="1190279" y="42403"/>
                  </a:lnTo>
                  <a:lnTo>
                    <a:pt x="1420144" y="980720"/>
                  </a:lnTo>
                  <a:lnTo>
                    <a:pt x="1242243" y="31179"/>
                  </a:lnTo>
                  <a:lnTo>
                    <a:pt x="1398846" y="775070"/>
                  </a:lnTo>
                  <a:lnTo>
                    <a:pt x="1273550" y="25279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9"/>
          <p:cNvSpPr/>
          <p:nvPr/>
        </p:nvSpPr>
        <p:spPr>
          <a:xfrm rot="16200000">
            <a:off x="5340240" y="1249200"/>
            <a:ext cx="390240" cy="669960"/>
          </a:xfrm>
          <a:custGeom>
            <a:avLst/>
            <a:gdLst>
              <a:gd name="textAreaLeft" fmla="*/ 0 w 390240"/>
              <a:gd name="textAreaRight" fmla="*/ 390600 w 39024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20"/>
          <p:cNvSpPr/>
          <p:nvPr/>
        </p:nvSpPr>
        <p:spPr>
          <a:xfrm>
            <a:off x="4079880" y="152892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21"/>
          <p:cNvSpPr/>
          <p:nvPr/>
        </p:nvSpPr>
        <p:spPr>
          <a:xfrm rot="10800000">
            <a:off x="2354040" y="2991960"/>
            <a:ext cx="1849320" cy="146844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2"/>
          <p:cNvSpPr/>
          <p:nvPr/>
        </p:nvSpPr>
        <p:spPr>
          <a:xfrm flipH="1" rot="10800000">
            <a:off x="1735560" y="332712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3"/>
          <p:cNvSpPr/>
          <p:nvPr/>
        </p:nvSpPr>
        <p:spPr>
          <a:xfrm rot="16200000">
            <a:off x="2237040" y="3358800"/>
            <a:ext cx="734760" cy="1468440"/>
          </a:xfrm>
          <a:custGeom>
            <a:avLst/>
            <a:gdLst>
              <a:gd name="textAreaLeft" fmla="*/ 0 w 734760"/>
              <a:gd name="textAreaRight" fmla="*/ 734760 w 73476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任意多边形 44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>
              <a:gd name="textAreaLeft" fmla="*/ 0 w 5771880"/>
              <a:gd name="textAreaRight" fmla="*/ 5772240 w 577188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68" name="任意多边形 46"/>
            <p:cNvSpPr/>
            <p:nvPr/>
          </p:nvSpPr>
          <p:spPr>
            <a:xfrm>
              <a:off x="7032600" y="1019160"/>
              <a:ext cx="423000" cy="36828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836190" h="2464230">
                  <a:moveTo>
                    <a:pt x="1255362" y="945396"/>
                  </a:moveTo>
                  <a:lnTo>
                    <a:pt x="1007390" y="945396"/>
                  </a:lnTo>
                  <a:lnTo>
                    <a:pt x="821410" y="960895"/>
                  </a:lnTo>
                  <a:lnTo>
                    <a:pt x="681925" y="1084881"/>
                  </a:lnTo>
                  <a:lnTo>
                    <a:pt x="464949" y="1146874"/>
                  </a:lnTo>
                  <a:lnTo>
                    <a:pt x="185979" y="1255363"/>
                  </a:lnTo>
                  <a:lnTo>
                    <a:pt x="557939" y="1317356"/>
                  </a:lnTo>
                  <a:lnTo>
                    <a:pt x="666427" y="1394847"/>
                  </a:lnTo>
                  <a:lnTo>
                    <a:pt x="511444" y="1487837"/>
                  </a:lnTo>
                  <a:lnTo>
                    <a:pt x="139484" y="1704813"/>
                  </a:lnTo>
                  <a:lnTo>
                    <a:pt x="309966" y="1720312"/>
                  </a:lnTo>
                  <a:lnTo>
                    <a:pt x="77491" y="1906291"/>
                  </a:lnTo>
                  <a:lnTo>
                    <a:pt x="340962" y="1875295"/>
                  </a:lnTo>
                  <a:lnTo>
                    <a:pt x="0" y="2464230"/>
                  </a:lnTo>
                  <a:lnTo>
                    <a:pt x="433952" y="2185261"/>
                  </a:lnTo>
                  <a:lnTo>
                    <a:pt x="464949" y="2324746"/>
                  </a:lnTo>
                  <a:lnTo>
                    <a:pt x="743918" y="1952786"/>
                  </a:lnTo>
                  <a:lnTo>
                    <a:pt x="836908" y="2169763"/>
                  </a:lnTo>
                  <a:lnTo>
                    <a:pt x="1038386" y="1859796"/>
                  </a:lnTo>
                  <a:lnTo>
                    <a:pt x="1177871" y="2340244"/>
                  </a:lnTo>
                  <a:lnTo>
                    <a:pt x="1363851" y="2092271"/>
                  </a:lnTo>
                  <a:lnTo>
                    <a:pt x="1441342" y="2138766"/>
                  </a:lnTo>
                  <a:lnTo>
                    <a:pt x="1549830" y="1844298"/>
                  </a:lnTo>
                  <a:lnTo>
                    <a:pt x="1673817" y="1689315"/>
                  </a:lnTo>
                  <a:lnTo>
                    <a:pt x="1828800" y="1348352"/>
                  </a:lnTo>
                  <a:lnTo>
                    <a:pt x="1813301" y="1611824"/>
                  </a:lnTo>
                  <a:lnTo>
                    <a:pt x="1828800" y="1844298"/>
                  </a:lnTo>
                  <a:lnTo>
                    <a:pt x="1875295" y="1859796"/>
                  </a:lnTo>
                  <a:lnTo>
                    <a:pt x="1890793" y="1999281"/>
                  </a:lnTo>
                  <a:lnTo>
                    <a:pt x="1890793" y="1999281"/>
                  </a:lnTo>
                  <a:lnTo>
                    <a:pt x="2030278" y="2355742"/>
                  </a:lnTo>
                  <a:lnTo>
                    <a:pt x="2154264" y="2123268"/>
                  </a:lnTo>
                  <a:lnTo>
                    <a:pt x="2309247" y="1921790"/>
                  </a:lnTo>
                  <a:lnTo>
                    <a:pt x="2340244" y="1766807"/>
                  </a:lnTo>
                  <a:lnTo>
                    <a:pt x="2340244" y="1766807"/>
                  </a:lnTo>
                  <a:lnTo>
                    <a:pt x="2402237" y="1642820"/>
                  </a:lnTo>
                  <a:lnTo>
                    <a:pt x="2464230" y="1658318"/>
                  </a:lnTo>
                  <a:lnTo>
                    <a:pt x="2355742" y="1270861"/>
                  </a:lnTo>
                  <a:lnTo>
                    <a:pt x="2479729" y="1332854"/>
                  </a:lnTo>
                  <a:lnTo>
                    <a:pt x="2696705" y="1379349"/>
                  </a:lnTo>
                  <a:lnTo>
                    <a:pt x="2836190" y="1379349"/>
                  </a:lnTo>
                  <a:lnTo>
                    <a:pt x="2665708" y="1084881"/>
                  </a:lnTo>
                  <a:lnTo>
                    <a:pt x="2541722" y="883403"/>
                  </a:lnTo>
                  <a:lnTo>
                    <a:pt x="2541722" y="697424"/>
                  </a:lnTo>
                  <a:lnTo>
                    <a:pt x="2061274" y="805912"/>
                  </a:lnTo>
                  <a:lnTo>
                    <a:pt x="2169762" y="619932"/>
                  </a:lnTo>
                  <a:lnTo>
                    <a:pt x="2309247" y="526942"/>
                  </a:lnTo>
                  <a:lnTo>
                    <a:pt x="2169762" y="402956"/>
                  </a:lnTo>
                  <a:lnTo>
                    <a:pt x="1983783" y="0"/>
                  </a:lnTo>
                  <a:lnTo>
                    <a:pt x="1875295" y="185980"/>
                  </a:lnTo>
                  <a:lnTo>
                    <a:pt x="1844298" y="387457"/>
                  </a:lnTo>
                  <a:lnTo>
                    <a:pt x="1720312" y="340963"/>
                  </a:lnTo>
                  <a:lnTo>
                    <a:pt x="1487837" y="139485"/>
                  </a:lnTo>
                  <a:lnTo>
                    <a:pt x="1286359" y="139485"/>
                  </a:lnTo>
                  <a:lnTo>
                    <a:pt x="1332854" y="340963"/>
                  </a:lnTo>
                  <a:lnTo>
                    <a:pt x="1115878" y="325464"/>
                  </a:lnTo>
                  <a:lnTo>
                    <a:pt x="1162373" y="449451"/>
                  </a:lnTo>
                  <a:lnTo>
                    <a:pt x="914400" y="433952"/>
                  </a:lnTo>
                  <a:lnTo>
                    <a:pt x="960895" y="666427"/>
                  </a:lnTo>
                  <a:lnTo>
                    <a:pt x="1286359" y="805912"/>
                  </a:lnTo>
                  <a:lnTo>
                    <a:pt x="1441342" y="867905"/>
                  </a:lnTo>
                  <a:lnTo>
                    <a:pt x="1255362" y="9453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47"/>
            <p:cNvSpPr/>
            <p:nvPr/>
          </p:nvSpPr>
          <p:spPr>
            <a:xfrm>
              <a:off x="7140960" y="1146600"/>
              <a:ext cx="205560" cy="136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79349" h="914400">
                  <a:moveTo>
                    <a:pt x="1379349" y="0"/>
                  </a:moveTo>
                  <a:lnTo>
                    <a:pt x="0" y="91440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48"/>
            <p:cNvSpPr/>
            <p:nvPr/>
          </p:nvSpPr>
          <p:spPr>
            <a:xfrm>
              <a:off x="7148160" y="1204560"/>
              <a:ext cx="75960" cy="16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11444" h="108488">
                  <a:moveTo>
                    <a:pt x="511444" y="10848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49"/>
            <p:cNvSpPr/>
            <p:nvPr/>
          </p:nvSpPr>
          <p:spPr>
            <a:xfrm>
              <a:off x="7198920" y="1095480"/>
              <a:ext cx="131760" cy="53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883403" h="356461">
                  <a:moveTo>
                    <a:pt x="883403" y="356461"/>
                  </a:moveTo>
                  <a:lnTo>
                    <a:pt x="573437" y="13948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50"/>
            <p:cNvSpPr/>
            <p:nvPr/>
          </p:nvSpPr>
          <p:spPr>
            <a:xfrm>
              <a:off x="7337520" y="1151280"/>
              <a:ext cx="11520" cy="141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77492" h="945397">
                  <a:moveTo>
                    <a:pt x="0" y="0"/>
                  </a:moveTo>
                  <a:lnTo>
                    <a:pt x="30997" y="480448"/>
                  </a:lnTo>
                  <a:lnTo>
                    <a:pt x="77492" y="945397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51"/>
            <p:cNvSpPr/>
            <p:nvPr/>
          </p:nvSpPr>
          <p:spPr>
            <a:xfrm>
              <a:off x="7238160" y="1211400"/>
              <a:ext cx="2160" cy="55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5498" h="371959">
                  <a:moveTo>
                    <a:pt x="15498" y="0"/>
                  </a:moveTo>
                  <a:lnTo>
                    <a:pt x="15498" y="309966"/>
                  </a:lnTo>
                  <a:lnTo>
                    <a:pt x="0" y="371959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任意多边形 52"/>
            <p:cNvSpPr/>
            <p:nvPr/>
          </p:nvSpPr>
          <p:spPr>
            <a:xfrm>
              <a:off x="7351560" y="1088280"/>
              <a:ext cx="122400" cy="486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21410" h="325465">
                  <a:moveTo>
                    <a:pt x="0" y="325465"/>
                  </a:moveTo>
                  <a:lnTo>
                    <a:pt x="325464" y="154983"/>
                  </a:lnTo>
                  <a:lnTo>
                    <a:pt x="573437" y="46495"/>
                  </a:lnTo>
                  <a:lnTo>
                    <a:pt x="821410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76" name="任意多边形 54"/>
            <p:cNvSpPr/>
            <p:nvPr/>
          </p:nvSpPr>
          <p:spPr>
            <a:xfrm>
              <a:off x="8420400" y="2863080"/>
              <a:ext cx="1224000" cy="75636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4602679" h="2391508">
                  <a:moveTo>
                    <a:pt x="1308295" y="872197"/>
                  </a:moveTo>
                  <a:cubicBezTo>
                    <a:pt x="1282504" y="862819"/>
                    <a:pt x="1192707" y="831842"/>
                    <a:pt x="1153550" y="787791"/>
                  </a:cubicBezTo>
                  <a:cubicBezTo>
                    <a:pt x="1058503" y="680863"/>
                    <a:pt x="1142757" y="718544"/>
                    <a:pt x="1055077" y="689317"/>
                  </a:cubicBezTo>
                  <a:cubicBezTo>
                    <a:pt x="1028909" y="663150"/>
                    <a:pt x="1020227" y="650791"/>
                    <a:pt x="984738" y="633046"/>
                  </a:cubicBezTo>
                  <a:cubicBezTo>
                    <a:pt x="971475" y="626414"/>
                    <a:pt x="956603" y="623668"/>
                    <a:pt x="942535" y="618979"/>
                  </a:cubicBezTo>
                  <a:cubicBezTo>
                    <a:pt x="933157" y="609600"/>
                    <a:pt x="926263" y="596774"/>
                    <a:pt x="914400" y="590843"/>
                  </a:cubicBezTo>
                  <a:cubicBezTo>
                    <a:pt x="897107" y="582196"/>
                    <a:pt x="877169" y="580136"/>
                    <a:pt x="858129" y="576776"/>
                  </a:cubicBezTo>
                  <a:cubicBezTo>
                    <a:pt x="797390" y="566057"/>
                    <a:pt x="736209" y="558019"/>
                    <a:pt x="675249" y="548640"/>
                  </a:cubicBezTo>
                  <a:cubicBezTo>
                    <a:pt x="661181" y="543951"/>
                    <a:pt x="647521" y="537790"/>
                    <a:pt x="633046" y="534573"/>
                  </a:cubicBezTo>
                  <a:cubicBezTo>
                    <a:pt x="605202" y="528385"/>
                    <a:pt x="574705" y="532090"/>
                    <a:pt x="548640" y="520505"/>
                  </a:cubicBezTo>
                  <a:cubicBezTo>
                    <a:pt x="530460" y="512425"/>
                    <a:pt x="522626" y="489866"/>
                    <a:pt x="506437" y="478302"/>
                  </a:cubicBezTo>
                  <a:cubicBezTo>
                    <a:pt x="489372" y="466113"/>
                    <a:pt x="469637" y="457954"/>
                    <a:pt x="450166" y="450166"/>
                  </a:cubicBezTo>
                  <a:cubicBezTo>
                    <a:pt x="349577" y="409930"/>
                    <a:pt x="389601" y="431507"/>
                    <a:pt x="295421" y="407963"/>
                  </a:cubicBezTo>
                  <a:cubicBezTo>
                    <a:pt x="281035" y="404367"/>
                    <a:pt x="267874" y="396151"/>
                    <a:pt x="253218" y="393896"/>
                  </a:cubicBezTo>
                  <a:cubicBezTo>
                    <a:pt x="206640" y="386730"/>
                    <a:pt x="159433" y="384517"/>
                    <a:pt x="112541" y="379828"/>
                  </a:cubicBezTo>
                  <a:cubicBezTo>
                    <a:pt x="89095" y="375139"/>
                    <a:pt x="62963" y="377623"/>
                    <a:pt x="42203" y="365760"/>
                  </a:cubicBezTo>
                  <a:cubicBezTo>
                    <a:pt x="19743" y="352926"/>
                    <a:pt x="7221" y="303018"/>
                    <a:pt x="0" y="281354"/>
                  </a:cubicBezTo>
                  <a:cubicBezTo>
                    <a:pt x="4689" y="248529"/>
                    <a:pt x="-9379" y="206326"/>
                    <a:pt x="14067" y="182880"/>
                  </a:cubicBezTo>
                  <a:cubicBezTo>
                    <a:pt x="37513" y="159434"/>
                    <a:pt x="81085" y="179298"/>
                    <a:pt x="112541" y="168813"/>
                  </a:cubicBezTo>
                  <a:cubicBezTo>
                    <a:pt x="125124" y="164619"/>
                    <a:pt x="129884" y="148386"/>
                    <a:pt x="140677" y="140677"/>
                  </a:cubicBezTo>
                  <a:cubicBezTo>
                    <a:pt x="162926" y="124784"/>
                    <a:pt x="187569" y="112542"/>
                    <a:pt x="211015" y="98474"/>
                  </a:cubicBezTo>
                  <a:cubicBezTo>
                    <a:pt x="290373" y="114346"/>
                    <a:pt x="272335" y="120117"/>
                    <a:pt x="351692" y="98474"/>
                  </a:cubicBezTo>
                  <a:cubicBezTo>
                    <a:pt x="380304" y="90671"/>
                    <a:pt x="436098" y="70339"/>
                    <a:pt x="436098" y="70339"/>
                  </a:cubicBezTo>
                  <a:cubicBezTo>
                    <a:pt x="468923" y="75028"/>
                    <a:pt x="502058" y="77903"/>
                    <a:pt x="534572" y="84406"/>
                  </a:cubicBezTo>
                  <a:cubicBezTo>
                    <a:pt x="549113" y="87314"/>
                    <a:pt x="564060" y="106103"/>
                    <a:pt x="576775" y="98474"/>
                  </a:cubicBezTo>
                  <a:cubicBezTo>
                    <a:pt x="616581" y="74591"/>
                    <a:pt x="675249" y="0"/>
                    <a:pt x="675249" y="0"/>
                  </a:cubicBezTo>
                  <a:cubicBezTo>
                    <a:pt x="717452" y="28136"/>
                    <a:pt x="722141" y="23447"/>
                    <a:pt x="745587" y="70339"/>
                  </a:cubicBezTo>
                  <a:cubicBezTo>
                    <a:pt x="767716" y="114597"/>
                    <a:pt x="754591" y="167799"/>
                    <a:pt x="829994" y="182880"/>
                  </a:cubicBezTo>
                  <a:cubicBezTo>
                    <a:pt x="856749" y="188231"/>
                    <a:pt x="913696" y="196596"/>
                    <a:pt x="942535" y="211016"/>
                  </a:cubicBezTo>
                  <a:cubicBezTo>
                    <a:pt x="957657" y="218577"/>
                    <a:pt x="970670" y="229773"/>
                    <a:pt x="984738" y="239151"/>
                  </a:cubicBezTo>
                  <a:cubicBezTo>
                    <a:pt x="1000712" y="263111"/>
                    <a:pt x="1037631" y="320179"/>
                    <a:pt x="1055077" y="337625"/>
                  </a:cubicBezTo>
                  <a:cubicBezTo>
                    <a:pt x="1112335" y="394883"/>
                    <a:pt x="1098117" y="338184"/>
                    <a:pt x="1181686" y="393896"/>
                  </a:cubicBezTo>
                  <a:lnTo>
                    <a:pt x="1223889" y="422031"/>
                  </a:lnTo>
                  <a:cubicBezTo>
                    <a:pt x="1243019" y="450726"/>
                    <a:pt x="1277283" y="508100"/>
                    <a:pt x="1308295" y="520505"/>
                  </a:cubicBezTo>
                  <a:cubicBezTo>
                    <a:pt x="1314155" y="522849"/>
                    <a:pt x="1400625" y="559033"/>
                    <a:pt x="1420837" y="562708"/>
                  </a:cubicBezTo>
                  <a:cubicBezTo>
                    <a:pt x="1458033" y="569471"/>
                    <a:pt x="1495864" y="572087"/>
                    <a:pt x="1533378" y="576776"/>
                  </a:cubicBezTo>
                  <a:cubicBezTo>
                    <a:pt x="1615514" y="604153"/>
                    <a:pt x="1536192" y="580151"/>
                    <a:pt x="1659987" y="604911"/>
                  </a:cubicBezTo>
                  <a:cubicBezTo>
                    <a:pt x="1815323" y="635979"/>
                    <a:pt x="1566227" y="605341"/>
                    <a:pt x="1871003" y="633046"/>
                  </a:cubicBezTo>
                  <a:cubicBezTo>
                    <a:pt x="1909508" y="652299"/>
                    <a:pt x="1936340" y="662807"/>
                    <a:pt x="1969477" y="689317"/>
                  </a:cubicBezTo>
                  <a:cubicBezTo>
                    <a:pt x="2004386" y="717244"/>
                    <a:pt x="1993181" y="725602"/>
                    <a:pt x="2039815" y="745588"/>
                  </a:cubicBezTo>
                  <a:cubicBezTo>
                    <a:pt x="2094860" y="769179"/>
                    <a:pt x="2123758" y="749969"/>
                    <a:pt x="2180492" y="787791"/>
                  </a:cubicBezTo>
                  <a:cubicBezTo>
                    <a:pt x="2194560" y="797169"/>
                    <a:pt x="2208015" y="807538"/>
                    <a:pt x="2222695" y="815926"/>
                  </a:cubicBezTo>
                  <a:cubicBezTo>
                    <a:pt x="2240903" y="826331"/>
                    <a:pt x="2261183" y="832947"/>
                    <a:pt x="2278966" y="844062"/>
                  </a:cubicBezTo>
                  <a:cubicBezTo>
                    <a:pt x="2298848" y="856488"/>
                    <a:pt x="2312693" y="879824"/>
                    <a:pt x="2335237" y="886265"/>
                  </a:cubicBezTo>
                  <a:cubicBezTo>
                    <a:pt x="2380550" y="899212"/>
                    <a:pt x="2429022" y="895644"/>
                    <a:pt x="2475914" y="900333"/>
                  </a:cubicBezTo>
                  <a:cubicBezTo>
                    <a:pt x="2493248" y="911889"/>
                    <a:pt x="2554904" y="949007"/>
                    <a:pt x="2560320" y="970671"/>
                  </a:cubicBezTo>
                  <a:cubicBezTo>
                    <a:pt x="2574451" y="1027194"/>
                    <a:pt x="2543862" y="1049238"/>
                    <a:pt x="2504049" y="1069145"/>
                  </a:cubicBezTo>
                  <a:cubicBezTo>
                    <a:pt x="2490786" y="1075777"/>
                    <a:pt x="2475109" y="1076581"/>
                    <a:pt x="2461846" y="1083213"/>
                  </a:cubicBezTo>
                  <a:cubicBezTo>
                    <a:pt x="2446724" y="1090774"/>
                    <a:pt x="2434323" y="1102960"/>
                    <a:pt x="2419643" y="1111348"/>
                  </a:cubicBezTo>
                  <a:cubicBezTo>
                    <a:pt x="2401435" y="1121752"/>
                    <a:pt x="2382129" y="1130105"/>
                    <a:pt x="2363372" y="1139483"/>
                  </a:cubicBezTo>
                  <a:cubicBezTo>
                    <a:pt x="2353994" y="1148862"/>
                    <a:pt x="2327880" y="1156583"/>
                    <a:pt x="2335237" y="1167619"/>
                  </a:cubicBezTo>
                  <a:cubicBezTo>
                    <a:pt x="2353994" y="1195754"/>
                    <a:pt x="2391508" y="1205132"/>
                    <a:pt x="2419643" y="1223889"/>
                  </a:cubicBezTo>
                  <a:cubicBezTo>
                    <a:pt x="2474187" y="1260251"/>
                    <a:pt x="2445804" y="1246678"/>
                    <a:pt x="2504049" y="1266093"/>
                  </a:cubicBezTo>
                  <a:cubicBezTo>
                    <a:pt x="2518117" y="1280161"/>
                    <a:pt x="2527555" y="1301497"/>
                    <a:pt x="2546252" y="1308296"/>
                  </a:cubicBezTo>
                  <a:cubicBezTo>
                    <a:pt x="2581782" y="1321216"/>
                    <a:pt x="2621502" y="1316148"/>
                    <a:pt x="2658794" y="1322363"/>
                  </a:cubicBezTo>
                  <a:cubicBezTo>
                    <a:pt x="2677865" y="1325541"/>
                    <a:pt x="2696545" y="1330875"/>
                    <a:pt x="2715064" y="1336431"/>
                  </a:cubicBezTo>
                  <a:cubicBezTo>
                    <a:pt x="2743470" y="1344953"/>
                    <a:pt x="2771335" y="1355188"/>
                    <a:pt x="2799470" y="1364566"/>
                  </a:cubicBezTo>
                  <a:cubicBezTo>
                    <a:pt x="2813538" y="1369255"/>
                    <a:pt x="2829336" y="1370408"/>
                    <a:pt x="2841674" y="1378634"/>
                  </a:cubicBezTo>
                  <a:cubicBezTo>
                    <a:pt x="2899964" y="1417493"/>
                    <a:pt x="2867475" y="1402668"/>
                    <a:pt x="2940147" y="1420837"/>
                  </a:cubicBezTo>
                  <a:cubicBezTo>
                    <a:pt x="2974366" y="1455056"/>
                    <a:pt x="3013051" y="1508570"/>
                    <a:pt x="3066757" y="1519311"/>
                  </a:cubicBezTo>
                  <a:cubicBezTo>
                    <a:pt x="3117545" y="1529469"/>
                    <a:pt x="3169920" y="1528690"/>
                    <a:pt x="3221501" y="1533379"/>
                  </a:cubicBezTo>
                  <a:cubicBezTo>
                    <a:pt x="3259015" y="1552136"/>
                    <a:pt x="3304386" y="1559991"/>
                    <a:pt x="3334043" y="1589649"/>
                  </a:cubicBezTo>
                  <a:cubicBezTo>
                    <a:pt x="3343421" y="1599028"/>
                    <a:pt x="3350805" y="1610961"/>
                    <a:pt x="3362178" y="1617785"/>
                  </a:cubicBezTo>
                  <a:cubicBezTo>
                    <a:pt x="3374893" y="1625414"/>
                    <a:pt x="3390496" y="1626646"/>
                    <a:pt x="3404381" y="1631853"/>
                  </a:cubicBezTo>
                  <a:cubicBezTo>
                    <a:pt x="3428026" y="1640720"/>
                    <a:pt x="3450763" y="1652003"/>
                    <a:pt x="3474720" y="1659988"/>
                  </a:cubicBezTo>
                  <a:cubicBezTo>
                    <a:pt x="3507106" y="1670783"/>
                    <a:pt x="3540496" y="1678314"/>
                    <a:pt x="3573194" y="1688123"/>
                  </a:cubicBezTo>
                  <a:cubicBezTo>
                    <a:pt x="3587397" y="1692384"/>
                    <a:pt x="3602134" y="1695559"/>
                    <a:pt x="3615397" y="1702191"/>
                  </a:cubicBezTo>
                  <a:cubicBezTo>
                    <a:pt x="3784340" y="1786662"/>
                    <a:pt x="3554878" y="1679948"/>
                    <a:pt x="3685735" y="1758462"/>
                  </a:cubicBezTo>
                  <a:cubicBezTo>
                    <a:pt x="3698450" y="1766091"/>
                    <a:pt x="3714308" y="1766688"/>
                    <a:pt x="3727938" y="1772529"/>
                  </a:cubicBezTo>
                  <a:cubicBezTo>
                    <a:pt x="3747213" y="1780790"/>
                    <a:pt x="3764314" y="1794033"/>
                    <a:pt x="3784209" y="1800665"/>
                  </a:cubicBezTo>
                  <a:cubicBezTo>
                    <a:pt x="3889247" y="1835678"/>
                    <a:pt x="3877816" y="1820549"/>
                    <a:pt x="3967089" y="1842868"/>
                  </a:cubicBezTo>
                  <a:cubicBezTo>
                    <a:pt x="3981475" y="1846465"/>
                    <a:pt x="3994843" y="1853602"/>
                    <a:pt x="4009292" y="1856936"/>
                  </a:cubicBezTo>
                  <a:cubicBezTo>
                    <a:pt x="4055888" y="1867689"/>
                    <a:pt x="4149969" y="1885071"/>
                    <a:pt x="4149969" y="1885071"/>
                  </a:cubicBezTo>
                  <a:cubicBezTo>
                    <a:pt x="4168726" y="1899139"/>
                    <a:pt x="4185269" y="1916789"/>
                    <a:pt x="4206240" y="1927274"/>
                  </a:cubicBezTo>
                  <a:cubicBezTo>
                    <a:pt x="4232766" y="1940537"/>
                    <a:pt x="4262511" y="1946031"/>
                    <a:pt x="4290646" y="1955409"/>
                  </a:cubicBezTo>
                  <a:cubicBezTo>
                    <a:pt x="4432482" y="2002688"/>
                    <a:pt x="4212472" y="1930551"/>
                    <a:pt x="4389120" y="1983545"/>
                  </a:cubicBezTo>
                  <a:cubicBezTo>
                    <a:pt x="4417526" y="1992067"/>
                    <a:pt x="4444754" y="2004487"/>
                    <a:pt x="4473526" y="2011680"/>
                  </a:cubicBezTo>
                  <a:cubicBezTo>
                    <a:pt x="4544183" y="2029345"/>
                    <a:pt x="4511455" y="2019634"/>
                    <a:pt x="4572000" y="2039816"/>
                  </a:cubicBezTo>
                  <a:cubicBezTo>
                    <a:pt x="4576689" y="2053884"/>
                    <a:pt x="4583159" y="2067478"/>
                    <a:pt x="4586067" y="2082019"/>
                  </a:cubicBezTo>
                  <a:cubicBezTo>
                    <a:pt x="4605089" y="2177132"/>
                    <a:pt x="4611139" y="2283419"/>
                    <a:pt x="4586067" y="2377440"/>
                  </a:cubicBezTo>
                  <a:cubicBezTo>
                    <a:pt x="4582246" y="2391768"/>
                    <a:pt x="4557932" y="2386819"/>
                    <a:pt x="4543864" y="2391508"/>
                  </a:cubicBezTo>
                  <a:cubicBezTo>
                    <a:pt x="4456152" y="2369580"/>
                    <a:pt x="4445468" y="2380316"/>
                    <a:pt x="4389120" y="2335237"/>
                  </a:cubicBezTo>
                  <a:cubicBezTo>
                    <a:pt x="4378763" y="2326952"/>
                    <a:pt x="4372847" y="2313033"/>
                    <a:pt x="4360984" y="2307102"/>
                  </a:cubicBezTo>
                  <a:cubicBezTo>
                    <a:pt x="4285664" y="2269442"/>
                    <a:pt x="4220608" y="2273369"/>
                    <a:pt x="4135901" y="2264899"/>
                  </a:cubicBezTo>
                  <a:cubicBezTo>
                    <a:pt x="4117144" y="2260210"/>
                    <a:pt x="4098589" y="2254623"/>
                    <a:pt x="4079630" y="2250831"/>
                  </a:cubicBezTo>
                  <a:cubicBezTo>
                    <a:pt x="4051660" y="2245237"/>
                    <a:pt x="4022896" y="2243681"/>
                    <a:pt x="3995224" y="2236763"/>
                  </a:cubicBezTo>
                  <a:cubicBezTo>
                    <a:pt x="3966452" y="2229570"/>
                    <a:pt x="3938953" y="2218006"/>
                    <a:pt x="3910818" y="2208628"/>
                  </a:cubicBezTo>
                  <a:lnTo>
                    <a:pt x="3784209" y="2166425"/>
                  </a:lnTo>
                  <a:lnTo>
                    <a:pt x="3742006" y="2152357"/>
                  </a:lnTo>
                  <a:cubicBezTo>
                    <a:pt x="3727938" y="2147668"/>
                    <a:pt x="3714189" y="2141885"/>
                    <a:pt x="3699803" y="2138289"/>
                  </a:cubicBezTo>
                  <a:lnTo>
                    <a:pt x="3643532" y="2124222"/>
                  </a:lnTo>
                  <a:cubicBezTo>
                    <a:pt x="3624775" y="2114843"/>
                    <a:pt x="3605244" y="2106875"/>
                    <a:pt x="3587261" y="2096086"/>
                  </a:cubicBezTo>
                  <a:cubicBezTo>
                    <a:pt x="3558265" y="2078689"/>
                    <a:pt x="3534934" y="2050509"/>
                    <a:pt x="3502855" y="2039816"/>
                  </a:cubicBezTo>
                  <a:cubicBezTo>
                    <a:pt x="3474720" y="2030437"/>
                    <a:pt x="3444975" y="2024943"/>
                    <a:pt x="3418449" y="2011680"/>
                  </a:cubicBezTo>
                  <a:cubicBezTo>
                    <a:pt x="3399692" y="2002302"/>
                    <a:pt x="3380386" y="1993949"/>
                    <a:pt x="3362178" y="1983545"/>
                  </a:cubicBezTo>
                  <a:cubicBezTo>
                    <a:pt x="3222990" y="1904009"/>
                    <a:pt x="3433749" y="2012295"/>
                    <a:pt x="3263704" y="1927274"/>
                  </a:cubicBezTo>
                  <a:cubicBezTo>
                    <a:pt x="3249636" y="1913206"/>
                    <a:pt x="3238054" y="1896107"/>
                    <a:pt x="3221501" y="1885071"/>
                  </a:cubicBezTo>
                  <a:cubicBezTo>
                    <a:pt x="3115369" y="1814316"/>
                    <a:pt x="3264265" y="1984110"/>
                    <a:pt x="3094892" y="1814733"/>
                  </a:cubicBezTo>
                  <a:cubicBezTo>
                    <a:pt x="3063778" y="1783619"/>
                    <a:pt x="3049659" y="1763980"/>
                    <a:pt x="3010486" y="1744394"/>
                  </a:cubicBezTo>
                  <a:cubicBezTo>
                    <a:pt x="2997223" y="1737762"/>
                    <a:pt x="2982732" y="1733660"/>
                    <a:pt x="2968283" y="1730326"/>
                  </a:cubicBezTo>
                  <a:cubicBezTo>
                    <a:pt x="2921687" y="1719573"/>
                    <a:pt x="2873999" y="1713789"/>
                    <a:pt x="2827606" y="1702191"/>
                  </a:cubicBezTo>
                  <a:cubicBezTo>
                    <a:pt x="2734658" y="1678954"/>
                    <a:pt x="2790520" y="1690521"/>
                    <a:pt x="2658794" y="1674056"/>
                  </a:cubicBezTo>
                  <a:cubicBezTo>
                    <a:pt x="2630658" y="1664677"/>
                    <a:pt x="2598113" y="1663715"/>
                    <a:pt x="2574387" y="1645920"/>
                  </a:cubicBezTo>
                  <a:cubicBezTo>
                    <a:pt x="2555630" y="1631852"/>
                    <a:pt x="2537196" y="1617345"/>
                    <a:pt x="2518117" y="1603717"/>
                  </a:cubicBezTo>
                  <a:cubicBezTo>
                    <a:pt x="2504359" y="1593890"/>
                    <a:pt x="2489116" y="1586144"/>
                    <a:pt x="2475914" y="1575582"/>
                  </a:cubicBezTo>
                  <a:cubicBezTo>
                    <a:pt x="2465557" y="1567296"/>
                    <a:pt x="2458135" y="1555732"/>
                    <a:pt x="2447778" y="1547446"/>
                  </a:cubicBezTo>
                  <a:cubicBezTo>
                    <a:pt x="2404935" y="1513172"/>
                    <a:pt x="2399848" y="1520059"/>
                    <a:pt x="2349304" y="1491176"/>
                  </a:cubicBezTo>
                  <a:cubicBezTo>
                    <a:pt x="2273741" y="1447997"/>
                    <a:pt x="2343256" y="1472078"/>
                    <a:pt x="2250830" y="1448973"/>
                  </a:cubicBezTo>
                  <a:cubicBezTo>
                    <a:pt x="2241452" y="1439594"/>
                    <a:pt x="2234886" y="1426062"/>
                    <a:pt x="2222695" y="1420837"/>
                  </a:cubicBezTo>
                  <a:cubicBezTo>
                    <a:pt x="2200718" y="1411418"/>
                    <a:pt x="2175698" y="1411956"/>
                    <a:pt x="2152357" y="1406769"/>
                  </a:cubicBezTo>
                  <a:cubicBezTo>
                    <a:pt x="2133483" y="1402575"/>
                    <a:pt x="2114676" y="1398013"/>
                    <a:pt x="2096086" y="1392702"/>
                  </a:cubicBezTo>
                  <a:cubicBezTo>
                    <a:pt x="2081828" y="1388628"/>
                    <a:pt x="2067146" y="1385266"/>
                    <a:pt x="2053883" y="1378634"/>
                  </a:cubicBezTo>
                  <a:cubicBezTo>
                    <a:pt x="1998750" y="1351067"/>
                    <a:pt x="2007115" y="1325992"/>
                    <a:pt x="1927274" y="1322363"/>
                  </a:cubicBezTo>
                  <a:lnTo>
                    <a:pt x="1617784" y="1308296"/>
                  </a:lnTo>
                  <a:cubicBezTo>
                    <a:pt x="1545472" y="1284191"/>
                    <a:pt x="1599849" y="1311914"/>
                    <a:pt x="1547446" y="1252025"/>
                  </a:cubicBezTo>
                  <a:cubicBezTo>
                    <a:pt x="1525611" y="1227071"/>
                    <a:pt x="1497002" y="1208212"/>
                    <a:pt x="1477107" y="1181686"/>
                  </a:cubicBezTo>
                  <a:cubicBezTo>
                    <a:pt x="1463039" y="1162929"/>
                    <a:pt x="1452916" y="1140426"/>
                    <a:pt x="1434904" y="1125416"/>
                  </a:cubicBezTo>
                  <a:cubicBezTo>
                    <a:pt x="1423512" y="1115923"/>
                    <a:pt x="1405964" y="1117980"/>
                    <a:pt x="1392701" y="1111348"/>
                  </a:cubicBezTo>
                  <a:cubicBezTo>
                    <a:pt x="1357206" y="1093601"/>
                    <a:pt x="1348533" y="1081248"/>
                    <a:pt x="1322363" y="1055077"/>
                  </a:cubicBezTo>
                  <a:cubicBezTo>
                    <a:pt x="1341120" y="1050388"/>
                    <a:pt x="1361341" y="1049656"/>
                    <a:pt x="1378634" y="1041009"/>
                  </a:cubicBezTo>
                  <a:cubicBezTo>
                    <a:pt x="1408879" y="1025887"/>
                    <a:pt x="1463040" y="984739"/>
                    <a:pt x="1463040" y="984739"/>
                  </a:cubicBezTo>
                  <a:cubicBezTo>
                    <a:pt x="1467729" y="970671"/>
                    <a:pt x="1477107" y="957365"/>
                    <a:pt x="1477107" y="942536"/>
                  </a:cubicBezTo>
                  <a:cubicBezTo>
                    <a:pt x="1477107" y="908124"/>
                    <a:pt x="1470702" y="861961"/>
                    <a:pt x="1434904" y="844062"/>
                  </a:cubicBezTo>
                  <a:cubicBezTo>
                    <a:pt x="1408378" y="830799"/>
                    <a:pt x="1350498" y="815926"/>
                    <a:pt x="1350498" y="815926"/>
                  </a:cubicBezTo>
                  <a:cubicBezTo>
                    <a:pt x="1336430" y="825305"/>
                    <a:pt x="1323417" y="836501"/>
                    <a:pt x="1308295" y="844062"/>
                  </a:cubicBezTo>
                  <a:cubicBezTo>
                    <a:pt x="1295032" y="850694"/>
                    <a:pt x="1334086" y="881575"/>
                    <a:pt x="1308295" y="872197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13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78" name="Group 14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79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custGeom>
                  <a:avLst/>
                  <a:gdLst>
                    <a:gd name="textAreaLeft" fmla="*/ 0 w 722160"/>
                    <a:gd name="textAreaRight" fmla="*/ 722520 w 72216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1834588" h="260277">
                      <a:moveTo>
                        <a:pt x="5788" y="120316"/>
                      </a:moveTo>
                      <a:cubicBezTo>
                        <a:pt x="25841" y="136358"/>
                        <a:pt x="154286" y="191187"/>
                        <a:pt x="234388" y="204537"/>
                      </a:cubicBezTo>
                      <a:cubicBezTo>
                        <a:pt x="248192" y="206838"/>
                        <a:pt x="574319" y="182834"/>
                        <a:pt x="607367" y="180473"/>
                      </a:cubicBezTo>
                      <a:cubicBezTo>
                        <a:pt x="659504" y="184484"/>
                        <a:pt x="711844" y="186395"/>
                        <a:pt x="763777" y="192505"/>
                      </a:cubicBezTo>
                      <a:cubicBezTo>
                        <a:pt x="780200" y="194437"/>
                        <a:pt x="795635" y="201579"/>
                        <a:pt x="811904" y="204537"/>
                      </a:cubicBezTo>
                      <a:cubicBezTo>
                        <a:pt x="839805" y="209610"/>
                        <a:pt x="868051" y="212558"/>
                        <a:pt x="896125" y="216568"/>
                      </a:cubicBezTo>
                      <a:cubicBezTo>
                        <a:pt x="908156" y="224589"/>
                        <a:pt x="919286" y="234164"/>
                        <a:pt x="932219" y="240631"/>
                      </a:cubicBezTo>
                      <a:cubicBezTo>
                        <a:pt x="1020481" y="284762"/>
                        <a:pt x="1253600" y="240776"/>
                        <a:pt x="1257072" y="240631"/>
                      </a:cubicBezTo>
                      <a:cubicBezTo>
                        <a:pt x="1285146" y="236621"/>
                        <a:pt x="1313485" y="234162"/>
                        <a:pt x="1341293" y="228600"/>
                      </a:cubicBezTo>
                      <a:cubicBezTo>
                        <a:pt x="1353729" y="226113"/>
                        <a:pt x="1364775" y="217896"/>
                        <a:pt x="1377388" y="216568"/>
                      </a:cubicBezTo>
                      <a:cubicBezTo>
                        <a:pt x="1441328" y="209837"/>
                        <a:pt x="1505725" y="208547"/>
                        <a:pt x="1569893" y="204537"/>
                      </a:cubicBezTo>
                      <a:lnTo>
                        <a:pt x="1678177" y="168442"/>
                      </a:lnTo>
                      <a:cubicBezTo>
                        <a:pt x="1690209" y="164431"/>
                        <a:pt x="1701836" y="158897"/>
                        <a:pt x="1714272" y="156410"/>
                      </a:cubicBezTo>
                      <a:lnTo>
                        <a:pt x="1834588" y="132347"/>
                      </a:lnTo>
                      <a:cubicBezTo>
                        <a:pt x="1764340" y="108932"/>
                        <a:pt x="1832181" y="129460"/>
                        <a:pt x="1726304" y="108284"/>
                      </a:cubicBezTo>
                      <a:cubicBezTo>
                        <a:pt x="1710089" y="105041"/>
                        <a:pt x="1694016" y="101004"/>
                        <a:pt x="1678177" y="96252"/>
                      </a:cubicBezTo>
                      <a:cubicBezTo>
                        <a:pt x="1653882" y="88963"/>
                        <a:pt x="1631265" y="74295"/>
                        <a:pt x="1605988" y="72189"/>
                      </a:cubicBezTo>
                      <a:lnTo>
                        <a:pt x="1461609" y="60158"/>
                      </a:lnTo>
                      <a:cubicBezTo>
                        <a:pt x="1421504" y="64168"/>
                        <a:pt x="1381193" y="66489"/>
                        <a:pt x="1341293" y="72189"/>
                      </a:cubicBezTo>
                      <a:cubicBezTo>
                        <a:pt x="1314862" y="75965"/>
                        <a:pt x="1282779" y="87684"/>
                        <a:pt x="1257072" y="96252"/>
                      </a:cubicBezTo>
                      <a:cubicBezTo>
                        <a:pt x="1304072" y="143254"/>
                        <a:pt x="1254756" y="101111"/>
                        <a:pt x="1317230" y="132347"/>
                      </a:cubicBezTo>
                      <a:cubicBezTo>
                        <a:pt x="1330164" y="138814"/>
                        <a:pt x="1367697" y="154813"/>
                        <a:pt x="1353325" y="156410"/>
                      </a:cubicBezTo>
                      <a:cubicBezTo>
                        <a:pt x="1305327" y="161743"/>
                        <a:pt x="1257072" y="148389"/>
                        <a:pt x="1208946" y="144379"/>
                      </a:cubicBezTo>
                      <a:cubicBezTo>
                        <a:pt x="1196914" y="136358"/>
                        <a:pt x="1184142" y="129349"/>
                        <a:pt x="1172851" y="120316"/>
                      </a:cubicBezTo>
                      <a:cubicBezTo>
                        <a:pt x="1141598" y="95313"/>
                        <a:pt x="1154359" y="90707"/>
                        <a:pt x="1112693" y="72189"/>
                      </a:cubicBezTo>
                      <a:cubicBezTo>
                        <a:pt x="1089514" y="61887"/>
                        <a:pt x="1064567" y="56147"/>
                        <a:pt x="1040504" y="48126"/>
                      </a:cubicBezTo>
                      <a:lnTo>
                        <a:pt x="1004409" y="36095"/>
                      </a:lnTo>
                      <a:cubicBezTo>
                        <a:pt x="992377" y="32084"/>
                        <a:pt x="980750" y="26550"/>
                        <a:pt x="968314" y="24063"/>
                      </a:cubicBezTo>
                      <a:lnTo>
                        <a:pt x="908156" y="12031"/>
                      </a:lnTo>
                      <a:cubicBezTo>
                        <a:pt x="864040" y="16042"/>
                        <a:pt x="819661" y="17798"/>
                        <a:pt x="775809" y="24063"/>
                      </a:cubicBezTo>
                      <a:cubicBezTo>
                        <a:pt x="755391" y="26980"/>
                        <a:pt x="707995" y="37189"/>
                        <a:pt x="751746" y="72189"/>
                      </a:cubicBezTo>
                      <a:cubicBezTo>
                        <a:pt x="764658" y="82519"/>
                        <a:pt x="784034" y="79469"/>
                        <a:pt x="799872" y="84221"/>
                      </a:cubicBezTo>
                      <a:cubicBezTo>
                        <a:pt x="824167" y="91510"/>
                        <a:pt x="847454" y="102132"/>
                        <a:pt x="872062" y="108284"/>
                      </a:cubicBezTo>
                      <a:cubicBezTo>
                        <a:pt x="940027" y="125276"/>
                        <a:pt x="903973" y="117073"/>
                        <a:pt x="980346" y="132347"/>
                      </a:cubicBezTo>
                      <a:cubicBezTo>
                        <a:pt x="989435" y="138406"/>
                        <a:pt x="1077086" y="190994"/>
                        <a:pt x="968314" y="144379"/>
                      </a:cubicBezTo>
                      <a:cubicBezTo>
                        <a:pt x="955023" y="138683"/>
                        <a:pt x="945153" y="126783"/>
                        <a:pt x="932219" y="120316"/>
                      </a:cubicBezTo>
                      <a:cubicBezTo>
                        <a:pt x="920876" y="114644"/>
                        <a:pt x="907468" y="113956"/>
                        <a:pt x="896125" y="108284"/>
                      </a:cubicBezTo>
                      <a:cubicBezTo>
                        <a:pt x="883191" y="101817"/>
                        <a:pt x="873244" y="90094"/>
                        <a:pt x="860030" y="84221"/>
                      </a:cubicBezTo>
                      <a:cubicBezTo>
                        <a:pt x="836851" y="73919"/>
                        <a:pt x="811904" y="68179"/>
                        <a:pt x="787841" y="60158"/>
                      </a:cubicBezTo>
                      <a:lnTo>
                        <a:pt x="751746" y="48126"/>
                      </a:lnTo>
                      <a:lnTo>
                        <a:pt x="715651" y="36095"/>
                      </a:lnTo>
                      <a:cubicBezTo>
                        <a:pt x="703619" y="32084"/>
                        <a:pt x="691860" y="27139"/>
                        <a:pt x="679556" y="24063"/>
                      </a:cubicBezTo>
                      <a:cubicBezTo>
                        <a:pt x="663514" y="20052"/>
                        <a:pt x="647865" y="13857"/>
                        <a:pt x="631430" y="12031"/>
                      </a:cubicBezTo>
                      <a:cubicBezTo>
                        <a:pt x="575484" y="5815"/>
                        <a:pt x="519135" y="4010"/>
                        <a:pt x="462988" y="0"/>
                      </a:cubicBezTo>
                      <a:cubicBezTo>
                        <a:pt x="429167" y="3075"/>
                        <a:pt x="340841" y="916"/>
                        <a:pt x="294546" y="24063"/>
                      </a:cubicBezTo>
                      <a:cubicBezTo>
                        <a:pt x="281612" y="30530"/>
                        <a:pt x="271665" y="42253"/>
                        <a:pt x="258451" y="48126"/>
                      </a:cubicBezTo>
                      <a:cubicBezTo>
                        <a:pt x="235272" y="58428"/>
                        <a:pt x="186262" y="72189"/>
                        <a:pt x="186262" y="72189"/>
                      </a:cubicBezTo>
                      <a:cubicBezTo>
                        <a:pt x="153814" y="93821"/>
                        <a:pt x="151431" y="99982"/>
                        <a:pt x="114072" y="108284"/>
                      </a:cubicBezTo>
                      <a:cubicBezTo>
                        <a:pt x="16827" y="129895"/>
                        <a:pt x="-14265" y="104274"/>
                        <a:pt x="5788" y="120316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custGeom>
                  <a:avLst/>
                  <a:gdLst>
                    <a:gd name="textAreaLeft" fmla="*/ 0 w 800280"/>
                    <a:gd name="textAreaRight" fmla="*/ 800640 w 800280"/>
                    <a:gd name="textAreaTop" fmla="*/ 0 h 1648080"/>
                    <a:gd name="textAreaBottom" fmla="*/ 1648440 h 1648080"/>
                  </a:gdLst>
                  <a:ahLst/>
                  <a:rect l="textAreaLeft" t="textAreaTop" r="textAreaRight" b="textAreaBottom"/>
                  <a:pathLst>
                    <a:path w="2033337" h="4186990">
                      <a:moveTo>
                        <a:pt x="2009274" y="300790"/>
                      </a:moveTo>
                      <a:cubicBezTo>
                        <a:pt x="2005263" y="264695"/>
                        <a:pt x="2006050" y="227738"/>
                        <a:pt x="1997242" y="192506"/>
                      </a:cubicBezTo>
                      <a:cubicBezTo>
                        <a:pt x="1993735" y="178478"/>
                        <a:pt x="1979646" y="169345"/>
                        <a:pt x="1973179" y="156411"/>
                      </a:cubicBezTo>
                      <a:cubicBezTo>
                        <a:pt x="1967507" y="145067"/>
                        <a:pt x="1965158" y="132348"/>
                        <a:pt x="1961147" y="120316"/>
                      </a:cubicBezTo>
                      <a:cubicBezTo>
                        <a:pt x="1939934" y="183958"/>
                        <a:pt x="1954024" y="160451"/>
                        <a:pt x="1937084" y="84221"/>
                      </a:cubicBezTo>
                      <a:cubicBezTo>
                        <a:pt x="1934333" y="71841"/>
                        <a:pt x="1929063" y="60158"/>
                        <a:pt x="1925053" y="48127"/>
                      </a:cubicBezTo>
                      <a:cubicBezTo>
                        <a:pt x="1921042" y="60158"/>
                        <a:pt x="1921989" y="93189"/>
                        <a:pt x="1913021" y="84221"/>
                      </a:cubicBezTo>
                      <a:cubicBezTo>
                        <a:pt x="1895085" y="66285"/>
                        <a:pt x="1888958" y="12032"/>
                        <a:pt x="1888958" y="12032"/>
                      </a:cubicBezTo>
                      <a:cubicBezTo>
                        <a:pt x="1884947" y="40106"/>
                        <a:pt x="1882488" y="68445"/>
                        <a:pt x="1876926" y="96253"/>
                      </a:cubicBezTo>
                      <a:cubicBezTo>
                        <a:pt x="1874439" y="108689"/>
                        <a:pt x="1871420" y="143223"/>
                        <a:pt x="1864895" y="132348"/>
                      </a:cubicBezTo>
                      <a:cubicBezTo>
                        <a:pt x="1847880" y="103989"/>
                        <a:pt x="1840832" y="36095"/>
                        <a:pt x="1840832" y="36095"/>
                      </a:cubicBezTo>
                      <a:cubicBezTo>
                        <a:pt x="1832811" y="48127"/>
                        <a:pt x="1829703" y="78657"/>
                        <a:pt x="1816769" y="72190"/>
                      </a:cubicBezTo>
                      <a:cubicBezTo>
                        <a:pt x="1790902" y="59256"/>
                        <a:pt x="1768642" y="0"/>
                        <a:pt x="1768642" y="0"/>
                      </a:cubicBezTo>
                      <a:cubicBezTo>
                        <a:pt x="1764632" y="16042"/>
                        <a:pt x="1764006" y="33337"/>
                        <a:pt x="1756611" y="48127"/>
                      </a:cubicBezTo>
                      <a:cubicBezTo>
                        <a:pt x="1751538" y="58273"/>
                        <a:pt x="1742693" y="77263"/>
                        <a:pt x="1732547" y="72190"/>
                      </a:cubicBezTo>
                      <a:cubicBezTo>
                        <a:pt x="1716505" y="64169"/>
                        <a:pt x="1716505" y="40106"/>
                        <a:pt x="1708484" y="24064"/>
                      </a:cubicBezTo>
                      <a:cubicBezTo>
                        <a:pt x="1704474" y="36095"/>
                        <a:pt x="1707796" y="54486"/>
                        <a:pt x="1696453" y="60158"/>
                      </a:cubicBezTo>
                      <a:cubicBezTo>
                        <a:pt x="1667395" y="74687"/>
                        <a:pt x="1643729" y="23183"/>
                        <a:pt x="1636295" y="12032"/>
                      </a:cubicBezTo>
                      <a:cubicBezTo>
                        <a:pt x="1624263" y="16043"/>
                        <a:pt x="1612636" y="26551"/>
                        <a:pt x="1600200" y="24064"/>
                      </a:cubicBezTo>
                      <a:cubicBezTo>
                        <a:pt x="1589077" y="21839"/>
                        <a:pt x="1587481" y="0"/>
                        <a:pt x="1576137" y="0"/>
                      </a:cubicBezTo>
                      <a:cubicBezTo>
                        <a:pt x="1564793" y="0"/>
                        <a:pt x="1561801" y="18228"/>
                        <a:pt x="1552074" y="24064"/>
                      </a:cubicBezTo>
                      <a:cubicBezTo>
                        <a:pt x="1541199" y="30589"/>
                        <a:pt x="1528011" y="32085"/>
                        <a:pt x="1515979" y="36095"/>
                      </a:cubicBezTo>
                      <a:cubicBezTo>
                        <a:pt x="1503947" y="44116"/>
                        <a:pt x="1488917" y="48866"/>
                        <a:pt x="1479884" y="60158"/>
                      </a:cubicBezTo>
                      <a:cubicBezTo>
                        <a:pt x="1471961" y="70061"/>
                        <a:pt x="1473525" y="84909"/>
                        <a:pt x="1467853" y="96253"/>
                      </a:cubicBezTo>
                      <a:cubicBezTo>
                        <a:pt x="1461386" y="109187"/>
                        <a:pt x="1450257" y="119414"/>
                        <a:pt x="1443790" y="132348"/>
                      </a:cubicBezTo>
                      <a:cubicBezTo>
                        <a:pt x="1438118" y="143691"/>
                        <a:pt x="1438283" y="157567"/>
                        <a:pt x="1431758" y="168442"/>
                      </a:cubicBezTo>
                      <a:cubicBezTo>
                        <a:pt x="1425922" y="178169"/>
                        <a:pt x="1414781" y="183648"/>
                        <a:pt x="1407695" y="192506"/>
                      </a:cubicBezTo>
                      <a:cubicBezTo>
                        <a:pt x="1398662" y="203797"/>
                        <a:pt x="1393042" y="217621"/>
                        <a:pt x="1383632" y="228600"/>
                      </a:cubicBezTo>
                      <a:cubicBezTo>
                        <a:pt x="1368867" y="245825"/>
                        <a:pt x="1335505" y="276727"/>
                        <a:pt x="1335505" y="276727"/>
                      </a:cubicBezTo>
                      <a:cubicBezTo>
                        <a:pt x="1295067" y="398046"/>
                        <a:pt x="1356772" y="209849"/>
                        <a:pt x="1311442" y="360948"/>
                      </a:cubicBezTo>
                      <a:cubicBezTo>
                        <a:pt x="1304153" y="385243"/>
                        <a:pt x="1301449" y="412032"/>
                        <a:pt x="1287379" y="433137"/>
                      </a:cubicBezTo>
                      <a:cubicBezTo>
                        <a:pt x="1279358" y="445169"/>
                        <a:pt x="1269783" y="456298"/>
                        <a:pt x="1263316" y="469232"/>
                      </a:cubicBezTo>
                      <a:cubicBezTo>
                        <a:pt x="1257644" y="480576"/>
                        <a:pt x="1256956" y="493983"/>
                        <a:pt x="1251284" y="505327"/>
                      </a:cubicBezTo>
                      <a:cubicBezTo>
                        <a:pt x="1236107" y="535680"/>
                        <a:pt x="1225538" y="543104"/>
                        <a:pt x="1203158" y="565485"/>
                      </a:cubicBezTo>
                      <a:cubicBezTo>
                        <a:pt x="1195137" y="589548"/>
                        <a:pt x="1184070" y="612802"/>
                        <a:pt x="1179095" y="637674"/>
                      </a:cubicBezTo>
                      <a:cubicBezTo>
                        <a:pt x="1174520" y="660549"/>
                        <a:pt x="1167362" y="709266"/>
                        <a:pt x="1155032" y="733927"/>
                      </a:cubicBezTo>
                      <a:cubicBezTo>
                        <a:pt x="1148565" y="746860"/>
                        <a:pt x="1142260" y="760988"/>
                        <a:pt x="1130969" y="770021"/>
                      </a:cubicBezTo>
                      <a:cubicBezTo>
                        <a:pt x="1121066" y="777944"/>
                        <a:pt x="1106906" y="778042"/>
                        <a:pt x="1094874" y="782053"/>
                      </a:cubicBezTo>
                      <a:cubicBezTo>
                        <a:pt x="1037151" y="868638"/>
                        <a:pt x="1118892" y="762030"/>
                        <a:pt x="998621" y="842211"/>
                      </a:cubicBezTo>
                      <a:cubicBezTo>
                        <a:pt x="915880" y="897372"/>
                        <a:pt x="953868" y="881191"/>
                        <a:pt x="890337" y="902369"/>
                      </a:cubicBezTo>
                      <a:cubicBezTo>
                        <a:pt x="866274" y="894348"/>
                        <a:pt x="843019" y="873332"/>
                        <a:pt x="818147" y="878306"/>
                      </a:cubicBezTo>
                      <a:cubicBezTo>
                        <a:pt x="774143" y="887107"/>
                        <a:pt x="726504" y="894047"/>
                        <a:pt x="685800" y="914400"/>
                      </a:cubicBezTo>
                      <a:cubicBezTo>
                        <a:pt x="659706" y="927448"/>
                        <a:pt x="631089" y="944593"/>
                        <a:pt x="601579" y="950495"/>
                      </a:cubicBezTo>
                      <a:cubicBezTo>
                        <a:pt x="573771" y="956057"/>
                        <a:pt x="545387" y="958215"/>
                        <a:pt x="517358" y="962527"/>
                      </a:cubicBezTo>
                      <a:cubicBezTo>
                        <a:pt x="375756" y="984312"/>
                        <a:pt x="512589" y="968939"/>
                        <a:pt x="300790" y="986590"/>
                      </a:cubicBezTo>
                      <a:cubicBezTo>
                        <a:pt x="278407" y="1008972"/>
                        <a:pt x="267841" y="1016391"/>
                        <a:pt x="252663" y="1046748"/>
                      </a:cubicBezTo>
                      <a:cubicBezTo>
                        <a:pt x="246991" y="1058091"/>
                        <a:pt x="248003" y="1072522"/>
                        <a:pt x="240632" y="1082842"/>
                      </a:cubicBezTo>
                      <a:cubicBezTo>
                        <a:pt x="227445" y="1101303"/>
                        <a:pt x="192505" y="1130969"/>
                        <a:pt x="192505" y="1130969"/>
                      </a:cubicBezTo>
                      <a:cubicBezTo>
                        <a:pt x="188495" y="1143001"/>
                        <a:pt x="180474" y="1154382"/>
                        <a:pt x="180474" y="1167064"/>
                      </a:cubicBezTo>
                      <a:cubicBezTo>
                        <a:pt x="180474" y="1199398"/>
                        <a:pt x="183214" y="1232346"/>
                        <a:pt x="192505" y="1263316"/>
                      </a:cubicBezTo>
                      <a:cubicBezTo>
                        <a:pt x="195765" y="1274181"/>
                        <a:pt x="207711" y="1280293"/>
                        <a:pt x="216569" y="1287379"/>
                      </a:cubicBezTo>
                      <a:cubicBezTo>
                        <a:pt x="227860" y="1296412"/>
                        <a:pt x="239730" y="1304975"/>
                        <a:pt x="252663" y="1311442"/>
                      </a:cubicBezTo>
                      <a:cubicBezTo>
                        <a:pt x="282282" y="1326252"/>
                        <a:pt x="333220" y="1330885"/>
                        <a:pt x="360947" y="1335506"/>
                      </a:cubicBezTo>
                      <a:cubicBezTo>
                        <a:pt x="412244" y="1322681"/>
                        <a:pt x="409397" y="1334859"/>
                        <a:pt x="433137" y="1287379"/>
                      </a:cubicBezTo>
                      <a:cubicBezTo>
                        <a:pt x="438809" y="1276036"/>
                        <a:pt x="445169" y="1238603"/>
                        <a:pt x="445169" y="1251285"/>
                      </a:cubicBezTo>
                      <a:cubicBezTo>
                        <a:pt x="445169" y="1255296"/>
                        <a:pt x="426779" y="1326996"/>
                        <a:pt x="421105" y="1335506"/>
                      </a:cubicBezTo>
                      <a:cubicBezTo>
                        <a:pt x="411667" y="1349663"/>
                        <a:pt x="397042" y="1359569"/>
                        <a:pt x="385011" y="1371600"/>
                      </a:cubicBezTo>
                      <a:cubicBezTo>
                        <a:pt x="354767" y="1462328"/>
                        <a:pt x="399082" y="1354010"/>
                        <a:pt x="336884" y="1431758"/>
                      </a:cubicBezTo>
                      <a:cubicBezTo>
                        <a:pt x="328961" y="1441661"/>
                        <a:pt x="330525" y="1456509"/>
                        <a:pt x="324853" y="1467853"/>
                      </a:cubicBezTo>
                      <a:cubicBezTo>
                        <a:pt x="300164" y="1517232"/>
                        <a:pt x="306570" y="1490706"/>
                        <a:pt x="276726" y="1528011"/>
                      </a:cubicBezTo>
                      <a:cubicBezTo>
                        <a:pt x="267693" y="1539302"/>
                        <a:pt x="260684" y="1552074"/>
                        <a:pt x="252663" y="1564106"/>
                      </a:cubicBezTo>
                      <a:cubicBezTo>
                        <a:pt x="248653" y="1576137"/>
                        <a:pt x="246791" y="1589114"/>
                        <a:pt x="240632" y="1600200"/>
                      </a:cubicBezTo>
                      <a:cubicBezTo>
                        <a:pt x="226587" y="1625481"/>
                        <a:pt x="192505" y="1672390"/>
                        <a:pt x="192505" y="1672390"/>
                      </a:cubicBezTo>
                      <a:cubicBezTo>
                        <a:pt x="188495" y="1684422"/>
                        <a:pt x="186146" y="1697141"/>
                        <a:pt x="180474" y="1708485"/>
                      </a:cubicBezTo>
                      <a:cubicBezTo>
                        <a:pt x="174007" y="1721418"/>
                        <a:pt x="162107" y="1731288"/>
                        <a:pt x="156411" y="1744579"/>
                      </a:cubicBezTo>
                      <a:cubicBezTo>
                        <a:pt x="149897" y="1759778"/>
                        <a:pt x="148922" y="1776806"/>
                        <a:pt x="144379" y="1792706"/>
                      </a:cubicBezTo>
                      <a:cubicBezTo>
                        <a:pt x="140895" y="1804900"/>
                        <a:pt x="135831" y="1816606"/>
                        <a:pt x="132347" y="1828800"/>
                      </a:cubicBezTo>
                      <a:cubicBezTo>
                        <a:pt x="102132" y="1934552"/>
                        <a:pt x="137132" y="1826481"/>
                        <a:pt x="108284" y="1913021"/>
                      </a:cubicBezTo>
                      <a:cubicBezTo>
                        <a:pt x="104274" y="1937084"/>
                        <a:pt x="101545" y="1961397"/>
                        <a:pt x="96253" y="1985211"/>
                      </a:cubicBezTo>
                      <a:cubicBezTo>
                        <a:pt x="93502" y="1997592"/>
                        <a:pt x="86490" y="2008828"/>
                        <a:pt x="84221" y="2021306"/>
                      </a:cubicBezTo>
                      <a:cubicBezTo>
                        <a:pt x="78437" y="2053118"/>
                        <a:pt x="76200" y="2085474"/>
                        <a:pt x="72190" y="2117558"/>
                      </a:cubicBezTo>
                      <a:cubicBezTo>
                        <a:pt x="68179" y="2354179"/>
                        <a:pt x="67667" y="2590885"/>
                        <a:pt x="60158" y="2827421"/>
                      </a:cubicBezTo>
                      <a:cubicBezTo>
                        <a:pt x="59633" y="2843949"/>
                        <a:pt x="51084" y="2859279"/>
                        <a:pt x="48126" y="2875548"/>
                      </a:cubicBezTo>
                      <a:cubicBezTo>
                        <a:pt x="41791" y="2910391"/>
                        <a:pt x="41714" y="2960563"/>
                        <a:pt x="24063" y="2995864"/>
                      </a:cubicBezTo>
                      <a:cubicBezTo>
                        <a:pt x="17596" y="3008797"/>
                        <a:pt x="8021" y="3019927"/>
                        <a:pt x="0" y="3031958"/>
                      </a:cubicBezTo>
                      <a:cubicBezTo>
                        <a:pt x="12032" y="3039979"/>
                        <a:pt x="22804" y="3050325"/>
                        <a:pt x="36095" y="3056021"/>
                      </a:cubicBezTo>
                      <a:cubicBezTo>
                        <a:pt x="51294" y="3062535"/>
                        <a:pt x="68322" y="3063510"/>
                        <a:pt x="84221" y="3068053"/>
                      </a:cubicBezTo>
                      <a:cubicBezTo>
                        <a:pt x="96416" y="3071537"/>
                        <a:pt x="108284" y="3076074"/>
                        <a:pt x="120316" y="3080085"/>
                      </a:cubicBezTo>
                      <a:cubicBezTo>
                        <a:pt x="124326" y="3092116"/>
                        <a:pt x="129010" y="3103944"/>
                        <a:pt x="132347" y="3116179"/>
                      </a:cubicBezTo>
                      <a:cubicBezTo>
                        <a:pt x="141049" y="3148085"/>
                        <a:pt x="156411" y="3212432"/>
                        <a:pt x="156411" y="3212432"/>
                      </a:cubicBezTo>
                      <a:cubicBezTo>
                        <a:pt x="160421" y="3324727"/>
                        <a:pt x="144430" y="3439545"/>
                        <a:pt x="168442" y="3549316"/>
                      </a:cubicBezTo>
                      <a:cubicBezTo>
                        <a:pt x="174622" y="3577568"/>
                        <a:pt x="220183" y="3576992"/>
                        <a:pt x="240632" y="3597442"/>
                      </a:cubicBezTo>
                      <a:lnTo>
                        <a:pt x="264695" y="3621506"/>
                      </a:lnTo>
                      <a:cubicBezTo>
                        <a:pt x="244642" y="3625516"/>
                        <a:pt x="218997" y="3619077"/>
                        <a:pt x="204537" y="3633537"/>
                      </a:cubicBezTo>
                      <a:cubicBezTo>
                        <a:pt x="182940" y="3655134"/>
                        <a:pt x="177424" y="3688565"/>
                        <a:pt x="168442" y="3717758"/>
                      </a:cubicBezTo>
                      <a:cubicBezTo>
                        <a:pt x="156149" y="3757710"/>
                        <a:pt x="148324" y="3884623"/>
                        <a:pt x="144379" y="3910264"/>
                      </a:cubicBezTo>
                      <a:cubicBezTo>
                        <a:pt x="142451" y="3922799"/>
                        <a:pt x="135831" y="3934164"/>
                        <a:pt x="132347" y="3946358"/>
                      </a:cubicBezTo>
                      <a:cubicBezTo>
                        <a:pt x="95977" y="4073655"/>
                        <a:pt x="153444" y="3895103"/>
                        <a:pt x="96253" y="4066674"/>
                      </a:cubicBezTo>
                      <a:lnTo>
                        <a:pt x="84221" y="4102769"/>
                      </a:lnTo>
                      <a:cubicBezTo>
                        <a:pt x="92242" y="4114801"/>
                        <a:pt x="97175" y="4129607"/>
                        <a:pt x="108284" y="4138864"/>
                      </a:cubicBezTo>
                      <a:cubicBezTo>
                        <a:pt x="166397" y="4187291"/>
                        <a:pt x="227953" y="4156965"/>
                        <a:pt x="300790" y="4150895"/>
                      </a:cubicBezTo>
                      <a:lnTo>
                        <a:pt x="372979" y="4126832"/>
                      </a:lnTo>
                      <a:cubicBezTo>
                        <a:pt x="385011" y="4122821"/>
                        <a:pt x="396519" y="4116593"/>
                        <a:pt x="409074" y="4114800"/>
                      </a:cubicBezTo>
                      <a:lnTo>
                        <a:pt x="493295" y="4102769"/>
                      </a:lnTo>
                      <a:cubicBezTo>
                        <a:pt x="517358" y="4094748"/>
                        <a:pt x="551414" y="4099811"/>
                        <a:pt x="565484" y="4078706"/>
                      </a:cubicBezTo>
                      <a:cubicBezTo>
                        <a:pt x="573505" y="4066674"/>
                        <a:pt x="582373" y="4055166"/>
                        <a:pt x="589547" y="4042611"/>
                      </a:cubicBezTo>
                      <a:cubicBezTo>
                        <a:pt x="598446" y="4027039"/>
                        <a:pt x="604105" y="4009694"/>
                        <a:pt x="613611" y="3994485"/>
                      </a:cubicBezTo>
                      <a:cubicBezTo>
                        <a:pt x="624239" y="3977480"/>
                        <a:pt x="637674" y="3962400"/>
                        <a:pt x="649705" y="3946358"/>
                      </a:cubicBezTo>
                      <a:cubicBezTo>
                        <a:pt x="659470" y="3907298"/>
                        <a:pt x="672025" y="3889166"/>
                        <a:pt x="649705" y="3850106"/>
                      </a:cubicBezTo>
                      <a:cubicBezTo>
                        <a:pt x="641263" y="3835333"/>
                        <a:pt x="625642" y="3826043"/>
                        <a:pt x="613611" y="3814011"/>
                      </a:cubicBezTo>
                      <a:cubicBezTo>
                        <a:pt x="609600" y="3801979"/>
                        <a:pt x="601579" y="3790599"/>
                        <a:pt x="601579" y="3777916"/>
                      </a:cubicBezTo>
                      <a:cubicBezTo>
                        <a:pt x="601579" y="3762813"/>
                        <a:pt x="619970" y="3710713"/>
                        <a:pt x="625642" y="3693695"/>
                      </a:cubicBezTo>
                      <a:cubicBezTo>
                        <a:pt x="613610" y="3685674"/>
                        <a:pt x="594120" y="3683350"/>
                        <a:pt x="589547" y="3669632"/>
                      </a:cubicBezTo>
                      <a:cubicBezTo>
                        <a:pt x="584318" y="3653945"/>
                        <a:pt x="601579" y="3638042"/>
                        <a:pt x="601579" y="3621506"/>
                      </a:cubicBezTo>
                      <a:cubicBezTo>
                        <a:pt x="601579" y="3539692"/>
                        <a:pt x="604145" y="3551883"/>
                        <a:pt x="565484" y="3513221"/>
                      </a:cubicBezTo>
                      <a:cubicBezTo>
                        <a:pt x="557463" y="3477126"/>
                        <a:pt x="550389" y="3440808"/>
                        <a:pt x="541421" y="3404937"/>
                      </a:cubicBezTo>
                      <a:cubicBezTo>
                        <a:pt x="538345" y="3392633"/>
                        <a:pt x="524680" y="3380617"/>
                        <a:pt x="529390" y="3368842"/>
                      </a:cubicBezTo>
                      <a:cubicBezTo>
                        <a:pt x="534760" y="3355416"/>
                        <a:pt x="553453" y="3352800"/>
                        <a:pt x="565484" y="3344779"/>
                      </a:cubicBezTo>
                      <a:cubicBezTo>
                        <a:pt x="561474" y="3324726"/>
                        <a:pt x="551195" y="3304946"/>
                        <a:pt x="553453" y="3284621"/>
                      </a:cubicBezTo>
                      <a:cubicBezTo>
                        <a:pt x="565843" y="3173118"/>
                        <a:pt x="595453" y="3290304"/>
                        <a:pt x="565484" y="3200400"/>
                      </a:cubicBezTo>
                      <a:cubicBezTo>
                        <a:pt x="577516" y="3192379"/>
                        <a:pt x="611804" y="3186562"/>
                        <a:pt x="601579" y="3176337"/>
                      </a:cubicBezTo>
                      <a:cubicBezTo>
                        <a:pt x="589886" y="3164644"/>
                        <a:pt x="565146" y="3176676"/>
                        <a:pt x="553453" y="3188369"/>
                      </a:cubicBezTo>
                      <a:cubicBezTo>
                        <a:pt x="541760" y="3200062"/>
                        <a:pt x="545432" y="3220453"/>
                        <a:pt x="541421" y="3236495"/>
                      </a:cubicBezTo>
                      <a:cubicBezTo>
                        <a:pt x="549442" y="3280611"/>
                        <a:pt x="552298" y="3325986"/>
                        <a:pt x="565484" y="3368842"/>
                      </a:cubicBezTo>
                      <a:cubicBezTo>
                        <a:pt x="586624" y="3437547"/>
                        <a:pt x="606428" y="3342262"/>
                        <a:pt x="577516" y="3429000"/>
                      </a:cubicBezTo>
                      <a:cubicBezTo>
                        <a:pt x="592710" y="3504974"/>
                        <a:pt x="606112" y="3559440"/>
                        <a:pt x="601579" y="3645569"/>
                      </a:cubicBezTo>
                      <a:cubicBezTo>
                        <a:pt x="600246" y="3670899"/>
                        <a:pt x="577516" y="3717758"/>
                        <a:pt x="577516" y="3717758"/>
                      </a:cubicBezTo>
                      <a:cubicBezTo>
                        <a:pt x="581526" y="3757863"/>
                        <a:pt x="579771" y="3798972"/>
                        <a:pt x="589547" y="3838074"/>
                      </a:cubicBezTo>
                      <a:cubicBezTo>
                        <a:pt x="592298" y="3849079"/>
                        <a:pt x="604753" y="3855051"/>
                        <a:pt x="613611" y="3862137"/>
                      </a:cubicBezTo>
                      <a:cubicBezTo>
                        <a:pt x="689494" y="3922843"/>
                        <a:pt x="615670" y="3852165"/>
                        <a:pt x="673769" y="3910264"/>
                      </a:cubicBezTo>
                      <a:cubicBezTo>
                        <a:pt x="657727" y="3942348"/>
                        <a:pt x="651007" y="3981151"/>
                        <a:pt x="625642" y="4006516"/>
                      </a:cubicBezTo>
                      <a:cubicBezTo>
                        <a:pt x="576865" y="4055293"/>
                        <a:pt x="597156" y="4027392"/>
                        <a:pt x="565484" y="4090737"/>
                      </a:cubicBezTo>
                      <a:cubicBezTo>
                        <a:pt x="569495" y="4106779"/>
                        <a:pt x="567186" y="4125952"/>
                        <a:pt x="577516" y="4138864"/>
                      </a:cubicBezTo>
                      <a:cubicBezTo>
                        <a:pt x="598660" y="4165293"/>
                        <a:pt x="641254" y="4142015"/>
                        <a:pt x="661737" y="4138864"/>
                      </a:cubicBezTo>
                      <a:cubicBezTo>
                        <a:pt x="697632" y="4133342"/>
                        <a:pt x="733985" y="4131337"/>
                        <a:pt x="770021" y="4126832"/>
                      </a:cubicBezTo>
                      <a:cubicBezTo>
                        <a:pt x="798161" y="4123314"/>
                        <a:pt x="826168" y="4118811"/>
                        <a:pt x="854242" y="4114800"/>
                      </a:cubicBezTo>
                      <a:cubicBezTo>
                        <a:pt x="989910" y="4122781"/>
                        <a:pt x="1041857" y="4113170"/>
                        <a:pt x="1155032" y="4150895"/>
                      </a:cubicBezTo>
                      <a:lnTo>
                        <a:pt x="1227221" y="4174958"/>
                      </a:lnTo>
                      <a:lnTo>
                        <a:pt x="1263316" y="4186990"/>
                      </a:lnTo>
                      <a:cubicBezTo>
                        <a:pt x="1295400" y="4182979"/>
                        <a:pt x="1327675" y="4180274"/>
                        <a:pt x="1359569" y="4174958"/>
                      </a:cubicBezTo>
                      <a:cubicBezTo>
                        <a:pt x="1375880" y="4172240"/>
                        <a:pt x="1393936" y="4172099"/>
                        <a:pt x="1407695" y="4162927"/>
                      </a:cubicBezTo>
                      <a:cubicBezTo>
                        <a:pt x="1427686" y="4149600"/>
                        <a:pt x="1436927" y="4111326"/>
                        <a:pt x="1443790" y="4090737"/>
                      </a:cubicBezTo>
                      <a:cubicBezTo>
                        <a:pt x="1396788" y="4043737"/>
                        <a:pt x="1446106" y="4085880"/>
                        <a:pt x="1383632" y="4054642"/>
                      </a:cubicBezTo>
                      <a:cubicBezTo>
                        <a:pt x="1290349" y="4008000"/>
                        <a:pt x="1402158" y="4048785"/>
                        <a:pt x="1311442" y="4018548"/>
                      </a:cubicBezTo>
                      <a:cubicBezTo>
                        <a:pt x="1299410" y="4010527"/>
                        <a:pt x="1284380" y="4005777"/>
                        <a:pt x="1275347" y="3994485"/>
                      </a:cubicBezTo>
                      <a:cubicBezTo>
                        <a:pt x="1267424" y="3984582"/>
                        <a:pt x="1265803" y="3970826"/>
                        <a:pt x="1263316" y="3958390"/>
                      </a:cubicBezTo>
                      <a:cubicBezTo>
                        <a:pt x="1257754" y="3930582"/>
                        <a:pt x="1255032" y="3902279"/>
                        <a:pt x="1251284" y="3874169"/>
                      </a:cubicBezTo>
                      <a:cubicBezTo>
                        <a:pt x="1231206" y="3723582"/>
                        <a:pt x="1248357" y="3832540"/>
                        <a:pt x="1227221" y="3705727"/>
                      </a:cubicBezTo>
                      <a:cubicBezTo>
                        <a:pt x="1234258" y="3508689"/>
                        <a:pt x="1232809" y="3399975"/>
                        <a:pt x="1251284" y="3224464"/>
                      </a:cubicBezTo>
                      <a:cubicBezTo>
                        <a:pt x="1254234" y="3196436"/>
                        <a:pt x="1266389" y="3112932"/>
                        <a:pt x="1275347" y="3080085"/>
                      </a:cubicBezTo>
                      <a:cubicBezTo>
                        <a:pt x="1282021" y="3055614"/>
                        <a:pt x="1299411" y="3007895"/>
                        <a:pt x="1299411" y="3007895"/>
                      </a:cubicBezTo>
                      <a:cubicBezTo>
                        <a:pt x="1303421" y="2971800"/>
                        <a:pt x="1322927" y="2934064"/>
                        <a:pt x="1311442" y="2899611"/>
                      </a:cubicBezTo>
                      <a:lnTo>
                        <a:pt x="1287379" y="2971800"/>
                      </a:lnTo>
                      <a:cubicBezTo>
                        <a:pt x="1299411" y="2975811"/>
                        <a:pt x="1314506" y="2992800"/>
                        <a:pt x="1323474" y="2983832"/>
                      </a:cubicBezTo>
                      <a:cubicBezTo>
                        <a:pt x="1332442" y="2974864"/>
                        <a:pt x="1313929" y="2960173"/>
                        <a:pt x="1311442" y="2947737"/>
                      </a:cubicBezTo>
                      <a:cubicBezTo>
                        <a:pt x="1305880" y="2919929"/>
                        <a:pt x="1304973" y="2891324"/>
                        <a:pt x="1299411" y="2863516"/>
                      </a:cubicBezTo>
                      <a:cubicBezTo>
                        <a:pt x="1296924" y="2851080"/>
                        <a:pt x="1290455" y="2839725"/>
                        <a:pt x="1287379" y="2827421"/>
                      </a:cubicBezTo>
                      <a:lnTo>
                        <a:pt x="1263316" y="2731169"/>
                      </a:lnTo>
                      <a:cubicBezTo>
                        <a:pt x="1273255" y="2572141"/>
                        <a:pt x="1263809" y="2584569"/>
                        <a:pt x="1287379" y="2478506"/>
                      </a:cubicBezTo>
                      <a:cubicBezTo>
                        <a:pt x="1290966" y="2462364"/>
                        <a:pt x="1294659" y="2446218"/>
                        <a:pt x="1299411" y="2430379"/>
                      </a:cubicBezTo>
                      <a:cubicBezTo>
                        <a:pt x="1306700" y="2406084"/>
                        <a:pt x="1323474" y="2358190"/>
                        <a:pt x="1323474" y="2358190"/>
                      </a:cubicBezTo>
                      <a:cubicBezTo>
                        <a:pt x="1327484" y="2257927"/>
                        <a:pt x="1328601" y="2157506"/>
                        <a:pt x="1335505" y="2057400"/>
                      </a:cubicBezTo>
                      <a:cubicBezTo>
                        <a:pt x="1337648" y="2026321"/>
                        <a:pt x="1352251" y="2002449"/>
                        <a:pt x="1359569" y="1973179"/>
                      </a:cubicBezTo>
                      <a:cubicBezTo>
                        <a:pt x="1364529" y="1953340"/>
                        <a:pt x="1366219" y="1932750"/>
                        <a:pt x="1371600" y="1913021"/>
                      </a:cubicBezTo>
                      <a:cubicBezTo>
                        <a:pt x="1371606" y="1913000"/>
                        <a:pt x="1401676" y="1822794"/>
                        <a:pt x="1407695" y="1804737"/>
                      </a:cubicBezTo>
                      <a:cubicBezTo>
                        <a:pt x="1411705" y="1792705"/>
                        <a:pt x="1414054" y="1779985"/>
                        <a:pt x="1419726" y="1768642"/>
                      </a:cubicBezTo>
                      <a:cubicBezTo>
                        <a:pt x="1427747" y="1752600"/>
                        <a:pt x="1461726" y="1720516"/>
                        <a:pt x="1443790" y="1720516"/>
                      </a:cubicBezTo>
                      <a:cubicBezTo>
                        <a:pt x="1423737" y="1720516"/>
                        <a:pt x="1418323" y="1751637"/>
                        <a:pt x="1407695" y="1768642"/>
                      </a:cubicBezTo>
                      <a:cubicBezTo>
                        <a:pt x="1365825" y="1835634"/>
                        <a:pt x="1397582" y="1795612"/>
                        <a:pt x="1371600" y="1864895"/>
                      </a:cubicBezTo>
                      <a:cubicBezTo>
                        <a:pt x="1365302" y="1881689"/>
                        <a:pt x="1355558" y="1896979"/>
                        <a:pt x="1347537" y="1913021"/>
                      </a:cubicBezTo>
                      <a:cubicBezTo>
                        <a:pt x="1343526" y="1945105"/>
                        <a:pt x="1340422" y="1977316"/>
                        <a:pt x="1335505" y="2009274"/>
                      </a:cubicBezTo>
                      <a:cubicBezTo>
                        <a:pt x="1332395" y="2029486"/>
                        <a:pt x="1325509" y="2049084"/>
                        <a:pt x="1323474" y="2069432"/>
                      </a:cubicBezTo>
                      <a:cubicBezTo>
                        <a:pt x="1317475" y="2129424"/>
                        <a:pt x="1317646" y="2189934"/>
                        <a:pt x="1311442" y="2249906"/>
                      </a:cubicBezTo>
                      <a:cubicBezTo>
                        <a:pt x="1305606" y="2306322"/>
                        <a:pt x="1287379" y="2418348"/>
                        <a:pt x="1287379" y="2418348"/>
                      </a:cubicBezTo>
                      <a:cubicBezTo>
                        <a:pt x="1291390" y="2574758"/>
                        <a:pt x="1244474" y="2741079"/>
                        <a:pt x="1299411" y="2887579"/>
                      </a:cubicBezTo>
                      <a:cubicBezTo>
                        <a:pt x="1319176" y="2940285"/>
                        <a:pt x="1415147" y="2879846"/>
                        <a:pt x="1467853" y="2899611"/>
                      </a:cubicBezTo>
                      <a:cubicBezTo>
                        <a:pt x="1491603" y="2908517"/>
                        <a:pt x="1420535" y="2918699"/>
                        <a:pt x="1395663" y="2923674"/>
                      </a:cubicBezTo>
                      <a:lnTo>
                        <a:pt x="1335505" y="2935706"/>
                      </a:lnTo>
                      <a:cubicBezTo>
                        <a:pt x="1351547" y="2939716"/>
                        <a:pt x="1368433" y="2941223"/>
                        <a:pt x="1383632" y="2947737"/>
                      </a:cubicBezTo>
                      <a:cubicBezTo>
                        <a:pt x="1396923" y="2953433"/>
                        <a:pt x="1405316" y="2970599"/>
                        <a:pt x="1419726" y="2971800"/>
                      </a:cubicBezTo>
                      <a:cubicBezTo>
                        <a:pt x="1455918" y="2974816"/>
                        <a:pt x="1491916" y="2963779"/>
                        <a:pt x="1528011" y="2959769"/>
                      </a:cubicBezTo>
                      <a:cubicBezTo>
                        <a:pt x="1540042" y="2943727"/>
                        <a:pt x="1552450" y="2927960"/>
                        <a:pt x="1564105" y="2911642"/>
                      </a:cubicBezTo>
                      <a:cubicBezTo>
                        <a:pt x="1737282" y="2669195"/>
                        <a:pt x="1587210" y="2569535"/>
                        <a:pt x="1600200" y="2069432"/>
                      </a:cubicBezTo>
                      <a:cubicBezTo>
                        <a:pt x="1601247" y="2029140"/>
                        <a:pt x="1606103" y="1988953"/>
                        <a:pt x="1612232" y="1949116"/>
                      </a:cubicBezTo>
                      <a:cubicBezTo>
                        <a:pt x="1614160" y="1936581"/>
                        <a:pt x="1621187" y="1925325"/>
                        <a:pt x="1624263" y="1913021"/>
                      </a:cubicBezTo>
                      <a:cubicBezTo>
                        <a:pt x="1629223" y="1893182"/>
                        <a:pt x="1632637" y="1872984"/>
                        <a:pt x="1636295" y="1852864"/>
                      </a:cubicBezTo>
                      <a:cubicBezTo>
                        <a:pt x="1651723" y="1768011"/>
                        <a:pt x="1649463" y="1770442"/>
                        <a:pt x="1660358" y="1672390"/>
                      </a:cubicBezTo>
                      <a:cubicBezTo>
                        <a:pt x="1656347" y="1580148"/>
                        <a:pt x="1657827" y="1487503"/>
                        <a:pt x="1648326" y="1395664"/>
                      </a:cubicBezTo>
                      <a:cubicBezTo>
                        <a:pt x="1645716" y="1370434"/>
                        <a:pt x="1642198" y="1341410"/>
                        <a:pt x="1624263" y="1323474"/>
                      </a:cubicBezTo>
                      <a:lnTo>
                        <a:pt x="1588169" y="1287379"/>
                      </a:lnTo>
                      <a:cubicBezTo>
                        <a:pt x="1561083" y="1206126"/>
                        <a:pt x="1588169" y="1306143"/>
                        <a:pt x="1588169" y="1179095"/>
                      </a:cubicBezTo>
                      <a:cubicBezTo>
                        <a:pt x="1588169" y="1166980"/>
                        <a:pt x="1586372" y="1050733"/>
                        <a:pt x="1564105" y="1010653"/>
                      </a:cubicBezTo>
                      <a:cubicBezTo>
                        <a:pt x="1550060" y="985372"/>
                        <a:pt x="1536428" y="958914"/>
                        <a:pt x="1515979" y="938464"/>
                      </a:cubicBezTo>
                      <a:cubicBezTo>
                        <a:pt x="1507958" y="930443"/>
                        <a:pt x="1499002" y="923258"/>
                        <a:pt x="1491916" y="914400"/>
                      </a:cubicBezTo>
                      <a:cubicBezTo>
                        <a:pt x="1482883" y="903109"/>
                        <a:pt x="1478735" y="887828"/>
                        <a:pt x="1467853" y="878306"/>
                      </a:cubicBezTo>
                      <a:cubicBezTo>
                        <a:pt x="1446088" y="859262"/>
                        <a:pt x="1423099" y="839324"/>
                        <a:pt x="1395663" y="830179"/>
                      </a:cubicBezTo>
                      <a:lnTo>
                        <a:pt x="1287379" y="794085"/>
                      </a:lnTo>
                      <a:lnTo>
                        <a:pt x="1251284" y="782053"/>
                      </a:lnTo>
                      <a:cubicBezTo>
                        <a:pt x="1239253" y="778042"/>
                        <a:pt x="1202754" y="767534"/>
                        <a:pt x="1215190" y="770021"/>
                      </a:cubicBezTo>
                      <a:lnTo>
                        <a:pt x="1275347" y="782053"/>
                      </a:lnTo>
                      <a:cubicBezTo>
                        <a:pt x="1287379" y="790074"/>
                        <a:pt x="1298508" y="799649"/>
                        <a:pt x="1311442" y="806116"/>
                      </a:cubicBezTo>
                      <a:cubicBezTo>
                        <a:pt x="1322786" y="811788"/>
                        <a:pt x="1336984" y="811113"/>
                        <a:pt x="1347537" y="818148"/>
                      </a:cubicBezTo>
                      <a:cubicBezTo>
                        <a:pt x="1361694" y="827586"/>
                        <a:pt x="1370561" y="843349"/>
                        <a:pt x="1383632" y="854242"/>
                      </a:cubicBezTo>
                      <a:cubicBezTo>
                        <a:pt x="1421145" y="885503"/>
                        <a:pt x="1415792" y="867372"/>
                        <a:pt x="1443790" y="902369"/>
                      </a:cubicBezTo>
                      <a:cubicBezTo>
                        <a:pt x="1452823" y="913660"/>
                        <a:pt x="1458596" y="927355"/>
                        <a:pt x="1467853" y="938464"/>
                      </a:cubicBezTo>
                      <a:cubicBezTo>
                        <a:pt x="1520002" y="1001044"/>
                        <a:pt x="1484835" y="951301"/>
                        <a:pt x="1540042" y="998621"/>
                      </a:cubicBezTo>
                      <a:cubicBezTo>
                        <a:pt x="1557268" y="1013386"/>
                        <a:pt x="1588169" y="1046748"/>
                        <a:pt x="1588169" y="1046748"/>
                      </a:cubicBezTo>
                      <a:cubicBezTo>
                        <a:pt x="1592179" y="1058779"/>
                        <a:pt x="1588857" y="1088514"/>
                        <a:pt x="1600200" y="1082842"/>
                      </a:cubicBezTo>
                      <a:cubicBezTo>
                        <a:pt x="1614990" y="1075447"/>
                        <a:pt x="1607689" y="1050616"/>
                        <a:pt x="1612232" y="1034716"/>
                      </a:cubicBezTo>
                      <a:cubicBezTo>
                        <a:pt x="1615716" y="1022522"/>
                        <a:pt x="1618104" y="1009707"/>
                        <a:pt x="1624263" y="998621"/>
                      </a:cubicBezTo>
                      <a:cubicBezTo>
                        <a:pt x="1663938" y="927206"/>
                        <a:pt x="1651745" y="930611"/>
                        <a:pt x="1708484" y="914400"/>
                      </a:cubicBezTo>
                      <a:cubicBezTo>
                        <a:pt x="1724384" y="909857"/>
                        <a:pt x="1740569" y="906379"/>
                        <a:pt x="1756611" y="902369"/>
                      </a:cubicBezTo>
                      <a:cubicBezTo>
                        <a:pt x="1772653" y="906379"/>
                        <a:pt x="1788201" y="914400"/>
                        <a:pt x="1804737" y="914400"/>
                      </a:cubicBezTo>
                      <a:cubicBezTo>
                        <a:pt x="1837967" y="914400"/>
                        <a:pt x="1864399" y="897954"/>
                        <a:pt x="1888958" y="878306"/>
                      </a:cubicBezTo>
                      <a:cubicBezTo>
                        <a:pt x="1897816" y="871220"/>
                        <a:pt x="1905000" y="862263"/>
                        <a:pt x="1913021" y="854242"/>
                      </a:cubicBezTo>
                      <a:cubicBezTo>
                        <a:pt x="1909011" y="834190"/>
                        <a:pt x="1905950" y="813924"/>
                        <a:pt x="1900990" y="794085"/>
                      </a:cubicBezTo>
                      <a:cubicBezTo>
                        <a:pt x="1897914" y="781781"/>
                        <a:pt x="1892442" y="770185"/>
                        <a:pt x="1888958" y="757990"/>
                      </a:cubicBezTo>
                      <a:cubicBezTo>
                        <a:pt x="1884415" y="742091"/>
                        <a:pt x="1880937" y="725906"/>
                        <a:pt x="1876926" y="709864"/>
                      </a:cubicBezTo>
                      <a:cubicBezTo>
                        <a:pt x="1898103" y="646333"/>
                        <a:pt x="1881924" y="684320"/>
                        <a:pt x="1937084" y="601579"/>
                      </a:cubicBezTo>
                      <a:cubicBezTo>
                        <a:pt x="1967438" y="556048"/>
                        <a:pt x="1950924" y="575708"/>
                        <a:pt x="1985211" y="541421"/>
                      </a:cubicBezTo>
                      <a:lnTo>
                        <a:pt x="2021305" y="433137"/>
                      </a:lnTo>
                      <a:lnTo>
                        <a:pt x="2033337" y="397042"/>
                      </a:lnTo>
                      <a:lnTo>
                        <a:pt x="2021305" y="433137"/>
                      </a:lnTo>
                      <a:cubicBezTo>
                        <a:pt x="2021303" y="433142"/>
                        <a:pt x="1997245" y="505323"/>
                        <a:pt x="1997242" y="505327"/>
                      </a:cubicBezTo>
                      <a:lnTo>
                        <a:pt x="1973179" y="541421"/>
                      </a:lnTo>
                      <a:cubicBezTo>
                        <a:pt x="1954994" y="614160"/>
                        <a:pt x="1966378" y="573854"/>
                        <a:pt x="1937084" y="661737"/>
                      </a:cubicBezTo>
                      <a:cubicBezTo>
                        <a:pt x="1933074" y="673769"/>
                        <a:pt x="1932088" y="687280"/>
                        <a:pt x="1925053" y="697832"/>
                      </a:cubicBezTo>
                      <a:cubicBezTo>
                        <a:pt x="1903921" y="729531"/>
                        <a:pt x="1896823" y="733320"/>
                        <a:pt x="1888958" y="770021"/>
                      </a:cubicBezTo>
                      <a:cubicBezTo>
                        <a:pt x="1879563" y="813865"/>
                        <a:pt x="1882141" y="860979"/>
                        <a:pt x="1864895" y="902369"/>
                      </a:cubicBezTo>
                      <a:cubicBezTo>
                        <a:pt x="1860017" y="914076"/>
                        <a:pt x="1840675" y="909947"/>
                        <a:pt x="1828800" y="914400"/>
                      </a:cubicBezTo>
                      <a:cubicBezTo>
                        <a:pt x="1760658" y="939953"/>
                        <a:pt x="1791031" y="938464"/>
                        <a:pt x="1756611" y="93846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920"/>
                    <a:gd name="textAreaBottom" fmla="*/ 71280 h 70920"/>
                  </a:gdLst>
                  <a:ahLst/>
                  <a:rect l="textAreaLeft" t="textAreaTop" r="textAreaRight" b="textAreaBottom"/>
                  <a:pathLst>
                    <a:path w="204537" h="180725">
                      <a:moveTo>
                        <a:pt x="204537" y="0"/>
                      </a:moveTo>
                      <a:lnTo>
                        <a:pt x="60158" y="36095"/>
                      </a:lnTo>
                      <a:cubicBezTo>
                        <a:pt x="47904" y="39363"/>
                        <a:pt x="31435" y="37806"/>
                        <a:pt x="24064" y="48126"/>
                      </a:cubicBezTo>
                      <a:cubicBezTo>
                        <a:pt x="9321" y="68766"/>
                        <a:pt x="0" y="120316"/>
                        <a:pt x="0" y="120316"/>
                      </a:cubicBezTo>
                      <a:cubicBezTo>
                        <a:pt x="4011" y="132348"/>
                        <a:pt x="4109" y="146508"/>
                        <a:pt x="12032" y="156411"/>
                      </a:cubicBezTo>
                      <a:cubicBezTo>
                        <a:pt x="34842" y="184923"/>
                        <a:pt x="44738" y="180474"/>
                        <a:pt x="72190" y="18047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557280"/>
                    <a:gd name="textAreaBottom" fmla="*/ 557640 h 557280"/>
                  </a:gdLst>
                  <a:ahLst/>
                  <a:rect l="textAreaLeft" t="textAreaTop" r="textAreaRight" b="textAreaBottom"/>
                  <a:pathLst>
                    <a:path w="687061" h="1415861">
                      <a:moveTo>
                        <a:pt x="634482" y="1384759"/>
                      </a:moveTo>
                      <a:cubicBezTo>
                        <a:pt x="624115" y="1380612"/>
                        <a:pt x="613835" y="1376239"/>
                        <a:pt x="603380" y="1372318"/>
                      </a:cubicBezTo>
                      <a:cubicBezTo>
                        <a:pt x="597240" y="1370016"/>
                        <a:pt x="591235" y="1366822"/>
                        <a:pt x="584718" y="1366098"/>
                      </a:cubicBezTo>
                      <a:cubicBezTo>
                        <a:pt x="553738" y="1362656"/>
                        <a:pt x="522514" y="1361951"/>
                        <a:pt x="491412" y="1359877"/>
                      </a:cubicBezTo>
                      <a:cubicBezTo>
                        <a:pt x="485192" y="1357804"/>
                        <a:pt x="477871" y="1357753"/>
                        <a:pt x="472751" y="1353657"/>
                      </a:cubicBezTo>
                      <a:cubicBezTo>
                        <a:pt x="432553" y="1321500"/>
                        <a:pt x="488556" y="1344412"/>
                        <a:pt x="441649" y="1328775"/>
                      </a:cubicBezTo>
                      <a:cubicBezTo>
                        <a:pt x="439575" y="1334995"/>
                        <a:pt x="436601" y="1340985"/>
                        <a:pt x="435428" y="1347436"/>
                      </a:cubicBezTo>
                      <a:cubicBezTo>
                        <a:pt x="432438" y="1363883"/>
                        <a:pt x="436126" y="1381981"/>
                        <a:pt x="429208" y="1397200"/>
                      </a:cubicBezTo>
                      <a:cubicBezTo>
                        <a:pt x="424918" y="1406638"/>
                        <a:pt x="412620" y="1409641"/>
                        <a:pt x="404326" y="1415861"/>
                      </a:cubicBezTo>
                      <a:cubicBezTo>
                        <a:pt x="280093" y="1400333"/>
                        <a:pt x="365592" y="1427670"/>
                        <a:pt x="348343" y="1191926"/>
                      </a:cubicBezTo>
                      <a:cubicBezTo>
                        <a:pt x="347386" y="1178847"/>
                        <a:pt x="335902" y="1154604"/>
                        <a:pt x="335902" y="1154604"/>
                      </a:cubicBezTo>
                      <a:cubicBezTo>
                        <a:pt x="345502" y="1152204"/>
                        <a:pt x="383984" y="1142163"/>
                        <a:pt x="391886" y="1142163"/>
                      </a:cubicBezTo>
                      <a:cubicBezTo>
                        <a:pt x="404498" y="1142163"/>
                        <a:pt x="416767" y="1146310"/>
                        <a:pt x="429208" y="1148383"/>
                      </a:cubicBezTo>
                      <a:lnTo>
                        <a:pt x="466531" y="1173265"/>
                      </a:lnTo>
                      <a:cubicBezTo>
                        <a:pt x="472751" y="1177412"/>
                        <a:pt x="478100" y="1183342"/>
                        <a:pt x="485192" y="1185706"/>
                      </a:cubicBezTo>
                      <a:lnTo>
                        <a:pt x="503853" y="1191926"/>
                      </a:lnTo>
                      <a:cubicBezTo>
                        <a:pt x="516294" y="1200220"/>
                        <a:pt x="526990" y="1212080"/>
                        <a:pt x="541175" y="1216808"/>
                      </a:cubicBezTo>
                      <a:lnTo>
                        <a:pt x="578498" y="1229249"/>
                      </a:lnTo>
                      <a:lnTo>
                        <a:pt x="684245" y="1223028"/>
                      </a:lnTo>
                      <a:cubicBezTo>
                        <a:pt x="692405" y="1220478"/>
                        <a:pt x="680481" y="1206335"/>
                        <a:pt x="678024" y="1198147"/>
                      </a:cubicBezTo>
                      <a:cubicBezTo>
                        <a:pt x="674256" y="1185586"/>
                        <a:pt x="669731" y="1173265"/>
                        <a:pt x="665584" y="1160824"/>
                      </a:cubicBezTo>
                      <a:cubicBezTo>
                        <a:pt x="663511" y="1154604"/>
                        <a:pt x="663000" y="1147619"/>
                        <a:pt x="659363" y="1142163"/>
                      </a:cubicBezTo>
                      <a:cubicBezTo>
                        <a:pt x="651069" y="1129722"/>
                        <a:pt x="639210" y="1119025"/>
                        <a:pt x="634482" y="1104841"/>
                      </a:cubicBezTo>
                      <a:lnTo>
                        <a:pt x="622041" y="1067518"/>
                      </a:lnTo>
                      <a:cubicBezTo>
                        <a:pt x="626034" y="951728"/>
                        <a:pt x="622513" y="920909"/>
                        <a:pt x="634482" y="831143"/>
                      </a:cubicBezTo>
                      <a:cubicBezTo>
                        <a:pt x="636066" y="819260"/>
                        <a:pt x="643571" y="776121"/>
                        <a:pt x="646922" y="762718"/>
                      </a:cubicBezTo>
                      <a:cubicBezTo>
                        <a:pt x="656553" y="724195"/>
                        <a:pt x="650632" y="765740"/>
                        <a:pt x="659363" y="719175"/>
                      </a:cubicBezTo>
                      <a:cubicBezTo>
                        <a:pt x="676744" y="626477"/>
                        <a:pt x="662824" y="671472"/>
                        <a:pt x="678024" y="625869"/>
                      </a:cubicBezTo>
                      <a:cubicBezTo>
                        <a:pt x="680098" y="609281"/>
                        <a:pt x="684245" y="592823"/>
                        <a:pt x="684245" y="576106"/>
                      </a:cubicBezTo>
                      <a:cubicBezTo>
                        <a:pt x="684245" y="457156"/>
                        <a:pt x="687861" y="478607"/>
                        <a:pt x="671804" y="414375"/>
                      </a:cubicBezTo>
                      <a:cubicBezTo>
                        <a:pt x="669731" y="391567"/>
                        <a:pt x="672826" y="367678"/>
                        <a:pt x="665584" y="345951"/>
                      </a:cubicBezTo>
                      <a:cubicBezTo>
                        <a:pt x="663510" y="339730"/>
                        <a:pt x="647373" y="346272"/>
                        <a:pt x="646922" y="339730"/>
                      </a:cubicBezTo>
                      <a:cubicBezTo>
                        <a:pt x="642925" y="281774"/>
                        <a:pt x="648037" y="223428"/>
                        <a:pt x="653143" y="165559"/>
                      </a:cubicBezTo>
                      <a:cubicBezTo>
                        <a:pt x="654296" y="152496"/>
                        <a:pt x="661437" y="140677"/>
                        <a:pt x="665584" y="128236"/>
                      </a:cubicBezTo>
                      <a:lnTo>
                        <a:pt x="671804" y="109575"/>
                      </a:lnTo>
                      <a:lnTo>
                        <a:pt x="634482" y="97134"/>
                      </a:lnTo>
                      <a:lnTo>
                        <a:pt x="615820" y="90914"/>
                      </a:lnTo>
                      <a:cubicBezTo>
                        <a:pt x="568922" y="106546"/>
                        <a:pt x="626723" y="85461"/>
                        <a:pt x="578498" y="109575"/>
                      </a:cubicBezTo>
                      <a:cubicBezTo>
                        <a:pt x="572633" y="112507"/>
                        <a:pt x="565569" y="112612"/>
                        <a:pt x="559837" y="115796"/>
                      </a:cubicBezTo>
                      <a:cubicBezTo>
                        <a:pt x="546767" y="123057"/>
                        <a:pt x="537351" y="138822"/>
                        <a:pt x="522514" y="140677"/>
                      </a:cubicBezTo>
                      <a:lnTo>
                        <a:pt x="472751" y="146898"/>
                      </a:lnTo>
                      <a:cubicBezTo>
                        <a:pt x="470678" y="182147"/>
                        <a:pt x="469047" y="217425"/>
                        <a:pt x="466531" y="252645"/>
                      </a:cubicBezTo>
                      <a:cubicBezTo>
                        <a:pt x="461635" y="321185"/>
                        <a:pt x="465081" y="301985"/>
                        <a:pt x="454090" y="345951"/>
                      </a:cubicBezTo>
                      <a:cubicBezTo>
                        <a:pt x="434012" y="546724"/>
                        <a:pt x="440523" y="428698"/>
                        <a:pt x="447869" y="700514"/>
                      </a:cubicBezTo>
                      <a:cubicBezTo>
                        <a:pt x="445796" y="785526"/>
                        <a:pt x="445189" y="870587"/>
                        <a:pt x="441649" y="955551"/>
                      </a:cubicBezTo>
                      <a:cubicBezTo>
                        <a:pt x="441039" y="970200"/>
                        <a:pt x="438303" y="984717"/>
                        <a:pt x="435428" y="999094"/>
                      </a:cubicBezTo>
                      <a:cubicBezTo>
                        <a:pt x="432075" y="1015860"/>
                        <a:pt x="427135" y="1032269"/>
                        <a:pt x="422988" y="1048857"/>
                      </a:cubicBezTo>
                      <a:cubicBezTo>
                        <a:pt x="413589" y="1086454"/>
                        <a:pt x="419466" y="1065640"/>
                        <a:pt x="404326" y="1111061"/>
                      </a:cubicBezTo>
                      <a:cubicBezTo>
                        <a:pt x="402253" y="1117281"/>
                        <a:pt x="403562" y="1126085"/>
                        <a:pt x="398106" y="1129722"/>
                      </a:cubicBezTo>
                      <a:cubicBezTo>
                        <a:pt x="373989" y="1145800"/>
                        <a:pt x="386537" y="1139799"/>
                        <a:pt x="360784" y="1148383"/>
                      </a:cubicBezTo>
                      <a:cubicBezTo>
                        <a:pt x="367004" y="1154604"/>
                        <a:pt x="371755" y="1162773"/>
                        <a:pt x="379445" y="1167045"/>
                      </a:cubicBezTo>
                      <a:cubicBezTo>
                        <a:pt x="390908" y="1173414"/>
                        <a:pt x="416767" y="1179485"/>
                        <a:pt x="416767" y="1179485"/>
                      </a:cubicBezTo>
                      <a:cubicBezTo>
                        <a:pt x="446340" y="1199201"/>
                        <a:pt x="428334" y="1189561"/>
                        <a:pt x="472751" y="1204367"/>
                      </a:cubicBezTo>
                      <a:cubicBezTo>
                        <a:pt x="478971" y="1206441"/>
                        <a:pt x="485956" y="1206951"/>
                        <a:pt x="491412" y="1210588"/>
                      </a:cubicBezTo>
                      <a:cubicBezTo>
                        <a:pt x="497632" y="1214735"/>
                        <a:pt x="503047" y="1220473"/>
                        <a:pt x="510073" y="1223028"/>
                      </a:cubicBezTo>
                      <a:cubicBezTo>
                        <a:pt x="526142" y="1228871"/>
                        <a:pt x="559837" y="1235469"/>
                        <a:pt x="559837" y="1235469"/>
                      </a:cubicBezTo>
                      <a:cubicBezTo>
                        <a:pt x="568131" y="1233396"/>
                        <a:pt x="580895" y="1236895"/>
                        <a:pt x="584718" y="1229249"/>
                      </a:cubicBezTo>
                      <a:cubicBezTo>
                        <a:pt x="587650" y="1223384"/>
                        <a:pt x="571789" y="1226212"/>
                        <a:pt x="566057" y="1223028"/>
                      </a:cubicBezTo>
                      <a:cubicBezTo>
                        <a:pt x="501892" y="1187380"/>
                        <a:pt x="552299" y="1206002"/>
                        <a:pt x="510073" y="1191926"/>
                      </a:cubicBezTo>
                      <a:cubicBezTo>
                        <a:pt x="474697" y="1156550"/>
                        <a:pt x="508761" y="1185050"/>
                        <a:pt x="472751" y="1167045"/>
                      </a:cubicBezTo>
                      <a:cubicBezTo>
                        <a:pt x="466064" y="1163702"/>
                        <a:pt x="460922" y="1157640"/>
                        <a:pt x="454090" y="1154604"/>
                      </a:cubicBezTo>
                      <a:cubicBezTo>
                        <a:pt x="442106" y="1149278"/>
                        <a:pt x="429208" y="1146310"/>
                        <a:pt x="416767" y="1142163"/>
                      </a:cubicBezTo>
                      <a:lnTo>
                        <a:pt x="398106" y="1135943"/>
                      </a:lnTo>
                      <a:cubicBezTo>
                        <a:pt x="391886" y="1131796"/>
                        <a:pt x="381809" y="1130594"/>
                        <a:pt x="379445" y="1123502"/>
                      </a:cubicBezTo>
                      <a:cubicBezTo>
                        <a:pt x="376741" y="1115391"/>
                        <a:pt x="383810" y="1106966"/>
                        <a:pt x="385665" y="1098620"/>
                      </a:cubicBezTo>
                      <a:cubicBezTo>
                        <a:pt x="387959" y="1088299"/>
                        <a:pt x="389812" y="1077885"/>
                        <a:pt x="391886" y="1067518"/>
                      </a:cubicBezTo>
                      <a:cubicBezTo>
                        <a:pt x="389812" y="1061298"/>
                        <a:pt x="389302" y="1054313"/>
                        <a:pt x="385665" y="1048857"/>
                      </a:cubicBezTo>
                      <a:cubicBezTo>
                        <a:pt x="380785" y="1041538"/>
                        <a:pt x="372636" y="1036954"/>
                        <a:pt x="367004" y="1030196"/>
                      </a:cubicBezTo>
                      <a:cubicBezTo>
                        <a:pt x="362218" y="1024453"/>
                        <a:pt x="358710" y="1017755"/>
                        <a:pt x="354563" y="1011534"/>
                      </a:cubicBezTo>
                      <a:cubicBezTo>
                        <a:pt x="339140" y="965262"/>
                        <a:pt x="342122" y="979526"/>
                        <a:pt x="342122" y="893347"/>
                      </a:cubicBezTo>
                      <a:cubicBezTo>
                        <a:pt x="342122" y="870035"/>
                        <a:pt x="347947" y="826506"/>
                        <a:pt x="354563" y="800041"/>
                      </a:cubicBezTo>
                      <a:cubicBezTo>
                        <a:pt x="356153" y="793680"/>
                        <a:pt x="358710" y="787600"/>
                        <a:pt x="360784" y="781379"/>
                      </a:cubicBezTo>
                      <a:cubicBezTo>
                        <a:pt x="364390" y="759743"/>
                        <a:pt x="372547" y="713926"/>
                        <a:pt x="373224" y="694294"/>
                      </a:cubicBezTo>
                      <a:cubicBezTo>
                        <a:pt x="376798" y="590661"/>
                        <a:pt x="375809" y="486904"/>
                        <a:pt x="379445" y="383273"/>
                      </a:cubicBezTo>
                      <a:cubicBezTo>
                        <a:pt x="379959" y="368620"/>
                        <a:pt x="384275" y="354326"/>
                        <a:pt x="385665" y="339730"/>
                      </a:cubicBezTo>
                      <a:cubicBezTo>
                        <a:pt x="388424" y="310759"/>
                        <a:pt x="389565" y="281655"/>
                        <a:pt x="391886" y="252645"/>
                      </a:cubicBezTo>
                      <a:cubicBezTo>
                        <a:pt x="393712" y="229816"/>
                        <a:pt x="392552" y="206439"/>
                        <a:pt x="398106" y="184220"/>
                      </a:cubicBezTo>
                      <a:cubicBezTo>
                        <a:pt x="401038" y="172491"/>
                        <a:pt x="406707" y="159824"/>
                        <a:pt x="416767" y="153118"/>
                      </a:cubicBezTo>
                      <a:cubicBezTo>
                        <a:pt x="427261" y="146122"/>
                        <a:pt x="441681" y="149154"/>
                        <a:pt x="454090" y="146898"/>
                      </a:cubicBezTo>
                      <a:cubicBezTo>
                        <a:pt x="487113" y="140894"/>
                        <a:pt x="477958" y="143088"/>
                        <a:pt x="503853" y="134457"/>
                      </a:cubicBezTo>
                      <a:cubicBezTo>
                        <a:pt x="495559" y="132383"/>
                        <a:pt x="487160" y="130693"/>
                        <a:pt x="478971" y="128236"/>
                      </a:cubicBezTo>
                      <a:cubicBezTo>
                        <a:pt x="466410" y="124468"/>
                        <a:pt x="454371" y="118977"/>
                        <a:pt x="441649" y="115796"/>
                      </a:cubicBezTo>
                      <a:cubicBezTo>
                        <a:pt x="380958" y="100622"/>
                        <a:pt x="456749" y="119152"/>
                        <a:pt x="385665" y="103355"/>
                      </a:cubicBezTo>
                      <a:cubicBezTo>
                        <a:pt x="377320" y="101500"/>
                        <a:pt x="369167" y="98811"/>
                        <a:pt x="360784" y="97134"/>
                      </a:cubicBezTo>
                      <a:cubicBezTo>
                        <a:pt x="348416" y="94660"/>
                        <a:pt x="335829" y="93387"/>
                        <a:pt x="323461" y="90914"/>
                      </a:cubicBezTo>
                      <a:cubicBezTo>
                        <a:pt x="315078" y="89238"/>
                        <a:pt x="307116" y="85155"/>
                        <a:pt x="298580" y="84694"/>
                      </a:cubicBezTo>
                      <a:cubicBezTo>
                        <a:pt x="230224" y="80999"/>
                        <a:pt x="161731" y="80547"/>
                        <a:pt x="93306" y="78473"/>
                      </a:cubicBezTo>
                      <a:cubicBezTo>
                        <a:pt x="108111" y="34059"/>
                        <a:pt x="94836" y="48425"/>
                        <a:pt x="124408" y="28710"/>
                      </a:cubicBezTo>
                      <a:cubicBezTo>
                        <a:pt x="128555" y="20416"/>
                        <a:pt x="145795" y="6268"/>
                        <a:pt x="136849" y="3828"/>
                      </a:cubicBezTo>
                      <a:cubicBezTo>
                        <a:pt x="99875" y="-6256"/>
                        <a:pt x="69400" y="5577"/>
                        <a:pt x="37322" y="16269"/>
                      </a:cubicBezTo>
                      <a:cubicBezTo>
                        <a:pt x="7750" y="35984"/>
                        <a:pt x="21024" y="21618"/>
                        <a:pt x="6220" y="66032"/>
                      </a:cubicBezTo>
                      <a:lnTo>
                        <a:pt x="0" y="84694"/>
                      </a:lnTo>
                      <a:cubicBezTo>
                        <a:pt x="2073" y="101282"/>
                        <a:pt x="507" y="118747"/>
                        <a:pt x="6220" y="134457"/>
                      </a:cubicBezTo>
                      <a:cubicBezTo>
                        <a:pt x="9226" y="142724"/>
                        <a:pt x="18124" y="147486"/>
                        <a:pt x="24882" y="153118"/>
                      </a:cubicBezTo>
                      <a:cubicBezTo>
                        <a:pt x="44598" y="169548"/>
                        <a:pt x="53740" y="168958"/>
                        <a:pt x="80865" y="178000"/>
                      </a:cubicBezTo>
                      <a:cubicBezTo>
                        <a:pt x="125590" y="192908"/>
                        <a:pt x="69755" y="174826"/>
                        <a:pt x="124408" y="190441"/>
                      </a:cubicBezTo>
                      <a:cubicBezTo>
                        <a:pt x="130712" y="192242"/>
                        <a:pt x="149626" y="196661"/>
                        <a:pt x="143069" y="196661"/>
                      </a:cubicBezTo>
                      <a:cubicBezTo>
                        <a:pt x="132496" y="196661"/>
                        <a:pt x="122167" y="193223"/>
                        <a:pt x="111967" y="190441"/>
                      </a:cubicBezTo>
                      <a:cubicBezTo>
                        <a:pt x="99315" y="186991"/>
                        <a:pt x="74645" y="178000"/>
                        <a:pt x="74645" y="178000"/>
                      </a:cubicBezTo>
                      <a:cubicBezTo>
                        <a:pt x="68425" y="173853"/>
                        <a:pt x="61270" y="170845"/>
                        <a:pt x="55984" y="165559"/>
                      </a:cubicBezTo>
                      <a:cubicBezTo>
                        <a:pt x="43925" y="153500"/>
                        <a:pt x="42382" y="143414"/>
                        <a:pt x="37322" y="128236"/>
                      </a:cubicBezTo>
                      <a:cubicBezTo>
                        <a:pt x="41242" y="81207"/>
                        <a:pt x="26957" y="58429"/>
                        <a:pt x="62204" y="34930"/>
                      </a:cubicBezTo>
                      <a:cubicBezTo>
                        <a:pt x="67660" y="31293"/>
                        <a:pt x="74645" y="30783"/>
                        <a:pt x="80865" y="28710"/>
                      </a:cubicBezTo>
                      <a:cubicBezTo>
                        <a:pt x="88154" y="23851"/>
                        <a:pt x="116515" y="3828"/>
                        <a:pt x="124408" y="3828"/>
                      </a:cubicBezTo>
                      <a:cubicBezTo>
                        <a:pt x="131884" y="3828"/>
                        <a:pt x="111033" y="10983"/>
                        <a:pt x="105747" y="16269"/>
                      </a:cubicBezTo>
                      <a:cubicBezTo>
                        <a:pt x="65373" y="56644"/>
                        <a:pt x="110803" y="29292"/>
                        <a:pt x="62204" y="53592"/>
                      </a:cubicBezTo>
                      <a:cubicBezTo>
                        <a:pt x="58057" y="59812"/>
                        <a:pt x="54549" y="66510"/>
                        <a:pt x="49763" y="72253"/>
                      </a:cubicBezTo>
                      <a:cubicBezTo>
                        <a:pt x="44131" y="79011"/>
                        <a:pt x="35982" y="83595"/>
                        <a:pt x="31102" y="90914"/>
                      </a:cubicBezTo>
                      <a:cubicBezTo>
                        <a:pt x="27465" y="96370"/>
                        <a:pt x="27814" y="103710"/>
                        <a:pt x="24882" y="109575"/>
                      </a:cubicBezTo>
                      <a:cubicBezTo>
                        <a:pt x="21539" y="116262"/>
                        <a:pt x="16588" y="122016"/>
                        <a:pt x="12441" y="128236"/>
                      </a:cubicBezTo>
                      <a:cubicBezTo>
                        <a:pt x="14514" y="144824"/>
                        <a:pt x="14263" y="161872"/>
                        <a:pt x="18661" y="178000"/>
                      </a:cubicBezTo>
                      <a:cubicBezTo>
                        <a:pt x="20628" y="185213"/>
                        <a:pt x="25264" y="191991"/>
                        <a:pt x="31102" y="196661"/>
                      </a:cubicBezTo>
                      <a:cubicBezTo>
                        <a:pt x="36222" y="200757"/>
                        <a:pt x="43295" y="201803"/>
                        <a:pt x="49763" y="202881"/>
                      </a:cubicBezTo>
                      <a:cubicBezTo>
                        <a:pt x="68284" y="205968"/>
                        <a:pt x="87086" y="207028"/>
                        <a:pt x="105747" y="209102"/>
                      </a:cubicBezTo>
                      <a:cubicBezTo>
                        <a:pt x="111967" y="211175"/>
                        <a:pt x="118007" y="213900"/>
                        <a:pt x="124408" y="215322"/>
                      </a:cubicBezTo>
                      <a:cubicBezTo>
                        <a:pt x="136720" y="218058"/>
                        <a:pt x="149322" y="219287"/>
                        <a:pt x="161731" y="221543"/>
                      </a:cubicBezTo>
                      <a:cubicBezTo>
                        <a:pt x="172133" y="223434"/>
                        <a:pt x="182466" y="225690"/>
                        <a:pt x="192833" y="227763"/>
                      </a:cubicBezTo>
                      <a:cubicBezTo>
                        <a:pt x="190759" y="360465"/>
                        <a:pt x="190349" y="493203"/>
                        <a:pt x="186612" y="625869"/>
                      </a:cubicBezTo>
                      <a:cubicBezTo>
                        <a:pt x="185726" y="657307"/>
                        <a:pt x="178343" y="671312"/>
                        <a:pt x="174171" y="700514"/>
                      </a:cubicBezTo>
                      <a:cubicBezTo>
                        <a:pt x="171516" y="719101"/>
                        <a:pt x="169577" y="737792"/>
                        <a:pt x="167951" y="756498"/>
                      </a:cubicBezTo>
                      <a:cubicBezTo>
                        <a:pt x="165430" y="785491"/>
                        <a:pt x="163492" y="814534"/>
                        <a:pt x="161731" y="843583"/>
                      </a:cubicBezTo>
                      <a:cubicBezTo>
                        <a:pt x="159831" y="874933"/>
                        <a:pt x="160402" y="954646"/>
                        <a:pt x="149290" y="999094"/>
                      </a:cubicBezTo>
                      <a:cubicBezTo>
                        <a:pt x="146110" y="1011816"/>
                        <a:pt x="140996" y="1023975"/>
                        <a:pt x="136849" y="1036416"/>
                      </a:cubicBezTo>
                      <a:cubicBezTo>
                        <a:pt x="134775" y="1042636"/>
                        <a:pt x="134265" y="1049621"/>
                        <a:pt x="130628" y="1055077"/>
                      </a:cubicBezTo>
                      <a:cubicBezTo>
                        <a:pt x="126481" y="1061298"/>
                        <a:pt x="121224" y="1066907"/>
                        <a:pt x="118188" y="1073739"/>
                      </a:cubicBezTo>
                      <a:cubicBezTo>
                        <a:pt x="112862" y="1085722"/>
                        <a:pt x="109894" y="1098620"/>
                        <a:pt x="105747" y="1111061"/>
                      </a:cubicBezTo>
                      <a:cubicBezTo>
                        <a:pt x="103673" y="1117281"/>
                        <a:pt x="103163" y="1124266"/>
                        <a:pt x="99526" y="1129722"/>
                      </a:cubicBezTo>
                      <a:lnTo>
                        <a:pt x="87086" y="1148383"/>
                      </a:lnTo>
                      <a:cubicBezTo>
                        <a:pt x="84686" y="1157983"/>
                        <a:pt x="74645" y="1196465"/>
                        <a:pt x="74645" y="1204367"/>
                      </a:cubicBezTo>
                      <a:cubicBezTo>
                        <a:pt x="74645" y="1239677"/>
                        <a:pt x="76298" y="1275101"/>
                        <a:pt x="80865" y="1310114"/>
                      </a:cubicBezTo>
                      <a:cubicBezTo>
                        <a:pt x="82561" y="1323118"/>
                        <a:pt x="84911" y="1337362"/>
                        <a:pt x="93306" y="1347436"/>
                      </a:cubicBezTo>
                      <a:lnTo>
                        <a:pt x="124408" y="1384759"/>
                      </a:lnTo>
                      <a:cubicBezTo>
                        <a:pt x="130628" y="1382686"/>
                        <a:pt x="136640" y="1379825"/>
                        <a:pt x="143069" y="1378539"/>
                      </a:cubicBezTo>
                      <a:cubicBezTo>
                        <a:pt x="157446" y="1375664"/>
                        <a:pt x="175039" y="1381319"/>
                        <a:pt x="186612" y="1372318"/>
                      </a:cubicBezTo>
                      <a:cubicBezTo>
                        <a:pt x="190051" y="1369643"/>
                        <a:pt x="203504" y="1319843"/>
                        <a:pt x="205273" y="1310114"/>
                      </a:cubicBezTo>
                      <a:cubicBezTo>
                        <a:pt x="207896" y="1295689"/>
                        <a:pt x="209420" y="1281085"/>
                        <a:pt x="211494" y="1266571"/>
                      </a:cubicBezTo>
                      <a:cubicBezTo>
                        <a:pt x="217714" y="1270718"/>
                        <a:pt x="224412" y="1274226"/>
                        <a:pt x="230155" y="1279012"/>
                      </a:cubicBezTo>
                      <a:cubicBezTo>
                        <a:pt x="236913" y="1284644"/>
                        <a:pt x="241497" y="1292793"/>
                        <a:pt x="248816" y="1297673"/>
                      </a:cubicBezTo>
                      <a:cubicBezTo>
                        <a:pt x="254272" y="1301310"/>
                        <a:pt x="261257" y="1301820"/>
                        <a:pt x="267477" y="1303894"/>
                      </a:cubicBezTo>
                      <a:cubicBezTo>
                        <a:pt x="271624" y="1310114"/>
                        <a:pt x="274080" y="1317885"/>
                        <a:pt x="279918" y="1322555"/>
                      </a:cubicBezTo>
                      <a:cubicBezTo>
                        <a:pt x="285038" y="1326651"/>
                        <a:pt x="298580" y="1335332"/>
                        <a:pt x="298580" y="1328775"/>
                      </a:cubicBezTo>
                      <a:cubicBezTo>
                        <a:pt x="298580" y="1321299"/>
                        <a:pt x="286750" y="1319370"/>
                        <a:pt x="279918" y="1316334"/>
                      </a:cubicBezTo>
                      <a:cubicBezTo>
                        <a:pt x="267935" y="1311008"/>
                        <a:pt x="255037" y="1308041"/>
                        <a:pt x="242596" y="1303894"/>
                      </a:cubicBezTo>
                      <a:lnTo>
                        <a:pt x="223935" y="1297673"/>
                      </a:lnTo>
                      <a:lnTo>
                        <a:pt x="205273" y="1291453"/>
                      </a:lnTo>
                      <a:lnTo>
                        <a:pt x="186612" y="1285232"/>
                      </a:lnTo>
                      <a:cubicBezTo>
                        <a:pt x="182465" y="1291453"/>
                        <a:pt x="175984" y="1296641"/>
                        <a:pt x="174171" y="1303894"/>
                      </a:cubicBezTo>
                      <a:cubicBezTo>
                        <a:pt x="169617" y="1322109"/>
                        <a:pt x="182612" y="1348148"/>
                        <a:pt x="167951" y="1359877"/>
                      </a:cubicBezTo>
                      <a:cubicBezTo>
                        <a:pt x="153289" y="1371606"/>
                        <a:pt x="130628" y="1355730"/>
                        <a:pt x="111967" y="1353657"/>
                      </a:cubicBezTo>
                      <a:cubicBezTo>
                        <a:pt x="107820" y="1347437"/>
                        <a:pt x="102869" y="1341683"/>
                        <a:pt x="99526" y="1334996"/>
                      </a:cubicBezTo>
                      <a:cubicBezTo>
                        <a:pt x="96594" y="1329131"/>
                        <a:pt x="93306" y="1322891"/>
                        <a:pt x="93306" y="1316334"/>
                      </a:cubicBezTo>
                      <a:cubicBezTo>
                        <a:pt x="93306" y="1241661"/>
                        <a:pt x="97453" y="1167045"/>
                        <a:pt x="99526" y="1092400"/>
                      </a:cubicBezTo>
                      <a:cubicBezTo>
                        <a:pt x="114040" y="1094473"/>
                        <a:pt x="129026" y="1094407"/>
                        <a:pt x="143069" y="1098620"/>
                      </a:cubicBezTo>
                      <a:cubicBezTo>
                        <a:pt x="150230" y="1100768"/>
                        <a:pt x="155044" y="1107718"/>
                        <a:pt x="161731" y="1111061"/>
                      </a:cubicBezTo>
                      <a:cubicBezTo>
                        <a:pt x="167596" y="1113993"/>
                        <a:pt x="174172" y="1115208"/>
                        <a:pt x="180392" y="1117281"/>
                      </a:cubicBezTo>
                      <a:cubicBezTo>
                        <a:pt x="215767" y="1152658"/>
                        <a:pt x="181705" y="1124159"/>
                        <a:pt x="217714" y="1142163"/>
                      </a:cubicBezTo>
                      <a:cubicBezTo>
                        <a:pt x="224401" y="1145506"/>
                        <a:pt x="229840" y="1150973"/>
                        <a:pt x="236375" y="1154604"/>
                      </a:cubicBezTo>
                      <a:cubicBezTo>
                        <a:pt x="248534" y="1161359"/>
                        <a:pt x="260987" y="1167616"/>
                        <a:pt x="273698" y="1173265"/>
                      </a:cubicBezTo>
                      <a:cubicBezTo>
                        <a:pt x="342834" y="1203991"/>
                        <a:pt x="253912" y="1160260"/>
                        <a:pt x="304800" y="118570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custGeom>
                  <a:avLst/>
                  <a:gdLst>
                    <a:gd name="textAreaLeft" fmla="*/ 0 w 259560"/>
                    <a:gd name="textAreaRight" fmla="*/ 259920 w 259560"/>
                    <a:gd name="textAreaTop" fmla="*/ 0 h 543600"/>
                    <a:gd name="textAreaBottom" fmla="*/ 543960 h 543600"/>
                  </a:gdLst>
                  <a:ahLst/>
                  <a:rect l="textAreaLeft" t="textAreaTop" r="textAreaRight" b="textAreaBottom"/>
                  <a:pathLst>
                    <a:path w="659363" h="1380931">
                      <a:moveTo>
                        <a:pt x="0" y="1380931"/>
                      </a:moveTo>
                      <a:cubicBezTo>
                        <a:pt x="52303" y="1073651"/>
                        <a:pt x="58625" y="1153452"/>
                        <a:pt x="43543" y="889519"/>
                      </a:cubicBezTo>
                      <a:cubicBezTo>
                        <a:pt x="43169" y="882973"/>
                        <a:pt x="39396" y="877078"/>
                        <a:pt x="37322" y="870858"/>
                      </a:cubicBezTo>
                      <a:cubicBezTo>
                        <a:pt x="39396" y="848050"/>
                        <a:pt x="39563" y="824987"/>
                        <a:pt x="43543" y="802433"/>
                      </a:cubicBezTo>
                      <a:cubicBezTo>
                        <a:pt x="52296" y="752834"/>
                        <a:pt x="52159" y="778978"/>
                        <a:pt x="68424" y="746449"/>
                      </a:cubicBezTo>
                      <a:cubicBezTo>
                        <a:pt x="71356" y="740584"/>
                        <a:pt x="71713" y="733653"/>
                        <a:pt x="74645" y="727788"/>
                      </a:cubicBezTo>
                      <a:cubicBezTo>
                        <a:pt x="79196" y="718687"/>
                        <a:pt x="101516" y="689886"/>
                        <a:pt x="105747" y="684245"/>
                      </a:cubicBezTo>
                      <a:cubicBezTo>
                        <a:pt x="107820" y="678025"/>
                        <a:pt x="108783" y="671316"/>
                        <a:pt x="111967" y="665584"/>
                      </a:cubicBezTo>
                      <a:cubicBezTo>
                        <a:pt x="119228" y="652514"/>
                        <a:pt x="136849" y="628262"/>
                        <a:pt x="136849" y="628262"/>
                      </a:cubicBezTo>
                      <a:cubicBezTo>
                        <a:pt x="152482" y="581357"/>
                        <a:pt x="131395" y="639170"/>
                        <a:pt x="155510" y="590939"/>
                      </a:cubicBezTo>
                      <a:cubicBezTo>
                        <a:pt x="158442" y="585074"/>
                        <a:pt x="158546" y="578010"/>
                        <a:pt x="161730" y="572278"/>
                      </a:cubicBezTo>
                      <a:cubicBezTo>
                        <a:pt x="168991" y="559208"/>
                        <a:pt x="179925" y="548329"/>
                        <a:pt x="186612" y="534956"/>
                      </a:cubicBezTo>
                      <a:cubicBezTo>
                        <a:pt x="193050" y="522081"/>
                        <a:pt x="201445" y="502719"/>
                        <a:pt x="211494" y="491413"/>
                      </a:cubicBezTo>
                      <a:cubicBezTo>
                        <a:pt x="280623" y="413642"/>
                        <a:pt x="222908" y="478790"/>
                        <a:pt x="267477" y="441649"/>
                      </a:cubicBezTo>
                      <a:cubicBezTo>
                        <a:pt x="297214" y="416868"/>
                        <a:pt x="276338" y="431016"/>
                        <a:pt x="298579" y="404327"/>
                      </a:cubicBezTo>
                      <a:cubicBezTo>
                        <a:pt x="342356" y="351795"/>
                        <a:pt x="285201" y="430146"/>
                        <a:pt x="354563" y="360784"/>
                      </a:cubicBezTo>
                      <a:cubicBezTo>
                        <a:pt x="360783" y="354564"/>
                        <a:pt x="366066" y="347236"/>
                        <a:pt x="373224" y="342123"/>
                      </a:cubicBezTo>
                      <a:cubicBezTo>
                        <a:pt x="380770" y="336733"/>
                        <a:pt x="390560" y="335072"/>
                        <a:pt x="398106" y="329682"/>
                      </a:cubicBezTo>
                      <a:cubicBezTo>
                        <a:pt x="405264" y="324569"/>
                        <a:pt x="409448" y="315901"/>
                        <a:pt x="416767" y="311021"/>
                      </a:cubicBezTo>
                      <a:cubicBezTo>
                        <a:pt x="472874" y="273615"/>
                        <a:pt x="395364" y="341296"/>
                        <a:pt x="454089" y="292360"/>
                      </a:cubicBezTo>
                      <a:cubicBezTo>
                        <a:pt x="460847" y="286728"/>
                        <a:pt x="465807" y="279099"/>
                        <a:pt x="472751" y="273698"/>
                      </a:cubicBezTo>
                      <a:cubicBezTo>
                        <a:pt x="484553" y="264519"/>
                        <a:pt x="510073" y="248817"/>
                        <a:pt x="510073" y="248817"/>
                      </a:cubicBezTo>
                      <a:cubicBezTo>
                        <a:pt x="554529" y="182135"/>
                        <a:pt x="485297" y="283337"/>
                        <a:pt x="541175" y="211494"/>
                      </a:cubicBezTo>
                      <a:cubicBezTo>
                        <a:pt x="550355" y="199692"/>
                        <a:pt x="557763" y="186613"/>
                        <a:pt x="566057" y="174172"/>
                      </a:cubicBezTo>
                      <a:lnTo>
                        <a:pt x="578498" y="155511"/>
                      </a:lnTo>
                      <a:cubicBezTo>
                        <a:pt x="582645" y="149290"/>
                        <a:pt x="588574" y="143941"/>
                        <a:pt x="590938" y="136849"/>
                      </a:cubicBezTo>
                      <a:cubicBezTo>
                        <a:pt x="599523" y="111096"/>
                        <a:pt x="593522" y="123644"/>
                        <a:pt x="609600" y="99527"/>
                      </a:cubicBezTo>
                      <a:cubicBezTo>
                        <a:pt x="611673" y="93307"/>
                        <a:pt x="614095" y="87192"/>
                        <a:pt x="615820" y="80866"/>
                      </a:cubicBezTo>
                      <a:cubicBezTo>
                        <a:pt x="620319" y="64370"/>
                        <a:pt x="616171" y="43192"/>
                        <a:pt x="628261" y="31102"/>
                      </a:cubicBezTo>
                      <a:lnTo>
                        <a:pt x="659363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66240"/>
                    <a:gd name="textAreaBottom" fmla="*/ 66240 h 66240"/>
                  </a:gdLst>
                  <a:ahLst/>
                  <a:rect l="textAreaLeft" t="textAreaTop" r="textAreaRight" b="textAreaBottom"/>
                  <a:pathLst>
                    <a:path w="136849" h="168717">
                      <a:moveTo>
                        <a:pt x="0" y="168717"/>
                      </a:moveTo>
                      <a:cubicBezTo>
                        <a:pt x="37323" y="127248"/>
                        <a:pt x="76251" y="87169"/>
                        <a:pt x="111968" y="44309"/>
                      </a:cubicBezTo>
                      <a:cubicBezTo>
                        <a:pt x="151053" y="-2593"/>
                        <a:pt x="104710" y="39649"/>
                        <a:pt x="130629" y="766"/>
                      </a:cubicBezTo>
                      <a:cubicBezTo>
                        <a:pt x="131779" y="-959"/>
                        <a:pt x="134776" y="766"/>
                        <a:pt x="136849" y="766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62204" h="24882">
                      <a:moveTo>
                        <a:pt x="0" y="24882"/>
                      </a:moveTo>
                      <a:lnTo>
                        <a:pt x="-3332" y="0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70920"/>
                    <a:gd name="textAreaBottom" fmla="*/ 71280 h 70920"/>
                  </a:gdLst>
                  <a:ahLst/>
                  <a:rect l="textAreaLeft" t="textAreaTop" r="textAreaRight" b="textAreaBottom"/>
                  <a:pathLst>
                    <a:path w="802433" h="180460">
                      <a:moveTo>
                        <a:pt x="802433" y="0"/>
                      </a:moveTo>
                      <a:cubicBezTo>
                        <a:pt x="788192" y="303"/>
                        <a:pt x="536424" y="-1099"/>
                        <a:pt x="441649" y="12441"/>
                      </a:cubicBezTo>
                      <a:cubicBezTo>
                        <a:pt x="408831" y="17129"/>
                        <a:pt x="428380" y="29303"/>
                        <a:pt x="385665" y="43543"/>
                      </a:cubicBezTo>
                      <a:cubicBezTo>
                        <a:pt x="338753" y="59182"/>
                        <a:pt x="396584" y="38085"/>
                        <a:pt x="348343" y="62205"/>
                      </a:cubicBezTo>
                      <a:cubicBezTo>
                        <a:pt x="342478" y="65137"/>
                        <a:pt x="335902" y="66352"/>
                        <a:pt x="329682" y="68425"/>
                      </a:cubicBezTo>
                      <a:cubicBezTo>
                        <a:pt x="274798" y="105013"/>
                        <a:pt x="362508" y="48906"/>
                        <a:pt x="273698" y="93307"/>
                      </a:cubicBezTo>
                      <a:cubicBezTo>
                        <a:pt x="265404" y="97454"/>
                        <a:pt x="257426" y="102303"/>
                        <a:pt x="248816" y="105747"/>
                      </a:cubicBezTo>
                      <a:cubicBezTo>
                        <a:pt x="236640" y="110617"/>
                        <a:pt x="223935" y="114041"/>
                        <a:pt x="211494" y="118188"/>
                      </a:cubicBezTo>
                      <a:cubicBezTo>
                        <a:pt x="205274" y="120262"/>
                        <a:pt x="198289" y="120772"/>
                        <a:pt x="192833" y="124409"/>
                      </a:cubicBezTo>
                      <a:cubicBezTo>
                        <a:pt x="186612" y="128556"/>
                        <a:pt x="181003" y="133813"/>
                        <a:pt x="174171" y="136849"/>
                      </a:cubicBezTo>
                      <a:cubicBezTo>
                        <a:pt x="162188" y="142175"/>
                        <a:pt x="136849" y="149290"/>
                        <a:pt x="136849" y="149290"/>
                      </a:cubicBezTo>
                      <a:cubicBezTo>
                        <a:pt x="106129" y="169770"/>
                        <a:pt x="130132" y="157190"/>
                        <a:pt x="87086" y="167951"/>
                      </a:cubicBezTo>
                      <a:cubicBezTo>
                        <a:pt x="80725" y="169541"/>
                        <a:pt x="74854" y="172886"/>
                        <a:pt x="68424" y="174172"/>
                      </a:cubicBezTo>
                      <a:cubicBezTo>
                        <a:pt x="31460" y="181565"/>
                        <a:pt x="31177" y="180392"/>
                        <a:pt x="0" y="180392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55984" h="205273">
                      <a:moveTo>
                        <a:pt x="0" y="0"/>
                      </a:moveTo>
                      <a:cubicBezTo>
                        <a:pt x="56545" y="201049"/>
                        <a:pt x="55984" y="130128"/>
                        <a:pt x="55984" y="20527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custGeom>
                  <a:avLst/>
                  <a:gdLst>
                    <a:gd name="textAreaLeft" fmla="*/ 0 w 315720"/>
                    <a:gd name="textAreaRight" fmla="*/ 316080 w 31572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802433" h="255037">
                      <a:moveTo>
                        <a:pt x="802433" y="0"/>
                      </a:moveTo>
                      <a:lnTo>
                        <a:pt x="236376" y="161731"/>
                      </a:lnTo>
                      <a:cubicBezTo>
                        <a:pt x="230074" y="163541"/>
                        <a:pt x="224019" y="166150"/>
                        <a:pt x="217714" y="167951"/>
                      </a:cubicBezTo>
                      <a:cubicBezTo>
                        <a:pt x="100230" y="201515"/>
                        <a:pt x="303055" y="141848"/>
                        <a:pt x="161731" y="180392"/>
                      </a:cubicBezTo>
                      <a:cubicBezTo>
                        <a:pt x="109816" y="194551"/>
                        <a:pt x="140235" y="187827"/>
                        <a:pt x="99527" y="205273"/>
                      </a:cubicBezTo>
                      <a:cubicBezTo>
                        <a:pt x="80034" y="213627"/>
                        <a:pt x="65917" y="213985"/>
                        <a:pt x="43543" y="217714"/>
                      </a:cubicBezTo>
                      <a:cubicBezTo>
                        <a:pt x="37323" y="221861"/>
                        <a:pt x="30168" y="224869"/>
                        <a:pt x="24882" y="230155"/>
                      </a:cubicBezTo>
                      <a:cubicBezTo>
                        <a:pt x="-5144" y="260181"/>
                        <a:pt x="28439" y="240817"/>
                        <a:pt x="0" y="255037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custGeom>
                  <a:avLst/>
                  <a:gdLst>
                    <a:gd name="textAreaLeft" fmla="*/ 0 w 266760"/>
                    <a:gd name="textAreaRight" fmla="*/ 266760 w 266760"/>
                    <a:gd name="textAreaTop" fmla="*/ 0 h 151560"/>
                    <a:gd name="textAreaBottom" fmla="*/ 151920 h 151560"/>
                  </a:gdLst>
                  <a:ahLst/>
                  <a:rect l="textAreaLeft" t="textAreaTop" r="textAreaRight" b="textAreaBottom"/>
                  <a:pathLst>
                    <a:path w="678024" h="385665">
                      <a:moveTo>
                        <a:pt x="678024" y="0"/>
                      </a:moveTo>
                      <a:lnTo>
                        <a:pt x="62204" y="335902"/>
                      </a:lnTo>
                      <a:cubicBezTo>
                        <a:pt x="35048" y="350811"/>
                        <a:pt x="50213" y="345895"/>
                        <a:pt x="24881" y="367004"/>
                      </a:cubicBezTo>
                      <a:cubicBezTo>
                        <a:pt x="-17315" y="402166"/>
                        <a:pt x="19780" y="365885"/>
                        <a:pt x="0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541175" h="447869">
                      <a:moveTo>
                        <a:pt x="541175" y="0"/>
                      </a:moveTo>
                      <a:lnTo>
                        <a:pt x="99526" y="367004"/>
                      </a:lnTo>
                      <a:cubicBezTo>
                        <a:pt x="86082" y="378353"/>
                        <a:pt x="74645" y="391885"/>
                        <a:pt x="62204" y="404326"/>
                      </a:cubicBezTo>
                      <a:cubicBezTo>
                        <a:pt x="50480" y="416050"/>
                        <a:pt x="21101" y="447869"/>
                        <a:pt x="6220" y="447869"/>
                      </a:cubicBezTo>
                      <a:lnTo>
                        <a:pt x="0" y="447869"/>
                      </a:ln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custGeom>
                  <a:avLst/>
                  <a:gdLst>
                    <a:gd name="textAreaLeft" fmla="*/ 0 w 112320"/>
                    <a:gd name="textAreaRight" fmla="*/ 112680 w 112320"/>
                    <a:gd name="textAreaTop" fmla="*/ 0 h 176040"/>
                    <a:gd name="textAreaBottom" fmla="*/ 176040 h 176040"/>
                  </a:gdLst>
                  <a:ahLst/>
                  <a:rect l="textAreaLeft" t="textAreaTop" r="textAreaRight" b="textAreaBottom"/>
                  <a:pathLst>
                    <a:path w="286139" h="447869">
                      <a:moveTo>
                        <a:pt x="286139" y="0"/>
                      </a:moveTo>
                      <a:cubicBezTo>
                        <a:pt x="191301" y="149634"/>
                        <a:pt x="125279" y="322610"/>
                        <a:pt x="0" y="447869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custGeom>
                  <a:avLst/>
                  <a:gdLst>
                    <a:gd name="textAreaLeft" fmla="*/ 0 w 696240"/>
                    <a:gd name="textAreaRight" fmla="*/ 696600 w 696240"/>
                    <a:gd name="textAreaTop" fmla="*/ 0 h 794520"/>
                    <a:gd name="textAreaBottom" fmla="*/ 794880 h 794520"/>
                  </a:gdLst>
                  <a:ahLst/>
                  <a:rect l="textAreaLeft" t="textAreaTop" r="textAreaRight" b="textAreaBottom"/>
                  <a:pathLst>
                    <a:path w="1768757" h="2018789">
                      <a:moveTo>
                        <a:pt x="667745" y="1844617"/>
                      </a:moveTo>
                      <a:lnTo>
                        <a:pt x="493574" y="1913042"/>
                      </a:lnTo>
                      <a:cubicBezTo>
                        <a:pt x="443262" y="1933481"/>
                        <a:pt x="497083" y="1920751"/>
                        <a:pt x="431370" y="1931703"/>
                      </a:cubicBezTo>
                      <a:cubicBezTo>
                        <a:pt x="390137" y="1945447"/>
                        <a:pt x="377188" y="1936209"/>
                        <a:pt x="400268" y="1993907"/>
                      </a:cubicBezTo>
                      <a:cubicBezTo>
                        <a:pt x="403045" y="2000848"/>
                        <a:pt x="412709" y="2002201"/>
                        <a:pt x="418929" y="2006348"/>
                      </a:cubicBezTo>
                      <a:cubicBezTo>
                        <a:pt x="462472" y="2004275"/>
                        <a:pt x="506196" y="2004614"/>
                        <a:pt x="549557" y="2000128"/>
                      </a:cubicBezTo>
                      <a:cubicBezTo>
                        <a:pt x="566565" y="1998369"/>
                        <a:pt x="582244" y="1988541"/>
                        <a:pt x="599321" y="1987687"/>
                      </a:cubicBezTo>
                      <a:cubicBezTo>
                        <a:pt x="624257" y="1986440"/>
                        <a:pt x="649084" y="1991834"/>
                        <a:pt x="673965" y="1993907"/>
                      </a:cubicBezTo>
                      <a:cubicBezTo>
                        <a:pt x="700966" y="1998407"/>
                        <a:pt x="716315" y="2000554"/>
                        <a:pt x="742390" y="2006348"/>
                      </a:cubicBezTo>
                      <a:cubicBezTo>
                        <a:pt x="750736" y="2008202"/>
                        <a:pt x="758728" y="2012257"/>
                        <a:pt x="767272" y="2012568"/>
                      </a:cubicBezTo>
                      <a:cubicBezTo>
                        <a:pt x="872969" y="2016412"/>
                        <a:pt x="978765" y="2016715"/>
                        <a:pt x="1084512" y="2018789"/>
                      </a:cubicBezTo>
                      <a:cubicBezTo>
                        <a:pt x="1142569" y="2016715"/>
                        <a:pt x="1200710" y="2016308"/>
                        <a:pt x="1258684" y="2012568"/>
                      </a:cubicBezTo>
                      <a:cubicBezTo>
                        <a:pt x="1265227" y="2012146"/>
                        <a:pt x="1272709" y="2010984"/>
                        <a:pt x="1277345" y="2006348"/>
                      </a:cubicBezTo>
                      <a:cubicBezTo>
                        <a:pt x="1281981" y="2001712"/>
                        <a:pt x="1280633" y="1993552"/>
                        <a:pt x="1283565" y="1987687"/>
                      </a:cubicBezTo>
                      <a:cubicBezTo>
                        <a:pt x="1286908" y="1981000"/>
                        <a:pt x="1291859" y="1975246"/>
                        <a:pt x="1296006" y="1969026"/>
                      </a:cubicBezTo>
                      <a:cubicBezTo>
                        <a:pt x="1293933" y="1962805"/>
                        <a:pt x="1293423" y="1955820"/>
                        <a:pt x="1289786" y="1950364"/>
                      </a:cubicBezTo>
                      <a:cubicBezTo>
                        <a:pt x="1258720" y="1903763"/>
                        <a:pt x="1279698" y="1957418"/>
                        <a:pt x="1264904" y="1913042"/>
                      </a:cubicBezTo>
                      <a:cubicBezTo>
                        <a:pt x="1276406" y="1904416"/>
                        <a:pt x="1299781" y="1888718"/>
                        <a:pt x="1308447" y="1875719"/>
                      </a:cubicBezTo>
                      <a:cubicBezTo>
                        <a:pt x="1312084" y="1870263"/>
                        <a:pt x="1312594" y="1863278"/>
                        <a:pt x="1314668" y="1857058"/>
                      </a:cubicBezTo>
                      <a:cubicBezTo>
                        <a:pt x="1304715" y="1853741"/>
                        <a:pt x="1283151" y="1852083"/>
                        <a:pt x="1289786" y="1832177"/>
                      </a:cubicBezTo>
                      <a:cubicBezTo>
                        <a:pt x="1292568" y="1823831"/>
                        <a:pt x="1302227" y="1819736"/>
                        <a:pt x="1308447" y="1813515"/>
                      </a:cubicBezTo>
                      <a:cubicBezTo>
                        <a:pt x="1310521" y="1807295"/>
                        <a:pt x="1319304" y="1799490"/>
                        <a:pt x="1314668" y="1794854"/>
                      </a:cubicBezTo>
                      <a:cubicBezTo>
                        <a:pt x="1305395" y="1785581"/>
                        <a:pt x="1288257" y="1789687"/>
                        <a:pt x="1277345" y="1782413"/>
                      </a:cubicBezTo>
                      <a:lnTo>
                        <a:pt x="1258684" y="1769973"/>
                      </a:lnTo>
                      <a:cubicBezTo>
                        <a:pt x="1247768" y="1726313"/>
                        <a:pt x="1249977" y="1762505"/>
                        <a:pt x="1271125" y="1720209"/>
                      </a:cubicBezTo>
                      <a:cubicBezTo>
                        <a:pt x="1276990" y="1708480"/>
                        <a:pt x="1283565" y="1682887"/>
                        <a:pt x="1283565" y="1682887"/>
                      </a:cubicBezTo>
                      <a:cubicBezTo>
                        <a:pt x="1285639" y="1655932"/>
                        <a:pt x="1284804" y="1628594"/>
                        <a:pt x="1289786" y="1602022"/>
                      </a:cubicBezTo>
                      <a:cubicBezTo>
                        <a:pt x="1291164" y="1594674"/>
                        <a:pt x="1301730" y="1590820"/>
                        <a:pt x="1302227" y="1583360"/>
                      </a:cubicBezTo>
                      <a:cubicBezTo>
                        <a:pt x="1303888" y="1558447"/>
                        <a:pt x="1298080" y="1533597"/>
                        <a:pt x="1296006" y="1508715"/>
                      </a:cubicBezTo>
                      <a:cubicBezTo>
                        <a:pt x="1298080" y="1456878"/>
                        <a:pt x="1302227" y="1405083"/>
                        <a:pt x="1302227" y="1353205"/>
                      </a:cubicBezTo>
                      <a:cubicBezTo>
                        <a:pt x="1302227" y="1342632"/>
                        <a:pt x="1298570" y="1332360"/>
                        <a:pt x="1296006" y="1322103"/>
                      </a:cubicBezTo>
                      <a:cubicBezTo>
                        <a:pt x="1294416" y="1315742"/>
                        <a:pt x="1294422" y="1308078"/>
                        <a:pt x="1289786" y="1303442"/>
                      </a:cubicBezTo>
                      <a:cubicBezTo>
                        <a:pt x="1285150" y="1298806"/>
                        <a:pt x="1277606" y="1298219"/>
                        <a:pt x="1271125" y="1297222"/>
                      </a:cubicBezTo>
                      <a:cubicBezTo>
                        <a:pt x="1250529" y="1294053"/>
                        <a:pt x="1229656" y="1293075"/>
                        <a:pt x="1208921" y="1291001"/>
                      </a:cubicBezTo>
                      <a:cubicBezTo>
                        <a:pt x="1217215" y="1286854"/>
                        <a:pt x="1233802" y="1287833"/>
                        <a:pt x="1233802" y="1278560"/>
                      </a:cubicBezTo>
                      <a:cubicBezTo>
                        <a:pt x="1233802" y="1273434"/>
                        <a:pt x="1195976" y="1261805"/>
                        <a:pt x="1190259" y="1259899"/>
                      </a:cubicBezTo>
                      <a:cubicBezTo>
                        <a:pt x="1243748" y="1224241"/>
                        <a:pt x="1176069" y="1266994"/>
                        <a:pt x="1227582" y="1241238"/>
                      </a:cubicBezTo>
                      <a:cubicBezTo>
                        <a:pt x="1234269" y="1237895"/>
                        <a:pt x="1239243" y="1231422"/>
                        <a:pt x="1246243" y="1228797"/>
                      </a:cubicBezTo>
                      <a:cubicBezTo>
                        <a:pt x="1256142" y="1225085"/>
                        <a:pt x="1266978" y="1224650"/>
                        <a:pt x="1277345" y="1222577"/>
                      </a:cubicBezTo>
                      <a:cubicBezTo>
                        <a:pt x="1271125" y="1220503"/>
                        <a:pt x="1255752" y="1222221"/>
                        <a:pt x="1258684" y="1216356"/>
                      </a:cubicBezTo>
                      <a:cubicBezTo>
                        <a:pt x="1264560" y="1204604"/>
                        <a:pt x="1295046" y="1195942"/>
                        <a:pt x="1308447" y="1191475"/>
                      </a:cubicBezTo>
                      <a:cubicBezTo>
                        <a:pt x="1314667" y="1187328"/>
                        <a:pt x="1331255" y="1185254"/>
                        <a:pt x="1327108" y="1179034"/>
                      </a:cubicBezTo>
                      <a:cubicBezTo>
                        <a:pt x="1321243" y="1170237"/>
                        <a:pt x="1306579" y="1172813"/>
                        <a:pt x="1296006" y="1172813"/>
                      </a:cubicBezTo>
                      <a:cubicBezTo>
                        <a:pt x="1271038" y="1172813"/>
                        <a:pt x="1246243" y="1176960"/>
                        <a:pt x="1221361" y="1179034"/>
                      </a:cubicBezTo>
                      <a:cubicBezTo>
                        <a:pt x="1158656" y="1199935"/>
                        <a:pt x="1255913" y="1168047"/>
                        <a:pt x="1177819" y="1191475"/>
                      </a:cubicBezTo>
                      <a:cubicBezTo>
                        <a:pt x="1165258" y="1195243"/>
                        <a:pt x="1153509" y="1202288"/>
                        <a:pt x="1140496" y="1203915"/>
                      </a:cubicBezTo>
                      <a:cubicBezTo>
                        <a:pt x="1061636" y="1213773"/>
                        <a:pt x="1074184" y="1212500"/>
                        <a:pt x="1177819" y="1197695"/>
                      </a:cubicBezTo>
                      <a:cubicBezTo>
                        <a:pt x="1190260" y="1193548"/>
                        <a:pt x="1202419" y="1188435"/>
                        <a:pt x="1215141" y="1185254"/>
                      </a:cubicBezTo>
                      <a:cubicBezTo>
                        <a:pt x="1227377" y="1182195"/>
                        <a:pt x="1240096" y="1181508"/>
                        <a:pt x="1252463" y="1179034"/>
                      </a:cubicBezTo>
                      <a:cubicBezTo>
                        <a:pt x="1260846" y="1177357"/>
                        <a:pt x="1269097" y="1175062"/>
                        <a:pt x="1277345" y="1172813"/>
                      </a:cubicBezTo>
                      <a:cubicBezTo>
                        <a:pt x="1291908" y="1168841"/>
                        <a:pt x="1306460" y="1164812"/>
                        <a:pt x="1320888" y="1160373"/>
                      </a:cubicBezTo>
                      <a:cubicBezTo>
                        <a:pt x="1333422" y="1156517"/>
                        <a:pt x="1358210" y="1147932"/>
                        <a:pt x="1358210" y="1147932"/>
                      </a:cubicBezTo>
                      <a:cubicBezTo>
                        <a:pt x="1372724" y="1150005"/>
                        <a:pt x="1390024" y="1145355"/>
                        <a:pt x="1401753" y="1154152"/>
                      </a:cubicBezTo>
                      <a:cubicBezTo>
                        <a:pt x="1407734" y="1158638"/>
                        <a:pt x="1389175" y="1162248"/>
                        <a:pt x="1383092" y="1166593"/>
                      </a:cubicBezTo>
                      <a:cubicBezTo>
                        <a:pt x="1374656" y="1172619"/>
                        <a:pt x="1367165" y="1180030"/>
                        <a:pt x="1358210" y="1185254"/>
                      </a:cubicBezTo>
                      <a:cubicBezTo>
                        <a:pt x="1245328" y="1251102"/>
                        <a:pt x="1346626" y="1184682"/>
                        <a:pt x="1289786" y="1222577"/>
                      </a:cubicBezTo>
                      <a:cubicBezTo>
                        <a:pt x="1265479" y="1319792"/>
                        <a:pt x="1293053" y="1183432"/>
                        <a:pt x="1296006" y="1266119"/>
                      </a:cubicBezTo>
                      <a:cubicBezTo>
                        <a:pt x="1297858" y="1317964"/>
                        <a:pt x="1291859" y="1369793"/>
                        <a:pt x="1289786" y="1421630"/>
                      </a:cubicBezTo>
                      <a:cubicBezTo>
                        <a:pt x="1291859" y="1550185"/>
                        <a:pt x="1292170" y="1678781"/>
                        <a:pt x="1296006" y="1807295"/>
                      </a:cubicBezTo>
                      <a:cubicBezTo>
                        <a:pt x="1296321" y="1817863"/>
                        <a:pt x="1300489" y="1827968"/>
                        <a:pt x="1302227" y="1838397"/>
                      </a:cubicBezTo>
                      <a:cubicBezTo>
                        <a:pt x="1304637" y="1852859"/>
                        <a:pt x="1305572" y="1867563"/>
                        <a:pt x="1308447" y="1881940"/>
                      </a:cubicBezTo>
                      <a:cubicBezTo>
                        <a:pt x="1309733" y="1888370"/>
                        <a:pt x="1310572" y="1895481"/>
                        <a:pt x="1314668" y="1900601"/>
                      </a:cubicBezTo>
                      <a:cubicBezTo>
                        <a:pt x="1319338" y="1906439"/>
                        <a:pt x="1327246" y="1908697"/>
                        <a:pt x="1333329" y="1913042"/>
                      </a:cubicBezTo>
                      <a:cubicBezTo>
                        <a:pt x="1341765" y="1919068"/>
                        <a:pt x="1349774" y="1925677"/>
                        <a:pt x="1358210" y="1931703"/>
                      </a:cubicBezTo>
                      <a:cubicBezTo>
                        <a:pt x="1371815" y="1941421"/>
                        <a:pt x="1378999" y="1947358"/>
                        <a:pt x="1395533" y="1950364"/>
                      </a:cubicBezTo>
                      <a:cubicBezTo>
                        <a:pt x="1411980" y="1953354"/>
                        <a:pt x="1428708" y="1954511"/>
                        <a:pt x="1445296" y="1956585"/>
                      </a:cubicBezTo>
                      <a:cubicBezTo>
                        <a:pt x="1496701" y="1973719"/>
                        <a:pt x="1416198" y="1948408"/>
                        <a:pt x="1526161" y="1969026"/>
                      </a:cubicBezTo>
                      <a:cubicBezTo>
                        <a:pt x="1539050" y="1971443"/>
                        <a:pt x="1551043" y="1977319"/>
                        <a:pt x="1563484" y="1981466"/>
                      </a:cubicBezTo>
                      <a:lnTo>
                        <a:pt x="1582145" y="1987687"/>
                      </a:lnTo>
                      <a:cubicBezTo>
                        <a:pt x="1588365" y="1983540"/>
                        <a:pt x="1597463" y="1981933"/>
                        <a:pt x="1600806" y="1975246"/>
                      </a:cubicBezTo>
                      <a:cubicBezTo>
                        <a:pt x="1609431" y="1957996"/>
                        <a:pt x="1608943" y="1924723"/>
                        <a:pt x="1600806" y="1906822"/>
                      </a:cubicBezTo>
                      <a:cubicBezTo>
                        <a:pt x="1594619" y="1893210"/>
                        <a:pt x="1580653" y="1883684"/>
                        <a:pt x="1575925" y="1869499"/>
                      </a:cubicBezTo>
                      <a:lnTo>
                        <a:pt x="1563484" y="1832177"/>
                      </a:lnTo>
                      <a:cubicBezTo>
                        <a:pt x="1561410" y="1801075"/>
                        <a:pt x="1560218" y="1769902"/>
                        <a:pt x="1557263" y="1738871"/>
                      </a:cubicBezTo>
                      <a:cubicBezTo>
                        <a:pt x="1556067" y="1726315"/>
                        <a:pt x="1552607" y="1714063"/>
                        <a:pt x="1551043" y="1701548"/>
                      </a:cubicBezTo>
                      <a:cubicBezTo>
                        <a:pt x="1548459" y="1680871"/>
                        <a:pt x="1546896" y="1660079"/>
                        <a:pt x="1544823" y="1639344"/>
                      </a:cubicBezTo>
                      <a:cubicBezTo>
                        <a:pt x="1546896" y="1564699"/>
                        <a:pt x="1547405" y="1489994"/>
                        <a:pt x="1551043" y="1415409"/>
                      </a:cubicBezTo>
                      <a:cubicBezTo>
                        <a:pt x="1551558" y="1404849"/>
                        <a:pt x="1555372" y="1394709"/>
                        <a:pt x="1557263" y="1384307"/>
                      </a:cubicBezTo>
                      <a:cubicBezTo>
                        <a:pt x="1559519" y="1371898"/>
                        <a:pt x="1561410" y="1359426"/>
                        <a:pt x="1563484" y="1346985"/>
                      </a:cubicBezTo>
                      <a:cubicBezTo>
                        <a:pt x="1565557" y="1315883"/>
                        <a:pt x="1567401" y="1284765"/>
                        <a:pt x="1569704" y="1253679"/>
                      </a:cubicBezTo>
                      <a:cubicBezTo>
                        <a:pt x="1571548" y="1228779"/>
                        <a:pt x="1575925" y="1204002"/>
                        <a:pt x="1575925" y="1179034"/>
                      </a:cubicBezTo>
                      <a:cubicBezTo>
                        <a:pt x="1575925" y="1112651"/>
                        <a:pt x="1573104" y="1046277"/>
                        <a:pt x="1569704" y="979981"/>
                      </a:cubicBezTo>
                      <a:cubicBezTo>
                        <a:pt x="1568953" y="965339"/>
                        <a:pt x="1570041" y="949552"/>
                        <a:pt x="1563484" y="936438"/>
                      </a:cubicBezTo>
                      <a:cubicBezTo>
                        <a:pt x="1560552" y="930573"/>
                        <a:pt x="1551355" y="930785"/>
                        <a:pt x="1544823" y="930217"/>
                      </a:cubicBezTo>
                      <a:cubicBezTo>
                        <a:pt x="1503458" y="926620"/>
                        <a:pt x="1461884" y="926070"/>
                        <a:pt x="1420414" y="923997"/>
                      </a:cubicBezTo>
                      <a:cubicBezTo>
                        <a:pt x="1419486" y="913791"/>
                        <a:pt x="1417484" y="852881"/>
                        <a:pt x="1407974" y="830691"/>
                      </a:cubicBezTo>
                      <a:cubicBezTo>
                        <a:pt x="1405029" y="823819"/>
                        <a:pt x="1401873" y="815992"/>
                        <a:pt x="1395533" y="812030"/>
                      </a:cubicBezTo>
                      <a:cubicBezTo>
                        <a:pt x="1384412" y="805080"/>
                        <a:pt x="1358210" y="799589"/>
                        <a:pt x="1358210" y="799589"/>
                      </a:cubicBezTo>
                      <a:cubicBezTo>
                        <a:pt x="1310934" y="846867"/>
                        <a:pt x="1346966" y="803416"/>
                        <a:pt x="1327108" y="843132"/>
                      </a:cubicBezTo>
                      <a:cubicBezTo>
                        <a:pt x="1323765" y="849819"/>
                        <a:pt x="1317704" y="854962"/>
                        <a:pt x="1314668" y="861793"/>
                      </a:cubicBezTo>
                      <a:cubicBezTo>
                        <a:pt x="1309342" y="873776"/>
                        <a:pt x="1306374" y="886674"/>
                        <a:pt x="1302227" y="899115"/>
                      </a:cubicBezTo>
                      <a:lnTo>
                        <a:pt x="1289786" y="936438"/>
                      </a:lnTo>
                      <a:cubicBezTo>
                        <a:pt x="1286842" y="945268"/>
                        <a:pt x="1280770" y="968938"/>
                        <a:pt x="1271125" y="973760"/>
                      </a:cubicBezTo>
                      <a:cubicBezTo>
                        <a:pt x="1259844" y="979401"/>
                        <a:pt x="1246402" y="979421"/>
                        <a:pt x="1233802" y="979981"/>
                      </a:cubicBezTo>
                      <a:cubicBezTo>
                        <a:pt x="1152990" y="983573"/>
                        <a:pt x="1072071" y="984128"/>
                        <a:pt x="991206" y="986201"/>
                      </a:cubicBezTo>
                      <a:cubicBezTo>
                        <a:pt x="1005720" y="988275"/>
                        <a:pt x="1020087" y="992422"/>
                        <a:pt x="1034749" y="992422"/>
                      </a:cubicBezTo>
                      <a:cubicBezTo>
                        <a:pt x="1165661" y="992422"/>
                        <a:pt x="1171228" y="990389"/>
                        <a:pt x="1264904" y="979981"/>
                      </a:cubicBezTo>
                      <a:cubicBezTo>
                        <a:pt x="1280081" y="974921"/>
                        <a:pt x="1290169" y="973377"/>
                        <a:pt x="1302227" y="961319"/>
                      </a:cubicBezTo>
                      <a:cubicBezTo>
                        <a:pt x="1309447" y="954099"/>
                        <a:pt x="1324180" y="925585"/>
                        <a:pt x="1327108" y="917777"/>
                      </a:cubicBezTo>
                      <a:cubicBezTo>
                        <a:pt x="1330110" y="909772"/>
                        <a:pt x="1330980" y="901115"/>
                        <a:pt x="1333329" y="892895"/>
                      </a:cubicBezTo>
                      <a:cubicBezTo>
                        <a:pt x="1335130" y="886591"/>
                        <a:pt x="1337748" y="880538"/>
                        <a:pt x="1339549" y="874234"/>
                      </a:cubicBezTo>
                      <a:cubicBezTo>
                        <a:pt x="1341898" y="866014"/>
                        <a:pt x="1343421" y="857572"/>
                        <a:pt x="1345770" y="849352"/>
                      </a:cubicBezTo>
                      <a:cubicBezTo>
                        <a:pt x="1347571" y="843048"/>
                        <a:pt x="1347354" y="835327"/>
                        <a:pt x="1351990" y="830691"/>
                      </a:cubicBezTo>
                      <a:cubicBezTo>
                        <a:pt x="1356626" y="826055"/>
                        <a:pt x="1364431" y="826544"/>
                        <a:pt x="1370651" y="824471"/>
                      </a:cubicBezTo>
                      <a:cubicBezTo>
                        <a:pt x="1376752" y="832098"/>
                        <a:pt x="1401373" y="861032"/>
                        <a:pt x="1407974" y="874234"/>
                      </a:cubicBezTo>
                      <a:cubicBezTo>
                        <a:pt x="1411014" y="880315"/>
                        <a:pt x="1422372" y="917445"/>
                        <a:pt x="1432855" y="923997"/>
                      </a:cubicBezTo>
                      <a:cubicBezTo>
                        <a:pt x="1443976" y="930947"/>
                        <a:pt x="1470178" y="936438"/>
                        <a:pt x="1470178" y="936438"/>
                      </a:cubicBezTo>
                      <a:cubicBezTo>
                        <a:pt x="1524088" y="934364"/>
                        <a:pt x="1578078" y="933806"/>
                        <a:pt x="1631908" y="930217"/>
                      </a:cubicBezTo>
                      <a:cubicBezTo>
                        <a:pt x="1641672" y="929566"/>
                        <a:pt x="1665152" y="921210"/>
                        <a:pt x="1675451" y="917777"/>
                      </a:cubicBezTo>
                      <a:cubicBezTo>
                        <a:pt x="1681671" y="913630"/>
                        <a:pt x="1686899" y="907303"/>
                        <a:pt x="1694112" y="905336"/>
                      </a:cubicBezTo>
                      <a:cubicBezTo>
                        <a:pt x="1710240" y="900937"/>
                        <a:pt x="1727386" y="901863"/>
                        <a:pt x="1743876" y="899115"/>
                      </a:cubicBezTo>
                      <a:cubicBezTo>
                        <a:pt x="1752309" y="897710"/>
                        <a:pt x="1760463" y="894968"/>
                        <a:pt x="1768757" y="892895"/>
                      </a:cubicBezTo>
                      <a:cubicBezTo>
                        <a:pt x="1762537" y="886675"/>
                        <a:pt x="1755728" y="880992"/>
                        <a:pt x="1750096" y="874234"/>
                      </a:cubicBezTo>
                      <a:cubicBezTo>
                        <a:pt x="1706788" y="822264"/>
                        <a:pt x="1773521" y="891441"/>
                        <a:pt x="1718994" y="836911"/>
                      </a:cubicBezTo>
                      <a:cubicBezTo>
                        <a:pt x="1716921" y="830691"/>
                        <a:pt x="1714196" y="824651"/>
                        <a:pt x="1712774" y="818250"/>
                      </a:cubicBezTo>
                      <a:cubicBezTo>
                        <a:pt x="1704832" y="782511"/>
                        <a:pt x="1703127" y="763534"/>
                        <a:pt x="1712774" y="724944"/>
                      </a:cubicBezTo>
                      <a:cubicBezTo>
                        <a:pt x="1714587" y="717691"/>
                        <a:pt x="1721067" y="712503"/>
                        <a:pt x="1725214" y="706283"/>
                      </a:cubicBezTo>
                      <a:cubicBezTo>
                        <a:pt x="1721067" y="700063"/>
                        <a:pt x="1713701" y="695040"/>
                        <a:pt x="1712774" y="687622"/>
                      </a:cubicBezTo>
                      <a:cubicBezTo>
                        <a:pt x="1684609" y="462296"/>
                        <a:pt x="1721349" y="616181"/>
                        <a:pt x="1700333" y="532111"/>
                      </a:cubicBezTo>
                      <a:cubicBezTo>
                        <a:pt x="1702406" y="492715"/>
                        <a:pt x="1703277" y="453238"/>
                        <a:pt x="1706553" y="413924"/>
                      </a:cubicBezTo>
                      <a:cubicBezTo>
                        <a:pt x="1707431" y="403388"/>
                        <a:pt x="1711279" y="393288"/>
                        <a:pt x="1712774" y="382822"/>
                      </a:cubicBezTo>
                      <a:cubicBezTo>
                        <a:pt x="1715429" y="364235"/>
                        <a:pt x="1716921" y="345499"/>
                        <a:pt x="1718994" y="326838"/>
                      </a:cubicBezTo>
                      <a:cubicBezTo>
                        <a:pt x="1716921" y="264634"/>
                        <a:pt x="1716325" y="202363"/>
                        <a:pt x="1712774" y="140226"/>
                      </a:cubicBezTo>
                      <a:cubicBezTo>
                        <a:pt x="1712171" y="129671"/>
                        <a:pt x="1708847" y="119445"/>
                        <a:pt x="1706553" y="109124"/>
                      </a:cubicBezTo>
                      <a:cubicBezTo>
                        <a:pt x="1696824" y="65342"/>
                        <a:pt x="1704509" y="101969"/>
                        <a:pt x="1694112" y="65581"/>
                      </a:cubicBezTo>
                      <a:cubicBezTo>
                        <a:pt x="1678483" y="10880"/>
                        <a:pt x="1696592" y="66801"/>
                        <a:pt x="1681672" y="22038"/>
                      </a:cubicBezTo>
                      <a:cubicBezTo>
                        <a:pt x="1679598" y="28258"/>
                        <a:pt x="1675451" y="34142"/>
                        <a:pt x="1675451" y="40699"/>
                      </a:cubicBezTo>
                      <a:cubicBezTo>
                        <a:pt x="1675451" y="62591"/>
                        <a:pt x="1681478" y="77440"/>
                        <a:pt x="1687892" y="96683"/>
                      </a:cubicBezTo>
                      <a:cubicBezTo>
                        <a:pt x="1690291" y="129074"/>
                        <a:pt x="1697957" y="260443"/>
                        <a:pt x="1706553" y="320617"/>
                      </a:cubicBezTo>
                      <a:cubicBezTo>
                        <a:pt x="1708048" y="331083"/>
                        <a:pt x="1710883" y="341317"/>
                        <a:pt x="1712774" y="351719"/>
                      </a:cubicBezTo>
                      <a:cubicBezTo>
                        <a:pt x="1715030" y="364128"/>
                        <a:pt x="1716921" y="376601"/>
                        <a:pt x="1718994" y="389042"/>
                      </a:cubicBezTo>
                      <a:cubicBezTo>
                        <a:pt x="1716921" y="440879"/>
                        <a:pt x="1716560" y="492812"/>
                        <a:pt x="1712774" y="544552"/>
                      </a:cubicBezTo>
                      <a:cubicBezTo>
                        <a:pt x="1710334" y="577897"/>
                        <a:pt x="1700333" y="644079"/>
                        <a:pt x="1700333" y="644079"/>
                      </a:cubicBezTo>
                      <a:cubicBezTo>
                        <a:pt x="1702406" y="706283"/>
                        <a:pt x="1706553" y="768452"/>
                        <a:pt x="1706553" y="830691"/>
                      </a:cubicBezTo>
                      <a:cubicBezTo>
                        <a:pt x="1706553" y="847408"/>
                        <a:pt x="1710596" y="867259"/>
                        <a:pt x="1700333" y="880454"/>
                      </a:cubicBezTo>
                      <a:cubicBezTo>
                        <a:pt x="1692590" y="890410"/>
                        <a:pt x="1675322" y="883939"/>
                        <a:pt x="1663010" y="886675"/>
                      </a:cubicBezTo>
                      <a:cubicBezTo>
                        <a:pt x="1656609" y="888097"/>
                        <a:pt x="1650629" y="891011"/>
                        <a:pt x="1644349" y="892895"/>
                      </a:cubicBezTo>
                      <a:cubicBezTo>
                        <a:pt x="1629890" y="897233"/>
                        <a:pt x="1615608" y="902376"/>
                        <a:pt x="1600806" y="905336"/>
                      </a:cubicBezTo>
                      <a:cubicBezTo>
                        <a:pt x="1584414" y="908614"/>
                        <a:pt x="1567631" y="909483"/>
                        <a:pt x="1551043" y="911556"/>
                      </a:cubicBezTo>
                      <a:cubicBezTo>
                        <a:pt x="1497659" y="929352"/>
                        <a:pt x="1582625" y="902106"/>
                        <a:pt x="1495059" y="923997"/>
                      </a:cubicBezTo>
                      <a:cubicBezTo>
                        <a:pt x="1482337" y="927177"/>
                        <a:pt x="1457737" y="936438"/>
                        <a:pt x="1457737" y="936438"/>
                      </a:cubicBezTo>
                      <a:cubicBezTo>
                        <a:pt x="1449443" y="934364"/>
                        <a:pt x="1438419" y="936708"/>
                        <a:pt x="1432855" y="930217"/>
                      </a:cubicBezTo>
                      <a:cubicBezTo>
                        <a:pt x="1424321" y="920260"/>
                        <a:pt x="1426278" y="904624"/>
                        <a:pt x="1420414" y="892895"/>
                      </a:cubicBezTo>
                      <a:cubicBezTo>
                        <a:pt x="1416267" y="884601"/>
                        <a:pt x="1411418" y="876623"/>
                        <a:pt x="1407974" y="868013"/>
                      </a:cubicBezTo>
                      <a:cubicBezTo>
                        <a:pt x="1403104" y="855837"/>
                        <a:pt x="1402807" y="841602"/>
                        <a:pt x="1395533" y="830691"/>
                      </a:cubicBezTo>
                      <a:lnTo>
                        <a:pt x="1370651" y="793368"/>
                      </a:lnTo>
                      <a:cubicBezTo>
                        <a:pt x="1334545" y="805405"/>
                        <a:pt x="1366382" y="790293"/>
                        <a:pt x="1333329" y="830691"/>
                      </a:cubicBezTo>
                      <a:cubicBezTo>
                        <a:pt x="1256637" y="924424"/>
                        <a:pt x="1320248" y="831649"/>
                        <a:pt x="1283565" y="886675"/>
                      </a:cubicBezTo>
                      <a:cubicBezTo>
                        <a:pt x="1269133" y="929972"/>
                        <a:pt x="1283153" y="883343"/>
                        <a:pt x="1271125" y="967540"/>
                      </a:cubicBezTo>
                      <a:cubicBezTo>
                        <a:pt x="1269916" y="976003"/>
                        <a:pt x="1271861" y="987453"/>
                        <a:pt x="1264904" y="992422"/>
                      </a:cubicBezTo>
                      <a:cubicBezTo>
                        <a:pt x="1254641" y="999753"/>
                        <a:pt x="1240177" y="997979"/>
                        <a:pt x="1227582" y="998642"/>
                      </a:cubicBezTo>
                      <a:cubicBezTo>
                        <a:pt x="1161290" y="1002131"/>
                        <a:pt x="1094859" y="1002209"/>
                        <a:pt x="1028529" y="1004862"/>
                      </a:cubicBezTo>
                      <a:cubicBezTo>
                        <a:pt x="983775" y="1006652"/>
                        <a:pt x="864586" y="1014331"/>
                        <a:pt x="817035" y="1017303"/>
                      </a:cubicBezTo>
                      <a:cubicBezTo>
                        <a:pt x="802521" y="1021450"/>
                        <a:pt x="785568" y="1020687"/>
                        <a:pt x="773492" y="1029744"/>
                      </a:cubicBezTo>
                      <a:cubicBezTo>
                        <a:pt x="766653" y="1034874"/>
                        <a:pt x="769621" y="1046406"/>
                        <a:pt x="767272" y="1054626"/>
                      </a:cubicBezTo>
                      <a:cubicBezTo>
                        <a:pt x="765471" y="1060931"/>
                        <a:pt x="762852" y="1066982"/>
                        <a:pt x="761051" y="1073287"/>
                      </a:cubicBezTo>
                      <a:cubicBezTo>
                        <a:pt x="755197" y="1093776"/>
                        <a:pt x="752884" y="1107903"/>
                        <a:pt x="748610" y="1129271"/>
                      </a:cubicBezTo>
                      <a:cubicBezTo>
                        <a:pt x="746537" y="1170740"/>
                        <a:pt x="743797" y="1212182"/>
                        <a:pt x="742390" y="1253679"/>
                      </a:cubicBezTo>
                      <a:cubicBezTo>
                        <a:pt x="739650" y="1334524"/>
                        <a:pt x="739928" y="1415470"/>
                        <a:pt x="736170" y="1496275"/>
                      </a:cubicBezTo>
                      <a:cubicBezTo>
                        <a:pt x="735773" y="1504815"/>
                        <a:pt x="729949" y="1529705"/>
                        <a:pt x="729949" y="1521156"/>
                      </a:cubicBezTo>
                      <a:cubicBezTo>
                        <a:pt x="729949" y="1510583"/>
                        <a:pt x="734279" y="1500456"/>
                        <a:pt x="736170" y="1490054"/>
                      </a:cubicBezTo>
                      <a:cubicBezTo>
                        <a:pt x="738426" y="1477645"/>
                        <a:pt x="739654" y="1465044"/>
                        <a:pt x="742390" y="1452732"/>
                      </a:cubicBezTo>
                      <a:cubicBezTo>
                        <a:pt x="743812" y="1446331"/>
                        <a:pt x="746809" y="1440375"/>
                        <a:pt x="748610" y="1434071"/>
                      </a:cubicBezTo>
                      <a:cubicBezTo>
                        <a:pt x="756036" y="1408082"/>
                        <a:pt x="756162" y="1401204"/>
                        <a:pt x="761051" y="1371866"/>
                      </a:cubicBezTo>
                      <a:cubicBezTo>
                        <a:pt x="773298" y="1212674"/>
                        <a:pt x="769494" y="1297708"/>
                        <a:pt x="761051" y="1035964"/>
                      </a:cubicBezTo>
                      <a:cubicBezTo>
                        <a:pt x="758382" y="953215"/>
                        <a:pt x="790432" y="920025"/>
                        <a:pt x="736170" y="892895"/>
                      </a:cubicBezTo>
                      <a:cubicBezTo>
                        <a:pt x="730305" y="889963"/>
                        <a:pt x="723729" y="888748"/>
                        <a:pt x="717508" y="886675"/>
                      </a:cubicBezTo>
                      <a:cubicBezTo>
                        <a:pt x="705067" y="888748"/>
                        <a:pt x="689104" y="883977"/>
                        <a:pt x="680186" y="892895"/>
                      </a:cubicBezTo>
                      <a:cubicBezTo>
                        <a:pt x="671268" y="901813"/>
                        <a:pt x="675529" y="917702"/>
                        <a:pt x="673965" y="930217"/>
                      </a:cubicBezTo>
                      <a:cubicBezTo>
                        <a:pt x="665340" y="999220"/>
                        <a:pt x="665347" y="1040387"/>
                        <a:pt x="661525" y="1116830"/>
                      </a:cubicBezTo>
                      <a:cubicBezTo>
                        <a:pt x="663598" y="1264046"/>
                        <a:pt x="653691" y="1411920"/>
                        <a:pt x="667745" y="1558479"/>
                      </a:cubicBezTo>
                      <a:cubicBezTo>
                        <a:pt x="668997" y="1571533"/>
                        <a:pt x="705068" y="1570919"/>
                        <a:pt x="705068" y="1570919"/>
                      </a:cubicBezTo>
                      <a:cubicBezTo>
                        <a:pt x="709600" y="1570013"/>
                        <a:pt x="754277" y="1568702"/>
                        <a:pt x="748610" y="1546038"/>
                      </a:cubicBezTo>
                      <a:cubicBezTo>
                        <a:pt x="747020" y="1539677"/>
                        <a:pt x="736169" y="1541891"/>
                        <a:pt x="729949" y="1539817"/>
                      </a:cubicBezTo>
                      <a:cubicBezTo>
                        <a:pt x="707141" y="1541891"/>
                        <a:pt x="684197" y="1542799"/>
                        <a:pt x="661525" y="1546038"/>
                      </a:cubicBezTo>
                      <a:cubicBezTo>
                        <a:pt x="655034" y="1546965"/>
                        <a:pt x="649168" y="1550457"/>
                        <a:pt x="642863" y="1552258"/>
                      </a:cubicBezTo>
                      <a:cubicBezTo>
                        <a:pt x="588197" y="1567877"/>
                        <a:pt x="644058" y="1549787"/>
                        <a:pt x="599321" y="1564699"/>
                      </a:cubicBezTo>
                      <a:cubicBezTo>
                        <a:pt x="574439" y="1562626"/>
                        <a:pt x="549304" y="1562584"/>
                        <a:pt x="524676" y="1558479"/>
                      </a:cubicBezTo>
                      <a:cubicBezTo>
                        <a:pt x="511740" y="1556323"/>
                        <a:pt x="499794" y="1550185"/>
                        <a:pt x="487353" y="1546038"/>
                      </a:cubicBezTo>
                      <a:cubicBezTo>
                        <a:pt x="481133" y="1543964"/>
                        <a:pt x="475160" y="1540895"/>
                        <a:pt x="468692" y="1539817"/>
                      </a:cubicBezTo>
                      <a:cubicBezTo>
                        <a:pt x="395585" y="1527633"/>
                        <a:pt x="462146" y="1539746"/>
                        <a:pt x="406488" y="1527377"/>
                      </a:cubicBezTo>
                      <a:cubicBezTo>
                        <a:pt x="380388" y="1521577"/>
                        <a:pt x="365094" y="1519441"/>
                        <a:pt x="338063" y="1514936"/>
                      </a:cubicBezTo>
                      <a:cubicBezTo>
                        <a:pt x="301748" y="1502830"/>
                        <a:pt x="336812" y="1513441"/>
                        <a:pt x="282080" y="1502495"/>
                      </a:cubicBezTo>
                      <a:cubicBezTo>
                        <a:pt x="273697" y="1500818"/>
                        <a:pt x="265418" y="1498624"/>
                        <a:pt x="257198" y="1496275"/>
                      </a:cubicBezTo>
                      <a:cubicBezTo>
                        <a:pt x="236480" y="1490355"/>
                        <a:pt x="237006" y="1487726"/>
                        <a:pt x="213655" y="1483834"/>
                      </a:cubicBezTo>
                      <a:cubicBezTo>
                        <a:pt x="126285" y="1469272"/>
                        <a:pt x="195004" y="1485390"/>
                        <a:pt x="139010" y="1471393"/>
                      </a:cubicBezTo>
                      <a:cubicBezTo>
                        <a:pt x="130716" y="1467246"/>
                        <a:pt x="122738" y="1462396"/>
                        <a:pt x="114129" y="1458952"/>
                      </a:cubicBezTo>
                      <a:cubicBezTo>
                        <a:pt x="101953" y="1454082"/>
                        <a:pt x="88536" y="1452376"/>
                        <a:pt x="76806" y="1446511"/>
                      </a:cubicBezTo>
                      <a:cubicBezTo>
                        <a:pt x="68512" y="1442364"/>
                        <a:pt x="60448" y="1437724"/>
                        <a:pt x="51925" y="1434071"/>
                      </a:cubicBezTo>
                      <a:cubicBezTo>
                        <a:pt x="15873" y="1418620"/>
                        <a:pt x="50460" y="1439315"/>
                        <a:pt x="14602" y="1415409"/>
                      </a:cubicBezTo>
                      <a:cubicBezTo>
                        <a:pt x="10455" y="1409189"/>
                        <a:pt x="2448" y="1404218"/>
                        <a:pt x="2161" y="1396748"/>
                      </a:cubicBezTo>
                      <a:cubicBezTo>
                        <a:pt x="-2013" y="1288208"/>
                        <a:pt x="-1266" y="1292275"/>
                        <a:pt x="14602" y="1228797"/>
                      </a:cubicBezTo>
                      <a:cubicBezTo>
                        <a:pt x="18826" y="1186557"/>
                        <a:pt x="21175" y="1157911"/>
                        <a:pt x="27043" y="1116830"/>
                      </a:cubicBezTo>
                      <a:cubicBezTo>
                        <a:pt x="28827" y="1104344"/>
                        <a:pt x="31596" y="1092009"/>
                        <a:pt x="33263" y="1079507"/>
                      </a:cubicBezTo>
                      <a:cubicBezTo>
                        <a:pt x="36122" y="1058064"/>
                        <a:pt x="36891" y="1022143"/>
                        <a:pt x="45704" y="998642"/>
                      </a:cubicBezTo>
                      <a:cubicBezTo>
                        <a:pt x="48960" y="989959"/>
                        <a:pt x="53998" y="982054"/>
                        <a:pt x="58145" y="973760"/>
                      </a:cubicBezTo>
                      <a:cubicBezTo>
                        <a:pt x="60218" y="965466"/>
                        <a:pt x="62016" y="957099"/>
                        <a:pt x="64365" y="948879"/>
                      </a:cubicBezTo>
                      <a:cubicBezTo>
                        <a:pt x="66166" y="942574"/>
                        <a:pt x="68996" y="936578"/>
                        <a:pt x="70586" y="930217"/>
                      </a:cubicBezTo>
                      <a:cubicBezTo>
                        <a:pt x="73150" y="919960"/>
                        <a:pt x="75068" y="909544"/>
                        <a:pt x="76806" y="899115"/>
                      </a:cubicBezTo>
                      <a:cubicBezTo>
                        <a:pt x="80615" y="876261"/>
                        <a:pt x="87944" y="809922"/>
                        <a:pt x="95468" y="793368"/>
                      </a:cubicBezTo>
                      <a:cubicBezTo>
                        <a:pt x="98181" y="787399"/>
                        <a:pt x="108102" y="789731"/>
                        <a:pt x="114129" y="787148"/>
                      </a:cubicBezTo>
                      <a:cubicBezTo>
                        <a:pt x="167930" y="764090"/>
                        <a:pt x="113910" y="783073"/>
                        <a:pt x="157672" y="768487"/>
                      </a:cubicBezTo>
                      <a:cubicBezTo>
                        <a:pt x="190847" y="770560"/>
                        <a:pt x="224326" y="769776"/>
                        <a:pt x="257198" y="774707"/>
                      </a:cubicBezTo>
                      <a:cubicBezTo>
                        <a:pt x="275935" y="777517"/>
                        <a:pt x="284710" y="792464"/>
                        <a:pt x="300741" y="799589"/>
                      </a:cubicBezTo>
                      <a:cubicBezTo>
                        <a:pt x="312724" y="804915"/>
                        <a:pt x="325204" y="809458"/>
                        <a:pt x="338063" y="812030"/>
                      </a:cubicBezTo>
                      <a:cubicBezTo>
                        <a:pt x="364842" y="817385"/>
                        <a:pt x="378648" y="820494"/>
                        <a:pt x="406488" y="824471"/>
                      </a:cubicBezTo>
                      <a:cubicBezTo>
                        <a:pt x="460035" y="832121"/>
                        <a:pt x="461613" y="828921"/>
                        <a:pt x="518455" y="843132"/>
                      </a:cubicBezTo>
                      <a:cubicBezTo>
                        <a:pt x="535043" y="847279"/>
                        <a:pt x="551998" y="850166"/>
                        <a:pt x="568219" y="855573"/>
                      </a:cubicBezTo>
                      <a:cubicBezTo>
                        <a:pt x="574439" y="857646"/>
                        <a:pt x="580519" y="860203"/>
                        <a:pt x="586880" y="861793"/>
                      </a:cubicBezTo>
                      <a:cubicBezTo>
                        <a:pt x="638213" y="874625"/>
                        <a:pt x="598145" y="861457"/>
                        <a:pt x="642863" y="874234"/>
                      </a:cubicBezTo>
                      <a:cubicBezTo>
                        <a:pt x="643573" y="874437"/>
                        <a:pt x="700213" y="894260"/>
                        <a:pt x="692627" y="886675"/>
                      </a:cubicBezTo>
                      <a:cubicBezTo>
                        <a:pt x="683353" y="877403"/>
                        <a:pt x="667033" y="880099"/>
                        <a:pt x="655304" y="874234"/>
                      </a:cubicBezTo>
                      <a:cubicBezTo>
                        <a:pt x="647010" y="870087"/>
                        <a:pt x="639220" y="864725"/>
                        <a:pt x="630423" y="861793"/>
                      </a:cubicBezTo>
                      <a:cubicBezTo>
                        <a:pt x="620393" y="858450"/>
                        <a:pt x="609578" y="858137"/>
                        <a:pt x="599321" y="855573"/>
                      </a:cubicBezTo>
                      <a:cubicBezTo>
                        <a:pt x="592960" y="853983"/>
                        <a:pt x="587089" y="850638"/>
                        <a:pt x="580659" y="849352"/>
                      </a:cubicBezTo>
                      <a:cubicBezTo>
                        <a:pt x="566282" y="846477"/>
                        <a:pt x="551493" y="846007"/>
                        <a:pt x="537116" y="843132"/>
                      </a:cubicBezTo>
                      <a:cubicBezTo>
                        <a:pt x="520350" y="839779"/>
                        <a:pt x="503941" y="834838"/>
                        <a:pt x="487353" y="830691"/>
                      </a:cubicBezTo>
                      <a:lnTo>
                        <a:pt x="462472" y="824471"/>
                      </a:lnTo>
                      <a:cubicBezTo>
                        <a:pt x="454178" y="822397"/>
                        <a:pt x="446023" y="819655"/>
                        <a:pt x="437590" y="818250"/>
                      </a:cubicBezTo>
                      <a:cubicBezTo>
                        <a:pt x="420940" y="815475"/>
                        <a:pt x="386563" y="810158"/>
                        <a:pt x="369165" y="805809"/>
                      </a:cubicBezTo>
                      <a:cubicBezTo>
                        <a:pt x="362804" y="804219"/>
                        <a:pt x="356830" y="801314"/>
                        <a:pt x="350504" y="799589"/>
                      </a:cubicBezTo>
                      <a:cubicBezTo>
                        <a:pt x="273334" y="778543"/>
                        <a:pt x="325033" y="795245"/>
                        <a:pt x="282080" y="780928"/>
                      </a:cubicBezTo>
                      <a:cubicBezTo>
                        <a:pt x="284153" y="766414"/>
                        <a:pt x="277168" y="746927"/>
                        <a:pt x="288300" y="737385"/>
                      </a:cubicBezTo>
                      <a:cubicBezTo>
                        <a:pt x="297876" y="729177"/>
                        <a:pt x="313121" y="741938"/>
                        <a:pt x="325623" y="743605"/>
                      </a:cubicBezTo>
                      <a:cubicBezTo>
                        <a:pt x="344234" y="746087"/>
                        <a:pt x="362945" y="747752"/>
                        <a:pt x="381606" y="749826"/>
                      </a:cubicBezTo>
                      <a:cubicBezTo>
                        <a:pt x="433391" y="762771"/>
                        <a:pt x="382191" y="747008"/>
                        <a:pt x="425149" y="768487"/>
                      </a:cubicBezTo>
                      <a:cubicBezTo>
                        <a:pt x="437898" y="774861"/>
                        <a:pt x="463087" y="778563"/>
                        <a:pt x="474912" y="780928"/>
                      </a:cubicBezTo>
                      <a:cubicBezTo>
                        <a:pt x="489426" y="778854"/>
                        <a:pt x="505057" y="780662"/>
                        <a:pt x="518455" y="774707"/>
                      </a:cubicBezTo>
                      <a:cubicBezTo>
                        <a:pt x="544293" y="763223"/>
                        <a:pt x="522807" y="723382"/>
                        <a:pt x="518455" y="712503"/>
                      </a:cubicBezTo>
                      <a:cubicBezTo>
                        <a:pt x="515678" y="705562"/>
                        <a:pt x="500727" y="699128"/>
                        <a:pt x="506014" y="693842"/>
                      </a:cubicBezTo>
                      <a:cubicBezTo>
                        <a:pt x="511301" y="688556"/>
                        <a:pt x="518455" y="702136"/>
                        <a:pt x="524676" y="706283"/>
                      </a:cubicBezTo>
                      <a:cubicBezTo>
                        <a:pt x="526749" y="718724"/>
                        <a:pt x="527837" y="731369"/>
                        <a:pt x="530896" y="743605"/>
                      </a:cubicBezTo>
                      <a:cubicBezTo>
                        <a:pt x="534077" y="756327"/>
                        <a:pt x="540157" y="768206"/>
                        <a:pt x="543337" y="780928"/>
                      </a:cubicBezTo>
                      <a:lnTo>
                        <a:pt x="549557" y="805809"/>
                      </a:lnTo>
                      <a:cubicBezTo>
                        <a:pt x="547484" y="814103"/>
                        <a:pt x="550176" y="825561"/>
                        <a:pt x="543337" y="830691"/>
                      </a:cubicBezTo>
                      <a:cubicBezTo>
                        <a:pt x="538092" y="834625"/>
                        <a:pt x="530980" y="826272"/>
                        <a:pt x="524676" y="824471"/>
                      </a:cubicBezTo>
                      <a:cubicBezTo>
                        <a:pt x="516456" y="822122"/>
                        <a:pt x="508088" y="820324"/>
                        <a:pt x="499794" y="818250"/>
                      </a:cubicBezTo>
                      <a:cubicBezTo>
                        <a:pt x="487353" y="809956"/>
                        <a:pt x="475542" y="800629"/>
                        <a:pt x="462472" y="793368"/>
                      </a:cubicBezTo>
                      <a:cubicBezTo>
                        <a:pt x="456740" y="790184"/>
                        <a:pt x="450331" y="787834"/>
                        <a:pt x="443810" y="787148"/>
                      </a:cubicBezTo>
                      <a:cubicBezTo>
                        <a:pt x="410753" y="783669"/>
                        <a:pt x="377459" y="783001"/>
                        <a:pt x="344284" y="780928"/>
                      </a:cubicBezTo>
                      <a:cubicBezTo>
                        <a:pt x="317441" y="760795"/>
                        <a:pt x="319158" y="767878"/>
                        <a:pt x="306961" y="737385"/>
                      </a:cubicBezTo>
                      <a:cubicBezTo>
                        <a:pt x="302091" y="725209"/>
                        <a:pt x="294521" y="700062"/>
                        <a:pt x="294521" y="700062"/>
                      </a:cubicBezTo>
                      <a:cubicBezTo>
                        <a:pt x="296594" y="681401"/>
                        <a:pt x="294325" y="661724"/>
                        <a:pt x="300741" y="644079"/>
                      </a:cubicBezTo>
                      <a:cubicBezTo>
                        <a:pt x="303296" y="637053"/>
                        <a:pt x="312715" y="634981"/>
                        <a:pt x="319402" y="631638"/>
                      </a:cubicBezTo>
                      <a:cubicBezTo>
                        <a:pt x="335546" y="623566"/>
                        <a:pt x="359453" y="622383"/>
                        <a:pt x="375386" y="619197"/>
                      </a:cubicBezTo>
                      <a:cubicBezTo>
                        <a:pt x="383769" y="617520"/>
                        <a:pt x="391974" y="615050"/>
                        <a:pt x="400268" y="612977"/>
                      </a:cubicBezTo>
                      <a:cubicBezTo>
                        <a:pt x="367092" y="610903"/>
                        <a:pt x="333190" y="613967"/>
                        <a:pt x="300741" y="606756"/>
                      </a:cubicBezTo>
                      <a:cubicBezTo>
                        <a:pt x="293443" y="605134"/>
                        <a:pt x="291336" y="594927"/>
                        <a:pt x="288300" y="588095"/>
                      </a:cubicBezTo>
                      <a:cubicBezTo>
                        <a:pt x="282974" y="576112"/>
                        <a:pt x="275859" y="550773"/>
                        <a:pt x="275859" y="550773"/>
                      </a:cubicBezTo>
                      <a:cubicBezTo>
                        <a:pt x="277933" y="525891"/>
                        <a:pt x="278983" y="500903"/>
                        <a:pt x="282080" y="476128"/>
                      </a:cubicBezTo>
                      <a:cubicBezTo>
                        <a:pt x="284242" y="458831"/>
                        <a:pt x="289928" y="448660"/>
                        <a:pt x="294521" y="432585"/>
                      </a:cubicBezTo>
                      <a:cubicBezTo>
                        <a:pt x="300802" y="410602"/>
                        <a:pt x="311597" y="358177"/>
                        <a:pt x="313182" y="345499"/>
                      </a:cubicBezTo>
                      <a:cubicBezTo>
                        <a:pt x="315255" y="328911"/>
                        <a:pt x="317652" y="312361"/>
                        <a:pt x="319402" y="295736"/>
                      </a:cubicBezTo>
                      <a:cubicBezTo>
                        <a:pt x="321800" y="272959"/>
                        <a:pt x="322947" y="250057"/>
                        <a:pt x="325623" y="227311"/>
                      </a:cubicBezTo>
                      <a:cubicBezTo>
                        <a:pt x="327097" y="214785"/>
                        <a:pt x="329925" y="202455"/>
                        <a:pt x="331843" y="189989"/>
                      </a:cubicBezTo>
                      <a:cubicBezTo>
                        <a:pt x="339655" y="139210"/>
                        <a:pt x="337125" y="150377"/>
                        <a:pt x="344284" y="96683"/>
                      </a:cubicBezTo>
                      <a:cubicBezTo>
                        <a:pt x="346222" y="82150"/>
                        <a:pt x="348566" y="67673"/>
                        <a:pt x="350504" y="53140"/>
                      </a:cubicBezTo>
                      <a:cubicBezTo>
                        <a:pt x="352713" y="36570"/>
                        <a:pt x="356725" y="-13340"/>
                        <a:pt x="356725" y="3377"/>
                      </a:cubicBezTo>
                      <a:cubicBezTo>
                        <a:pt x="356725" y="22153"/>
                        <a:pt x="352063" y="40649"/>
                        <a:pt x="350504" y="59360"/>
                      </a:cubicBezTo>
                      <a:cubicBezTo>
                        <a:pt x="340613" y="178055"/>
                        <a:pt x="351404" y="117067"/>
                        <a:pt x="338063" y="183768"/>
                      </a:cubicBezTo>
                      <a:cubicBezTo>
                        <a:pt x="335990" y="214870"/>
                        <a:pt x="335875" y="246165"/>
                        <a:pt x="331843" y="277075"/>
                      </a:cubicBezTo>
                      <a:cubicBezTo>
                        <a:pt x="329632" y="294030"/>
                        <a:pt x="319402" y="326838"/>
                        <a:pt x="319402" y="326838"/>
                      </a:cubicBezTo>
                      <a:cubicBezTo>
                        <a:pt x="317329" y="343426"/>
                        <a:pt x="316685" y="360255"/>
                        <a:pt x="313182" y="376601"/>
                      </a:cubicBezTo>
                      <a:cubicBezTo>
                        <a:pt x="310434" y="389424"/>
                        <a:pt x="303313" y="401065"/>
                        <a:pt x="300741" y="413924"/>
                      </a:cubicBezTo>
                      <a:cubicBezTo>
                        <a:pt x="293235" y="451456"/>
                        <a:pt x="297865" y="434996"/>
                        <a:pt x="288300" y="463687"/>
                      </a:cubicBezTo>
                      <a:cubicBezTo>
                        <a:pt x="283905" y="503245"/>
                        <a:pt x="271518" y="572251"/>
                        <a:pt x="294521" y="606756"/>
                      </a:cubicBezTo>
                      <a:cubicBezTo>
                        <a:pt x="303794" y="620665"/>
                        <a:pt x="327696" y="610903"/>
                        <a:pt x="344284" y="612977"/>
                      </a:cubicBezTo>
                      <a:cubicBezTo>
                        <a:pt x="408561" y="610903"/>
                        <a:pt x="472916" y="610533"/>
                        <a:pt x="537116" y="606756"/>
                      </a:cubicBezTo>
                      <a:cubicBezTo>
                        <a:pt x="543662" y="606371"/>
                        <a:pt x="549913" y="603468"/>
                        <a:pt x="555778" y="600536"/>
                      </a:cubicBezTo>
                      <a:cubicBezTo>
                        <a:pt x="562465" y="597193"/>
                        <a:pt x="568219" y="592242"/>
                        <a:pt x="574439" y="588095"/>
                      </a:cubicBezTo>
                      <a:cubicBezTo>
                        <a:pt x="576512" y="577728"/>
                        <a:pt x="576947" y="566892"/>
                        <a:pt x="580659" y="556993"/>
                      </a:cubicBezTo>
                      <a:cubicBezTo>
                        <a:pt x="583284" y="549993"/>
                        <a:pt x="589757" y="545019"/>
                        <a:pt x="593100" y="538332"/>
                      </a:cubicBezTo>
                      <a:cubicBezTo>
                        <a:pt x="596032" y="532467"/>
                        <a:pt x="597247" y="525891"/>
                        <a:pt x="599321" y="519671"/>
                      </a:cubicBezTo>
                      <a:cubicBezTo>
                        <a:pt x="597247" y="370381"/>
                        <a:pt x="593100" y="221105"/>
                        <a:pt x="593100" y="71801"/>
                      </a:cubicBezTo>
                      <a:cubicBezTo>
                        <a:pt x="593100" y="36491"/>
                        <a:pt x="590030" y="143482"/>
                        <a:pt x="599321" y="177548"/>
                      </a:cubicBezTo>
                      <a:cubicBezTo>
                        <a:pt x="603179" y="191693"/>
                        <a:pt x="620056" y="198283"/>
                        <a:pt x="630423" y="208650"/>
                      </a:cubicBezTo>
                      <a:cubicBezTo>
                        <a:pt x="657378" y="196209"/>
                        <a:pt x="684735" y="184605"/>
                        <a:pt x="711288" y="171328"/>
                      </a:cubicBezTo>
                      <a:cubicBezTo>
                        <a:pt x="717975" y="167985"/>
                        <a:pt x="729949" y="166363"/>
                        <a:pt x="729949" y="158887"/>
                      </a:cubicBezTo>
                      <a:cubicBezTo>
                        <a:pt x="729949" y="152330"/>
                        <a:pt x="717508" y="154740"/>
                        <a:pt x="711288" y="152666"/>
                      </a:cubicBezTo>
                      <a:cubicBezTo>
                        <a:pt x="690352" y="159645"/>
                        <a:pt x="689268" y="159030"/>
                        <a:pt x="667745" y="171328"/>
                      </a:cubicBezTo>
                      <a:cubicBezTo>
                        <a:pt x="661254" y="175037"/>
                        <a:pt x="655955" y="180823"/>
                        <a:pt x="649084" y="183768"/>
                      </a:cubicBezTo>
                      <a:cubicBezTo>
                        <a:pt x="641226" y="187136"/>
                        <a:pt x="632422" y="187640"/>
                        <a:pt x="624202" y="189989"/>
                      </a:cubicBezTo>
                      <a:cubicBezTo>
                        <a:pt x="617898" y="191790"/>
                        <a:pt x="611761" y="194136"/>
                        <a:pt x="605541" y="196209"/>
                      </a:cubicBezTo>
                      <a:cubicBezTo>
                        <a:pt x="607614" y="185842"/>
                        <a:pt x="608979" y="175307"/>
                        <a:pt x="611761" y="165107"/>
                      </a:cubicBezTo>
                      <a:cubicBezTo>
                        <a:pt x="618410" y="140728"/>
                        <a:pt x="624507" y="124141"/>
                        <a:pt x="636643" y="102903"/>
                      </a:cubicBezTo>
                      <a:cubicBezTo>
                        <a:pt x="640352" y="96412"/>
                        <a:pt x="644937" y="90462"/>
                        <a:pt x="649084" y="84242"/>
                      </a:cubicBezTo>
                      <a:cubicBezTo>
                        <a:pt x="664718" y="37338"/>
                        <a:pt x="643629" y="95153"/>
                        <a:pt x="667745" y="46919"/>
                      </a:cubicBezTo>
                      <a:cubicBezTo>
                        <a:pt x="678059" y="26291"/>
                        <a:pt x="666321" y="28258"/>
                        <a:pt x="680186" y="2825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custGeom>
                  <a:avLst/>
                  <a:gdLst>
                    <a:gd name="textAreaLeft" fmla="*/ 0 w 548280"/>
                    <a:gd name="textAreaRight" fmla="*/ 548640 w 54828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1393373" h="1356049">
                      <a:moveTo>
                        <a:pt x="0" y="1262743"/>
                      </a:moveTo>
                      <a:cubicBezTo>
                        <a:pt x="2073" y="1107233"/>
                        <a:pt x="2604" y="951694"/>
                        <a:pt x="6220" y="796212"/>
                      </a:cubicBezTo>
                      <a:cubicBezTo>
                        <a:pt x="6840" y="769538"/>
                        <a:pt x="13638" y="714384"/>
                        <a:pt x="18661" y="684245"/>
                      </a:cubicBezTo>
                      <a:cubicBezTo>
                        <a:pt x="20399" y="673816"/>
                        <a:pt x="23144" y="663572"/>
                        <a:pt x="24882" y="653143"/>
                      </a:cubicBezTo>
                      <a:cubicBezTo>
                        <a:pt x="27292" y="638681"/>
                        <a:pt x="28479" y="624025"/>
                        <a:pt x="31102" y="609600"/>
                      </a:cubicBezTo>
                      <a:cubicBezTo>
                        <a:pt x="32631" y="601189"/>
                        <a:pt x="35645" y="593102"/>
                        <a:pt x="37322" y="584719"/>
                      </a:cubicBezTo>
                      <a:cubicBezTo>
                        <a:pt x="71549" y="413587"/>
                        <a:pt x="25556" y="625561"/>
                        <a:pt x="49763" y="528735"/>
                      </a:cubicBezTo>
                      <a:cubicBezTo>
                        <a:pt x="52327" y="518478"/>
                        <a:pt x="52272" y="507532"/>
                        <a:pt x="55984" y="497633"/>
                      </a:cubicBezTo>
                      <a:cubicBezTo>
                        <a:pt x="58609" y="490633"/>
                        <a:pt x="64278" y="485192"/>
                        <a:pt x="68425" y="478972"/>
                      </a:cubicBezTo>
                      <a:cubicBezTo>
                        <a:pt x="81370" y="427187"/>
                        <a:pt x="65607" y="478387"/>
                        <a:pt x="87086" y="435429"/>
                      </a:cubicBezTo>
                      <a:cubicBezTo>
                        <a:pt x="97205" y="415191"/>
                        <a:pt x="87919" y="415935"/>
                        <a:pt x="105747" y="398106"/>
                      </a:cubicBezTo>
                      <a:cubicBezTo>
                        <a:pt x="111033" y="392820"/>
                        <a:pt x="119122" y="390951"/>
                        <a:pt x="124408" y="385665"/>
                      </a:cubicBezTo>
                      <a:cubicBezTo>
                        <a:pt x="131739" y="378334"/>
                        <a:pt x="137124" y="369277"/>
                        <a:pt x="143069" y="360784"/>
                      </a:cubicBezTo>
                      <a:cubicBezTo>
                        <a:pt x="151644" y="348535"/>
                        <a:pt x="157378" y="334034"/>
                        <a:pt x="167951" y="323461"/>
                      </a:cubicBezTo>
                      <a:cubicBezTo>
                        <a:pt x="174171" y="317241"/>
                        <a:pt x="181211" y="311744"/>
                        <a:pt x="186612" y="304800"/>
                      </a:cubicBezTo>
                      <a:cubicBezTo>
                        <a:pt x="195792" y="292998"/>
                        <a:pt x="211494" y="267478"/>
                        <a:pt x="211494" y="267478"/>
                      </a:cubicBezTo>
                      <a:cubicBezTo>
                        <a:pt x="222897" y="233267"/>
                        <a:pt x="210863" y="263916"/>
                        <a:pt x="230155" y="230155"/>
                      </a:cubicBezTo>
                      <a:cubicBezTo>
                        <a:pt x="261724" y="174910"/>
                        <a:pt x="224726" y="232080"/>
                        <a:pt x="255037" y="186612"/>
                      </a:cubicBezTo>
                      <a:cubicBezTo>
                        <a:pt x="266932" y="150924"/>
                        <a:pt x="252738" y="184235"/>
                        <a:pt x="279918" y="149290"/>
                      </a:cubicBezTo>
                      <a:cubicBezTo>
                        <a:pt x="289098" y="137488"/>
                        <a:pt x="292359" y="120262"/>
                        <a:pt x="304800" y="111968"/>
                      </a:cubicBezTo>
                      <a:cubicBezTo>
                        <a:pt x="317241" y="103674"/>
                        <a:pt x="327937" y="91814"/>
                        <a:pt x="342122" y="87086"/>
                      </a:cubicBezTo>
                      <a:cubicBezTo>
                        <a:pt x="348343" y="85012"/>
                        <a:pt x="354919" y="83797"/>
                        <a:pt x="360784" y="80865"/>
                      </a:cubicBezTo>
                      <a:cubicBezTo>
                        <a:pt x="367471" y="77522"/>
                        <a:pt x="372758" y="71768"/>
                        <a:pt x="379445" y="68425"/>
                      </a:cubicBezTo>
                      <a:cubicBezTo>
                        <a:pt x="389904" y="63195"/>
                        <a:pt x="413013" y="58976"/>
                        <a:pt x="422988" y="55984"/>
                      </a:cubicBezTo>
                      <a:cubicBezTo>
                        <a:pt x="435549" y="52216"/>
                        <a:pt x="447588" y="46723"/>
                        <a:pt x="460310" y="43543"/>
                      </a:cubicBezTo>
                      <a:cubicBezTo>
                        <a:pt x="468604" y="41470"/>
                        <a:pt x="477003" y="39780"/>
                        <a:pt x="485192" y="37323"/>
                      </a:cubicBezTo>
                      <a:cubicBezTo>
                        <a:pt x="497753" y="33555"/>
                        <a:pt x="510073" y="29029"/>
                        <a:pt x="522514" y="24882"/>
                      </a:cubicBezTo>
                      <a:cubicBezTo>
                        <a:pt x="528735" y="22808"/>
                        <a:pt x="534746" y="19947"/>
                        <a:pt x="541176" y="18661"/>
                      </a:cubicBezTo>
                      <a:cubicBezTo>
                        <a:pt x="612504" y="4396"/>
                        <a:pt x="524102" y="21289"/>
                        <a:pt x="622041" y="6221"/>
                      </a:cubicBezTo>
                      <a:cubicBezTo>
                        <a:pt x="632491" y="4613"/>
                        <a:pt x="642776" y="2074"/>
                        <a:pt x="653143" y="0"/>
                      </a:cubicBezTo>
                      <a:cubicBezTo>
                        <a:pt x="688392" y="2074"/>
                        <a:pt x="723877" y="1654"/>
                        <a:pt x="758890" y="6221"/>
                      </a:cubicBezTo>
                      <a:cubicBezTo>
                        <a:pt x="771893" y="7917"/>
                        <a:pt x="796212" y="18661"/>
                        <a:pt x="796212" y="18661"/>
                      </a:cubicBezTo>
                      <a:cubicBezTo>
                        <a:pt x="808653" y="26955"/>
                        <a:pt x="822962" y="32970"/>
                        <a:pt x="833535" y="43543"/>
                      </a:cubicBezTo>
                      <a:cubicBezTo>
                        <a:pt x="876144" y="86152"/>
                        <a:pt x="861098" y="66226"/>
                        <a:pt x="883298" y="99527"/>
                      </a:cubicBezTo>
                      <a:cubicBezTo>
                        <a:pt x="885371" y="105747"/>
                        <a:pt x="886586" y="112323"/>
                        <a:pt x="889518" y="118188"/>
                      </a:cubicBezTo>
                      <a:cubicBezTo>
                        <a:pt x="892861" y="124875"/>
                        <a:pt x="898923" y="130017"/>
                        <a:pt x="901959" y="136849"/>
                      </a:cubicBezTo>
                      <a:cubicBezTo>
                        <a:pt x="931569" y="203471"/>
                        <a:pt x="898685" y="150601"/>
                        <a:pt x="926841" y="192833"/>
                      </a:cubicBezTo>
                      <a:cubicBezTo>
                        <a:pt x="928914" y="199053"/>
                        <a:pt x="930478" y="205467"/>
                        <a:pt x="933061" y="211494"/>
                      </a:cubicBezTo>
                      <a:cubicBezTo>
                        <a:pt x="942532" y="233592"/>
                        <a:pt x="945448" y="236296"/>
                        <a:pt x="957943" y="255037"/>
                      </a:cubicBezTo>
                      <a:lnTo>
                        <a:pt x="970384" y="292359"/>
                      </a:lnTo>
                      <a:cubicBezTo>
                        <a:pt x="972458" y="298580"/>
                        <a:pt x="973230" y="305398"/>
                        <a:pt x="976604" y="311021"/>
                      </a:cubicBezTo>
                      <a:cubicBezTo>
                        <a:pt x="982824" y="321388"/>
                        <a:pt x="988857" y="331871"/>
                        <a:pt x="995265" y="342123"/>
                      </a:cubicBezTo>
                      <a:cubicBezTo>
                        <a:pt x="999227" y="348463"/>
                        <a:pt x="1004363" y="354097"/>
                        <a:pt x="1007706" y="360784"/>
                      </a:cubicBezTo>
                      <a:cubicBezTo>
                        <a:pt x="1010638" y="366649"/>
                        <a:pt x="1010743" y="373713"/>
                        <a:pt x="1013927" y="379445"/>
                      </a:cubicBezTo>
                      <a:cubicBezTo>
                        <a:pt x="1013937" y="379462"/>
                        <a:pt x="1045023" y="426090"/>
                        <a:pt x="1051249" y="435429"/>
                      </a:cubicBezTo>
                      <a:lnTo>
                        <a:pt x="1076131" y="472751"/>
                      </a:lnTo>
                      <a:cubicBezTo>
                        <a:pt x="1080278" y="478971"/>
                        <a:pt x="1083285" y="486126"/>
                        <a:pt x="1088571" y="491412"/>
                      </a:cubicBezTo>
                      <a:lnTo>
                        <a:pt x="1107233" y="510074"/>
                      </a:lnTo>
                      <a:cubicBezTo>
                        <a:pt x="1109306" y="516294"/>
                        <a:pt x="1110521" y="522870"/>
                        <a:pt x="1113453" y="528735"/>
                      </a:cubicBezTo>
                      <a:cubicBezTo>
                        <a:pt x="1137570" y="576968"/>
                        <a:pt x="1116480" y="519152"/>
                        <a:pt x="1132114" y="566057"/>
                      </a:cubicBezTo>
                      <a:cubicBezTo>
                        <a:pt x="1136794" y="683039"/>
                        <a:pt x="1128562" y="680702"/>
                        <a:pt x="1144555" y="752670"/>
                      </a:cubicBezTo>
                      <a:cubicBezTo>
                        <a:pt x="1146410" y="761015"/>
                        <a:pt x="1147774" y="769546"/>
                        <a:pt x="1150776" y="777551"/>
                      </a:cubicBezTo>
                      <a:cubicBezTo>
                        <a:pt x="1154032" y="786233"/>
                        <a:pt x="1159069" y="794139"/>
                        <a:pt x="1163216" y="802433"/>
                      </a:cubicBezTo>
                      <a:cubicBezTo>
                        <a:pt x="1165290" y="812800"/>
                        <a:pt x="1166655" y="823335"/>
                        <a:pt x="1169437" y="833535"/>
                      </a:cubicBezTo>
                      <a:cubicBezTo>
                        <a:pt x="1172888" y="846187"/>
                        <a:pt x="1177731" y="858416"/>
                        <a:pt x="1181878" y="870857"/>
                      </a:cubicBezTo>
                      <a:cubicBezTo>
                        <a:pt x="1183952" y="877078"/>
                        <a:pt x="1186508" y="883158"/>
                        <a:pt x="1188098" y="889519"/>
                      </a:cubicBezTo>
                      <a:cubicBezTo>
                        <a:pt x="1207546" y="967315"/>
                        <a:pt x="1182688" y="870584"/>
                        <a:pt x="1200539" y="933061"/>
                      </a:cubicBezTo>
                      <a:cubicBezTo>
                        <a:pt x="1206988" y="955631"/>
                        <a:pt x="1210471" y="979663"/>
                        <a:pt x="1219200" y="1001486"/>
                      </a:cubicBezTo>
                      <a:cubicBezTo>
                        <a:pt x="1221977" y="1008427"/>
                        <a:pt x="1227494" y="1013927"/>
                        <a:pt x="1231641" y="1020147"/>
                      </a:cubicBezTo>
                      <a:cubicBezTo>
                        <a:pt x="1233714" y="1026367"/>
                        <a:pt x="1234677" y="1033076"/>
                        <a:pt x="1237861" y="1038808"/>
                      </a:cubicBezTo>
                      <a:cubicBezTo>
                        <a:pt x="1245122" y="1051879"/>
                        <a:pt x="1262743" y="1076131"/>
                        <a:pt x="1262743" y="1076131"/>
                      </a:cubicBezTo>
                      <a:cubicBezTo>
                        <a:pt x="1271644" y="1102835"/>
                        <a:pt x="1273896" y="1115453"/>
                        <a:pt x="1287625" y="1138335"/>
                      </a:cubicBezTo>
                      <a:cubicBezTo>
                        <a:pt x="1295318" y="1151156"/>
                        <a:pt x="1304212" y="1163216"/>
                        <a:pt x="1312506" y="1175657"/>
                      </a:cubicBezTo>
                      <a:lnTo>
                        <a:pt x="1324947" y="1194319"/>
                      </a:lnTo>
                      <a:cubicBezTo>
                        <a:pt x="1340579" y="1241217"/>
                        <a:pt x="1319494" y="1183416"/>
                        <a:pt x="1343608" y="1231641"/>
                      </a:cubicBezTo>
                      <a:cubicBezTo>
                        <a:pt x="1346540" y="1237506"/>
                        <a:pt x="1346897" y="1244437"/>
                        <a:pt x="1349829" y="1250302"/>
                      </a:cubicBezTo>
                      <a:cubicBezTo>
                        <a:pt x="1353172" y="1256989"/>
                        <a:pt x="1359233" y="1262132"/>
                        <a:pt x="1362269" y="1268963"/>
                      </a:cubicBezTo>
                      <a:cubicBezTo>
                        <a:pt x="1367595" y="1280947"/>
                        <a:pt x="1370563" y="1293845"/>
                        <a:pt x="1374710" y="1306286"/>
                      </a:cubicBezTo>
                      <a:cubicBezTo>
                        <a:pt x="1384276" y="1334982"/>
                        <a:pt x="1379644" y="1318509"/>
                        <a:pt x="1387151" y="1356049"/>
                      </a:cubicBezTo>
                      <a:cubicBezTo>
                        <a:pt x="1389224" y="1349829"/>
                        <a:pt x="1393371" y="1343945"/>
                        <a:pt x="1393371" y="1337388"/>
                      </a:cubicBezTo>
                      <a:cubicBezTo>
                        <a:pt x="1393371" y="1252271"/>
                        <a:pt x="1394024" y="1264703"/>
                        <a:pt x="1374710" y="1206759"/>
                      </a:cubicBezTo>
                      <a:cubicBezTo>
                        <a:pt x="1372637" y="1200539"/>
                        <a:pt x="1373946" y="1191735"/>
                        <a:pt x="1368490" y="1188098"/>
                      </a:cubicBezTo>
                      <a:lnTo>
                        <a:pt x="1349829" y="1175657"/>
                      </a:lnTo>
                      <a:cubicBezTo>
                        <a:pt x="1305367" y="1108966"/>
                        <a:pt x="1374611" y="1210186"/>
                        <a:pt x="1318727" y="1138335"/>
                      </a:cubicBezTo>
                      <a:cubicBezTo>
                        <a:pt x="1309547" y="1126532"/>
                        <a:pt x="1302816" y="1112974"/>
                        <a:pt x="1293845" y="1101012"/>
                      </a:cubicBezTo>
                      <a:cubicBezTo>
                        <a:pt x="1289619" y="1095378"/>
                        <a:pt x="1267291" y="1066565"/>
                        <a:pt x="1262743" y="1057470"/>
                      </a:cubicBezTo>
                      <a:cubicBezTo>
                        <a:pt x="1259810" y="1051605"/>
                        <a:pt x="1259454" y="1044673"/>
                        <a:pt x="1256522" y="1038808"/>
                      </a:cubicBezTo>
                      <a:cubicBezTo>
                        <a:pt x="1253179" y="1032121"/>
                        <a:pt x="1247425" y="1026834"/>
                        <a:pt x="1244082" y="1020147"/>
                      </a:cubicBezTo>
                      <a:cubicBezTo>
                        <a:pt x="1231968" y="995919"/>
                        <a:pt x="1243610" y="1004531"/>
                        <a:pt x="1231641" y="976604"/>
                      </a:cubicBezTo>
                      <a:cubicBezTo>
                        <a:pt x="1228696" y="969732"/>
                        <a:pt x="1223347" y="964163"/>
                        <a:pt x="1219200" y="957943"/>
                      </a:cubicBezTo>
                      <a:cubicBezTo>
                        <a:pt x="1206256" y="906163"/>
                        <a:pt x="1222017" y="957353"/>
                        <a:pt x="1200539" y="914400"/>
                      </a:cubicBezTo>
                      <a:cubicBezTo>
                        <a:pt x="1197607" y="908535"/>
                        <a:pt x="1197250" y="901604"/>
                        <a:pt x="1194318" y="895739"/>
                      </a:cubicBezTo>
                      <a:cubicBezTo>
                        <a:pt x="1190975" y="889052"/>
                        <a:pt x="1184914" y="883909"/>
                        <a:pt x="1181878" y="877078"/>
                      </a:cubicBezTo>
                      <a:cubicBezTo>
                        <a:pt x="1176552" y="865094"/>
                        <a:pt x="1173584" y="852196"/>
                        <a:pt x="1169437" y="839755"/>
                      </a:cubicBezTo>
                      <a:lnTo>
                        <a:pt x="1156996" y="802433"/>
                      </a:lnTo>
                      <a:cubicBezTo>
                        <a:pt x="1154923" y="796213"/>
                        <a:pt x="1152062" y="790201"/>
                        <a:pt x="1150776" y="783772"/>
                      </a:cubicBezTo>
                      <a:cubicBezTo>
                        <a:pt x="1148702" y="773405"/>
                        <a:pt x="1147119" y="762927"/>
                        <a:pt x="1144555" y="752670"/>
                      </a:cubicBezTo>
                      <a:cubicBezTo>
                        <a:pt x="1142965" y="746309"/>
                        <a:pt x="1139757" y="740409"/>
                        <a:pt x="1138335" y="734008"/>
                      </a:cubicBezTo>
                      <a:cubicBezTo>
                        <a:pt x="1135599" y="721696"/>
                        <a:pt x="1134588" y="709053"/>
                        <a:pt x="1132114" y="696686"/>
                      </a:cubicBezTo>
                      <a:cubicBezTo>
                        <a:pt x="1130437" y="688303"/>
                        <a:pt x="1127423" y="680215"/>
                        <a:pt x="1125894" y="671804"/>
                      </a:cubicBezTo>
                      <a:cubicBezTo>
                        <a:pt x="1123271" y="657379"/>
                        <a:pt x="1122296" y="642686"/>
                        <a:pt x="1119673" y="628261"/>
                      </a:cubicBezTo>
                      <a:cubicBezTo>
                        <a:pt x="1118144" y="619850"/>
                        <a:pt x="1115129" y="611763"/>
                        <a:pt x="1113453" y="603380"/>
                      </a:cubicBezTo>
                      <a:cubicBezTo>
                        <a:pt x="1110980" y="591012"/>
                        <a:pt x="1110552" y="578225"/>
                        <a:pt x="1107233" y="566057"/>
                      </a:cubicBezTo>
                      <a:cubicBezTo>
                        <a:pt x="1104295" y="555284"/>
                        <a:pt x="1098323" y="545548"/>
                        <a:pt x="1094792" y="534955"/>
                      </a:cubicBezTo>
                      <a:cubicBezTo>
                        <a:pt x="1092088" y="526845"/>
                        <a:pt x="1091028" y="518262"/>
                        <a:pt x="1088571" y="510074"/>
                      </a:cubicBezTo>
                      <a:cubicBezTo>
                        <a:pt x="1084803" y="497513"/>
                        <a:pt x="1079312" y="485473"/>
                        <a:pt x="1076131" y="472751"/>
                      </a:cubicBezTo>
                      <a:cubicBezTo>
                        <a:pt x="1074057" y="464457"/>
                        <a:pt x="1073198" y="455761"/>
                        <a:pt x="1069910" y="447870"/>
                      </a:cubicBezTo>
                      <a:cubicBezTo>
                        <a:pt x="1062777" y="430751"/>
                        <a:pt x="1050894" y="415700"/>
                        <a:pt x="1045029" y="398106"/>
                      </a:cubicBezTo>
                      <a:cubicBezTo>
                        <a:pt x="1040882" y="385665"/>
                        <a:pt x="1039862" y="371695"/>
                        <a:pt x="1032588" y="360784"/>
                      </a:cubicBezTo>
                      <a:lnTo>
                        <a:pt x="1007706" y="323461"/>
                      </a:lnTo>
                      <a:cubicBezTo>
                        <a:pt x="992072" y="276556"/>
                        <a:pt x="1013162" y="334372"/>
                        <a:pt x="989045" y="286139"/>
                      </a:cubicBezTo>
                      <a:cubicBezTo>
                        <a:pt x="986113" y="280274"/>
                        <a:pt x="985757" y="273343"/>
                        <a:pt x="982825" y="267478"/>
                      </a:cubicBezTo>
                      <a:cubicBezTo>
                        <a:pt x="979482" y="260791"/>
                        <a:pt x="973727" y="255504"/>
                        <a:pt x="970384" y="248817"/>
                      </a:cubicBezTo>
                      <a:cubicBezTo>
                        <a:pt x="967451" y="242952"/>
                        <a:pt x="967347" y="235887"/>
                        <a:pt x="964163" y="230155"/>
                      </a:cubicBezTo>
                      <a:cubicBezTo>
                        <a:pt x="964156" y="230142"/>
                        <a:pt x="933066" y="183509"/>
                        <a:pt x="926841" y="174172"/>
                      </a:cubicBezTo>
                      <a:lnTo>
                        <a:pt x="901959" y="136849"/>
                      </a:lnTo>
                      <a:cubicBezTo>
                        <a:pt x="897812" y="130629"/>
                        <a:pt x="895738" y="122335"/>
                        <a:pt x="889518" y="118188"/>
                      </a:cubicBezTo>
                      <a:lnTo>
                        <a:pt x="870857" y="105747"/>
                      </a:lnTo>
                      <a:cubicBezTo>
                        <a:pt x="843033" y="64013"/>
                        <a:pt x="875810" y="104902"/>
                        <a:pt x="839755" y="80865"/>
                      </a:cubicBezTo>
                      <a:cubicBezTo>
                        <a:pt x="793164" y="49804"/>
                        <a:pt x="846801" y="70773"/>
                        <a:pt x="802433" y="55984"/>
                      </a:cubicBezTo>
                      <a:cubicBezTo>
                        <a:pt x="782717" y="26411"/>
                        <a:pt x="797085" y="39688"/>
                        <a:pt x="752669" y="24882"/>
                      </a:cubicBezTo>
                      <a:lnTo>
                        <a:pt x="734008" y="18661"/>
                      </a:lnTo>
                      <a:cubicBezTo>
                        <a:pt x="680098" y="20735"/>
                        <a:pt x="626123" y="21517"/>
                        <a:pt x="572278" y="24882"/>
                      </a:cubicBezTo>
                      <a:cubicBezTo>
                        <a:pt x="559690" y="25669"/>
                        <a:pt x="547267" y="28366"/>
                        <a:pt x="534955" y="31102"/>
                      </a:cubicBezTo>
                      <a:cubicBezTo>
                        <a:pt x="528554" y="32524"/>
                        <a:pt x="522599" y="35522"/>
                        <a:pt x="516294" y="37323"/>
                      </a:cubicBezTo>
                      <a:cubicBezTo>
                        <a:pt x="508074" y="39672"/>
                        <a:pt x="499758" y="41689"/>
                        <a:pt x="491412" y="43543"/>
                      </a:cubicBezTo>
                      <a:cubicBezTo>
                        <a:pt x="438666" y="55264"/>
                        <a:pt x="481237" y="42787"/>
                        <a:pt x="422988" y="62204"/>
                      </a:cubicBezTo>
                      <a:cubicBezTo>
                        <a:pt x="416768" y="64278"/>
                        <a:pt x="409783" y="64788"/>
                        <a:pt x="404327" y="68425"/>
                      </a:cubicBezTo>
                      <a:cubicBezTo>
                        <a:pt x="398106" y="72572"/>
                        <a:pt x="392757" y="78501"/>
                        <a:pt x="385665" y="80865"/>
                      </a:cubicBezTo>
                      <a:cubicBezTo>
                        <a:pt x="373700" y="84853"/>
                        <a:pt x="360655" y="84350"/>
                        <a:pt x="348343" y="87086"/>
                      </a:cubicBezTo>
                      <a:cubicBezTo>
                        <a:pt x="328143" y="91575"/>
                        <a:pt x="325282" y="96969"/>
                        <a:pt x="304800" y="105747"/>
                      </a:cubicBezTo>
                      <a:cubicBezTo>
                        <a:pt x="298773" y="108330"/>
                        <a:pt x="292004" y="109036"/>
                        <a:pt x="286139" y="111968"/>
                      </a:cubicBezTo>
                      <a:cubicBezTo>
                        <a:pt x="262970" y="123553"/>
                        <a:pt x="269455" y="125871"/>
                        <a:pt x="248816" y="143070"/>
                      </a:cubicBezTo>
                      <a:cubicBezTo>
                        <a:pt x="243073" y="147856"/>
                        <a:pt x="236375" y="151363"/>
                        <a:pt x="230155" y="155510"/>
                      </a:cubicBezTo>
                      <a:cubicBezTo>
                        <a:pt x="223935" y="163804"/>
                        <a:pt x="216638" y="171391"/>
                        <a:pt x="211494" y="180392"/>
                      </a:cubicBezTo>
                      <a:cubicBezTo>
                        <a:pt x="208241" y="186085"/>
                        <a:pt x="207986" y="193084"/>
                        <a:pt x="205273" y="199053"/>
                      </a:cubicBezTo>
                      <a:cubicBezTo>
                        <a:pt x="197599" y="215936"/>
                        <a:pt x="188686" y="232229"/>
                        <a:pt x="180392" y="248817"/>
                      </a:cubicBezTo>
                      <a:lnTo>
                        <a:pt x="167951" y="273698"/>
                      </a:lnTo>
                      <a:cubicBezTo>
                        <a:pt x="151499" y="339513"/>
                        <a:pt x="173836" y="262014"/>
                        <a:pt x="149290" y="317241"/>
                      </a:cubicBezTo>
                      <a:cubicBezTo>
                        <a:pt x="119678" y="383866"/>
                        <a:pt x="152565" y="330989"/>
                        <a:pt x="124408" y="373225"/>
                      </a:cubicBezTo>
                      <a:cubicBezTo>
                        <a:pt x="122335" y="379445"/>
                        <a:pt x="121120" y="386021"/>
                        <a:pt x="118188" y="391886"/>
                      </a:cubicBezTo>
                      <a:cubicBezTo>
                        <a:pt x="114845" y="398573"/>
                        <a:pt x="108692" y="403675"/>
                        <a:pt x="105747" y="410547"/>
                      </a:cubicBezTo>
                      <a:cubicBezTo>
                        <a:pt x="102379" y="418405"/>
                        <a:pt x="101876" y="427209"/>
                        <a:pt x="99527" y="435429"/>
                      </a:cubicBezTo>
                      <a:cubicBezTo>
                        <a:pt x="97726" y="441734"/>
                        <a:pt x="95889" y="448063"/>
                        <a:pt x="93306" y="454090"/>
                      </a:cubicBezTo>
                      <a:cubicBezTo>
                        <a:pt x="89653" y="462613"/>
                        <a:pt x="84309" y="470362"/>
                        <a:pt x="80865" y="478972"/>
                      </a:cubicBezTo>
                      <a:cubicBezTo>
                        <a:pt x="75995" y="491148"/>
                        <a:pt x="72572" y="503853"/>
                        <a:pt x="68425" y="516294"/>
                      </a:cubicBezTo>
                      <a:lnTo>
                        <a:pt x="62204" y="534955"/>
                      </a:lnTo>
                      <a:lnTo>
                        <a:pt x="49763" y="572278"/>
                      </a:lnTo>
                      <a:cubicBezTo>
                        <a:pt x="47690" y="578498"/>
                        <a:pt x="45133" y="584578"/>
                        <a:pt x="43543" y="590939"/>
                      </a:cubicBezTo>
                      <a:cubicBezTo>
                        <a:pt x="27920" y="653429"/>
                        <a:pt x="36510" y="624477"/>
                        <a:pt x="18661" y="678025"/>
                      </a:cubicBezTo>
                      <a:lnTo>
                        <a:pt x="12441" y="696686"/>
                      </a:lnTo>
                      <a:cubicBezTo>
                        <a:pt x="6214" y="752723"/>
                        <a:pt x="0" y="799823"/>
                        <a:pt x="0" y="858417"/>
                      </a:cubicBezTo>
                      <a:cubicBezTo>
                        <a:pt x="0" y="883385"/>
                        <a:pt x="6220" y="933061"/>
                        <a:pt x="6220" y="933061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0155" h="802432">
                      <a:moveTo>
                        <a:pt x="230155" y="802432"/>
                      </a:moveTo>
                      <a:cubicBezTo>
                        <a:pt x="219788" y="775477"/>
                        <a:pt x="222712" y="738129"/>
                        <a:pt x="199053" y="721567"/>
                      </a:cubicBezTo>
                      <a:cubicBezTo>
                        <a:pt x="173517" y="703692"/>
                        <a:pt x="136763" y="718449"/>
                        <a:pt x="105747" y="715347"/>
                      </a:cubicBezTo>
                      <a:cubicBezTo>
                        <a:pt x="95227" y="714295"/>
                        <a:pt x="85012" y="711200"/>
                        <a:pt x="74645" y="709126"/>
                      </a:cubicBezTo>
                      <a:cubicBezTo>
                        <a:pt x="68424" y="704979"/>
                        <a:pt x="61269" y="701972"/>
                        <a:pt x="55983" y="696686"/>
                      </a:cubicBezTo>
                      <a:cubicBezTo>
                        <a:pt x="50696" y="691400"/>
                        <a:pt x="48328" y="683767"/>
                        <a:pt x="43542" y="678024"/>
                      </a:cubicBezTo>
                      <a:cubicBezTo>
                        <a:pt x="37910" y="671266"/>
                        <a:pt x="31101" y="665583"/>
                        <a:pt x="24881" y="659363"/>
                      </a:cubicBezTo>
                      <a:lnTo>
                        <a:pt x="12440" y="622041"/>
                      </a:lnTo>
                      <a:cubicBezTo>
                        <a:pt x="10366" y="615820"/>
                        <a:pt x="7506" y="609809"/>
                        <a:pt x="6220" y="603379"/>
                      </a:cubicBezTo>
                      <a:lnTo>
                        <a:pt x="0" y="572277"/>
                      </a:lnTo>
                      <a:cubicBezTo>
                        <a:pt x="2073" y="534955"/>
                        <a:pt x="-1111" y="496964"/>
                        <a:pt x="6220" y="460310"/>
                      </a:cubicBezTo>
                      <a:cubicBezTo>
                        <a:pt x="7686" y="452979"/>
                        <a:pt x="17507" y="449098"/>
                        <a:pt x="24881" y="447869"/>
                      </a:cubicBezTo>
                      <a:cubicBezTo>
                        <a:pt x="31349" y="446791"/>
                        <a:pt x="37322" y="452016"/>
                        <a:pt x="43542" y="454090"/>
                      </a:cubicBezTo>
                      <a:cubicBezTo>
                        <a:pt x="54492" y="486937"/>
                        <a:pt x="46125" y="467292"/>
                        <a:pt x="74645" y="510073"/>
                      </a:cubicBezTo>
                      <a:cubicBezTo>
                        <a:pt x="74647" y="510077"/>
                        <a:pt x="99522" y="547393"/>
                        <a:pt x="99526" y="547396"/>
                      </a:cubicBezTo>
                      <a:lnTo>
                        <a:pt x="118187" y="559837"/>
                      </a:lnTo>
                      <a:cubicBezTo>
                        <a:pt x="109395" y="515876"/>
                        <a:pt x="115310" y="538765"/>
                        <a:pt x="99526" y="491412"/>
                      </a:cubicBezTo>
                      <a:lnTo>
                        <a:pt x="99526" y="491412"/>
                      </a:lnTo>
                      <a:cubicBezTo>
                        <a:pt x="97453" y="483118"/>
                        <a:pt x="95763" y="474719"/>
                        <a:pt x="93306" y="466530"/>
                      </a:cubicBezTo>
                      <a:cubicBezTo>
                        <a:pt x="89538" y="453969"/>
                        <a:pt x="83437" y="442067"/>
                        <a:pt x="80865" y="429208"/>
                      </a:cubicBezTo>
                      <a:cubicBezTo>
                        <a:pt x="78792" y="418841"/>
                        <a:pt x="77209" y="408363"/>
                        <a:pt x="74645" y="398106"/>
                      </a:cubicBezTo>
                      <a:cubicBezTo>
                        <a:pt x="73055" y="391745"/>
                        <a:pt x="70014" y="385806"/>
                        <a:pt x="68424" y="379445"/>
                      </a:cubicBezTo>
                      <a:cubicBezTo>
                        <a:pt x="65860" y="369188"/>
                        <a:pt x="64277" y="358710"/>
                        <a:pt x="62204" y="348343"/>
                      </a:cubicBezTo>
                      <a:cubicBezTo>
                        <a:pt x="59527" y="318896"/>
                        <a:pt x="49763" y="216402"/>
                        <a:pt x="49763" y="192832"/>
                      </a:cubicBezTo>
                      <a:cubicBezTo>
                        <a:pt x="49763" y="161661"/>
                        <a:pt x="52720" y="130526"/>
                        <a:pt x="55983" y="99526"/>
                      </a:cubicBezTo>
                      <a:cubicBezTo>
                        <a:pt x="57069" y="89205"/>
                        <a:pt x="72256" y="40905"/>
                        <a:pt x="74645" y="37322"/>
                      </a:cubicBezTo>
                      <a:cubicBezTo>
                        <a:pt x="78792" y="31102"/>
                        <a:pt x="83742" y="25348"/>
                        <a:pt x="87085" y="18661"/>
                      </a:cubicBezTo>
                      <a:cubicBezTo>
                        <a:pt x="90017" y="12796"/>
                        <a:pt x="93306" y="0"/>
                        <a:pt x="93306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31695" h="802433">
                      <a:moveTo>
                        <a:pt x="0" y="0"/>
                      </a:moveTo>
                      <a:cubicBezTo>
                        <a:pt x="49763" y="58057"/>
                        <a:pt x="100152" y="115584"/>
                        <a:pt x="149290" y="174171"/>
                      </a:cubicBezTo>
                      <a:cubicBezTo>
                        <a:pt x="154094" y="179899"/>
                        <a:pt x="159583" y="185672"/>
                        <a:pt x="161731" y="192833"/>
                      </a:cubicBezTo>
                      <a:cubicBezTo>
                        <a:pt x="165944" y="206876"/>
                        <a:pt x="165541" y="221913"/>
                        <a:pt x="167951" y="236375"/>
                      </a:cubicBezTo>
                      <a:cubicBezTo>
                        <a:pt x="170519" y="251782"/>
                        <a:pt x="175915" y="276690"/>
                        <a:pt x="180392" y="292359"/>
                      </a:cubicBezTo>
                      <a:cubicBezTo>
                        <a:pt x="182193" y="298663"/>
                        <a:pt x="185190" y="304619"/>
                        <a:pt x="186612" y="311020"/>
                      </a:cubicBezTo>
                      <a:cubicBezTo>
                        <a:pt x="217121" y="448308"/>
                        <a:pt x="174265" y="274066"/>
                        <a:pt x="199053" y="373224"/>
                      </a:cubicBezTo>
                      <a:cubicBezTo>
                        <a:pt x="201126" y="404326"/>
                        <a:pt x="202684" y="435467"/>
                        <a:pt x="205273" y="466531"/>
                      </a:cubicBezTo>
                      <a:cubicBezTo>
                        <a:pt x="207069" y="488079"/>
                        <a:pt x="212316" y="535546"/>
                        <a:pt x="217714" y="559837"/>
                      </a:cubicBezTo>
                      <a:cubicBezTo>
                        <a:pt x="219136" y="566238"/>
                        <a:pt x="221861" y="572278"/>
                        <a:pt x="223935" y="578498"/>
                      </a:cubicBezTo>
                      <a:cubicBezTo>
                        <a:pt x="236337" y="690123"/>
                        <a:pt x="230155" y="615706"/>
                        <a:pt x="230155" y="80243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custGeom>
                  <a:avLst/>
                  <a:gdLst>
                    <a:gd name="textAreaLeft" fmla="*/ 0 w 149400"/>
                    <a:gd name="textAreaRight" fmla="*/ 149760 w 14940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379445" h="230155">
                      <a:moveTo>
                        <a:pt x="0" y="230155"/>
                      </a:moveTo>
                      <a:cubicBezTo>
                        <a:pt x="60817" y="83181"/>
                        <a:pt x="89676" y="-39382"/>
                        <a:pt x="68424" y="130629"/>
                      </a:cubicBezTo>
                      <a:cubicBezTo>
                        <a:pt x="67611" y="137135"/>
                        <a:pt x="56340" y="152222"/>
                        <a:pt x="62204" y="149290"/>
                      </a:cubicBezTo>
                      <a:cubicBezTo>
                        <a:pt x="66060" y="147362"/>
                        <a:pt x="89024" y="112169"/>
                        <a:pt x="93306" y="105747"/>
                      </a:cubicBezTo>
                      <a:cubicBezTo>
                        <a:pt x="98365" y="90568"/>
                        <a:pt x="99908" y="80484"/>
                        <a:pt x="111967" y="68425"/>
                      </a:cubicBezTo>
                      <a:cubicBezTo>
                        <a:pt x="117253" y="63139"/>
                        <a:pt x="124408" y="60131"/>
                        <a:pt x="130628" y="55984"/>
                      </a:cubicBezTo>
                      <a:cubicBezTo>
                        <a:pt x="132702" y="49764"/>
                        <a:pt x="136849" y="30766"/>
                        <a:pt x="136849" y="37323"/>
                      </a:cubicBezTo>
                      <a:cubicBezTo>
                        <a:pt x="136849" y="54040"/>
                        <a:pt x="134682" y="70868"/>
                        <a:pt x="130628" y="87086"/>
                      </a:cubicBezTo>
                      <a:cubicBezTo>
                        <a:pt x="123536" y="115455"/>
                        <a:pt x="116324" y="106831"/>
                        <a:pt x="105747" y="130629"/>
                      </a:cubicBezTo>
                      <a:cubicBezTo>
                        <a:pt x="100421" y="142612"/>
                        <a:pt x="97453" y="155510"/>
                        <a:pt x="93306" y="167951"/>
                      </a:cubicBezTo>
                      <a:cubicBezTo>
                        <a:pt x="91233" y="174171"/>
                        <a:pt x="83713" y="192234"/>
                        <a:pt x="87086" y="186612"/>
                      </a:cubicBezTo>
                      <a:cubicBezTo>
                        <a:pt x="93306" y="176245"/>
                        <a:pt x="99875" y="166079"/>
                        <a:pt x="105747" y="155510"/>
                      </a:cubicBezTo>
                      <a:cubicBezTo>
                        <a:pt x="110250" y="147404"/>
                        <a:pt x="113273" y="138492"/>
                        <a:pt x="118188" y="130629"/>
                      </a:cubicBezTo>
                      <a:cubicBezTo>
                        <a:pt x="123683" y="121837"/>
                        <a:pt x="130823" y="114183"/>
                        <a:pt x="136849" y="105747"/>
                      </a:cubicBezTo>
                      <a:cubicBezTo>
                        <a:pt x="182328" y="42076"/>
                        <a:pt x="106964" y="143523"/>
                        <a:pt x="167951" y="62204"/>
                      </a:cubicBezTo>
                      <a:cubicBezTo>
                        <a:pt x="170884" y="53406"/>
                        <a:pt x="180392" y="13747"/>
                        <a:pt x="180392" y="68425"/>
                      </a:cubicBezTo>
                      <a:cubicBezTo>
                        <a:pt x="180392" y="78293"/>
                        <a:pt x="162452" y="127741"/>
                        <a:pt x="161730" y="130629"/>
                      </a:cubicBezTo>
                      <a:cubicBezTo>
                        <a:pt x="159657" y="138923"/>
                        <a:pt x="151687" y="163156"/>
                        <a:pt x="155510" y="155510"/>
                      </a:cubicBezTo>
                      <a:cubicBezTo>
                        <a:pt x="161375" y="143781"/>
                        <a:pt x="161582" y="129651"/>
                        <a:pt x="167951" y="118188"/>
                      </a:cubicBezTo>
                      <a:cubicBezTo>
                        <a:pt x="172223" y="110498"/>
                        <a:pt x="180819" y="106147"/>
                        <a:pt x="186612" y="99527"/>
                      </a:cubicBezTo>
                      <a:cubicBezTo>
                        <a:pt x="239781" y="38763"/>
                        <a:pt x="187005" y="92915"/>
                        <a:pt x="230155" y="49763"/>
                      </a:cubicBezTo>
                      <a:cubicBezTo>
                        <a:pt x="232228" y="55984"/>
                        <a:pt x="238100" y="62099"/>
                        <a:pt x="236375" y="68425"/>
                      </a:cubicBezTo>
                      <a:cubicBezTo>
                        <a:pt x="231495" y="86317"/>
                        <a:pt x="215992" y="100196"/>
                        <a:pt x="211494" y="118188"/>
                      </a:cubicBezTo>
                      <a:cubicBezTo>
                        <a:pt x="209420" y="126482"/>
                        <a:pt x="207622" y="134849"/>
                        <a:pt x="205273" y="143069"/>
                      </a:cubicBezTo>
                      <a:cubicBezTo>
                        <a:pt x="203472" y="149374"/>
                        <a:pt x="201985" y="155866"/>
                        <a:pt x="199053" y="161731"/>
                      </a:cubicBezTo>
                      <a:cubicBezTo>
                        <a:pt x="195710" y="168418"/>
                        <a:pt x="186612" y="187868"/>
                        <a:pt x="186612" y="180392"/>
                      </a:cubicBezTo>
                      <a:cubicBezTo>
                        <a:pt x="186612" y="167278"/>
                        <a:pt x="194906" y="155510"/>
                        <a:pt x="199053" y="143069"/>
                      </a:cubicBezTo>
                      <a:cubicBezTo>
                        <a:pt x="209985" y="110272"/>
                        <a:pt x="198047" y="136813"/>
                        <a:pt x="223935" y="105747"/>
                      </a:cubicBezTo>
                      <a:cubicBezTo>
                        <a:pt x="237709" y="89218"/>
                        <a:pt x="237757" y="81557"/>
                        <a:pt x="248816" y="62204"/>
                      </a:cubicBezTo>
                      <a:cubicBezTo>
                        <a:pt x="252525" y="55713"/>
                        <a:pt x="257110" y="49763"/>
                        <a:pt x="261257" y="43543"/>
                      </a:cubicBezTo>
                      <a:cubicBezTo>
                        <a:pt x="263330" y="51837"/>
                        <a:pt x="267477" y="59876"/>
                        <a:pt x="267477" y="68425"/>
                      </a:cubicBezTo>
                      <a:cubicBezTo>
                        <a:pt x="267477" y="81303"/>
                        <a:pt x="255107" y="96311"/>
                        <a:pt x="248816" y="105747"/>
                      </a:cubicBezTo>
                      <a:cubicBezTo>
                        <a:pt x="236947" y="153226"/>
                        <a:pt x="250836" y="107929"/>
                        <a:pt x="223935" y="161731"/>
                      </a:cubicBezTo>
                      <a:cubicBezTo>
                        <a:pt x="221003" y="167596"/>
                        <a:pt x="213078" y="185029"/>
                        <a:pt x="217714" y="180392"/>
                      </a:cubicBezTo>
                      <a:cubicBezTo>
                        <a:pt x="224270" y="173834"/>
                        <a:pt x="225011" y="163226"/>
                        <a:pt x="230155" y="155510"/>
                      </a:cubicBezTo>
                      <a:cubicBezTo>
                        <a:pt x="245799" y="132044"/>
                        <a:pt x="259976" y="107028"/>
                        <a:pt x="279918" y="87086"/>
                      </a:cubicBezTo>
                      <a:cubicBezTo>
                        <a:pt x="296506" y="70498"/>
                        <a:pt x="316669" y="56842"/>
                        <a:pt x="329681" y="37323"/>
                      </a:cubicBezTo>
                      <a:cubicBezTo>
                        <a:pt x="347002" y="11341"/>
                        <a:pt x="336835" y="23947"/>
                        <a:pt x="360784" y="0"/>
                      </a:cubicBezTo>
                      <a:cubicBezTo>
                        <a:pt x="356527" y="29795"/>
                        <a:pt x="355784" y="53541"/>
                        <a:pt x="342122" y="80865"/>
                      </a:cubicBezTo>
                      <a:cubicBezTo>
                        <a:pt x="333374" y="98361"/>
                        <a:pt x="311020" y="130629"/>
                        <a:pt x="311020" y="130629"/>
                      </a:cubicBezTo>
                      <a:cubicBezTo>
                        <a:pt x="308947" y="138923"/>
                        <a:pt x="304800" y="164059"/>
                        <a:pt x="304800" y="155510"/>
                      </a:cubicBezTo>
                      <a:cubicBezTo>
                        <a:pt x="304800" y="124055"/>
                        <a:pt x="310590" y="128271"/>
                        <a:pt x="323461" y="105747"/>
                      </a:cubicBezTo>
                      <a:cubicBezTo>
                        <a:pt x="328062" y="97696"/>
                        <a:pt x="330512" y="88411"/>
                        <a:pt x="335902" y="80865"/>
                      </a:cubicBezTo>
                      <a:cubicBezTo>
                        <a:pt x="341015" y="73707"/>
                        <a:pt x="348838" y="68883"/>
                        <a:pt x="354563" y="62204"/>
                      </a:cubicBezTo>
                      <a:cubicBezTo>
                        <a:pt x="361310" y="54333"/>
                        <a:pt x="367004" y="45617"/>
                        <a:pt x="373224" y="37323"/>
                      </a:cubicBezTo>
                      <a:cubicBezTo>
                        <a:pt x="375298" y="31102"/>
                        <a:pt x="379445" y="12104"/>
                        <a:pt x="379445" y="18661"/>
                      </a:cubicBezTo>
                      <a:cubicBezTo>
                        <a:pt x="379445" y="31274"/>
                        <a:pt x="378347" y="44458"/>
                        <a:pt x="373224" y="55984"/>
                      </a:cubicBezTo>
                      <a:cubicBezTo>
                        <a:pt x="369651" y="64023"/>
                        <a:pt x="360783" y="68425"/>
                        <a:pt x="354563" y="74645"/>
                      </a:cubicBezTo>
                      <a:cubicBezTo>
                        <a:pt x="352490" y="82939"/>
                        <a:pt x="351711" y="91669"/>
                        <a:pt x="348343" y="99527"/>
                      </a:cubicBezTo>
                      <a:cubicBezTo>
                        <a:pt x="345398" y="106399"/>
                        <a:pt x="339611" y="111697"/>
                        <a:pt x="335902" y="118188"/>
                      </a:cubicBezTo>
                      <a:cubicBezTo>
                        <a:pt x="304328" y="173441"/>
                        <a:pt x="341335" y="116257"/>
                        <a:pt x="311020" y="161731"/>
                      </a:cubicBezTo>
                      <a:cubicBezTo>
                        <a:pt x="313094" y="151364"/>
                        <a:pt x="311995" y="139809"/>
                        <a:pt x="317241" y="130629"/>
                      </a:cubicBezTo>
                      <a:cubicBezTo>
                        <a:pt x="328970" y="110103"/>
                        <a:pt x="360784" y="74645"/>
                        <a:pt x="360784" y="74645"/>
                      </a:cubicBezTo>
                      <a:cubicBezTo>
                        <a:pt x="362857" y="68425"/>
                        <a:pt x="373224" y="53911"/>
                        <a:pt x="367004" y="55984"/>
                      </a:cubicBezTo>
                      <a:cubicBezTo>
                        <a:pt x="355877" y="59693"/>
                        <a:pt x="351505" y="73828"/>
                        <a:pt x="342122" y="80865"/>
                      </a:cubicBezTo>
                      <a:cubicBezTo>
                        <a:pt x="326473" y="92601"/>
                        <a:pt x="308179" y="100462"/>
                        <a:pt x="292359" y="111967"/>
                      </a:cubicBezTo>
                      <a:cubicBezTo>
                        <a:pt x="285245" y="117141"/>
                        <a:pt x="280736" y="125351"/>
                        <a:pt x="273698" y="130629"/>
                      </a:cubicBezTo>
                      <a:cubicBezTo>
                        <a:pt x="264026" y="137883"/>
                        <a:pt x="252848" y="142882"/>
                        <a:pt x="242596" y="149290"/>
                      </a:cubicBezTo>
                      <a:cubicBezTo>
                        <a:pt x="207427" y="171271"/>
                        <a:pt x="241527" y="152935"/>
                        <a:pt x="199053" y="174171"/>
                      </a:cubicBezTo>
                      <a:cubicBezTo>
                        <a:pt x="203200" y="163804"/>
                        <a:pt x="206071" y="152830"/>
                        <a:pt x="211494" y="143069"/>
                      </a:cubicBezTo>
                      <a:cubicBezTo>
                        <a:pt x="242875" y="86584"/>
                        <a:pt x="221320" y="144694"/>
                        <a:pt x="236375" y="99527"/>
                      </a:cubicBezTo>
                      <a:cubicBezTo>
                        <a:pt x="243523" y="120970"/>
                        <a:pt x="247233" y="113552"/>
                        <a:pt x="236375" y="124408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custGeom>
                  <a:avLst/>
                  <a:gdLst>
                    <a:gd name="textAreaLeft" fmla="*/ 0 w 270360"/>
                    <a:gd name="textAreaRight" fmla="*/ 270360 w 27036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687027" h="778873">
                      <a:moveTo>
                        <a:pt x="38263" y="12441"/>
                      </a:moveTo>
                      <a:cubicBezTo>
                        <a:pt x="40337" y="35249"/>
                        <a:pt x="37749" y="58976"/>
                        <a:pt x="44484" y="80865"/>
                      </a:cubicBezTo>
                      <a:cubicBezTo>
                        <a:pt x="46683" y="88010"/>
                        <a:pt x="55688" y="92773"/>
                        <a:pt x="63145" y="93306"/>
                      </a:cubicBezTo>
                      <a:cubicBezTo>
                        <a:pt x="85989" y="94938"/>
                        <a:pt x="108761" y="89159"/>
                        <a:pt x="131569" y="87086"/>
                      </a:cubicBezTo>
                      <a:cubicBezTo>
                        <a:pt x="125349" y="89159"/>
                        <a:pt x="114981" y="87086"/>
                        <a:pt x="112908" y="93306"/>
                      </a:cubicBezTo>
                      <a:cubicBezTo>
                        <a:pt x="106929" y="111241"/>
                        <a:pt x="122926" y="130106"/>
                        <a:pt x="131569" y="143070"/>
                      </a:cubicBezTo>
                      <a:cubicBezTo>
                        <a:pt x="141779" y="138986"/>
                        <a:pt x="172016" y="129368"/>
                        <a:pt x="181333" y="118188"/>
                      </a:cubicBezTo>
                      <a:cubicBezTo>
                        <a:pt x="187269" y="111064"/>
                        <a:pt x="189626" y="101600"/>
                        <a:pt x="193773" y="93306"/>
                      </a:cubicBezTo>
                      <a:cubicBezTo>
                        <a:pt x="207777" y="135315"/>
                        <a:pt x="193773" y="83605"/>
                        <a:pt x="193773" y="149290"/>
                      </a:cubicBezTo>
                      <a:cubicBezTo>
                        <a:pt x="193773" y="166007"/>
                        <a:pt x="197920" y="182465"/>
                        <a:pt x="199994" y="199053"/>
                      </a:cubicBezTo>
                      <a:cubicBezTo>
                        <a:pt x="199994" y="199053"/>
                        <a:pt x="187741" y="219903"/>
                        <a:pt x="181333" y="230155"/>
                      </a:cubicBezTo>
                      <a:cubicBezTo>
                        <a:pt x="177371" y="236495"/>
                        <a:pt x="171928" y="241984"/>
                        <a:pt x="168892" y="248816"/>
                      </a:cubicBezTo>
                      <a:cubicBezTo>
                        <a:pt x="163566" y="260800"/>
                        <a:pt x="156451" y="286139"/>
                        <a:pt x="156451" y="286139"/>
                      </a:cubicBezTo>
                      <a:cubicBezTo>
                        <a:pt x="158524" y="292359"/>
                        <a:pt x="156310" y="303210"/>
                        <a:pt x="162671" y="304800"/>
                      </a:cubicBezTo>
                      <a:cubicBezTo>
                        <a:pt x="169924" y="306613"/>
                        <a:pt x="176663" y="298197"/>
                        <a:pt x="181333" y="292359"/>
                      </a:cubicBezTo>
                      <a:cubicBezTo>
                        <a:pt x="185429" y="287239"/>
                        <a:pt x="184621" y="279563"/>
                        <a:pt x="187553" y="273698"/>
                      </a:cubicBezTo>
                      <a:cubicBezTo>
                        <a:pt x="190896" y="267011"/>
                        <a:pt x="195847" y="261257"/>
                        <a:pt x="199994" y="255037"/>
                      </a:cubicBezTo>
                      <a:cubicBezTo>
                        <a:pt x="197920" y="248817"/>
                        <a:pt x="200134" y="237966"/>
                        <a:pt x="193773" y="236376"/>
                      </a:cubicBezTo>
                      <a:cubicBezTo>
                        <a:pt x="186520" y="234563"/>
                        <a:pt x="181195" y="244471"/>
                        <a:pt x="175112" y="248816"/>
                      </a:cubicBezTo>
                      <a:cubicBezTo>
                        <a:pt x="147188" y="268762"/>
                        <a:pt x="154172" y="263537"/>
                        <a:pt x="131569" y="286139"/>
                      </a:cubicBezTo>
                      <a:cubicBezTo>
                        <a:pt x="124620" y="306989"/>
                        <a:pt x="115686" y="324518"/>
                        <a:pt x="131569" y="348343"/>
                      </a:cubicBezTo>
                      <a:cubicBezTo>
                        <a:pt x="137763" y="357634"/>
                        <a:pt x="152304" y="356637"/>
                        <a:pt x="162671" y="360784"/>
                      </a:cubicBezTo>
                      <a:cubicBezTo>
                        <a:pt x="156451" y="371151"/>
                        <a:pt x="150716" y="381826"/>
                        <a:pt x="144010" y="391886"/>
                      </a:cubicBezTo>
                      <a:cubicBezTo>
                        <a:pt x="138259" y="400512"/>
                        <a:pt x="131375" y="408331"/>
                        <a:pt x="125349" y="416767"/>
                      </a:cubicBezTo>
                      <a:cubicBezTo>
                        <a:pt x="121004" y="422851"/>
                        <a:pt x="117055" y="429208"/>
                        <a:pt x="112908" y="435429"/>
                      </a:cubicBezTo>
                      <a:cubicBezTo>
                        <a:pt x="114981" y="443723"/>
                        <a:pt x="113787" y="453634"/>
                        <a:pt x="119128" y="460310"/>
                      </a:cubicBezTo>
                      <a:cubicBezTo>
                        <a:pt x="123224" y="465430"/>
                        <a:pt x="135716" y="460310"/>
                        <a:pt x="137790" y="466531"/>
                      </a:cubicBezTo>
                      <a:cubicBezTo>
                        <a:pt x="147063" y="494349"/>
                        <a:pt x="146084" y="524588"/>
                        <a:pt x="150231" y="553616"/>
                      </a:cubicBezTo>
                      <a:cubicBezTo>
                        <a:pt x="170966" y="541175"/>
                        <a:pt x="193720" y="531606"/>
                        <a:pt x="212435" y="516294"/>
                      </a:cubicBezTo>
                      <a:lnTo>
                        <a:pt x="280859" y="460310"/>
                      </a:lnTo>
                      <a:cubicBezTo>
                        <a:pt x="282933" y="454090"/>
                        <a:pt x="293300" y="443722"/>
                        <a:pt x="287080" y="441649"/>
                      </a:cubicBezTo>
                      <a:cubicBezTo>
                        <a:pt x="275390" y="437753"/>
                        <a:pt x="248776" y="466764"/>
                        <a:pt x="243537" y="472751"/>
                      </a:cubicBezTo>
                      <a:cubicBezTo>
                        <a:pt x="234794" y="482743"/>
                        <a:pt x="226269" y="492976"/>
                        <a:pt x="218655" y="503853"/>
                      </a:cubicBezTo>
                      <a:cubicBezTo>
                        <a:pt x="211722" y="513758"/>
                        <a:pt x="206402" y="524703"/>
                        <a:pt x="199994" y="534955"/>
                      </a:cubicBezTo>
                      <a:cubicBezTo>
                        <a:pt x="196032" y="541295"/>
                        <a:pt x="191700" y="547396"/>
                        <a:pt x="187553" y="553616"/>
                      </a:cubicBezTo>
                      <a:cubicBezTo>
                        <a:pt x="186277" y="557443"/>
                        <a:pt x="172242" y="587112"/>
                        <a:pt x="187553" y="590939"/>
                      </a:cubicBezTo>
                      <a:cubicBezTo>
                        <a:pt x="201777" y="594495"/>
                        <a:pt x="216582" y="586792"/>
                        <a:pt x="231096" y="584718"/>
                      </a:cubicBezTo>
                      <a:cubicBezTo>
                        <a:pt x="237316" y="582645"/>
                        <a:pt x="243892" y="581430"/>
                        <a:pt x="249757" y="578498"/>
                      </a:cubicBezTo>
                      <a:cubicBezTo>
                        <a:pt x="256444" y="575155"/>
                        <a:pt x="261165" y="564244"/>
                        <a:pt x="268418" y="566057"/>
                      </a:cubicBezTo>
                      <a:cubicBezTo>
                        <a:pt x="274779" y="567647"/>
                        <a:pt x="272565" y="578498"/>
                        <a:pt x="274639" y="584718"/>
                      </a:cubicBezTo>
                      <a:cubicBezTo>
                        <a:pt x="272565" y="611673"/>
                        <a:pt x="268418" y="638549"/>
                        <a:pt x="268418" y="665584"/>
                      </a:cubicBezTo>
                      <a:cubicBezTo>
                        <a:pt x="268418" y="674133"/>
                        <a:pt x="272290" y="648922"/>
                        <a:pt x="274639" y="640702"/>
                      </a:cubicBezTo>
                      <a:cubicBezTo>
                        <a:pt x="276440" y="634398"/>
                        <a:pt x="279058" y="628345"/>
                        <a:pt x="280859" y="622041"/>
                      </a:cubicBezTo>
                      <a:cubicBezTo>
                        <a:pt x="300025" y="554962"/>
                        <a:pt x="266878" y="654661"/>
                        <a:pt x="305741" y="553616"/>
                      </a:cubicBezTo>
                      <a:cubicBezTo>
                        <a:pt x="310449" y="541376"/>
                        <a:pt x="318182" y="516294"/>
                        <a:pt x="318182" y="516294"/>
                      </a:cubicBezTo>
                      <a:cubicBezTo>
                        <a:pt x="316108" y="499706"/>
                        <a:pt x="315464" y="482877"/>
                        <a:pt x="311961" y="466531"/>
                      </a:cubicBezTo>
                      <a:cubicBezTo>
                        <a:pt x="309213" y="453708"/>
                        <a:pt x="299520" y="429208"/>
                        <a:pt x="299520" y="429208"/>
                      </a:cubicBezTo>
                      <a:cubicBezTo>
                        <a:pt x="315886" y="576490"/>
                        <a:pt x="294385" y="393308"/>
                        <a:pt x="299520" y="360784"/>
                      </a:cubicBezTo>
                      <a:cubicBezTo>
                        <a:pt x="300853" y="352339"/>
                        <a:pt x="315952" y="365704"/>
                        <a:pt x="324402" y="367004"/>
                      </a:cubicBezTo>
                      <a:cubicBezTo>
                        <a:pt x="342960" y="369859"/>
                        <a:pt x="361725" y="371151"/>
                        <a:pt x="380386" y="373225"/>
                      </a:cubicBezTo>
                      <a:cubicBezTo>
                        <a:pt x="393005" y="436322"/>
                        <a:pt x="390486" y="410242"/>
                        <a:pt x="380386" y="516294"/>
                      </a:cubicBezTo>
                      <a:cubicBezTo>
                        <a:pt x="379764" y="522821"/>
                        <a:pt x="378261" y="529835"/>
                        <a:pt x="374165" y="534955"/>
                      </a:cubicBezTo>
                      <a:cubicBezTo>
                        <a:pt x="369495" y="540793"/>
                        <a:pt x="361724" y="543249"/>
                        <a:pt x="355504" y="547396"/>
                      </a:cubicBezTo>
                      <a:cubicBezTo>
                        <a:pt x="357577" y="555690"/>
                        <a:pt x="356094" y="565844"/>
                        <a:pt x="361724" y="572278"/>
                      </a:cubicBezTo>
                      <a:cubicBezTo>
                        <a:pt x="371570" y="583531"/>
                        <a:pt x="399047" y="597159"/>
                        <a:pt x="399047" y="597159"/>
                      </a:cubicBezTo>
                      <a:cubicBezTo>
                        <a:pt x="372092" y="599233"/>
                        <a:pt x="339292" y="586492"/>
                        <a:pt x="318182" y="603380"/>
                      </a:cubicBezTo>
                      <a:cubicBezTo>
                        <a:pt x="300080" y="617862"/>
                        <a:pt x="316650" y="651349"/>
                        <a:pt x="305741" y="671804"/>
                      </a:cubicBezTo>
                      <a:cubicBezTo>
                        <a:pt x="298705" y="684997"/>
                        <a:pt x="280667" y="688111"/>
                        <a:pt x="268418" y="696686"/>
                      </a:cubicBezTo>
                      <a:cubicBezTo>
                        <a:pt x="259925" y="702631"/>
                        <a:pt x="252163" y="709596"/>
                        <a:pt x="243537" y="715347"/>
                      </a:cubicBezTo>
                      <a:cubicBezTo>
                        <a:pt x="233477" y="722053"/>
                        <a:pt x="222688" y="727600"/>
                        <a:pt x="212435" y="734008"/>
                      </a:cubicBezTo>
                      <a:cubicBezTo>
                        <a:pt x="177265" y="755989"/>
                        <a:pt x="211366" y="737652"/>
                        <a:pt x="168892" y="758890"/>
                      </a:cubicBezTo>
                      <a:cubicBezTo>
                        <a:pt x="166818" y="765110"/>
                        <a:pt x="156154" y="776827"/>
                        <a:pt x="162671" y="777551"/>
                      </a:cubicBezTo>
                      <a:cubicBezTo>
                        <a:pt x="201880" y="781908"/>
                        <a:pt x="241525" y="774357"/>
                        <a:pt x="280859" y="771331"/>
                      </a:cubicBezTo>
                      <a:cubicBezTo>
                        <a:pt x="295712" y="770188"/>
                        <a:pt x="345360" y="761617"/>
                        <a:pt x="361724" y="758890"/>
                      </a:cubicBezTo>
                      <a:cubicBezTo>
                        <a:pt x="367945" y="748523"/>
                        <a:pt x="375383" y="738795"/>
                        <a:pt x="380386" y="727788"/>
                      </a:cubicBezTo>
                      <a:cubicBezTo>
                        <a:pt x="393621" y="698671"/>
                        <a:pt x="390783" y="679494"/>
                        <a:pt x="411488" y="653143"/>
                      </a:cubicBezTo>
                      <a:cubicBezTo>
                        <a:pt x="425981" y="634697"/>
                        <a:pt x="461251" y="603380"/>
                        <a:pt x="461251" y="603380"/>
                      </a:cubicBezTo>
                      <a:cubicBezTo>
                        <a:pt x="463324" y="613747"/>
                        <a:pt x="466236" y="623982"/>
                        <a:pt x="467471" y="634482"/>
                      </a:cubicBezTo>
                      <a:cubicBezTo>
                        <a:pt x="470388" y="659279"/>
                        <a:pt x="466833" y="685120"/>
                        <a:pt x="473692" y="709127"/>
                      </a:cubicBezTo>
                      <a:cubicBezTo>
                        <a:pt x="475746" y="716315"/>
                        <a:pt x="486133" y="717420"/>
                        <a:pt x="492353" y="721567"/>
                      </a:cubicBezTo>
                      <a:cubicBezTo>
                        <a:pt x="496500" y="715347"/>
                        <a:pt x="499508" y="708192"/>
                        <a:pt x="504794" y="702906"/>
                      </a:cubicBezTo>
                      <a:cubicBezTo>
                        <a:pt x="510080" y="697620"/>
                        <a:pt x="518669" y="696208"/>
                        <a:pt x="523455" y="690465"/>
                      </a:cubicBezTo>
                      <a:cubicBezTo>
                        <a:pt x="529391" y="683342"/>
                        <a:pt x="531749" y="673878"/>
                        <a:pt x="535896" y="665584"/>
                      </a:cubicBezTo>
                      <a:cubicBezTo>
                        <a:pt x="536441" y="668310"/>
                        <a:pt x="541301" y="713138"/>
                        <a:pt x="554557" y="715347"/>
                      </a:cubicBezTo>
                      <a:cubicBezTo>
                        <a:pt x="563704" y="716871"/>
                        <a:pt x="571145" y="707053"/>
                        <a:pt x="579439" y="702906"/>
                      </a:cubicBezTo>
                      <a:cubicBezTo>
                        <a:pt x="596027" y="678024"/>
                        <a:pt x="619746" y="656631"/>
                        <a:pt x="629202" y="628261"/>
                      </a:cubicBezTo>
                      <a:cubicBezTo>
                        <a:pt x="631275" y="622041"/>
                        <a:pt x="632839" y="615627"/>
                        <a:pt x="635422" y="609600"/>
                      </a:cubicBezTo>
                      <a:cubicBezTo>
                        <a:pt x="639075" y="601077"/>
                        <a:pt x="647863" y="575445"/>
                        <a:pt x="647863" y="584718"/>
                      </a:cubicBezTo>
                      <a:cubicBezTo>
                        <a:pt x="647863" y="603592"/>
                        <a:pt x="630416" y="629577"/>
                        <a:pt x="622982" y="646923"/>
                      </a:cubicBezTo>
                      <a:cubicBezTo>
                        <a:pt x="620399" y="652950"/>
                        <a:pt x="610204" y="665584"/>
                        <a:pt x="616761" y="665584"/>
                      </a:cubicBezTo>
                      <a:cubicBezTo>
                        <a:pt x="624237" y="665584"/>
                        <a:pt x="625055" y="653143"/>
                        <a:pt x="629202" y="646923"/>
                      </a:cubicBezTo>
                      <a:cubicBezTo>
                        <a:pt x="637105" y="623213"/>
                        <a:pt x="654084" y="581976"/>
                        <a:pt x="654084" y="553616"/>
                      </a:cubicBezTo>
                      <a:cubicBezTo>
                        <a:pt x="654084" y="545067"/>
                        <a:pt x="650113" y="570250"/>
                        <a:pt x="647863" y="578498"/>
                      </a:cubicBezTo>
                      <a:cubicBezTo>
                        <a:pt x="637181" y="617664"/>
                        <a:pt x="638649" y="612360"/>
                        <a:pt x="629202" y="640702"/>
                      </a:cubicBezTo>
                      <a:cubicBezTo>
                        <a:pt x="630731" y="629996"/>
                        <a:pt x="643210" y="545877"/>
                        <a:pt x="641643" y="541176"/>
                      </a:cubicBezTo>
                      <a:lnTo>
                        <a:pt x="629202" y="578498"/>
                      </a:lnTo>
                      <a:cubicBezTo>
                        <a:pt x="631275" y="561910"/>
                        <a:pt x="632674" y="545224"/>
                        <a:pt x="635422" y="528735"/>
                      </a:cubicBezTo>
                      <a:cubicBezTo>
                        <a:pt x="636828" y="520302"/>
                        <a:pt x="644346" y="511964"/>
                        <a:pt x="641643" y="503853"/>
                      </a:cubicBezTo>
                      <a:cubicBezTo>
                        <a:pt x="639279" y="496761"/>
                        <a:pt x="629202" y="495559"/>
                        <a:pt x="622982" y="491412"/>
                      </a:cubicBezTo>
                      <a:cubicBezTo>
                        <a:pt x="616761" y="497633"/>
                        <a:pt x="609433" y="502915"/>
                        <a:pt x="604320" y="510074"/>
                      </a:cubicBezTo>
                      <a:cubicBezTo>
                        <a:pt x="594714" y="523522"/>
                        <a:pt x="590735" y="538390"/>
                        <a:pt x="585659" y="553616"/>
                      </a:cubicBezTo>
                      <a:cubicBezTo>
                        <a:pt x="596196" y="479867"/>
                        <a:pt x="594375" y="513274"/>
                        <a:pt x="585659" y="404327"/>
                      </a:cubicBezTo>
                      <a:cubicBezTo>
                        <a:pt x="581957" y="358048"/>
                        <a:pt x="583419" y="366503"/>
                        <a:pt x="573218" y="335902"/>
                      </a:cubicBezTo>
                      <a:cubicBezTo>
                        <a:pt x="569071" y="342122"/>
                        <a:pt x="564120" y="347876"/>
                        <a:pt x="560777" y="354563"/>
                      </a:cubicBezTo>
                      <a:cubicBezTo>
                        <a:pt x="557845" y="360428"/>
                        <a:pt x="560422" y="376157"/>
                        <a:pt x="554557" y="373225"/>
                      </a:cubicBezTo>
                      <a:cubicBezTo>
                        <a:pt x="543743" y="367818"/>
                        <a:pt x="544445" y="350672"/>
                        <a:pt x="535896" y="342123"/>
                      </a:cubicBezTo>
                      <a:cubicBezTo>
                        <a:pt x="529339" y="335566"/>
                        <a:pt x="519308" y="333829"/>
                        <a:pt x="511014" y="329682"/>
                      </a:cubicBezTo>
                      <a:cubicBezTo>
                        <a:pt x="506867" y="323462"/>
                        <a:pt x="504411" y="315691"/>
                        <a:pt x="498573" y="311021"/>
                      </a:cubicBezTo>
                      <a:cubicBezTo>
                        <a:pt x="483699" y="299122"/>
                        <a:pt x="470761" y="307088"/>
                        <a:pt x="455031" y="311021"/>
                      </a:cubicBezTo>
                      <a:cubicBezTo>
                        <a:pt x="440656" y="397262"/>
                        <a:pt x="452821" y="340479"/>
                        <a:pt x="442590" y="217714"/>
                      </a:cubicBezTo>
                      <a:cubicBezTo>
                        <a:pt x="442045" y="211180"/>
                        <a:pt x="438443" y="205273"/>
                        <a:pt x="436369" y="199053"/>
                      </a:cubicBezTo>
                      <a:cubicBezTo>
                        <a:pt x="426023" y="230094"/>
                        <a:pt x="435796" y="217141"/>
                        <a:pt x="417708" y="199053"/>
                      </a:cubicBezTo>
                      <a:cubicBezTo>
                        <a:pt x="412422" y="193767"/>
                        <a:pt x="405267" y="190759"/>
                        <a:pt x="399047" y="186612"/>
                      </a:cubicBezTo>
                      <a:cubicBezTo>
                        <a:pt x="383153" y="234290"/>
                        <a:pt x="399047" y="178444"/>
                        <a:pt x="399047" y="279918"/>
                      </a:cubicBezTo>
                      <a:cubicBezTo>
                        <a:pt x="399047" y="288467"/>
                        <a:pt x="395828" y="263042"/>
                        <a:pt x="392826" y="255037"/>
                      </a:cubicBezTo>
                      <a:cubicBezTo>
                        <a:pt x="389570" y="246355"/>
                        <a:pt x="384039" y="238678"/>
                        <a:pt x="380386" y="230155"/>
                      </a:cubicBezTo>
                      <a:cubicBezTo>
                        <a:pt x="372798" y="212449"/>
                        <a:pt x="376665" y="207774"/>
                        <a:pt x="361724" y="192833"/>
                      </a:cubicBezTo>
                      <a:cubicBezTo>
                        <a:pt x="356438" y="187547"/>
                        <a:pt x="349283" y="184539"/>
                        <a:pt x="343063" y="180392"/>
                      </a:cubicBezTo>
                      <a:cubicBezTo>
                        <a:pt x="319210" y="216171"/>
                        <a:pt x="336843" y="180504"/>
                        <a:pt x="336843" y="236376"/>
                      </a:cubicBezTo>
                      <a:cubicBezTo>
                        <a:pt x="336843" y="244925"/>
                        <a:pt x="333624" y="219499"/>
                        <a:pt x="330622" y="211494"/>
                      </a:cubicBezTo>
                      <a:cubicBezTo>
                        <a:pt x="320796" y="185291"/>
                        <a:pt x="318527" y="186957"/>
                        <a:pt x="299520" y="167951"/>
                      </a:cubicBezTo>
                      <a:cubicBezTo>
                        <a:pt x="297447" y="174171"/>
                        <a:pt x="299857" y="186612"/>
                        <a:pt x="293300" y="186612"/>
                      </a:cubicBezTo>
                      <a:cubicBezTo>
                        <a:pt x="285824" y="186612"/>
                        <a:pt x="285826" y="173539"/>
                        <a:pt x="280859" y="167951"/>
                      </a:cubicBezTo>
                      <a:cubicBezTo>
                        <a:pt x="269170" y="154801"/>
                        <a:pt x="254093" y="144704"/>
                        <a:pt x="243537" y="130629"/>
                      </a:cubicBezTo>
                      <a:cubicBezTo>
                        <a:pt x="237316" y="122335"/>
                        <a:pt x="231881" y="113389"/>
                        <a:pt x="224875" y="105747"/>
                      </a:cubicBezTo>
                      <a:cubicBezTo>
                        <a:pt x="209023" y="88455"/>
                        <a:pt x="175112" y="55984"/>
                        <a:pt x="175112" y="55984"/>
                      </a:cubicBezTo>
                      <a:cubicBezTo>
                        <a:pt x="173039" y="62204"/>
                        <a:pt x="168892" y="68088"/>
                        <a:pt x="168892" y="74645"/>
                      </a:cubicBezTo>
                      <a:cubicBezTo>
                        <a:pt x="168892" y="81202"/>
                        <a:pt x="175112" y="99863"/>
                        <a:pt x="175112" y="93306"/>
                      </a:cubicBezTo>
                      <a:cubicBezTo>
                        <a:pt x="175112" y="84757"/>
                        <a:pt x="173861" y="75382"/>
                        <a:pt x="168892" y="68425"/>
                      </a:cubicBezTo>
                      <a:cubicBezTo>
                        <a:pt x="157123" y="51948"/>
                        <a:pt x="142235" y="49172"/>
                        <a:pt x="125349" y="43543"/>
                      </a:cubicBezTo>
                      <a:cubicBezTo>
                        <a:pt x="138093" y="69031"/>
                        <a:pt x="137071" y="70696"/>
                        <a:pt x="156451" y="93306"/>
                      </a:cubicBezTo>
                      <a:cubicBezTo>
                        <a:pt x="162176" y="99985"/>
                        <a:pt x="169480" y="105209"/>
                        <a:pt x="175112" y="111967"/>
                      </a:cubicBezTo>
                      <a:cubicBezTo>
                        <a:pt x="201031" y="143070"/>
                        <a:pt x="172001" y="120261"/>
                        <a:pt x="206214" y="143070"/>
                      </a:cubicBezTo>
                      <a:cubicBezTo>
                        <a:pt x="202067" y="130629"/>
                        <a:pt x="201965" y="115987"/>
                        <a:pt x="193773" y="105747"/>
                      </a:cubicBezTo>
                      <a:cubicBezTo>
                        <a:pt x="163397" y="67776"/>
                        <a:pt x="178280" y="84033"/>
                        <a:pt x="150231" y="55984"/>
                      </a:cubicBezTo>
                      <a:cubicBezTo>
                        <a:pt x="152304" y="64278"/>
                        <a:pt x="152628" y="73219"/>
                        <a:pt x="156451" y="80865"/>
                      </a:cubicBezTo>
                      <a:cubicBezTo>
                        <a:pt x="167365" y="102694"/>
                        <a:pt x="178833" y="106978"/>
                        <a:pt x="193773" y="124408"/>
                      </a:cubicBezTo>
                      <a:cubicBezTo>
                        <a:pt x="208908" y="142065"/>
                        <a:pt x="212575" y="154061"/>
                        <a:pt x="231096" y="167951"/>
                      </a:cubicBezTo>
                      <a:cubicBezTo>
                        <a:pt x="240768" y="175205"/>
                        <a:pt x="251831" y="180392"/>
                        <a:pt x="262198" y="186612"/>
                      </a:cubicBezTo>
                      <a:cubicBezTo>
                        <a:pt x="266345" y="194906"/>
                        <a:pt x="274639" y="202221"/>
                        <a:pt x="274639" y="211494"/>
                      </a:cubicBezTo>
                      <a:cubicBezTo>
                        <a:pt x="274639" y="228937"/>
                        <a:pt x="237776" y="236988"/>
                        <a:pt x="255977" y="261257"/>
                      </a:cubicBezTo>
                      <a:cubicBezTo>
                        <a:pt x="261106" y="268096"/>
                        <a:pt x="272565" y="257110"/>
                        <a:pt x="280859" y="255037"/>
                      </a:cubicBezTo>
                      <a:cubicBezTo>
                        <a:pt x="278786" y="244670"/>
                        <a:pt x="274639" y="213362"/>
                        <a:pt x="274639" y="223935"/>
                      </a:cubicBezTo>
                      <a:cubicBezTo>
                        <a:pt x="274639" y="255106"/>
                        <a:pt x="274097" y="286812"/>
                        <a:pt x="280859" y="317241"/>
                      </a:cubicBezTo>
                      <a:cubicBezTo>
                        <a:pt x="284586" y="334015"/>
                        <a:pt x="305762" y="337983"/>
                        <a:pt x="318182" y="342123"/>
                      </a:cubicBezTo>
                      <a:cubicBezTo>
                        <a:pt x="316108" y="348343"/>
                        <a:pt x="316228" y="355806"/>
                        <a:pt x="311961" y="360784"/>
                      </a:cubicBezTo>
                      <a:cubicBezTo>
                        <a:pt x="284593" y="392713"/>
                        <a:pt x="263891" y="380008"/>
                        <a:pt x="299520" y="391886"/>
                      </a:cubicBezTo>
                      <a:cubicBezTo>
                        <a:pt x="322040" y="376873"/>
                        <a:pt x="320309" y="381018"/>
                        <a:pt x="336843" y="354563"/>
                      </a:cubicBezTo>
                      <a:cubicBezTo>
                        <a:pt x="341758" y="346700"/>
                        <a:pt x="358377" y="331500"/>
                        <a:pt x="349284" y="329682"/>
                      </a:cubicBezTo>
                      <a:cubicBezTo>
                        <a:pt x="333800" y="326585"/>
                        <a:pt x="320255" y="342123"/>
                        <a:pt x="305741" y="348343"/>
                      </a:cubicBezTo>
                      <a:cubicBezTo>
                        <a:pt x="295374" y="362857"/>
                        <a:pt x="285934" y="378081"/>
                        <a:pt x="274639" y="391886"/>
                      </a:cubicBezTo>
                      <a:cubicBezTo>
                        <a:pt x="234216" y="441291"/>
                        <a:pt x="262105" y="392072"/>
                        <a:pt x="237316" y="441649"/>
                      </a:cubicBezTo>
                      <a:cubicBezTo>
                        <a:pt x="235243" y="449943"/>
                        <a:pt x="225755" y="459855"/>
                        <a:pt x="231096" y="466531"/>
                      </a:cubicBezTo>
                      <a:cubicBezTo>
                        <a:pt x="247814" y="487428"/>
                        <a:pt x="273333" y="466202"/>
                        <a:pt x="287080" y="460310"/>
                      </a:cubicBezTo>
                      <a:cubicBezTo>
                        <a:pt x="293107" y="457727"/>
                        <a:pt x="299521" y="456163"/>
                        <a:pt x="305741" y="454090"/>
                      </a:cubicBezTo>
                      <a:cubicBezTo>
                        <a:pt x="311961" y="449943"/>
                        <a:pt x="321059" y="434962"/>
                        <a:pt x="324402" y="441649"/>
                      </a:cubicBezTo>
                      <a:cubicBezTo>
                        <a:pt x="326657" y="446159"/>
                        <a:pt x="302561" y="480630"/>
                        <a:pt x="299520" y="485192"/>
                      </a:cubicBezTo>
                      <a:cubicBezTo>
                        <a:pt x="297447" y="497633"/>
                        <a:pt x="293300" y="509902"/>
                        <a:pt x="293300" y="522514"/>
                      </a:cubicBezTo>
                      <a:cubicBezTo>
                        <a:pt x="293300" y="531063"/>
                        <a:pt x="291087" y="545990"/>
                        <a:pt x="299520" y="547396"/>
                      </a:cubicBezTo>
                      <a:cubicBezTo>
                        <a:pt x="322387" y="551207"/>
                        <a:pt x="345137" y="539102"/>
                        <a:pt x="367945" y="534955"/>
                      </a:cubicBezTo>
                      <a:cubicBezTo>
                        <a:pt x="376239" y="528735"/>
                        <a:pt x="402099" y="511658"/>
                        <a:pt x="392826" y="516294"/>
                      </a:cubicBezTo>
                      <a:cubicBezTo>
                        <a:pt x="371198" y="527108"/>
                        <a:pt x="350503" y="539852"/>
                        <a:pt x="330622" y="553616"/>
                      </a:cubicBezTo>
                      <a:cubicBezTo>
                        <a:pt x="323389" y="558623"/>
                        <a:pt x="317879" y="565769"/>
                        <a:pt x="311961" y="572278"/>
                      </a:cubicBezTo>
                      <a:cubicBezTo>
                        <a:pt x="297135" y="588587"/>
                        <a:pt x="283245" y="605732"/>
                        <a:pt x="268418" y="622041"/>
                      </a:cubicBezTo>
                      <a:cubicBezTo>
                        <a:pt x="262501" y="628550"/>
                        <a:pt x="255389" y="633944"/>
                        <a:pt x="249757" y="640702"/>
                      </a:cubicBezTo>
                      <a:cubicBezTo>
                        <a:pt x="223839" y="671804"/>
                        <a:pt x="252867" y="648996"/>
                        <a:pt x="218655" y="671804"/>
                      </a:cubicBezTo>
                      <a:cubicBezTo>
                        <a:pt x="216582" y="665584"/>
                        <a:pt x="218462" y="650560"/>
                        <a:pt x="212435" y="653143"/>
                      </a:cubicBezTo>
                      <a:cubicBezTo>
                        <a:pt x="192549" y="661666"/>
                        <a:pt x="175215" y="690310"/>
                        <a:pt x="162671" y="709127"/>
                      </a:cubicBezTo>
                      <a:cubicBezTo>
                        <a:pt x="164745" y="719494"/>
                        <a:pt x="160636" y="733624"/>
                        <a:pt x="168892" y="740229"/>
                      </a:cubicBezTo>
                      <a:cubicBezTo>
                        <a:pt x="175568" y="745569"/>
                        <a:pt x="186127" y="737831"/>
                        <a:pt x="193773" y="734008"/>
                      </a:cubicBezTo>
                      <a:cubicBezTo>
                        <a:pt x="215401" y="723194"/>
                        <a:pt x="234790" y="708339"/>
                        <a:pt x="255977" y="696686"/>
                      </a:cubicBezTo>
                      <a:cubicBezTo>
                        <a:pt x="273932" y="686811"/>
                        <a:pt x="327020" y="663621"/>
                        <a:pt x="349284" y="646923"/>
                      </a:cubicBezTo>
                      <a:cubicBezTo>
                        <a:pt x="364577" y="635453"/>
                        <a:pt x="378312" y="622041"/>
                        <a:pt x="392826" y="609600"/>
                      </a:cubicBezTo>
                      <a:cubicBezTo>
                        <a:pt x="396973" y="615820"/>
                        <a:pt x="403454" y="621008"/>
                        <a:pt x="405267" y="628261"/>
                      </a:cubicBezTo>
                      <a:cubicBezTo>
                        <a:pt x="422723" y="698084"/>
                        <a:pt x="385620" y="697179"/>
                        <a:pt x="461251" y="659363"/>
                      </a:cubicBezTo>
                      <a:cubicBezTo>
                        <a:pt x="477839" y="640702"/>
                        <a:pt x="499521" y="625545"/>
                        <a:pt x="511014" y="603380"/>
                      </a:cubicBezTo>
                      <a:cubicBezTo>
                        <a:pt x="529124" y="568454"/>
                        <a:pt x="548337" y="491412"/>
                        <a:pt x="548337" y="491412"/>
                      </a:cubicBezTo>
                      <a:cubicBezTo>
                        <a:pt x="550410" y="499706"/>
                        <a:pt x="553706" y="507787"/>
                        <a:pt x="554557" y="516294"/>
                      </a:cubicBezTo>
                      <a:cubicBezTo>
                        <a:pt x="566867" y="639408"/>
                        <a:pt x="549144" y="580925"/>
                        <a:pt x="566998" y="634482"/>
                      </a:cubicBezTo>
                      <a:cubicBezTo>
                        <a:pt x="565479" y="594979"/>
                        <a:pt x="612679" y="457307"/>
                        <a:pt x="529675" y="466531"/>
                      </a:cubicBezTo>
                      <a:cubicBezTo>
                        <a:pt x="520459" y="467555"/>
                        <a:pt x="513088" y="474825"/>
                        <a:pt x="504794" y="478972"/>
                      </a:cubicBezTo>
                      <a:cubicBezTo>
                        <a:pt x="475765" y="476898"/>
                        <a:pt x="446118" y="479064"/>
                        <a:pt x="417708" y="472751"/>
                      </a:cubicBezTo>
                      <a:cubicBezTo>
                        <a:pt x="407587" y="470502"/>
                        <a:pt x="401262" y="460116"/>
                        <a:pt x="392826" y="454090"/>
                      </a:cubicBezTo>
                      <a:cubicBezTo>
                        <a:pt x="386743" y="449745"/>
                        <a:pt x="380385" y="445796"/>
                        <a:pt x="374165" y="441649"/>
                      </a:cubicBezTo>
                      <a:cubicBezTo>
                        <a:pt x="376239" y="449943"/>
                        <a:pt x="375644" y="459418"/>
                        <a:pt x="380386" y="466531"/>
                      </a:cubicBezTo>
                      <a:cubicBezTo>
                        <a:pt x="384533" y="472751"/>
                        <a:pt x="395467" y="472409"/>
                        <a:pt x="399047" y="478972"/>
                      </a:cubicBezTo>
                      <a:cubicBezTo>
                        <a:pt x="408466" y="496241"/>
                        <a:pt x="417708" y="534955"/>
                        <a:pt x="417708" y="534955"/>
                      </a:cubicBezTo>
                      <a:cubicBezTo>
                        <a:pt x="426900" y="608492"/>
                        <a:pt x="423143" y="675733"/>
                        <a:pt x="436369" y="609600"/>
                      </a:cubicBezTo>
                      <a:cubicBezTo>
                        <a:pt x="440915" y="586868"/>
                        <a:pt x="443781" y="563806"/>
                        <a:pt x="448810" y="541176"/>
                      </a:cubicBezTo>
                      <a:cubicBezTo>
                        <a:pt x="452085" y="526440"/>
                        <a:pt x="457857" y="512342"/>
                        <a:pt x="461251" y="497633"/>
                      </a:cubicBezTo>
                      <a:cubicBezTo>
                        <a:pt x="464087" y="485343"/>
                        <a:pt x="464412" y="472546"/>
                        <a:pt x="467471" y="460310"/>
                      </a:cubicBezTo>
                      <a:cubicBezTo>
                        <a:pt x="470651" y="447588"/>
                        <a:pt x="476144" y="435549"/>
                        <a:pt x="479912" y="422988"/>
                      </a:cubicBezTo>
                      <a:cubicBezTo>
                        <a:pt x="503356" y="344844"/>
                        <a:pt x="471440" y="442187"/>
                        <a:pt x="492353" y="379445"/>
                      </a:cubicBezTo>
                      <a:cubicBezTo>
                        <a:pt x="494426" y="385665"/>
                        <a:pt x="496848" y="391780"/>
                        <a:pt x="498573" y="398106"/>
                      </a:cubicBezTo>
                      <a:cubicBezTo>
                        <a:pt x="503072" y="414602"/>
                        <a:pt x="505606" y="431649"/>
                        <a:pt x="511014" y="447870"/>
                      </a:cubicBezTo>
                      <a:cubicBezTo>
                        <a:pt x="513088" y="454090"/>
                        <a:pt x="515351" y="460251"/>
                        <a:pt x="517235" y="466531"/>
                      </a:cubicBezTo>
                      <a:cubicBezTo>
                        <a:pt x="521572" y="480989"/>
                        <a:pt x="525338" y="495616"/>
                        <a:pt x="529675" y="510074"/>
                      </a:cubicBezTo>
                      <a:cubicBezTo>
                        <a:pt x="531559" y="516354"/>
                        <a:pt x="531800" y="523615"/>
                        <a:pt x="535896" y="528735"/>
                      </a:cubicBezTo>
                      <a:cubicBezTo>
                        <a:pt x="540566" y="534573"/>
                        <a:pt x="548337" y="537029"/>
                        <a:pt x="554557" y="541176"/>
                      </a:cubicBezTo>
                      <a:cubicBezTo>
                        <a:pt x="562851" y="553617"/>
                        <a:pt x="564933" y="574872"/>
                        <a:pt x="579439" y="578498"/>
                      </a:cubicBezTo>
                      <a:cubicBezTo>
                        <a:pt x="628543" y="590773"/>
                        <a:pt x="595801" y="584008"/>
                        <a:pt x="678965" y="590939"/>
                      </a:cubicBezTo>
                      <a:cubicBezTo>
                        <a:pt x="690980" y="626979"/>
                        <a:pt x="688370" y="610670"/>
                        <a:pt x="678965" y="671804"/>
                      </a:cubicBezTo>
                      <a:cubicBezTo>
                        <a:pt x="677968" y="678285"/>
                        <a:pt x="677381" y="685829"/>
                        <a:pt x="672745" y="690465"/>
                      </a:cubicBezTo>
                      <a:cubicBezTo>
                        <a:pt x="668109" y="695102"/>
                        <a:pt x="660304" y="694612"/>
                        <a:pt x="654084" y="696686"/>
                      </a:cubicBezTo>
                      <a:cubicBezTo>
                        <a:pt x="652010" y="709127"/>
                        <a:pt x="657953" y="726441"/>
                        <a:pt x="647863" y="734008"/>
                      </a:cubicBezTo>
                      <a:cubicBezTo>
                        <a:pt x="640825" y="739286"/>
                        <a:pt x="626887" y="723834"/>
                        <a:pt x="629202" y="715347"/>
                      </a:cubicBezTo>
                      <a:cubicBezTo>
                        <a:pt x="634658" y="695343"/>
                        <a:pt x="655657" y="683243"/>
                        <a:pt x="666524" y="665584"/>
                      </a:cubicBezTo>
                      <a:cubicBezTo>
                        <a:pt x="676386" y="649558"/>
                        <a:pt x="680662" y="627694"/>
                        <a:pt x="685186" y="609600"/>
                      </a:cubicBezTo>
                      <a:cubicBezTo>
                        <a:pt x="681039" y="590939"/>
                        <a:pt x="677671" y="572087"/>
                        <a:pt x="672745" y="553616"/>
                      </a:cubicBezTo>
                      <a:cubicBezTo>
                        <a:pt x="669366" y="540945"/>
                        <a:pt x="664451" y="528735"/>
                        <a:pt x="660304" y="516294"/>
                      </a:cubicBezTo>
                      <a:cubicBezTo>
                        <a:pt x="658231" y="510074"/>
                        <a:pt x="656667" y="503660"/>
                        <a:pt x="654084" y="497633"/>
                      </a:cubicBezTo>
                      <a:cubicBezTo>
                        <a:pt x="647863" y="483119"/>
                        <a:pt x="641287" y="468752"/>
                        <a:pt x="635422" y="454090"/>
                      </a:cubicBezTo>
                      <a:cubicBezTo>
                        <a:pt x="632987" y="448002"/>
                        <a:pt x="631865" y="441421"/>
                        <a:pt x="629202" y="435429"/>
                      </a:cubicBezTo>
                      <a:cubicBezTo>
                        <a:pt x="589613" y="346350"/>
                        <a:pt x="631189" y="445621"/>
                        <a:pt x="591880" y="367004"/>
                      </a:cubicBezTo>
                      <a:cubicBezTo>
                        <a:pt x="574238" y="331721"/>
                        <a:pt x="576915" y="322170"/>
                        <a:pt x="554557" y="292359"/>
                      </a:cubicBezTo>
                      <a:cubicBezTo>
                        <a:pt x="549279" y="285321"/>
                        <a:pt x="543215" y="278578"/>
                        <a:pt x="535896" y="273698"/>
                      </a:cubicBezTo>
                      <a:cubicBezTo>
                        <a:pt x="530440" y="270061"/>
                        <a:pt x="523455" y="269551"/>
                        <a:pt x="517235" y="267478"/>
                      </a:cubicBezTo>
                      <a:cubicBezTo>
                        <a:pt x="515161" y="273698"/>
                        <a:pt x="517444" y="287425"/>
                        <a:pt x="511014" y="286139"/>
                      </a:cubicBezTo>
                      <a:cubicBezTo>
                        <a:pt x="499513" y="283838"/>
                        <a:pt x="492950" y="270801"/>
                        <a:pt x="486133" y="261257"/>
                      </a:cubicBezTo>
                      <a:cubicBezTo>
                        <a:pt x="482322" y="255921"/>
                        <a:pt x="482844" y="248461"/>
                        <a:pt x="479912" y="242596"/>
                      </a:cubicBezTo>
                      <a:cubicBezTo>
                        <a:pt x="476569" y="235909"/>
                        <a:pt x="471868" y="229981"/>
                        <a:pt x="467471" y="223935"/>
                      </a:cubicBezTo>
                      <a:cubicBezTo>
                        <a:pt x="455276" y="207166"/>
                        <a:pt x="444020" y="189584"/>
                        <a:pt x="430149" y="174172"/>
                      </a:cubicBezTo>
                      <a:cubicBezTo>
                        <a:pt x="425148" y="168615"/>
                        <a:pt x="417231" y="166517"/>
                        <a:pt x="411488" y="161731"/>
                      </a:cubicBezTo>
                      <a:cubicBezTo>
                        <a:pt x="399941" y="152108"/>
                        <a:pt x="389607" y="135777"/>
                        <a:pt x="374165" y="130629"/>
                      </a:cubicBezTo>
                      <a:cubicBezTo>
                        <a:pt x="362200" y="126640"/>
                        <a:pt x="349252" y="126664"/>
                        <a:pt x="336843" y="124408"/>
                      </a:cubicBezTo>
                      <a:cubicBezTo>
                        <a:pt x="270155" y="112283"/>
                        <a:pt x="345619" y="123885"/>
                        <a:pt x="262198" y="111967"/>
                      </a:cubicBezTo>
                      <a:cubicBezTo>
                        <a:pt x="217555" y="82207"/>
                        <a:pt x="235448" y="97659"/>
                        <a:pt x="206214" y="68425"/>
                      </a:cubicBezTo>
                      <a:cubicBezTo>
                        <a:pt x="204141" y="60131"/>
                        <a:pt x="203466" y="51355"/>
                        <a:pt x="199994" y="43543"/>
                      </a:cubicBezTo>
                      <a:cubicBezTo>
                        <a:pt x="195084" y="32495"/>
                        <a:pt x="189882" y="20990"/>
                        <a:pt x="181333" y="12441"/>
                      </a:cubicBezTo>
                      <a:cubicBezTo>
                        <a:pt x="176696" y="7805"/>
                        <a:pt x="169072" y="7643"/>
                        <a:pt x="162671" y="6221"/>
                      </a:cubicBezTo>
                      <a:cubicBezTo>
                        <a:pt x="150359" y="3485"/>
                        <a:pt x="137790" y="2074"/>
                        <a:pt x="125349" y="0"/>
                      </a:cubicBezTo>
                      <a:cubicBezTo>
                        <a:pt x="104614" y="2074"/>
                        <a:pt x="82769" y="-788"/>
                        <a:pt x="63145" y="6221"/>
                      </a:cubicBezTo>
                      <a:cubicBezTo>
                        <a:pt x="52099" y="10166"/>
                        <a:pt x="47169" y="23469"/>
                        <a:pt x="38263" y="31102"/>
                      </a:cubicBezTo>
                      <a:cubicBezTo>
                        <a:pt x="32587" y="35967"/>
                        <a:pt x="25822" y="39396"/>
                        <a:pt x="19602" y="43543"/>
                      </a:cubicBezTo>
                      <a:cubicBezTo>
                        <a:pt x="19414" y="43825"/>
                        <a:pt x="-19928" y="93306"/>
                        <a:pt x="13382" y="93306"/>
                      </a:cubicBezTo>
                      <a:cubicBezTo>
                        <a:pt x="24548" y="93306"/>
                        <a:pt x="21675" y="72571"/>
                        <a:pt x="25822" y="62204"/>
                      </a:cubicBezTo>
                      <a:cubicBezTo>
                        <a:pt x="27896" y="80865"/>
                        <a:pt x="28956" y="99667"/>
                        <a:pt x="32043" y="118188"/>
                      </a:cubicBezTo>
                      <a:cubicBezTo>
                        <a:pt x="34141" y="130774"/>
                        <a:pt x="45308" y="152018"/>
                        <a:pt x="50704" y="161731"/>
                      </a:cubicBezTo>
                      <a:cubicBezTo>
                        <a:pt x="56576" y="172300"/>
                        <a:pt x="63958" y="182019"/>
                        <a:pt x="69365" y="192833"/>
                      </a:cubicBezTo>
                      <a:cubicBezTo>
                        <a:pt x="72297" y="198698"/>
                        <a:pt x="71949" y="206038"/>
                        <a:pt x="75586" y="211494"/>
                      </a:cubicBezTo>
                      <a:cubicBezTo>
                        <a:pt x="84569" y="224968"/>
                        <a:pt x="96572" y="236170"/>
                        <a:pt x="106688" y="248816"/>
                      </a:cubicBezTo>
                      <a:cubicBezTo>
                        <a:pt x="113164" y="256912"/>
                        <a:pt x="118018" y="266367"/>
                        <a:pt x="125349" y="273698"/>
                      </a:cubicBezTo>
                      <a:cubicBezTo>
                        <a:pt x="137408" y="285757"/>
                        <a:pt x="147493" y="287300"/>
                        <a:pt x="162671" y="292359"/>
                      </a:cubicBezTo>
                      <a:cubicBezTo>
                        <a:pt x="168892" y="296506"/>
                        <a:pt x="179520" y="297547"/>
                        <a:pt x="181333" y="304800"/>
                      </a:cubicBezTo>
                      <a:cubicBezTo>
                        <a:pt x="206260" y="404506"/>
                        <a:pt x="155834" y="381314"/>
                        <a:pt x="206214" y="398106"/>
                      </a:cubicBezTo>
                      <a:cubicBezTo>
                        <a:pt x="204141" y="406400"/>
                        <a:pt x="197645" y="414768"/>
                        <a:pt x="199994" y="422988"/>
                      </a:cubicBezTo>
                      <a:cubicBezTo>
                        <a:pt x="201899" y="429656"/>
                        <a:pt x="230068" y="451454"/>
                        <a:pt x="237316" y="454090"/>
                      </a:cubicBezTo>
                      <a:cubicBezTo>
                        <a:pt x="253385" y="459933"/>
                        <a:pt x="287080" y="466531"/>
                        <a:pt x="287080" y="466531"/>
                      </a:cubicBezTo>
                      <a:cubicBezTo>
                        <a:pt x="285006" y="476898"/>
                        <a:pt x="284571" y="487734"/>
                        <a:pt x="280859" y="497633"/>
                      </a:cubicBezTo>
                      <a:cubicBezTo>
                        <a:pt x="273577" y="517052"/>
                        <a:pt x="265333" y="517610"/>
                        <a:pt x="249757" y="528735"/>
                      </a:cubicBezTo>
                      <a:cubicBezTo>
                        <a:pt x="241321" y="534761"/>
                        <a:pt x="233169" y="541176"/>
                        <a:pt x="224875" y="547396"/>
                      </a:cubicBezTo>
                      <a:cubicBezTo>
                        <a:pt x="220728" y="555690"/>
                        <a:pt x="210616" y="563185"/>
                        <a:pt x="212435" y="572278"/>
                      </a:cubicBezTo>
                      <a:cubicBezTo>
                        <a:pt x="213721" y="578707"/>
                        <a:pt x="224735" y="576908"/>
                        <a:pt x="231096" y="578498"/>
                      </a:cubicBezTo>
                      <a:cubicBezTo>
                        <a:pt x="241353" y="581062"/>
                        <a:pt x="251831" y="582645"/>
                        <a:pt x="262198" y="584718"/>
                      </a:cubicBezTo>
                      <a:cubicBezTo>
                        <a:pt x="263231" y="585235"/>
                        <a:pt x="303983" y="604324"/>
                        <a:pt x="305741" y="609600"/>
                      </a:cubicBezTo>
                      <a:cubicBezTo>
                        <a:pt x="308444" y="617711"/>
                        <a:pt x="304051" y="627232"/>
                        <a:pt x="299520" y="634482"/>
                      </a:cubicBezTo>
                      <a:cubicBezTo>
                        <a:pt x="293304" y="644428"/>
                        <a:pt x="282933" y="651069"/>
                        <a:pt x="274639" y="659363"/>
                      </a:cubicBezTo>
                      <a:cubicBezTo>
                        <a:pt x="259236" y="705571"/>
                        <a:pt x="270035" y="652599"/>
                        <a:pt x="330622" y="690465"/>
                      </a:cubicBezTo>
                      <a:cubicBezTo>
                        <a:pt x="336962" y="694427"/>
                        <a:pt x="322968" y="703384"/>
                        <a:pt x="318182" y="709127"/>
                      </a:cubicBezTo>
                      <a:cubicBezTo>
                        <a:pt x="312550" y="715885"/>
                        <a:pt x="290726" y="727557"/>
                        <a:pt x="299520" y="727788"/>
                      </a:cubicBezTo>
                      <a:cubicBezTo>
                        <a:pt x="384604" y="730027"/>
                        <a:pt x="469545" y="719494"/>
                        <a:pt x="554557" y="715347"/>
                      </a:cubicBezTo>
                      <a:cubicBezTo>
                        <a:pt x="569071" y="713274"/>
                        <a:pt x="584191" y="704491"/>
                        <a:pt x="598100" y="709127"/>
                      </a:cubicBezTo>
                      <a:cubicBezTo>
                        <a:pt x="604320" y="711200"/>
                        <a:pt x="587946" y="722543"/>
                        <a:pt x="591880" y="727788"/>
                      </a:cubicBezTo>
                      <a:cubicBezTo>
                        <a:pt x="597009" y="734627"/>
                        <a:pt x="608467" y="731935"/>
                        <a:pt x="616761" y="734008"/>
                      </a:cubicBezTo>
                      <a:cubicBezTo>
                        <a:pt x="614688" y="740229"/>
                        <a:pt x="613124" y="758697"/>
                        <a:pt x="610541" y="752670"/>
                      </a:cubicBezTo>
                      <a:cubicBezTo>
                        <a:pt x="597693" y="722692"/>
                        <a:pt x="598100" y="708251"/>
                        <a:pt x="598100" y="68424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custGeom>
                  <a:avLst/>
                  <a:gdLst>
                    <a:gd name="textAreaLeft" fmla="*/ 0 w 396720"/>
                    <a:gd name="textAreaRight" fmla="*/ 397080 w 396720"/>
                    <a:gd name="textAreaTop" fmla="*/ 0 h 633960"/>
                    <a:gd name="textAreaBottom" fmla="*/ 633960 h 633960"/>
                  </a:gdLst>
                  <a:ahLst/>
                  <a:rect l="textAreaLeft" t="textAreaTop" r="textAreaRight" b="textAreaBottom"/>
                  <a:pathLst>
                    <a:path w="1007864" h="1611085">
                      <a:moveTo>
                        <a:pt x="12440" y="49763"/>
                      </a:moveTo>
                      <a:cubicBezTo>
                        <a:pt x="33175" y="151363"/>
                        <a:pt x="53572" y="253032"/>
                        <a:pt x="74645" y="354563"/>
                      </a:cubicBezTo>
                      <a:cubicBezTo>
                        <a:pt x="81096" y="385643"/>
                        <a:pt x="75135" y="375625"/>
                        <a:pt x="99526" y="391885"/>
                      </a:cubicBezTo>
                      <a:cubicBezTo>
                        <a:pt x="115162" y="438790"/>
                        <a:pt x="94071" y="380977"/>
                        <a:pt x="118187" y="429208"/>
                      </a:cubicBezTo>
                      <a:cubicBezTo>
                        <a:pt x="130517" y="453869"/>
                        <a:pt x="115998" y="448688"/>
                        <a:pt x="143069" y="472751"/>
                      </a:cubicBezTo>
                      <a:cubicBezTo>
                        <a:pt x="154244" y="482684"/>
                        <a:pt x="167950" y="489338"/>
                        <a:pt x="180391" y="497632"/>
                      </a:cubicBezTo>
                      <a:lnTo>
                        <a:pt x="199053" y="510073"/>
                      </a:lnTo>
                      <a:cubicBezTo>
                        <a:pt x="203945" y="502735"/>
                        <a:pt x="218941" y="483789"/>
                        <a:pt x="217714" y="472751"/>
                      </a:cubicBezTo>
                      <a:cubicBezTo>
                        <a:pt x="216266" y="459717"/>
                        <a:pt x="209420" y="447869"/>
                        <a:pt x="205273" y="435428"/>
                      </a:cubicBezTo>
                      <a:cubicBezTo>
                        <a:pt x="191289" y="393476"/>
                        <a:pt x="202954" y="431401"/>
                        <a:pt x="211494" y="441649"/>
                      </a:cubicBezTo>
                      <a:cubicBezTo>
                        <a:pt x="216280" y="447392"/>
                        <a:pt x="223935" y="449943"/>
                        <a:pt x="230155" y="454090"/>
                      </a:cubicBezTo>
                      <a:cubicBezTo>
                        <a:pt x="234302" y="460310"/>
                        <a:pt x="237310" y="467465"/>
                        <a:pt x="242596" y="472751"/>
                      </a:cubicBezTo>
                      <a:cubicBezTo>
                        <a:pt x="247882" y="478037"/>
                        <a:pt x="256587" y="479354"/>
                        <a:pt x="261257" y="485192"/>
                      </a:cubicBezTo>
                      <a:cubicBezTo>
                        <a:pt x="265353" y="490312"/>
                        <a:pt x="263381" y="498733"/>
                        <a:pt x="267477" y="503853"/>
                      </a:cubicBezTo>
                      <a:cubicBezTo>
                        <a:pt x="272147" y="509691"/>
                        <a:pt x="280550" y="511327"/>
                        <a:pt x="286138" y="516294"/>
                      </a:cubicBezTo>
                      <a:cubicBezTo>
                        <a:pt x="299288" y="527983"/>
                        <a:pt x="313701" y="538977"/>
                        <a:pt x="323461" y="553616"/>
                      </a:cubicBezTo>
                      <a:cubicBezTo>
                        <a:pt x="327608" y="559836"/>
                        <a:pt x="330616" y="566991"/>
                        <a:pt x="335902" y="572277"/>
                      </a:cubicBezTo>
                      <a:cubicBezTo>
                        <a:pt x="341188" y="577563"/>
                        <a:pt x="348820" y="579932"/>
                        <a:pt x="354563" y="584718"/>
                      </a:cubicBezTo>
                      <a:cubicBezTo>
                        <a:pt x="361321" y="590350"/>
                        <a:pt x="366466" y="597747"/>
                        <a:pt x="373224" y="603379"/>
                      </a:cubicBezTo>
                      <a:cubicBezTo>
                        <a:pt x="378967" y="608165"/>
                        <a:pt x="386142" y="611034"/>
                        <a:pt x="391885" y="615820"/>
                      </a:cubicBezTo>
                      <a:cubicBezTo>
                        <a:pt x="398643" y="621452"/>
                        <a:pt x="403789" y="628849"/>
                        <a:pt x="410547" y="634481"/>
                      </a:cubicBezTo>
                      <a:cubicBezTo>
                        <a:pt x="416290" y="639267"/>
                        <a:pt x="423922" y="641636"/>
                        <a:pt x="429208" y="646922"/>
                      </a:cubicBezTo>
                      <a:cubicBezTo>
                        <a:pt x="466303" y="684018"/>
                        <a:pt x="432060" y="658683"/>
                        <a:pt x="460310" y="690465"/>
                      </a:cubicBezTo>
                      <a:cubicBezTo>
                        <a:pt x="471999" y="703615"/>
                        <a:pt x="497632" y="727788"/>
                        <a:pt x="497632" y="727788"/>
                      </a:cubicBezTo>
                      <a:cubicBezTo>
                        <a:pt x="517971" y="788798"/>
                        <a:pt x="484996" y="702613"/>
                        <a:pt x="522514" y="758890"/>
                      </a:cubicBezTo>
                      <a:cubicBezTo>
                        <a:pt x="554647" y="807090"/>
                        <a:pt x="500545" y="764979"/>
                        <a:pt x="547396" y="796212"/>
                      </a:cubicBezTo>
                      <a:lnTo>
                        <a:pt x="578498" y="889518"/>
                      </a:lnTo>
                      <a:lnTo>
                        <a:pt x="584718" y="908179"/>
                      </a:lnTo>
                      <a:cubicBezTo>
                        <a:pt x="586791" y="914400"/>
                        <a:pt x="587301" y="921385"/>
                        <a:pt x="590938" y="926841"/>
                      </a:cubicBezTo>
                      <a:cubicBezTo>
                        <a:pt x="626586" y="980311"/>
                        <a:pt x="583851" y="912665"/>
                        <a:pt x="609600" y="964163"/>
                      </a:cubicBezTo>
                      <a:cubicBezTo>
                        <a:pt x="612943" y="970850"/>
                        <a:pt x="618697" y="976137"/>
                        <a:pt x="622040" y="982824"/>
                      </a:cubicBezTo>
                      <a:cubicBezTo>
                        <a:pt x="647792" y="1034328"/>
                        <a:pt x="605050" y="966668"/>
                        <a:pt x="640702" y="1020147"/>
                      </a:cubicBezTo>
                      <a:cubicBezTo>
                        <a:pt x="656336" y="1067052"/>
                        <a:pt x="635246" y="1009236"/>
                        <a:pt x="659363" y="1057469"/>
                      </a:cubicBezTo>
                      <a:cubicBezTo>
                        <a:pt x="664332" y="1067407"/>
                        <a:pt x="669148" y="1091718"/>
                        <a:pt x="671804" y="1101012"/>
                      </a:cubicBezTo>
                      <a:cubicBezTo>
                        <a:pt x="673605" y="1107316"/>
                        <a:pt x="675951" y="1113453"/>
                        <a:pt x="678024" y="1119673"/>
                      </a:cubicBezTo>
                      <a:cubicBezTo>
                        <a:pt x="680098" y="1138334"/>
                        <a:pt x="681390" y="1157099"/>
                        <a:pt x="684245" y="1175657"/>
                      </a:cubicBezTo>
                      <a:cubicBezTo>
                        <a:pt x="688899" y="1205908"/>
                        <a:pt x="690182" y="1193189"/>
                        <a:pt x="696685" y="1219200"/>
                      </a:cubicBezTo>
                      <a:cubicBezTo>
                        <a:pt x="699249" y="1229457"/>
                        <a:pt x="700124" y="1240102"/>
                        <a:pt x="702906" y="1250302"/>
                      </a:cubicBezTo>
                      <a:cubicBezTo>
                        <a:pt x="706357" y="1262954"/>
                        <a:pt x="715347" y="1287624"/>
                        <a:pt x="715347" y="1287624"/>
                      </a:cubicBezTo>
                      <a:cubicBezTo>
                        <a:pt x="717420" y="1300065"/>
                        <a:pt x="718831" y="1312635"/>
                        <a:pt x="721567" y="1324947"/>
                      </a:cubicBezTo>
                      <a:cubicBezTo>
                        <a:pt x="722989" y="1331348"/>
                        <a:pt x="727351" y="1337066"/>
                        <a:pt x="727787" y="1343608"/>
                      </a:cubicBezTo>
                      <a:cubicBezTo>
                        <a:pt x="734038" y="1437375"/>
                        <a:pt x="687428" y="1491380"/>
                        <a:pt x="752669" y="1524000"/>
                      </a:cubicBezTo>
                      <a:cubicBezTo>
                        <a:pt x="758534" y="1526932"/>
                        <a:pt x="765110" y="1528147"/>
                        <a:pt x="771330" y="1530220"/>
                      </a:cubicBezTo>
                      <a:cubicBezTo>
                        <a:pt x="777550" y="1534367"/>
                        <a:pt x="783304" y="1539318"/>
                        <a:pt x="789991" y="1542661"/>
                      </a:cubicBezTo>
                      <a:cubicBezTo>
                        <a:pt x="795856" y="1545593"/>
                        <a:pt x="803197" y="1545244"/>
                        <a:pt x="808653" y="1548881"/>
                      </a:cubicBezTo>
                      <a:cubicBezTo>
                        <a:pt x="815973" y="1553761"/>
                        <a:pt x="820370" y="1562142"/>
                        <a:pt x="827314" y="1567543"/>
                      </a:cubicBezTo>
                      <a:cubicBezTo>
                        <a:pt x="894287" y="1619634"/>
                        <a:pt x="840924" y="1568713"/>
                        <a:pt x="883298" y="1611085"/>
                      </a:cubicBezTo>
                      <a:cubicBezTo>
                        <a:pt x="887445" y="1598644"/>
                        <a:pt x="888464" y="1584674"/>
                        <a:pt x="895738" y="1573763"/>
                      </a:cubicBezTo>
                      <a:lnTo>
                        <a:pt x="920620" y="1536441"/>
                      </a:lnTo>
                      <a:cubicBezTo>
                        <a:pt x="938999" y="1591576"/>
                        <a:pt x="920028" y="1575211"/>
                        <a:pt x="989045" y="1567543"/>
                      </a:cubicBezTo>
                      <a:cubicBezTo>
                        <a:pt x="995265" y="1563396"/>
                        <a:pt x="1009519" y="1562355"/>
                        <a:pt x="1007706" y="1555102"/>
                      </a:cubicBezTo>
                      <a:cubicBezTo>
                        <a:pt x="1005457" y="1546106"/>
                        <a:pt x="989948" y="1548597"/>
                        <a:pt x="982824" y="1542661"/>
                      </a:cubicBezTo>
                      <a:cubicBezTo>
                        <a:pt x="977081" y="1537875"/>
                        <a:pt x="975669" y="1529286"/>
                        <a:pt x="970383" y="1524000"/>
                      </a:cubicBezTo>
                      <a:cubicBezTo>
                        <a:pt x="965097" y="1518714"/>
                        <a:pt x="957942" y="1515706"/>
                        <a:pt x="951722" y="1511559"/>
                      </a:cubicBezTo>
                      <a:cubicBezTo>
                        <a:pt x="947575" y="1505339"/>
                        <a:pt x="944282" y="1498455"/>
                        <a:pt x="939281" y="1492898"/>
                      </a:cubicBezTo>
                      <a:cubicBezTo>
                        <a:pt x="925550" y="1477641"/>
                        <a:pt x="895738" y="1449355"/>
                        <a:pt x="895738" y="1449355"/>
                      </a:cubicBezTo>
                      <a:cubicBezTo>
                        <a:pt x="891591" y="1436914"/>
                        <a:pt x="889163" y="1423761"/>
                        <a:pt x="883298" y="1412032"/>
                      </a:cubicBezTo>
                      <a:cubicBezTo>
                        <a:pt x="855073" y="1355582"/>
                        <a:pt x="868703" y="1377700"/>
                        <a:pt x="845975" y="1343608"/>
                      </a:cubicBezTo>
                      <a:cubicBezTo>
                        <a:pt x="843902" y="1333241"/>
                        <a:pt x="842537" y="1322706"/>
                        <a:pt x="839755" y="1312506"/>
                      </a:cubicBezTo>
                      <a:cubicBezTo>
                        <a:pt x="836305" y="1299854"/>
                        <a:pt x="831461" y="1287624"/>
                        <a:pt x="827314" y="1275183"/>
                      </a:cubicBezTo>
                      <a:cubicBezTo>
                        <a:pt x="825241" y="1268963"/>
                        <a:pt x="822684" y="1262883"/>
                        <a:pt x="821094" y="1256522"/>
                      </a:cubicBezTo>
                      <a:lnTo>
                        <a:pt x="814873" y="1231641"/>
                      </a:lnTo>
                      <a:cubicBezTo>
                        <a:pt x="812800" y="1146629"/>
                        <a:pt x="812268" y="1061565"/>
                        <a:pt x="808653" y="976604"/>
                      </a:cubicBezTo>
                      <a:cubicBezTo>
                        <a:pt x="807135" y="940921"/>
                        <a:pt x="803415" y="947032"/>
                        <a:pt x="796212" y="920620"/>
                      </a:cubicBezTo>
                      <a:cubicBezTo>
                        <a:pt x="791713" y="904124"/>
                        <a:pt x="789178" y="887078"/>
                        <a:pt x="783771" y="870857"/>
                      </a:cubicBezTo>
                      <a:cubicBezTo>
                        <a:pt x="779624" y="858416"/>
                        <a:pt x="774510" y="846256"/>
                        <a:pt x="771330" y="833534"/>
                      </a:cubicBezTo>
                      <a:cubicBezTo>
                        <a:pt x="769257" y="825240"/>
                        <a:pt x="767566" y="816841"/>
                        <a:pt x="765110" y="808653"/>
                      </a:cubicBezTo>
                      <a:cubicBezTo>
                        <a:pt x="761342" y="796092"/>
                        <a:pt x="755850" y="784052"/>
                        <a:pt x="752669" y="771330"/>
                      </a:cubicBezTo>
                      <a:cubicBezTo>
                        <a:pt x="750768" y="763728"/>
                        <a:pt x="740983" y="719181"/>
                        <a:pt x="734008" y="702906"/>
                      </a:cubicBezTo>
                      <a:cubicBezTo>
                        <a:pt x="730355" y="694383"/>
                        <a:pt x="725220" y="686547"/>
                        <a:pt x="721567" y="678024"/>
                      </a:cubicBezTo>
                      <a:cubicBezTo>
                        <a:pt x="718984" y="671997"/>
                        <a:pt x="718279" y="665228"/>
                        <a:pt x="715347" y="659363"/>
                      </a:cubicBezTo>
                      <a:cubicBezTo>
                        <a:pt x="712004" y="652676"/>
                        <a:pt x="706249" y="647389"/>
                        <a:pt x="702906" y="640702"/>
                      </a:cubicBezTo>
                      <a:cubicBezTo>
                        <a:pt x="699974" y="634837"/>
                        <a:pt x="700322" y="627497"/>
                        <a:pt x="696685" y="622041"/>
                      </a:cubicBezTo>
                      <a:cubicBezTo>
                        <a:pt x="691805" y="614721"/>
                        <a:pt x="683656" y="610137"/>
                        <a:pt x="678024" y="603379"/>
                      </a:cubicBezTo>
                      <a:cubicBezTo>
                        <a:pt x="652107" y="572278"/>
                        <a:pt x="681132" y="595084"/>
                        <a:pt x="646922" y="572277"/>
                      </a:cubicBezTo>
                      <a:cubicBezTo>
                        <a:pt x="642775" y="566057"/>
                        <a:pt x="639267" y="559359"/>
                        <a:pt x="634481" y="553616"/>
                      </a:cubicBezTo>
                      <a:cubicBezTo>
                        <a:pt x="620040" y="536287"/>
                        <a:pt x="609244" y="530023"/>
                        <a:pt x="590938" y="516294"/>
                      </a:cubicBezTo>
                      <a:cubicBezTo>
                        <a:pt x="578829" y="479963"/>
                        <a:pt x="594193" y="513328"/>
                        <a:pt x="566057" y="485192"/>
                      </a:cubicBezTo>
                      <a:cubicBezTo>
                        <a:pt x="560770" y="479905"/>
                        <a:pt x="558402" y="472273"/>
                        <a:pt x="553616" y="466530"/>
                      </a:cubicBezTo>
                      <a:cubicBezTo>
                        <a:pt x="547984" y="459772"/>
                        <a:pt x="540356" y="454813"/>
                        <a:pt x="534955" y="447869"/>
                      </a:cubicBezTo>
                      <a:cubicBezTo>
                        <a:pt x="525775" y="436067"/>
                        <a:pt x="520645" y="421120"/>
                        <a:pt x="510073" y="410547"/>
                      </a:cubicBezTo>
                      <a:cubicBezTo>
                        <a:pt x="503853" y="404326"/>
                        <a:pt x="496813" y="398829"/>
                        <a:pt x="491412" y="391885"/>
                      </a:cubicBezTo>
                      <a:cubicBezTo>
                        <a:pt x="482232" y="380083"/>
                        <a:pt x="474824" y="367004"/>
                        <a:pt x="466530" y="354563"/>
                      </a:cubicBezTo>
                      <a:lnTo>
                        <a:pt x="454089" y="335902"/>
                      </a:lnTo>
                      <a:cubicBezTo>
                        <a:pt x="452016" y="329682"/>
                        <a:pt x="451506" y="322697"/>
                        <a:pt x="447869" y="317241"/>
                      </a:cubicBezTo>
                      <a:cubicBezTo>
                        <a:pt x="406913" y="255804"/>
                        <a:pt x="454013" y="360631"/>
                        <a:pt x="404326" y="261257"/>
                      </a:cubicBezTo>
                      <a:cubicBezTo>
                        <a:pt x="396723" y="246051"/>
                        <a:pt x="390433" y="230899"/>
                        <a:pt x="379445" y="217714"/>
                      </a:cubicBezTo>
                      <a:cubicBezTo>
                        <a:pt x="373813" y="210956"/>
                        <a:pt x="366184" y="205997"/>
                        <a:pt x="360783" y="199053"/>
                      </a:cubicBezTo>
                      <a:cubicBezTo>
                        <a:pt x="351603" y="187251"/>
                        <a:pt x="344196" y="174171"/>
                        <a:pt x="335902" y="161730"/>
                      </a:cubicBezTo>
                      <a:lnTo>
                        <a:pt x="311020" y="124408"/>
                      </a:lnTo>
                      <a:cubicBezTo>
                        <a:pt x="306873" y="118188"/>
                        <a:pt x="303865" y="111033"/>
                        <a:pt x="298579" y="105747"/>
                      </a:cubicBezTo>
                      <a:cubicBezTo>
                        <a:pt x="274632" y="81799"/>
                        <a:pt x="287238" y="91965"/>
                        <a:pt x="261257" y="74645"/>
                      </a:cubicBezTo>
                      <a:cubicBezTo>
                        <a:pt x="259183" y="68424"/>
                        <a:pt x="259673" y="60620"/>
                        <a:pt x="255036" y="55983"/>
                      </a:cubicBezTo>
                      <a:cubicBezTo>
                        <a:pt x="244464" y="45411"/>
                        <a:pt x="230155" y="39396"/>
                        <a:pt x="217714" y="31102"/>
                      </a:cubicBezTo>
                      <a:cubicBezTo>
                        <a:pt x="211494" y="26955"/>
                        <a:pt x="206145" y="21025"/>
                        <a:pt x="199053" y="18661"/>
                      </a:cubicBezTo>
                      <a:cubicBezTo>
                        <a:pt x="171594" y="9509"/>
                        <a:pt x="186256" y="15374"/>
                        <a:pt x="155510" y="0"/>
                      </a:cubicBezTo>
                      <a:cubicBezTo>
                        <a:pt x="118187" y="2073"/>
                        <a:pt x="80196" y="-1111"/>
                        <a:pt x="43542" y="6220"/>
                      </a:cubicBezTo>
                      <a:cubicBezTo>
                        <a:pt x="36211" y="7686"/>
                        <a:pt x="34811" y="18390"/>
                        <a:pt x="31102" y="24881"/>
                      </a:cubicBezTo>
                      <a:cubicBezTo>
                        <a:pt x="26501" y="32932"/>
                        <a:pt x="22314" y="41240"/>
                        <a:pt x="18661" y="49763"/>
                      </a:cubicBezTo>
                      <a:cubicBezTo>
                        <a:pt x="12266" y="64684"/>
                        <a:pt x="10732" y="77514"/>
                        <a:pt x="6220" y="93306"/>
                      </a:cubicBezTo>
                      <a:cubicBezTo>
                        <a:pt x="4419" y="99611"/>
                        <a:pt x="2073" y="105747"/>
                        <a:pt x="0" y="111967"/>
                      </a:cubicBezTo>
                      <a:cubicBezTo>
                        <a:pt x="2349" y="154253"/>
                        <a:pt x="151" y="209975"/>
                        <a:pt x="12440" y="255037"/>
                      </a:cubicBezTo>
                      <a:cubicBezTo>
                        <a:pt x="15890" y="267689"/>
                        <a:pt x="17607" y="281448"/>
                        <a:pt x="24881" y="292359"/>
                      </a:cubicBezTo>
                      <a:lnTo>
                        <a:pt x="62204" y="348343"/>
                      </a:lnTo>
                      <a:lnTo>
                        <a:pt x="74645" y="367004"/>
                      </a:lnTo>
                      <a:cubicBezTo>
                        <a:pt x="81521" y="387632"/>
                        <a:pt x="74308" y="385665"/>
                        <a:pt x="87085" y="38566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custGeom>
                  <a:avLst/>
                  <a:gdLst>
                    <a:gd name="textAreaLeft" fmla="*/ 0 w 446040"/>
                    <a:gd name="textAreaRight" fmla="*/ 446400 w 446040"/>
                    <a:gd name="textAreaTop" fmla="*/ 0 h 673200"/>
                    <a:gd name="textAreaBottom" fmla="*/ 673560 h 673200"/>
                  </a:gdLst>
                  <a:ahLst/>
                  <a:rect l="textAreaLeft" t="textAreaTop" r="textAreaRight" b="textAreaBottom"/>
                  <a:pathLst>
                    <a:path w="1133349" h="1710613">
                      <a:moveTo>
                        <a:pt x="523333" y="279919"/>
                      </a:moveTo>
                      <a:cubicBezTo>
                        <a:pt x="525406" y="234303"/>
                        <a:pt x="525912" y="188588"/>
                        <a:pt x="529553" y="143070"/>
                      </a:cubicBezTo>
                      <a:cubicBezTo>
                        <a:pt x="530076" y="136534"/>
                        <a:pt x="532590" y="130140"/>
                        <a:pt x="535774" y="124408"/>
                      </a:cubicBezTo>
                      <a:cubicBezTo>
                        <a:pt x="543035" y="111338"/>
                        <a:pt x="552361" y="99527"/>
                        <a:pt x="560655" y="87086"/>
                      </a:cubicBezTo>
                      <a:cubicBezTo>
                        <a:pt x="576733" y="62970"/>
                        <a:pt x="566004" y="70789"/>
                        <a:pt x="591757" y="62204"/>
                      </a:cubicBezTo>
                      <a:cubicBezTo>
                        <a:pt x="595904" y="55984"/>
                        <a:pt x="598912" y="48829"/>
                        <a:pt x="604198" y="43543"/>
                      </a:cubicBezTo>
                      <a:cubicBezTo>
                        <a:pt x="616258" y="31483"/>
                        <a:pt x="626342" y="29941"/>
                        <a:pt x="641521" y="24882"/>
                      </a:cubicBezTo>
                      <a:cubicBezTo>
                        <a:pt x="650957" y="18591"/>
                        <a:pt x="665965" y="6221"/>
                        <a:pt x="678843" y="6221"/>
                      </a:cubicBezTo>
                      <a:cubicBezTo>
                        <a:pt x="699509" y="6221"/>
                        <a:pt x="757895" y="12730"/>
                        <a:pt x="784590" y="18662"/>
                      </a:cubicBezTo>
                      <a:cubicBezTo>
                        <a:pt x="790991" y="20084"/>
                        <a:pt x="796946" y="23081"/>
                        <a:pt x="803251" y="24882"/>
                      </a:cubicBezTo>
                      <a:cubicBezTo>
                        <a:pt x="811471" y="27231"/>
                        <a:pt x="819839" y="29029"/>
                        <a:pt x="828133" y="31102"/>
                      </a:cubicBezTo>
                      <a:cubicBezTo>
                        <a:pt x="872775" y="60864"/>
                        <a:pt x="854882" y="45412"/>
                        <a:pt x="884117" y="74645"/>
                      </a:cubicBezTo>
                      <a:cubicBezTo>
                        <a:pt x="903535" y="132901"/>
                        <a:pt x="871726" y="46742"/>
                        <a:pt x="908998" y="111968"/>
                      </a:cubicBezTo>
                      <a:cubicBezTo>
                        <a:pt x="913240" y="119391"/>
                        <a:pt x="912762" y="128661"/>
                        <a:pt x="915219" y="136849"/>
                      </a:cubicBezTo>
                      <a:cubicBezTo>
                        <a:pt x="918987" y="149410"/>
                        <a:pt x="923512" y="161731"/>
                        <a:pt x="927659" y="174172"/>
                      </a:cubicBezTo>
                      <a:cubicBezTo>
                        <a:pt x="929732" y="180392"/>
                        <a:pt x="934958" y="199301"/>
                        <a:pt x="933880" y="192833"/>
                      </a:cubicBezTo>
                      <a:cubicBezTo>
                        <a:pt x="928992" y="163511"/>
                        <a:pt x="928861" y="156608"/>
                        <a:pt x="921439" y="130629"/>
                      </a:cubicBezTo>
                      <a:cubicBezTo>
                        <a:pt x="919638" y="124324"/>
                        <a:pt x="918403" y="117700"/>
                        <a:pt x="915219" y="111968"/>
                      </a:cubicBezTo>
                      <a:cubicBezTo>
                        <a:pt x="907958" y="98897"/>
                        <a:pt x="898631" y="87086"/>
                        <a:pt x="890337" y="74645"/>
                      </a:cubicBezTo>
                      <a:cubicBezTo>
                        <a:pt x="886190" y="68425"/>
                        <a:pt x="884116" y="60131"/>
                        <a:pt x="877896" y="55984"/>
                      </a:cubicBezTo>
                      <a:cubicBezTo>
                        <a:pt x="848325" y="36269"/>
                        <a:pt x="866325" y="45906"/>
                        <a:pt x="821913" y="31102"/>
                      </a:cubicBezTo>
                      <a:lnTo>
                        <a:pt x="803251" y="24882"/>
                      </a:lnTo>
                      <a:cubicBezTo>
                        <a:pt x="753488" y="26955"/>
                        <a:pt x="703642" y="27553"/>
                        <a:pt x="653962" y="31102"/>
                      </a:cubicBezTo>
                      <a:cubicBezTo>
                        <a:pt x="645434" y="31711"/>
                        <a:pt x="636193" y="32581"/>
                        <a:pt x="629080" y="37323"/>
                      </a:cubicBezTo>
                      <a:cubicBezTo>
                        <a:pt x="572811" y="74836"/>
                        <a:pt x="658981" y="41871"/>
                        <a:pt x="597978" y="62204"/>
                      </a:cubicBezTo>
                      <a:cubicBezTo>
                        <a:pt x="593831" y="68425"/>
                        <a:pt x="590323" y="75123"/>
                        <a:pt x="585537" y="80866"/>
                      </a:cubicBezTo>
                      <a:cubicBezTo>
                        <a:pt x="545620" y="128767"/>
                        <a:pt x="585327" y="71851"/>
                        <a:pt x="554435" y="118188"/>
                      </a:cubicBezTo>
                      <a:cubicBezTo>
                        <a:pt x="537983" y="184003"/>
                        <a:pt x="560320" y="106504"/>
                        <a:pt x="535774" y="161731"/>
                      </a:cubicBezTo>
                      <a:cubicBezTo>
                        <a:pt x="530448" y="173714"/>
                        <a:pt x="523333" y="199053"/>
                        <a:pt x="523333" y="199053"/>
                      </a:cubicBezTo>
                      <a:cubicBezTo>
                        <a:pt x="521260" y="226008"/>
                        <a:pt x="515526" y="306907"/>
                        <a:pt x="517113" y="279919"/>
                      </a:cubicBezTo>
                      <a:cubicBezTo>
                        <a:pt x="520774" y="217684"/>
                        <a:pt x="524229" y="155421"/>
                        <a:pt x="529553" y="93306"/>
                      </a:cubicBezTo>
                      <a:cubicBezTo>
                        <a:pt x="530856" y="78102"/>
                        <a:pt x="534423" y="54576"/>
                        <a:pt x="548215" y="43543"/>
                      </a:cubicBezTo>
                      <a:cubicBezTo>
                        <a:pt x="553335" y="39447"/>
                        <a:pt x="560656" y="39396"/>
                        <a:pt x="566876" y="37323"/>
                      </a:cubicBezTo>
                      <a:cubicBezTo>
                        <a:pt x="573096" y="33176"/>
                        <a:pt x="578284" y="26695"/>
                        <a:pt x="585537" y="24882"/>
                      </a:cubicBezTo>
                      <a:cubicBezTo>
                        <a:pt x="603753" y="20328"/>
                        <a:pt x="622890" y="20991"/>
                        <a:pt x="641521" y="18662"/>
                      </a:cubicBezTo>
                      <a:cubicBezTo>
                        <a:pt x="656069" y="16843"/>
                        <a:pt x="670550" y="14515"/>
                        <a:pt x="685064" y="12441"/>
                      </a:cubicBezTo>
                      <a:cubicBezTo>
                        <a:pt x="721409" y="17634"/>
                        <a:pt x="726967" y="17607"/>
                        <a:pt x="759708" y="24882"/>
                      </a:cubicBezTo>
                      <a:cubicBezTo>
                        <a:pt x="768054" y="26736"/>
                        <a:pt x="776401" y="28645"/>
                        <a:pt x="784590" y="31102"/>
                      </a:cubicBezTo>
                      <a:cubicBezTo>
                        <a:pt x="797151" y="34870"/>
                        <a:pt x="821913" y="43543"/>
                        <a:pt x="821913" y="43543"/>
                      </a:cubicBezTo>
                      <a:cubicBezTo>
                        <a:pt x="865455" y="72572"/>
                        <a:pt x="850941" y="55984"/>
                        <a:pt x="871676" y="87086"/>
                      </a:cubicBezTo>
                      <a:cubicBezTo>
                        <a:pt x="873749" y="93306"/>
                        <a:pt x="874964" y="99882"/>
                        <a:pt x="877896" y="105747"/>
                      </a:cubicBezTo>
                      <a:cubicBezTo>
                        <a:pt x="900342" y="150638"/>
                        <a:pt x="880965" y="94756"/>
                        <a:pt x="902778" y="149290"/>
                      </a:cubicBezTo>
                      <a:cubicBezTo>
                        <a:pt x="907648" y="161466"/>
                        <a:pt x="911072" y="174172"/>
                        <a:pt x="915219" y="186613"/>
                      </a:cubicBezTo>
                      <a:cubicBezTo>
                        <a:pt x="919880" y="200597"/>
                        <a:pt x="931899" y="227382"/>
                        <a:pt x="902778" y="186613"/>
                      </a:cubicBezTo>
                      <a:cubicBezTo>
                        <a:pt x="897388" y="179067"/>
                        <a:pt x="894484" y="170025"/>
                        <a:pt x="890337" y="161731"/>
                      </a:cubicBezTo>
                      <a:cubicBezTo>
                        <a:pt x="888626" y="149754"/>
                        <a:pt x="883062" y="92252"/>
                        <a:pt x="871676" y="80866"/>
                      </a:cubicBezTo>
                      <a:lnTo>
                        <a:pt x="853015" y="62204"/>
                      </a:lnTo>
                      <a:cubicBezTo>
                        <a:pt x="850941" y="55984"/>
                        <a:pt x="852130" y="47354"/>
                        <a:pt x="846794" y="43543"/>
                      </a:cubicBezTo>
                      <a:cubicBezTo>
                        <a:pt x="836123" y="35921"/>
                        <a:pt x="809472" y="31102"/>
                        <a:pt x="809472" y="31102"/>
                      </a:cubicBezTo>
                      <a:cubicBezTo>
                        <a:pt x="753488" y="33176"/>
                        <a:pt x="697419" y="33596"/>
                        <a:pt x="641521" y="37323"/>
                      </a:cubicBezTo>
                      <a:cubicBezTo>
                        <a:pt x="624491" y="38458"/>
                        <a:pt x="614110" y="49460"/>
                        <a:pt x="604198" y="62204"/>
                      </a:cubicBezTo>
                      <a:cubicBezTo>
                        <a:pt x="595018" y="74007"/>
                        <a:pt x="584045" y="85342"/>
                        <a:pt x="579317" y="99527"/>
                      </a:cubicBezTo>
                      <a:cubicBezTo>
                        <a:pt x="564512" y="143942"/>
                        <a:pt x="574150" y="125938"/>
                        <a:pt x="554435" y="155511"/>
                      </a:cubicBezTo>
                      <a:cubicBezTo>
                        <a:pt x="552362" y="161731"/>
                        <a:pt x="551147" y="168307"/>
                        <a:pt x="548215" y="174172"/>
                      </a:cubicBezTo>
                      <a:cubicBezTo>
                        <a:pt x="544872" y="180859"/>
                        <a:pt x="537677" y="185603"/>
                        <a:pt x="535774" y="192833"/>
                      </a:cubicBezTo>
                      <a:cubicBezTo>
                        <a:pt x="527184" y="225475"/>
                        <a:pt x="528347" y="260531"/>
                        <a:pt x="517113" y="292360"/>
                      </a:cubicBezTo>
                      <a:cubicBezTo>
                        <a:pt x="514931" y="298543"/>
                        <a:pt x="504852" y="297158"/>
                        <a:pt x="498451" y="298580"/>
                      </a:cubicBezTo>
                      <a:cubicBezTo>
                        <a:pt x="486139" y="301316"/>
                        <a:pt x="473570" y="302727"/>
                        <a:pt x="461129" y="304800"/>
                      </a:cubicBezTo>
                      <a:cubicBezTo>
                        <a:pt x="448688" y="308947"/>
                        <a:pt x="436528" y="314060"/>
                        <a:pt x="423806" y="317241"/>
                      </a:cubicBezTo>
                      <a:cubicBezTo>
                        <a:pt x="415512" y="319315"/>
                        <a:pt x="407113" y="321005"/>
                        <a:pt x="398925" y="323462"/>
                      </a:cubicBezTo>
                      <a:cubicBezTo>
                        <a:pt x="386364" y="327230"/>
                        <a:pt x="374043" y="331755"/>
                        <a:pt x="361602" y="335902"/>
                      </a:cubicBezTo>
                      <a:lnTo>
                        <a:pt x="342941" y="342123"/>
                      </a:lnTo>
                      <a:cubicBezTo>
                        <a:pt x="439823" y="361498"/>
                        <a:pt x="372199" y="350408"/>
                        <a:pt x="579317" y="342123"/>
                      </a:cubicBezTo>
                      <a:cubicBezTo>
                        <a:pt x="614599" y="340712"/>
                        <a:pt x="649815" y="337976"/>
                        <a:pt x="685064" y="335902"/>
                      </a:cubicBezTo>
                      <a:cubicBezTo>
                        <a:pt x="693358" y="329682"/>
                        <a:pt x="700672" y="321877"/>
                        <a:pt x="709945" y="317241"/>
                      </a:cubicBezTo>
                      <a:cubicBezTo>
                        <a:pt x="721674" y="311376"/>
                        <a:pt x="734827" y="308947"/>
                        <a:pt x="747268" y="304800"/>
                      </a:cubicBezTo>
                      <a:cubicBezTo>
                        <a:pt x="809980" y="283896"/>
                        <a:pt x="712707" y="315791"/>
                        <a:pt x="790810" y="292360"/>
                      </a:cubicBezTo>
                      <a:cubicBezTo>
                        <a:pt x="803371" y="288592"/>
                        <a:pt x="815692" y="284066"/>
                        <a:pt x="828133" y="279919"/>
                      </a:cubicBezTo>
                      <a:cubicBezTo>
                        <a:pt x="834353" y="277845"/>
                        <a:pt x="840326" y="274776"/>
                        <a:pt x="846794" y="273698"/>
                      </a:cubicBezTo>
                      <a:lnTo>
                        <a:pt x="884117" y="267478"/>
                      </a:lnTo>
                      <a:lnTo>
                        <a:pt x="977423" y="236376"/>
                      </a:lnTo>
                      <a:lnTo>
                        <a:pt x="1014745" y="223935"/>
                      </a:lnTo>
                      <a:cubicBezTo>
                        <a:pt x="1020965" y="221862"/>
                        <a:pt x="1027045" y="219305"/>
                        <a:pt x="1033406" y="217715"/>
                      </a:cubicBezTo>
                      <a:cubicBezTo>
                        <a:pt x="1064649" y="209904"/>
                        <a:pt x="1050177" y="214197"/>
                        <a:pt x="1076949" y="205274"/>
                      </a:cubicBezTo>
                      <a:cubicBezTo>
                        <a:pt x="1104908" y="247212"/>
                        <a:pt x="1086929" y="213649"/>
                        <a:pt x="1095610" y="304800"/>
                      </a:cubicBezTo>
                      <a:cubicBezTo>
                        <a:pt x="1097195" y="321442"/>
                        <a:pt x="1099622" y="337994"/>
                        <a:pt x="1101831" y="354564"/>
                      </a:cubicBezTo>
                      <a:cubicBezTo>
                        <a:pt x="1104842" y="377149"/>
                        <a:pt x="1108567" y="406390"/>
                        <a:pt x="1114272" y="429208"/>
                      </a:cubicBezTo>
                      <a:cubicBezTo>
                        <a:pt x="1115862" y="435569"/>
                        <a:pt x="1118419" y="441649"/>
                        <a:pt x="1120492" y="447870"/>
                      </a:cubicBezTo>
                      <a:cubicBezTo>
                        <a:pt x="1124518" y="480072"/>
                        <a:pt x="1135629" y="561805"/>
                        <a:pt x="1132933" y="584719"/>
                      </a:cubicBezTo>
                      <a:cubicBezTo>
                        <a:pt x="1131905" y="593456"/>
                        <a:pt x="1122483" y="600222"/>
                        <a:pt x="1114272" y="603380"/>
                      </a:cubicBezTo>
                      <a:cubicBezTo>
                        <a:pt x="1094536" y="610971"/>
                        <a:pt x="1072803" y="611674"/>
                        <a:pt x="1052068" y="615821"/>
                      </a:cubicBezTo>
                      <a:cubicBezTo>
                        <a:pt x="1041701" y="617894"/>
                        <a:pt x="1031395" y="620303"/>
                        <a:pt x="1020966" y="622041"/>
                      </a:cubicBezTo>
                      <a:cubicBezTo>
                        <a:pt x="1008525" y="624115"/>
                        <a:pt x="995879" y="625203"/>
                        <a:pt x="983643" y="628262"/>
                      </a:cubicBezTo>
                      <a:cubicBezTo>
                        <a:pt x="970921" y="631442"/>
                        <a:pt x="959043" y="637521"/>
                        <a:pt x="946321" y="640702"/>
                      </a:cubicBezTo>
                      <a:cubicBezTo>
                        <a:pt x="907215" y="650479"/>
                        <a:pt x="929902" y="645714"/>
                        <a:pt x="877896" y="653143"/>
                      </a:cubicBezTo>
                      <a:lnTo>
                        <a:pt x="840574" y="665584"/>
                      </a:lnTo>
                      <a:cubicBezTo>
                        <a:pt x="834354" y="667657"/>
                        <a:pt x="828274" y="670214"/>
                        <a:pt x="821913" y="671804"/>
                      </a:cubicBezTo>
                      <a:lnTo>
                        <a:pt x="772149" y="684245"/>
                      </a:lnTo>
                      <a:cubicBezTo>
                        <a:pt x="763855" y="686319"/>
                        <a:pt x="755378" y="687763"/>
                        <a:pt x="747268" y="690466"/>
                      </a:cubicBezTo>
                      <a:lnTo>
                        <a:pt x="728606" y="696686"/>
                      </a:lnTo>
                      <a:cubicBezTo>
                        <a:pt x="722386" y="700833"/>
                        <a:pt x="716777" y="706091"/>
                        <a:pt x="709945" y="709127"/>
                      </a:cubicBezTo>
                      <a:cubicBezTo>
                        <a:pt x="697962" y="714453"/>
                        <a:pt x="685064" y="717421"/>
                        <a:pt x="672623" y="721568"/>
                      </a:cubicBezTo>
                      <a:cubicBezTo>
                        <a:pt x="627877" y="736483"/>
                        <a:pt x="683759" y="718385"/>
                        <a:pt x="629080" y="734008"/>
                      </a:cubicBezTo>
                      <a:cubicBezTo>
                        <a:pt x="622775" y="735809"/>
                        <a:pt x="616639" y="738155"/>
                        <a:pt x="610419" y="740229"/>
                      </a:cubicBezTo>
                      <a:cubicBezTo>
                        <a:pt x="550288" y="738155"/>
                        <a:pt x="489025" y="745808"/>
                        <a:pt x="430027" y="734008"/>
                      </a:cubicBezTo>
                      <a:cubicBezTo>
                        <a:pt x="419660" y="731935"/>
                        <a:pt x="426100" y="713227"/>
                        <a:pt x="423806" y="702906"/>
                      </a:cubicBezTo>
                      <a:cubicBezTo>
                        <a:pt x="421951" y="694561"/>
                        <a:pt x="419440" y="686370"/>
                        <a:pt x="417586" y="678025"/>
                      </a:cubicBezTo>
                      <a:cubicBezTo>
                        <a:pt x="414746" y="665242"/>
                        <a:pt x="411816" y="641604"/>
                        <a:pt x="405145" y="628262"/>
                      </a:cubicBezTo>
                      <a:cubicBezTo>
                        <a:pt x="401801" y="621575"/>
                        <a:pt x="396851" y="615821"/>
                        <a:pt x="392704" y="609600"/>
                      </a:cubicBezTo>
                      <a:cubicBezTo>
                        <a:pt x="377070" y="562695"/>
                        <a:pt x="398160" y="620511"/>
                        <a:pt x="374043" y="572278"/>
                      </a:cubicBezTo>
                      <a:cubicBezTo>
                        <a:pt x="368819" y="561831"/>
                        <a:pt x="364589" y="538693"/>
                        <a:pt x="361602" y="528735"/>
                      </a:cubicBezTo>
                      <a:cubicBezTo>
                        <a:pt x="357834" y="516174"/>
                        <a:pt x="353309" y="503854"/>
                        <a:pt x="349162" y="491413"/>
                      </a:cubicBezTo>
                      <a:cubicBezTo>
                        <a:pt x="347088" y="485192"/>
                        <a:pt x="344227" y="479181"/>
                        <a:pt x="342941" y="472751"/>
                      </a:cubicBezTo>
                      <a:cubicBezTo>
                        <a:pt x="335435" y="435219"/>
                        <a:pt x="340065" y="451679"/>
                        <a:pt x="330500" y="422988"/>
                      </a:cubicBezTo>
                      <a:cubicBezTo>
                        <a:pt x="328427" y="410547"/>
                        <a:pt x="324280" y="373054"/>
                        <a:pt x="324280" y="385666"/>
                      </a:cubicBezTo>
                      <a:cubicBezTo>
                        <a:pt x="324280" y="400327"/>
                        <a:pt x="327877" y="414783"/>
                        <a:pt x="330500" y="429208"/>
                      </a:cubicBezTo>
                      <a:cubicBezTo>
                        <a:pt x="332029" y="437619"/>
                        <a:pt x="334647" y="445796"/>
                        <a:pt x="336721" y="454090"/>
                      </a:cubicBezTo>
                      <a:lnTo>
                        <a:pt x="454908" y="447870"/>
                      </a:lnTo>
                      <a:cubicBezTo>
                        <a:pt x="548425" y="442025"/>
                        <a:pt x="508241" y="434765"/>
                        <a:pt x="560655" y="447870"/>
                      </a:cubicBezTo>
                      <a:cubicBezTo>
                        <a:pt x="493288" y="459097"/>
                        <a:pt x="547555" y="448058"/>
                        <a:pt x="504672" y="460311"/>
                      </a:cubicBezTo>
                      <a:cubicBezTo>
                        <a:pt x="484181" y="466166"/>
                        <a:pt x="453292" y="471830"/>
                        <a:pt x="510892" y="460311"/>
                      </a:cubicBezTo>
                      <a:cubicBezTo>
                        <a:pt x="530607" y="430737"/>
                        <a:pt x="525697" y="448742"/>
                        <a:pt x="510892" y="404327"/>
                      </a:cubicBezTo>
                      <a:lnTo>
                        <a:pt x="504672" y="385666"/>
                      </a:lnTo>
                      <a:cubicBezTo>
                        <a:pt x="488542" y="434051"/>
                        <a:pt x="494983" y="406960"/>
                        <a:pt x="504672" y="503853"/>
                      </a:cubicBezTo>
                      <a:cubicBezTo>
                        <a:pt x="505523" y="512360"/>
                        <a:pt x="508435" y="520546"/>
                        <a:pt x="510892" y="528735"/>
                      </a:cubicBezTo>
                      <a:cubicBezTo>
                        <a:pt x="514660" y="541296"/>
                        <a:pt x="523333" y="566057"/>
                        <a:pt x="523333" y="566057"/>
                      </a:cubicBezTo>
                      <a:cubicBezTo>
                        <a:pt x="521260" y="543249"/>
                        <a:pt x="519511" y="520409"/>
                        <a:pt x="517113" y="497633"/>
                      </a:cubicBezTo>
                      <a:cubicBezTo>
                        <a:pt x="506005" y="392105"/>
                        <a:pt x="512099" y="474974"/>
                        <a:pt x="517113" y="510074"/>
                      </a:cubicBezTo>
                      <a:cubicBezTo>
                        <a:pt x="520765" y="535636"/>
                        <a:pt x="522423" y="533590"/>
                        <a:pt x="535774" y="553617"/>
                      </a:cubicBezTo>
                      <a:cubicBezTo>
                        <a:pt x="537847" y="559837"/>
                        <a:pt x="544429" y="566190"/>
                        <a:pt x="541994" y="572278"/>
                      </a:cubicBezTo>
                      <a:cubicBezTo>
                        <a:pt x="539217" y="579219"/>
                        <a:pt x="530205" y="581774"/>
                        <a:pt x="523333" y="584719"/>
                      </a:cubicBezTo>
                      <a:cubicBezTo>
                        <a:pt x="515475" y="588087"/>
                        <a:pt x="506671" y="588590"/>
                        <a:pt x="498451" y="590939"/>
                      </a:cubicBezTo>
                      <a:cubicBezTo>
                        <a:pt x="410616" y="616035"/>
                        <a:pt x="597825" y="592944"/>
                        <a:pt x="653962" y="590939"/>
                      </a:cubicBezTo>
                      <a:cubicBezTo>
                        <a:pt x="664329" y="586792"/>
                        <a:pt x="680666" y="588761"/>
                        <a:pt x="685064" y="578498"/>
                      </a:cubicBezTo>
                      <a:cubicBezTo>
                        <a:pt x="689462" y="568235"/>
                        <a:pt x="675907" y="558068"/>
                        <a:pt x="672623" y="547396"/>
                      </a:cubicBezTo>
                      <a:cubicBezTo>
                        <a:pt x="667595" y="531054"/>
                        <a:pt x="665589" y="513854"/>
                        <a:pt x="660182" y="497633"/>
                      </a:cubicBezTo>
                      <a:lnTo>
                        <a:pt x="647741" y="460311"/>
                      </a:lnTo>
                      <a:cubicBezTo>
                        <a:pt x="645668" y="433356"/>
                        <a:pt x="644680" y="406295"/>
                        <a:pt x="641521" y="379445"/>
                      </a:cubicBezTo>
                      <a:cubicBezTo>
                        <a:pt x="640522" y="370955"/>
                        <a:pt x="635300" y="346015"/>
                        <a:pt x="635300" y="354564"/>
                      </a:cubicBezTo>
                      <a:cubicBezTo>
                        <a:pt x="635300" y="379532"/>
                        <a:pt x="638604" y="404411"/>
                        <a:pt x="641521" y="429208"/>
                      </a:cubicBezTo>
                      <a:cubicBezTo>
                        <a:pt x="643277" y="444136"/>
                        <a:pt x="650141" y="469910"/>
                        <a:pt x="653962" y="485192"/>
                      </a:cubicBezTo>
                      <a:cubicBezTo>
                        <a:pt x="659526" y="535270"/>
                        <a:pt x="659303" y="538579"/>
                        <a:pt x="666402" y="584719"/>
                      </a:cubicBezTo>
                      <a:cubicBezTo>
                        <a:pt x="668320" y="597185"/>
                        <a:pt x="669564" y="609805"/>
                        <a:pt x="672623" y="622041"/>
                      </a:cubicBezTo>
                      <a:cubicBezTo>
                        <a:pt x="675804" y="634763"/>
                        <a:pt x="680917" y="646923"/>
                        <a:pt x="685064" y="659364"/>
                      </a:cubicBezTo>
                      <a:lnTo>
                        <a:pt x="691284" y="678025"/>
                      </a:lnTo>
                      <a:cubicBezTo>
                        <a:pt x="693357" y="684245"/>
                        <a:pt x="699939" y="702774"/>
                        <a:pt x="697504" y="696686"/>
                      </a:cubicBezTo>
                      <a:lnTo>
                        <a:pt x="685064" y="665584"/>
                      </a:lnTo>
                      <a:cubicBezTo>
                        <a:pt x="682990" y="642776"/>
                        <a:pt x="681870" y="619861"/>
                        <a:pt x="678843" y="597160"/>
                      </a:cubicBezTo>
                      <a:cubicBezTo>
                        <a:pt x="677713" y="588686"/>
                        <a:pt x="673567" y="580775"/>
                        <a:pt x="672623" y="572278"/>
                      </a:cubicBezTo>
                      <a:cubicBezTo>
                        <a:pt x="669409" y="543353"/>
                        <a:pt x="668476" y="514221"/>
                        <a:pt x="666402" y="485192"/>
                      </a:cubicBezTo>
                      <a:cubicBezTo>
                        <a:pt x="670549" y="468604"/>
                        <a:pt x="666753" y="447519"/>
                        <a:pt x="678843" y="435429"/>
                      </a:cubicBezTo>
                      <a:cubicBezTo>
                        <a:pt x="690933" y="423339"/>
                        <a:pt x="712166" y="427685"/>
                        <a:pt x="728606" y="422988"/>
                      </a:cubicBezTo>
                      <a:cubicBezTo>
                        <a:pt x="741215" y="419385"/>
                        <a:pt x="753488" y="414694"/>
                        <a:pt x="765929" y="410547"/>
                      </a:cubicBezTo>
                      <a:cubicBezTo>
                        <a:pt x="772149" y="408474"/>
                        <a:pt x="778161" y="405613"/>
                        <a:pt x="784590" y="404327"/>
                      </a:cubicBezTo>
                      <a:lnTo>
                        <a:pt x="815692" y="398106"/>
                      </a:lnTo>
                      <a:cubicBezTo>
                        <a:pt x="821912" y="393959"/>
                        <a:pt x="827353" y="388291"/>
                        <a:pt x="834353" y="385666"/>
                      </a:cubicBezTo>
                      <a:cubicBezTo>
                        <a:pt x="844253" y="381954"/>
                        <a:pt x="855255" y="382227"/>
                        <a:pt x="865455" y="379445"/>
                      </a:cubicBezTo>
                      <a:cubicBezTo>
                        <a:pt x="878107" y="375994"/>
                        <a:pt x="890337" y="371151"/>
                        <a:pt x="902778" y="367004"/>
                      </a:cubicBezTo>
                      <a:lnTo>
                        <a:pt x="958762" y="348343"/>
                      </a:lnTo>
                      <a:lnTo>
                        <a:pt x="977423" y="342123"/>
                      </a:lnTo>
                      <a:cubicBezTo>
                        <a:pt x="983643" y="340049"/>
                        <a:pt x="989654" y="337188"/>
                        <a:pt x="996084" y="335902"/>
                      </a:cubicBezTo>
                      <a:cubicBezTo>
                        <a:pt x="1072970" y="320526"/>
                        <a:pt x="976894" y="339392"/>
                        <a:pt x="1064508" y="323462"/>
                      </a:cubicBezTo>
                      <a:cubicBezTo>
                        <a:pt x="1074910" y="321571"/>
                        <a:pt x="1106183" y="317241"/>
                        <a:pt x="1095610" y="317241"/>
                      </a:cubicBezTo>
                      <a:cubicBezTo>
                        <a:pt x="1082998" y="317241"/>
                        <a:pt x="1070697" y="321206"/>
                        <a:pt x="1058288" y="323462"/>
                      </a:cubicBezTo>
                      <a:cubicBezTo>
                        <a:pt x="1047886" y="325353"/>
                        <a:pt x="1037386" y="326900"/>
                        <a:pt x="1027186" y="329682"/>
                      </a:cubicBezTo>
                      <a:cubicBezTo>
                        <a:pt x="1014534" y="333132"/>
                        <a:pt x="1002305" y="337976"/>
                        <a:pt x="989864" y="342123"/>
                      </a:cubicBezTo>
                      <a:cubicBezTo>
                        <a:pt x="983643" y="344197"/>
                        <a:pt x="977290" y="345908"/>
                        <a:pt x="971202" y="348343"/>
                      </a:cubicBezTo>
                      <a:cubicBezTo>
                        <a:pt x="960835" y="352490"/>
                        <a:pt x="950594" y="356968"/>
                        <a:pt x="940100" y="360784"/>
                      </a:cubicBezTo>
                      <a:cubicBezTo>
                        <a:pt x="927776" y="365266"/>
                        <a:pt x="915219" y="369078"/>
                        <a:pt x="902778" y="373225"/>
                      </a:cubicBezTo>
                      <a:lnTo>
                        <a:pt x="865455" y="385666"/>
                      </a:lnTo>
                      <a:lnTo>
                        <a:pt x="846794" y="391886"/>
                      </a:lnTo>
                      <a:cubicBezTo>
                        <a:pt x="840574" y="393959"/>
                        <a:pt x="834494" y="396516"/>
                        <a:pt x="828133" y="398106"/>
                      </a:cubicBezTo>
                      <a:cubicBezTo>
                        <a:pt x="796890" y="405917"/>
                        <a:pt x="811362" y="401624"/>
                        <a:pt x="784590" y="410547"/>
                      </a:cubicBezTo>
                      <a:cubicBezTo>
                        <a:pt x="780443" y="400180"/>
                        <a:pt x="775680" y="390038"/>
                        <a:pt x="772149" y="379445"/>
                      </a:cubicBezTo>
                      <a:cubicBezTo>
                        <a:pt x="765598" y="359793"/>
                        <a:pt x="759708" y="321108"/>
                        <a:pt x="759708" y="304800"/>
                      </a:cubicBezTo>
                      <a:cubicBezTo>
                        <a:pt x="759708" y="292187"/>
                        <a:pt x="763193" y="329811"/>
                        <a:pt x="765929" y="342123"/>
                      </a:cubicBezTo>
                      <a:cubicBezTo>
                        <a:pt x="767351" y="348524"/>
                        <a:pt x="770424" y="354458"/>
                        <a:pt x="772149" y="360784"/>
                      </a:cubicBezTo>
                      <a:cubicBezTo>
                        <a:pt x="776648" y="377280"/>
                        <a:pt x="780443" y="393959"/>
                        <a:pt x="784590" y="410547"/>
                      </a:cubicBezTo>
                      <a:cubicBezTo>
                        <a:pt x="786663" y="418841"/>
                        <a:pt x="788106" y="427319"/>
                        <a:pt x="790810" y="435429"/>
                      </a:cubicBezTo>
                      <a:lnTo>
                        <a:pt x="803251" y="472751"/>
                      </a:lnTo>
                      <a:lnTo>
                        <a:pt x="809472" y="491413"/>
                      </a:lnTo>
                      <a:cubicBezTo>
                        <a:pt x="811545" y="512148"/>
                        <a:pt x="813257" y="532922"/>
                        <a:pt x="815692" y="553617"/>
                      </a:cubicBezTo>
                      <a:cubicBezTo>
                        <a:pt x="817405" y="568178"/>
                        <a:pt x="824789" y="611537"/>
                        <a:pt x="821913" y="597160"/>
                      </a:cubicBezTo>
                      <a:cubicBezTo>
                        <a:pt x="819839" y="586792"/>
                        <a:pt x="817986" y="576378"/>
                        <a:pt x="815692" y="566057"/>
                      </a:cubicBezTo>
                      <a:cubicBezTo>
                        <a:pt x="809691" y="539052"/>
                        <a:pt x="803251" y="512147"/>
                        <a:pt x="797031" y="485192"/>
                      </a:cubicBezTo>
                      <a:lnTo>
                        <a:pt x="759708" y="497633"/>
                      </a:lnTo>
                      <a:cubicBezTo>
                        <a:pt x="730216" y="507464"/>
                        <a:pt x="720632" y="510127"/>
                        <a:pt x="790810" y="491413"/>
                      </a:cubicBezTo>
                      <a:cubicBezTo>
                        <a:pt x="805395" y="487524"/>
                        <a:pt x="819895" y="483310"/>
                        <a:pt x="834353" y="478972"/>
                      </a:cubicBezTo>
                      <a:cubicBezTo>
                        <a:pt x="840634" y="477088"/>
                        <a:pt x="847150" y="475683"/>
                        <a:pt x="853015" y="472751"/>
                      </a:cubicBezTo>
                      <a:cubicBezTo>
                        <a:pt x="859702" y="469408"/>
                        <a:pt x="879007" y="461777"/>
                        <a:pt x="871676" y="460311"/>
                      </a:cubicBezTo>
                      <a:cubicBezTo>
                        <a:pt x="855284" y="457033"/>
                        <a:pt x="838501" y="464458"/>
                        <a:pt x="821913" y="466531"/>
                      </a:cubicBezTo>
                      <a:cubicBezTo>
                        <a:pt x="815692" y="468604"/>
                        <a:pt x="809278" y="470168"/>
                        <a:pt x="803251" y="472751"/>
                      </a:cubicBezTo>
                      <a:cubicBezTo>
                        <a:pt x="794728" y="476404"/>
                        <a:pt x="787643" y="485192"/>
                        <a:pt x="778370" y="485192"/>
                      </a:cubicBezTo>
                      <a:cubicBezTo>
                        <a:pt x="770894" y="485192"/>
                        <a:pt x="765929" y="476898"/>
                        <a:pt x="759708" y="472751"/>
                      </a:cubicBezTo>
                      <a:cubicBezTo>
                        <a:pt x="757635" y="443723"/>
                        <a:pt x="753488" y="414768"/>
                        <a:pt x="753488" y="385666"/>
                      </a:cubicBezTo>
                      <a:cubicBezTo>
                        <a:pt x="753488" y="377117"/>
                        <a:pt x="752869" y="365914"/>
                        <a:pt x="759708" y="360784"/>
                      </a:cubicBezTo>
                      <a:cubicBezTo>
                        <a:pt x="764954" y="356850"/>
                        <a:pt x="772149" y="364931"/>
                        <a:pt x="778370" y="367004"/>
                      </a:cubicBezTo>
                      <a:lnTo>
                        <a:pt x="809472" y="360784"/>
                      </a:lnTo>
                      <a:cubicBezTo>
                        <a:pt x="846633" y="354028"/>
                        <a:pt x="843304" y="356030"/>
                        <a:pt x="877896" y="348343"/>
                      </a:cubicBezTo>
                      <a:cubicBezTo>
                        <a:pt x="886242" y="346488"/>
                        <a:pt x="894589" y="344580"/>
                        <a:pt x="902778" y="342123"/>
                      </a:cubicBezTo>
                      <a:cubicBezTo>
                        <a:pt x="915339" y="338355"/>
                        <a:pt x="940100" y="329682"/>
                        <a:pt x="940100" y="329682"/>
                      </a:cubicBezTo>
                      <a:cubicBezTo>
                        <a:pt x="938027" y="319315"/>
                        <a:pt x="937592" y="308479"/>
                        <a:pt x="933880" y="298580"/>
                      </a:cubicBezTo>
                      <a:cubicBezTo>
                        <a:pt x="931255" y="291580"/>
                        <a:pt x="924782" y="286606"/>
                        <a:pt x="921439" y="279919"/>
                      </a:cubicBezTo>
                      <a:cubicBezTo>
                        <a:pt x="918507" y="274054"/>
                        <a:pt x="917292" y="267478"/>
                        <a:pt x="915219" y="261257"/>
                      </a:cubicBezTo>
                      <a:cubicBezTo>
                        <a:pt x="902815" y="310867"/>
                        <a:pt x="907157" y="282355"/>
                        <a:pt x="915219" y="367004"/>
                      </a:cubicBezTo>
                      <a:cubicBezTo>
                        <a:pt x="916804" y="383646"/>
                        <a:pt x="919486" y="400165"/>
                        <a:pt x="921439" y="416768"/>
                      </a:cubicBezTo>
                      <a:cubicBezTo>
                        <a:pt x="923633" y="435415"/>
                        <a:pt x="924572" y="454231"/>
                        <a:pt x="927659" y="472751"/>
                      </a:cubicBezTo>
                      <a:cubicBezTo>
                        <a:pt x="928737" y="479219"/>
                        <a:pt x="932079" y="485108"/>
                        <a:pt x="933880" y="491413"/>
                      </a:cubicBezTo>
                      <a:cubicBezTo>
                        <a:pt x="936229" y="499633"/>
                        <a:pt x="937644" y="508106"/>
                        <a:pt x="940100" y="516294"/>
                      </a:cubicBezTo>
                      <a:cubicBezTo>
                        <a:pt x="943868" y="528855"/>
                        <a:pt x="952541" y="553617"/>
                        <a:pt x="952541" y="553617"/>
                      </a:cubicBezTo>
                      <a:cubicBezTo>
                        <a:pt x="950468" y="526662"/>
                        <a:pt x="948925" y="499660"/>
                        <a:pt x="946321" y="472751"/>
                      </a:cubicBezTo>
                      <a:cubicBezTo>
                        <a:pt x="934706" y="352730"/>
                        <a:pt x="969908" y="369790"/>
                        <a:pt x="908998" y="354564"/>
                      </a:cubicBezTo>
                      <a:cubicBezTo>
                        <a:pt x="879857" y="360392"/>
                        <a:pt x="874078" y="359584"/>
                        <a:pt x="846794" y="373225"/>
                      </a:cubicBezTo>
                      <a:cubicBezTo>
                        <a:pt x="840929" y="376157"/>
                        <a:pt x="859293" y="369245"/>
                        <a:pt x="865455" y="367004"/>
                      </a:cubicBezTo>
                      <a:cubicBezTo>
                        <a:pt x="882104" y="360950"/>
                        <a:pt x="898631" y="354563"/>
                        <a:pt x="915219" y="348343"/>
                      </a:cubicBezTo>
                      <a:cubicBezTo>
                        <a:pt x="923513" y="342123"/>
                        <a:pt x="930827" y="334318"/>
                        <a:pt x="940100" y="329682"/>
                      </a:cubicBezTo>
                      <a:cubicBezTo>
                        <a:pt x="955946" y="321759"/>
                        <a:pt x="973511" y="317835"/>
                        <a:pt x="989864" y="311021"/>
                      </a:cubicBezTo>
                      <a:cubicBezTo>
                        <a:pt x="1010907" y="302253"/>
                        <a:pt x="1015515" y="298067"/>
                        <a:pt x="1033406" y="286139"/>
                      </a:cubicBezTo>
                      <a:cubicBezTo>
                        <a:pt x="1041700" y="271625"/>
                        <a:pt x="1050812" y="257548"/>
                        <a:pt x="1058288" y="242596"/>
                      </a:cubicBezTo>
                      <a:cubicBezTo>
                        <a:pt x="1061220" y="236731"/>
                        <a:pt x="1061576" y="218070"/>
                        <a:pt x="1064508" y="223935"/>
                      </a:cubicBezTo>
                      <a:cubicBezTo>
                        <a:pt x="1073057" y="241033"/>
                        <a:pt x="1073673" y="261085"/>
                        <a:pt x="1076949" y="279919"/>
                      </a:cubicBezTo>
                      <a:cubicBezTo>
                        <a:pt x="1081973" y="308808"/>
                        <a:pt x="1084570" y="338080"/>
                        <a:pt x="1089390" y="367004"/>
                      </a:cubicBezTo>
                      <a:cubicBezTo>
                        <a:pt x="1091463" y="379445"/>
                        <a:pt x="1092874" y="392015"/>
                        <a:pt x="1095610" y="404327"/>
                      </a:cubicBezTo>
                      <a:cubicBezTo>
                        <a:pt x="1097032" y="410728"/>
                        <a:pt x="1099757" y="416768"/>
                        <a:pt x="1101831" y="422988"/>
                      </a:cubicBezTo>
                      <a:cubicBezTo>
                        <a:pt x="1103904" y="439576"/>
                        <a:pt x="1106301" y="456126"/>
                        <a:pt x="1108051" y="472751"/>
                      </a:cubicBezTo>
                      <a:cubicBezTo>
                        <a:pt x="1110449" y="495528"/>
                        <a:pt x="1111431" y="518450"/>
                        <a:pt x="1114272" y="541176"/>
                      </a:cubicBezTo>
                      <a:cubicBezTo>
                        <a:pt x="1117275" y="565201"/>
                        <a:pt x="1119941" y="570624"/>
                        <a:pt x="1126713" y="590939"/>
                      </a:cubicBezTo>
                      <a:cubicBezTo>
                        <a:pt x="1124639" y="553617"/>
                        <a:pt x="1123730" y="516211"/>
                        <a:pt x="1120492" y="478972"/>
                      </a:cubicBezTo>
                      <a:cubicBezTo>
                        <a:pt x="1117434" y="443809"/>
                        <a:pt x="1114857" y="456431"/>
                        <a:pt x="1108051" y="429208"/>
                      </a:cubicBezTo>
                      <a:cubicBezTo>
                        <a:pt x="1105487" y="418951"/>
                        <a:pt x="1104125" y="408427"/>
                        <a:pt x="1101831" y="398106"/>
                      </a:cubicBezTo>
                      <a:cubicBezTo>
                        <a:pt x="1094291" y="364178"/>
                        <a:pt x="1087862" y="353246"/>
                        <a:pt x="1083170" y="311021"/>
                      </a:cubicBezTo>
                      <a:cubicBezTo>
                        <a:pt x="1075781" y="244529"/>
                        <a:pt x="1080631" y="273449"/>
                        <a:pt x="1070729" y="223935"/>
                      </a:cubicBezTo>
                      <a:cubicBezTo>
                        <a:pt x="1010598" y="226008"/>
                        <a:pt x="944496" y="256361"/>
                        <a:pt x="890337" y="230155"/>
                      </a:cubicBezTo>
                      <a:cubicBezTo>
                        <a:pt x="860241" y="215593"/>
                        <a:pt x="888469" y="162347"/>
                        <a:pt x="877896" y="130629"/>
                      </a:cubicBezTo>
                      <a:cubicBezTo>
                        <a:pt x="873264" y="116732"/>
                        <a:pt x="866930" y="86820"/>
                        <a:pt x="853015" y="74645"/>
                      </a:cubicBezTo>
                      <a:cubicBezTo>
                        <a:pt x="841762" y="64799"/>
                        <a:pt x="828133" y="58058"/>
                        <a:pt x="815692" y="49764"/>
                      </a:cubicBezTo>
                      <a:cubicBezTo>
                        <a:pt x="809472" y="45617"/>
                        <a:pt x="804362" y="38789"/>
                        <a:pt x="797031" y="37323"/>
                      </a:cubicBezTo>
                      <a:lnTo>
                        <a:pt x="765929" y="31102"/>
                      </a:lnTo>
                      <a:cubicBezTo>
                        <a:pt x="728607" y="33176"/>
                        <a:pt x="691174" y="33779"/>
                        <a:pt x="653962" y="37323"/>
                      </a:cubicBezTo>
                      <a:cubicBezTo>
                        <a:pt x="641542" y="38506"/>
                        <a:pt x="625552" y="48344"/>
                        <a:pt x="616639" y="55984"/>
                      </a:cubicBezTo>
                      <a:cubicBezTo>
                        <a:pt x="607733" y="63617"/>
                        <a:pt x="600663" y="73233"/>
                        <a:pt x="591757" y="80866"/>
                      </a:cubicBezTo>
                      <a:cubicBezTo>
                        <a:pt x="586081" y="85731"/>
                        <a:pt x="579316" y="89159"/>
                        <a:pt x="573096" y="93306"/>
                      </a:cubicBezTo>
                      <a:cubicBezTo>
                        <a:pt x="557463" y="140211"/>
                        <a:pt x="578550" y="82398"/>
                        <a:pt x="554435" y="130629"/>
                      </a:cubicBezTo>
                      <a:cubicBezTo>
                        <a:pt x="528682" y="182136"/>
                        <a:pt x="571428" y="114471"/>
                        <a:pt x="535774" y="167951"/>
                      </a:cubicBezTo>
                      <a:cubicBezTo>
                        <a:pt x="533700" y="176245"/>
                        <a:pt x="531902" y="184613"/>
                        <a:pt x="529553" y="192833"/>
                      </a:cubicBezTo>
                      <a:cubicBezTo>
                        <a:pt x="527752" y="199137"/>
                        <a:pt x="523333" y="204937"/>
                        <a:pt x="523333" y="211494"/>
                      </a:cubicBezTo>
                      <a:cubicBezTo>
                        <a:pt x="523333" y="230270"/>
                        <a:pt x="526466" y="248957"/>
                        <a:pt x="529553" y="267478"/>
                      </a:cubicBezTo>
                      <a:cubicBezTo>
                        <a:pt x="530320" y="272080"/>
                        <a:pt x="541051" y="304800"/>
                        <a:pt x="548215" y="304800"/>
                      </a:cubicBezTo>
                      <a:cubicBezTo>
                        <a:pt x="554772" y="304800"/>
                        <a:pt x="544068" y="292359"/>
                        <a:pt x="541994" y="286139"/>
                      </a:cubicBezTo>
                      <a:cubicBezTo>
                        <a:pt x="539921" y="273698"/>
                        <a:pt x="538030" y="261226"/>
                        <a:pt x="535774" y="248817"/>
                      </a:cubicBezTo>
                      <a:cubicBezTo>
                        <a:pt x="533883" y="238415"/>
                        <a:pt x="529553" y="228288"/>
                        <a:pt x="529553" y="217715"/>
                      </a:cubicBezTo>
                      <a:cubicBezTo>
                        <a:pt x="529553" y="188612"/>
                        <a:pt x="532560" y="159554"/>
                        <a:pt x="535774" y="130629"/>
                      </a:cubicBezTo>
                      <a:cubicBezTo>
                        <a:pt x="537559" y="114567"/>
                        <a:pt x="542716" y="98805"/>
                        <a:pt x="554435" y="87086"/>
                      </a:cubicBezTo>
                      <a:cubicBezTo>
                        <a:pt x="564539" y="76982"/>
                        <a:pt x="586593" y="68709"/>
                        <a:pt x="597978" y="62204"/>
                      </a:cubicBezTo>
                      <a:cubicBezTo>
                        <a:pt x="604469" y="58495"/>
                        <a:pt x="609808" y="52800"/>
                        <a:pt x="616639" y="49764"/>
                      </a:cubicBezTo>
                      <a:cubicBezTo>
                        <a:pt x="628623" y="44438"/>
                        <a:pt x="642233" y="43188"/>
                        <a:pt x="653962" y="37323"/>
                      </a:cubicBezTo>
                      <a:cubicBezTo>
                        <a:pt x="662256" y="33176"/>
                        <a:pt x="670234" y="28326"/>
                        <a:pt x="678843" y="24882"/>
                      </a:cubicBezTo>
                      <a:cubicBezTo>
                        <a:pt x="691019" y="20012"/>
                        <a:pt x="703725" y="16588"/>
                        <a:pt x="716166" y="12441"/>
                      </a:cubicBezTo>
                      <a:lnTo>
                        <a:pt x="734827" y="6221"/>
                      </a:lnTo>
                      <a:cubicBezTo>
                        <a:pt x="749341" y="8294"/>
                        <a:pt x="764591" y="7431"/>
                        <a:pt x="778370" y="12441"/>
                      </a:cubicBezTo>
                      <a:cubicBezTo>
                        <a:pt x="799635" y="20173"/>
                        <a:pt x="815008" y="47204"/>
                        <a:pt x="828133" y="62204"/>
                      </a:cubicBezTo>
                      <a:cubicBezTo>
                        <a:pt x="833926" y="68825"/>
                        <a:pt x="841681" y="73707"/>
                        <a:pt x="846794" y="80866"/>
                      </a:cubicBezTo>
                      <a:cubicBezTo>
                        <a:pt x="852184" y="88411"/>
                        <a:pt x="854634" y="97696"/>
                        <a:pt x="859235" y="105747"/>
                      </a:cubicBezTo>
                      <a:cubicBezTo>
                        <a:pt x="862944" y="112238"/>
                        <a:pt x="867331" y="118325"/>
                        <a:pt x="871676" y="124408"/>
                      </a:cubicBezTo>
                      <a:cubicBezTo>
                        <a:pt x="881207" y="137752"/>
                        <a:pt x="894404" y="153297"/>
                        <a:pt x="902778" y="167951"/>
                      </a:cubicBezTo>
                      <a:cubicBezTo>
                        <a:pt x="907379" y="176002"/>
                        <a:pt x="918152" y="184036"/>
                        <a:pt x="915219" y="192833"/>
                      </a:cubicBezTo>
                      <a:cubicBezTo>
                        <a:pt x="913145" y="199054"/>
                        <a:pt x="902778" y="188686"/>
                        <a:pt x="896557" y="186613"/>
                      </a:cubicBezTo>
                      <a:cubicBezTo>
                        <a:pt x="875427" y="102086"/>
                        <a:pt x="906532" y="214659"/>
                        <a:pt x="877896" y="143070"/>
                      </a:cubicBezTo>
                      <a:cubicBezTo>
                        <a:pt x="872290" y="129055"/>
                        <a:pt x="869894" y="113955"/>
                        <a:pt x="865455" y="99527"/>
                      </a:cubicBezTo>
                      <a:cubicBezTo>
                        <a:pt x="861599" y="86993"/>
                        <a:pt x="865456" y="66351"/>
                        <a:pt x="853015" y="62204"/>
                      </a:cubicBezTo>
                      <a:cubicBezTo>
                        <a:pt x="846794" y="60131"/>
                        <a:pt x="840380" y="58567"/>
                        <a:pt x="834353" y="55984"/>
                      </a:cubicBezTo>
                      <a:cubicBezTo>
                        <a:pt x="780546" y="32924"/>
                        <a:pt x="834576" y="51910"/>
                        <a:pt x="790810" y="37323"/>
                      </a:cubicBezTo>
                      <a:cubicBezTo>
                        <a:pt x="740724" y="41497"/>
                        <a:pt x="729062" y="38431"/>
                        <a:pt x="691284" y="49764"/>
                      </a:cubicBezTo>
                      <a:cubicBezTo>
                        <a:pt x="678723" y="53532"/>
                        <a:pt x="653962" y="62204"/>
                        <a:pt x="653962" y="62204"/>
                      </a:cubicBezTo>
                      <a:cubicBezTo>
                        <a:pt x="637860" y="78306"/>
                        <a:pt x="617861" y="95865"/>
                        <a:pt x="610419" y="118188"/>
                      </a:cubicBezTo>
                      <a:cubicBezTo>
                        <a:pt x="601834" y="143942"/>
                        <a:pt x="607835" y="131393"/>
                        <a:pt x="591757" y="155511"/>
                      </a:cubicBezTo>
                      <a:cubicBezTo>
                        <a:pt x="589684" y="161731"/>
                        <a:pt x="588790" y="168479"/>
                        <a:pt x="585537" y="174172"/>
                      </a:cubicBezTo>
                      <a:cubicBezTo>
                        <a:pt x="580393" y="183173"/>
                        <a:pt x="569925" y="189144"/>
                        <a:pt x="566876" y="199053"/>
                      </a:cubicBezTo>
                      <a:cubicBezTo>
                        <a:pt x="561354" y="216999"/>
                        <a:pt x="563310" y="236450"/>
                        <a:pt x="560655" y="255037"/>
                      </a:cubicBezTo>
                      <a:cubicBezTo>
                        <a:pt x="559160" y="265503"/>
                        <a:pt x="556508" y="275772"/>
                        <a:pt x="554435" y="286139"/>
                      </a:cubicBezTo>
                      <a:cubicBezTo>
                        <a:pt x="548508" y="268357"/>
                        <a:pt x="545898" y="262117"/>
                        <a:pt x="541994" y="242596"/>
                      </a:cubicBezTo>
                      <a:cubicBezTo>
                        <a:pt x="539520" y="230229"/>
                        <a:pt x="537847" y="217715"/>
                        <a:pt x="535774" y="205274"/>
                      </a:cubicBezTo>
                      <a:cubicBezTo>
                        <a:pt x="533700" y="174172"/>
                        <a:pt x="528199" y="143110"/>
                        <a:pt x="529553" y="111968"/>
                      </a:cubicBezTo>
                      <a:cubicBezTo>
                        <a:pt x="530357" y="93473"/>
                        <a:pt x="538390" y="59588"/>
                        <a:pt x="554435" y="43543"/>
                      </a:cubicBezTo>
                      <a:cubicBezTo>
                        <a:pt x="570394" y="27584"/>
                        <a:pt x="589884" y="26876"/>
                        <a:pt x="610419" y="18662"/>
                      </a:cubicBezTo>
                      <a:cubicBezTo>
                        <a:pt x="657042" y="12"/>
                        <a:pt x="630441" y="7606"/>
                        <a:pt x="691284" y="0"/>
                      </a:cubicBezTo>
                      <a:cubicBezTo>
                        <a:pt x="720313" y="2074"/>
                        <a:pt x="749445" y="3007"/>
                        <a:pt x="778370" y="6221"/>
                      </a:cubicBezTo>
                      <a:cubicBezTo>
                        <a:pt x="786867" y="7165"/>
                        <a:pt x="796247" y="7539"/>
                        <a:pt x="803251" y="12441"/>
                      </a:cubicBezTo>
                      <a:cubicBezTo>
                        <a:pt x="826752" y="28892"/>
                        <a:pt x="842481" y="52307"/>
                        <a:pt x="859235" y="74645"/>
                      </a:cubicBezTo>
                      <a:cubicBezTo>
                        <a:pt x="874040" y="119060"/>
                        <a:pt x="864402" y="101057"/>
                        <a:pt x="884117" y="130629"/>
                      </a:cubicBezTo>
                      <a:cubicBezTo>
                        <a:pt x="884117" y="130629"/>
                        <a:pt x="874712" y="118800"/>
                        <a:pt x="871676" y="111968"/>
                      </a:cubicBezTo>
                      <a:cubicBezTo>
                        <a:pt x="866350" y="99984"/>
                        <a:pt x="866509" y="85556"/>
                        <a:pt x="859235" y="74645"/>
                      </a:cubicBezTo>
                      <a:cubicBezTo>
                        <a:pt x="840575" y="46655"/>
                        <a:pt x="841609" y="37841"/>
                        <a:pt x="815692" y="24882"/>
                      </a:cubicBezTo>
                      <a:cubicBezTo>
                        <a:pt x="809827" y="21950"/>
                        <a:pt x="803251" y="20735"/>
                        <a:pt x="797031" y="18662"/>
                      </a:cubicBezTo>
                      <a:cubicBezTo>
                        <a:pt x="741047" y="20735"/>
                        <a:pt x="684978" y="21156"/>
                        <a:pt x="629080" y="24882"/>
                      </a:cubicBezTo>
                      <a:cubicBezTo>
                        <a:pt x="600196" y="26807"/>
                        <a:pt x="586097" y="60229"/>
                        <a:pt x="566876" y="74645"/>
                      </a:cubicBezTo>
                      <a:lnTo>
                        <a:pt x="541994" y="93306"/>
                      </a:lnTo>
                      <a:cubicBezTo>
                        <a:pt x="537847" y="101600"/>
                        <a:pt x="534943" y="110642"/>
                        <a:pt x="529553" y="118188"/>
                      </a:cubicBezTo>
                      <a:cubicBezTo>
                        <a:pt x="524440" y="125346"/>
                        <a:pt x="515164" y="129159"/>
                        <a:pt x="510892" y="136849"/>
                      </a:cubicBezTo>
                      <a:cubicBezTo>
                        <a:pt x="504523" y="148313"/>
                        <a:pt x="498451" y="174172"/>
                        <a:pt x="498451" y="174172"/>
                      </a:cubicBezTo>
                      <a:cubicBezTo>
                        <a:pt x="500525" y="192833"/>
                        <a:pt x="501817" y="211597"/>
                        <a:pt x="504672" y="230155"/>
                      </a:cubicBezTo>
                      <a:cubicBezTo>
                        <a:pt x="508623" y="255835"/>
                        <a:pt x="516548" y="265218"/>
                        <a:pt x="523333" y="292360"/>
                      </a:cubicBezTo>
                      <a:cubicBezTo>
                        <a:pt x="531143" y="323602"/>
                        <a:pt x="526849" y="309131"/>
                        <a:pt x="535774" y="335902"/>
                      </a:cubicBezTo>
                      <a:cubicBezTo>
                        <a:pt x="512966" y="337976"/>
                        <a:pt x="490021" y="338884"/>
                        <a:pt x="467349" y="342123"/>
                      </a:cubicBezTo>
                      <a:cubicBezTo>
                        <a:pt x="460858" y="343050"/>
                        <a:pt x="455194" y="347530"/>
                        <a:pt x="448688" y="348343"/>
                      </a:cubicBezTo>
                      <a:cubicBezTo>
                        <a:pt x="421862" y="351696"/>
                        <a:pt x="394778" y="352490"/>
                        <a:pt x="367823" y="354564"/>
                      </a:cubicBezTo>
                      <a:cubicBezTo>
                        <a:pt x="356585" y="358310"/>
                        <a:pt x="324568" y="368576"/>
                        <a:pt x="318059" y="373225"/>
                      </a:cubicBezTo>
                      <a:cubicBezTo>
                        <a:pt x="311976" y="377570"/>
                        <a:pt x="309766" y="385666"/>
                        <a:pt x="305619" y="391886"/>
                      </a:cubicBezTo>
                      <a:cubicBezTo>
                        <a:pt x="307692" y="410547"/>
                        <a:pt x="309971" y="429187"/>
                        <a:pt x="311839" y="447870"/>
                      </a:cubicBezTo>
                      <a:cubicBezTo>
                        <a:pt x="314118" y="470658"/>
                        <a:pt x="314820" y="493622"/>
                        <a:pt x="318059" y="516294"/>
                      </a:cubicBezTo>
                      <a:cubicBezTo>
                        <a:pt x="318986" y="522785"/>
                        <a:pt x="322479" y="528650"/>
                        <a:pt x="324280" y="534955"/>
                      </a:cubicBezTo>
                      <a:cubicBezTo>
                        <a:pt x="326940" y="544264"/>
                        <a:pt x="331746" y="568549"/>
                        <a:pt x="336721" y="578498"/>
                      </a:cubicBezTo>
                      <a:cubicBezTo>
                        <a:pt x="340065" y="585185"/>
                        <a:pt x="345015" y="590939"/>
                        <a:pt x="349162" y="597160"/>
                      </a:cubicBezTo>
                      <a:cubicBezTo>
                        <a:pt x="360110" y="630007"/>
                        <a:pt x="351744" y="610363"/>
                        <a:pt x="380264" y="653143"/>
                      </a:cubicBezTo>
                      <a:cubicBezTo>
                        <a:pt x="380265" y="653145"/>
                        <a:pt x="405144" y="690465"/>
                        <a:pt x="405145" y="690466"/>
                      </a:cubicBezTo>
                      <a:lnTo>
                        <a:pt x="423806" y="702906"/>
                      </a:lnTo>
                      <a:cubicBezTo>
                        <a:pt x="425880" y="709127"/>
                        <a:pt x="427094" y="715703"/>
                        <a:pt x="430027" y="721568"/>
                      </a:cubicBezTo>
                      <a:cubicBezTo>
                        <a:pt x="433370" y="728255"/>
                        <a:pt x="440501" y="747442"/>
                        <a:pt x="442468" y="740229"/>
                      </a:cubicBezTo>
                      <a:cubicBezTo>
                        <a:pt x="450125" y="712152"/>
                        <a:pt x="446615" y="682172"/>
                        <a:pt x="448688" y="653143"/>
                      </a:cubicBezTo>
                      <a:cubicBezTo>
                        <a:pt x="446615" y="624114"/>
                        <a:pt x="449527" y="594291"/>
                        <a:pt x="442468" y="566057"/>
                      </a:cubicBezTo>
                      <a:cubicBezTo>
                        <a:pt x="440655" y="558804"/>
                        <a:pt x="428729" y="559243"/>
                        <a:pt x="423806" y="553617"/>
                      </a:cubicBezTo>
                      <a:cubicBezTo>
                        <a:pt x="413960" y="542364"/>
                        <a:pt x="407219" y="528735"/>
                        <a:pt x="398925" y="516294"/>
                      </a:cubicBezTo>
                      <a:cubicBezTo>
                        <a:pt x="381745" y="490524"/>
                        <a:pt x="387087" y="501316"/>
                        <a:pt x="374043" y="466531"/>
                      </a:cubicBezTo>
                      <a:cubicBezTo>
                        <a:pt x="361464" y="432987"/>
                        <a:pt x="373972" y="462124"/>
                        <a:pt x="361602" y="416768"/>
                      </a:cubicBezTo>
                      <a:cubicBezTo>
                        <a:pt x="358152" y="404116"/>
                        <a:pt x="349162" y="379445"/>
                        <a:pt x="349162" y="379445"/>
                      </a:cubicBezTo>
                      <a:cubicBezTo>
                        <a:pt x="353309" y="406400"/>
                        <a:pt x="358075" y="433268"/>
                        <a:pt x="361602" y="460311"/>
                      </a:cubicBezTo>
                      <a:cubicBezTo>
                        <a:pt x="371911" y="539345"/>
                        <a:pt x="360153" y="499503"/>
                        <a:pt x="374043" y="541176"/>
                      </a:cubicBezTo>
                      <a:cubicBezTo>
                        <a:pt x="389286" y="647869"/>
                        <a:pt x="372008" y="545471"/>
                        <a:pt x="386484" y="603380"/>
                      </a:cubicBezTo>
                      <a:cubicBezTo>
                        <a:pt x="389048" y="613637"/>
                        <a:pt x="389922" y="624282"/>
                        <a:pt x="392704" y="634482"/>
                      </a:cubicBezTo>
                      <a:cubicBezTo>
                        <a:pt x="396154" y="647134"/>
                        <a:pt x="409292" y="684245"/>
                        <a:pt x="405145" y="671804"/>
                      </a:cubicBezTo>
                      <a:cubicBezTo>
                        <a:pt x="373407" y="576585"/>
                        <a:pt x="387810" y="622313"/>
                        <a:pt x="361602" y="534955"/>
                      </a:cubicBezTo>
                      <a:cubicBezTo>
                        <a:pt x="358912" y="513437"/>
                        <a:pt x="354286" y="470929"/>
                        <a:pt x="349162" y="447870"/>
                      </a:cubicBezTo>
                      <a:cubicBezTo>
                        <a:pt x="347740" y="441469"/>
                        <a:pt x="345015" y="435429"/>
                        <a:pt x="342941" y="429208"/>
                      </a:cubicBezTo>
                      <a:cubicBezTo>
                        <a:pt x="345015" y="445796"/>
                        <a:pt x="345108" y="462754"/>
                        <a:pt x="349162" y="478972"/>
                      </a:cubicBezTo>
                      <a:cubicBezTo>
                        <a:pt x="351411" y="487968"/>
                        <a:pt x="358670" y="495056"/>
                        <a:pt x="361602" y="503853"/>
                      </a:cubicBezTo>
                      <a:cubicBezTo>
                        <a:pt x="364945" y="513883"/>
                        <a:pt x="364785" y="524828"/>
                        <a:pt x="367823" y="534955"/>
                      </a:cubicBezTo>
                      <a:cubicBezTo>
                        <a:pt x="371032" y="545650"/>
                        <a:pt x="376733" y="555464"/>
                        <a:pt x="380264" y="566057"/>
                      </a:cubicBezTo>
                      <a:cubicBezTo>
                        <a:pt x="399590" y="624038"/>
                        <a:pt x="381937" y="593450"/>
                        <a:pt x="405145" y="628262"/>
                      </a:cubicBezTo>
                      <a:cubicBezTo>
                        <a:pt x="409420" y="649635"/>
                        <a:pt x="411731" y="663752"/>
                        <a:pt x="417586" y="684245"/>
                      </a:cubicBezTo>
                      <a:cubicBezTo>
                        <a:pt x="419387" y="690550"/>
                        <a:pt x="422005" y="696602"/>
                        <a:pt x="423806" y="702906"/>
                      </a:cubicBezTo>
                      <a:cubicBezTo>
                        <a:pt x="426155" y="711126"/>
                        <a:pt x="423982" y="721743"/>
                        <a:pt x="430027" y="727788"/>
                      </a:cubicBezTo>
                      <a:cubicBezTo>
                        <a:pt x="437923" y="735684"/>
                        <a:pt x="450762" y="736082"/>
                        <a:pt x="461129" y="740229"/>
                      </a:cubicBezTo>
                      <a:cubicBezTo>
                        <a:pt x="485700" y="736719"/>
                        <a:pt x="511523" y="733850"/>
                        <a:pt x="535774" y="727788"/>
                      </a:cubicBezTo>
                      <a:cubicBezTo>
                        <a:pt x="542135" y="726198"/>
                        <a:pt x="548006" y="722854"/>
                        <a:pt x="554435" y="721568"/>
                      </a:cubicBezTo>
                      <a:cubicBezTo>
                        <a:pt x="665882" y="699278"/>
                        <a:pt x="549095" y="727567"/>
                        <a:pt x="622859" y="709127"/>
                      </a:cubicBezTo>
                      <a:lnTo>
                        <a:pt x="666402" y="715347"/>
                      </a:lnTo>
                      <a:cubicBezTo>
                        <a:pt x="678132" y="730009"/>
                        <a:pt x="669536" y="752810"/>
                        <a:pt x="672623" y="771331"/>
                      </a:cubicBezTo>
                      <a:cubicBezTo>
                        <a:pt x="675485" y="788501"/>
                        <a:pt x="681730" y="794323"/>
                        <a:pt x="691284" y="808653"/>
                      </a:cubicBezTo>
                      <a:cubicBezTo>
                        <a:pt x="696361" y="823884"/>
                        <a:pt x="700335" y="838742"/>
                        <a:pt x="709945" y="852196"/>
                      </a:cubicBezTo>
                      <a:cubicBezTo>
                        <a:pt x="715058" y="859354"/>
                        <a:pt x="723205" y="863913"/>
                        <a:pt x="728606" y="870857"/>
                      </a:cubicBezTo>
                      <a:cubicBezTo>
                        <a:pt x="763542" y="915774"/>
                        <a:pt x="736489" y="902514"/>
                        <a:pt x="772149" y="914400"/>
                      </a:cubicBezTo>
                      <a:cubicBezTo>
                        <a:pt x="774223" y="920621"/>
                        <a:pt x="774274" y="927942"/>
                        <a:pt x="778370" y="933062"/>
                      </a:cubicBezTo>
                      <a:cubicBezTo>
                        <a:pt x="783040" y="938900"/>
                        <a:pt x="791745" y="940216"/>
                        <a:pt x="797031" y="945502"/>
                      </a:cubicBezTo>
                      <a:cubicBezTo>
                        <a:pt x="802318" y="950789"/>
                        <a:pt x="805325" y="957943"/>
                        <a:pt x="809472" y="964164"/>
                      </a:cubicBezTo>
                      <a:cubicBezTo>
                        <a:pt x="807059" y="966577"/>
                        <a:pt x="761334" y="1015819"/>
                        <a:pt x="747268" y="1020147"/>
                      </a:cubicBezTo>
                      <a:cubicBezTo>
                        <a:pt x="729322" y="1025669"/>
                        <a:pt x="709945" y="1024294"/>
                        <a:pt x="691284" y="1026368"/>
                      </a:cubicBezTo>
                      <a:cubicBezTo>
                        <a:pt x="682990" y="1024294"/>
                        <a:pt x="674622" y="1022496"/>
                        <a:pt x="666402" y="1020147"/>
                      </a:cubicBezTo>
                      <a:cubicBezTo>
                        <a:pt x="660098" y="1018346"/>
                        <a:pt x="654142" y="1015349"/>
                        <a:pt x="647741" y="1013927"/>
                      </a:cubicBezTo>
                      <a:cubicBezTo>
                        <a:pt x="635429" y="1011191"/>
                        <a:pt x="622860" y="1009780"/>
                        <a:pt x="610419" y="1007706"/>
                      </a:cubicBezTo>
                      <a:cubicBezTo>
                        <a:pt x="567640" y="979188"/>
                        <a:pt x="587281" y="987554"/>
                        <a:pt x="554435" y="976604"/>
                      </a:cubicBezTo>
                      <a:cubicBezTo>
                        <a:pt x="548215" y="980751"/>
                        <a:pt x="543250" y="989045"/>
                        <a:pt x="535774" y="989045"/>
                      </a:cubicBezTo>
                      <a:cubicBezTo>
                        <a:pt x="527883" y="989045"/>
                        <a:pt x="499519" y="969022"/>
                        <a:pt x="492231" y="964164"/>
                      </a:cubicBezTo>
                      <a:cubicBezTo>
                        <a:pt x="486011" y="966237"/>
                        <a:pt x="477207" y="964928"/>
                        <a:pt x="473570" y="970384"/>
                      </a:cubicBezTo>
                      <a:cubicBezTo>
                        <a:pt x="463743" y="985124"/>
                        <a:pt x="472383" y="1023059"/>
                        <a:pt x="454908" y="1020147"/>
                      </a:cubicBezTo>
                      <a:cubicBezTo>
                        <a:pt x="424759" y="1015122"/>
                        <a:pt x="400751" y="961595"/>
                        <a:pt x="386484" y="933062"/>
                      </a:cubicBezTo>
                      <a:cubicBezTo>
                        <a:pt x="378190" y="945503"/>
                        <a:pt x="368863" y="957314"/>
                        <a:pt x="361602" y="970384"/>
                      </a:cubicBezTo>
                      <a:cubicBezTo>
                        <a:pt x="358418" y="976116"/>
                        <a:pt x="361939" y="989045"/>
                        <a:pt x="355382" y="989045"/>
                      </a:cubicBezTo>
                      <a:cubicBezTo>
                        <a:pt x="337666" y="989045"/>
                        <a:pt x="322207" y="976604"/>
                        <a:pt x="305619" y="970384"/>
                      </a:cubicBezTo>
                      <a:cubicBezTo>
                        <a:pt x="297325" y="957943"/>
                        <a:pt x="289208" y="920741"/>
                        <a:pt x="280737" y="933062"/>
                      </a:cubicBezTo>
                      <a:cubicBezTo>
                        <a:pt x="208077" y="1038749"/>
                        <a:pt x="245811" y="1010257"/>
                        <a:pt x="193651" y="1045029"/>
                      </a:cubicBezTo>
                      <a:cubicBezTo>
                        <a:pt x="189504" y="1036735"/>
                        <a:pt x="184466" y="1028830"/>
                        <a:pt x="181210" y="1020147"/>
                      </a:cubicBezTo>
                      <a:cubicBezTo>
                        <a:pt x="178208" y="1012142"/>
                        <a:pt x="177338" y="1003486"/>
                        <a:pt x="174990" y="995266"/>
                      </a:cubicBezTo>
                      <a:cubicBezTo>
                        <a:pt x="157132" y="932759"/>
                        <a:pt x="182009" y="1029555"/>
                        <a:pt x="162549" y="951723"/>
                      </a:cubicBezTo>
                      <a:cubicBezTo>
                        <a:pt x="160476" y="957943"/>
                        <a:pt x="158054" y="964058"/>
                        <a:pt x="156329" y="970384"/>
                      </a:cubicBezTo>
                      <a:cubicBezTo>
                        <a:pt x="151830" y="986880"/>
                        <a:pt x="156756" y="1008888"/>
                        <a:pt x="143888" y="1020147"/>
                      </a:cubicBezTo>
                      <a:cubicBezTo>
                        <a:pt x="134396" y="1028452"/>
                        <a:pt x="119007" y="1016000"/>
                        <a:pt x="106566" y="1013927"/>
                      </a:cubicBezTo>
                      <a:lnTo>
                        <a:pt x="50582" y="1020147"/>
                      </a:lnTo>
                      <a:cubicBezTo>
                        <a:pt x="33980" y="1022100"/>
                        <a:pt x="8295" y="1011416"/>
                        <a:pt x="819" y="1026368"/>
                      </a:cubicBezTo>
                      <a:cubicBezTo>
                        <a:pt x="-5401" y="1038809"/>
                        <a:pt x="25431" y="1039380"/>
                        <a:pt x="38141" y="1045029"/>
                      </a:cubicBezTo>
                      <a:cubicBezTo>
                        <a:pt x="44133" y="1047692"/>
                        <a:pt x="50582" y="1049176"/>
                        <a:pt x="56802" y="1051249"/>
                      </a:cubicBezTo>
                      <a:cubicBezTo>
                        <a:pt x="63023" y="1055396"/>
                        <a:pt x="72519" y="1056818"/>
                        <a:pt x="75464" y="1063690"/>
                      </a:cubicBezTo>
                      <a:cubicBezTo>
                        <a:pt x="91570" y="1101270"/>
                        <a:pt x="92670" y="1137281"/>
                        <a:pt x="100345" y="1175657"/>
                      </a:cubicBezTo>
                      <a:cubicBezTo>
                        <a:pt x="102022" y="1184040"/>
                        <a:pt x="104492" y="1192245"/>
                        <a:pt x="106566" y="1200539"/>
                      </a:cubicBezTo>
                      <a:cubicBezTo>
                        <a:pt x="104492" y="1225421"/>
                        <a:pt x="104450" y="1250556"/>
                        <a:pt x="100345" y="1275184"/>
                      </a:cubicBezTo>
                      <a:cubicBezTo>
                        <a:pt x="98189" y="1288119"/>
                        <a:pt x="91084" y="1299784"/>
                        <a:pt x="87904" y="1312506"/>
                      </a:cubicBezTo>
                      <a:cubicBezTo>
                        <a:pt x="85831" y="1320800"/>
                        <a:pt x="84141" y="1329199"/>
                        <a:pt x="81684" y="1337388"/>
                      </a:cubicBezTo>
                      <a:cubicBezTo>
                        <a:pt x="77916" y="1349949"/>
                        <a:pt x="73390" y="1362270"/>
                        <a:pt x="69243" y="1374711"/>
                      </a:cubicBezTo>
                      <a:lnTo>
                        <a:pt x="63023" y="1393372"/>
                      </a:lnTo>
                      <a:cubicBezTo>
                        <a:pt x="60949" y="1407886"/>
                        <a:pt x="59425" y="1422490"/>
                        <a:pt x="56802" y="1436915"/>
                      </a:cubicBezTo>
                      <a:cubicBezTo>
                        <a:pt x="55273" y="1445326"/>
                        <a:pt x="50582" y="1453247"/>
                        <a:pt x="50582" y="1461796"/>
                      </a:cubicBezTo>
                      <a:cubicBezTo>
                        <a:pt x="50582" y="1468353"/>
                        <a:pt x="51467" y="1476646"/>
                        <a:pt x="56802" y="1480457"/>
                      </a:cubicBezTo>
                      <a:cubicBezTo>
                        <a:pt x="67473" y="1488079"/>
                        <a:pt x="94125" y="1492898"/>
                        <a:pt x="94125" y="1492898"/>
                      </a:cubicBezTo>
                      <a:cubicBezTo>
                        <a:pt x="100345" y="1499119"/>
                        <a:pt x="105466" y="1506680"/>
                        <a:pt x="112786" y="1511560"/>
                      </a:cubicBezTo>
                      <a:cubicBezTo>
                        <a:pt x="118242" y="1515197"/>
                        <a:pt x="125420" y="1515197"/>
                        <a:pt x="131447" y="1517780"/>
                      </a:cubicBezTo>
                      <a:cubicBezTo>
                        <a:pt x="139970" y="1521433"/>
                        <a:pt x="147719" y="1526777"/>
                        <a:pt x="156329" y="1530221"/>
                      </a:cubicBezTo>
                      <a:cubicBezTo>
                        <a:pt x="168505" y="1535091"/>
                        <a:pt x="193651" y="1542662"/>
                        <a:pt x="193651" y="1542662"/>
                      </a:cubicBezTo>
                      <a:cubicBezTo>
                        <a:pt x="216459" y="1540588"/>
                        <a:pt x="243754" y="1550182"/>
                        <a:pt x="262076" y="1536441"/>
                      </a:cubicBezTo>
                      <a:cubicBezTo>
                        <a:pt x="275449" y="1526411"/>
                        <a:pt x="266848" y="1503332"/>
                        <a:pt x="268296" y="1486678"/>
                      </a:cubicBezTo>
                      <a:cubicBezTo>
                        <a:pt x="270996" y="1455624"/>
                        <a:pt x="272443" y="1424474"/>
                        <a:pt x="274517" y="1393372"/>
                      </a:cubicBezTo>
                      <a:cubicBezTo>
                        <a:pt x="272443" y="1316654"/>
                        <a:pt x="271190" y="1239909"/>
                        <a:pt x="268296" y="1163217"/>
                      </a:cubicBezTo>
                      <a:cubicBezTo>
                        <a:pt x="267043" y="1130000"/>
                        <a:pt x="274421" y="1094553"/>
                        <a:pt x="262076" y="1063690"/>
                      </a:cubicBezTo>
                      <a:cubicBezTo>
                        <a:pt x="253570" y="1042426"/>
                        <a:pt x="257681" y="1109286"/>
                        <a:pt x="255855" y="1132115"/>
                      </a:cubicBezTo>
                      <a:cubicBezTo>
                        <a:pt x="245972" y="1255656"/>
                        <a:pt x="254665" y="1178960"/>
                        <a:pt x="243415" y="1268964"/>
                      </a:cubicBezTo>
                      <a:cubicBezTo>
                        <a:pt x="241341" y="1312507"/>
                        <a:pt x="240670" y="1356139"/>
                        <a:pt x="237194" y="1399592"/>
                      </a:cubicBezTo>
                      <a:cubicBezTo>
                        <a:pt x="236512" y="1408114"/>
                        <a:pt x="231448" y="1415938"/>
                        <a:pt x="230974" y="1424474"/>
                      </a:cubicBezTo>
                      <a:cubicBezTo>
                        <a:pt x="227292" y="1490755"/>
                        <a:pt x="232509" y="1557598"/>
                        <a:pt x="224753" y="1623527"/>
                      </a:cubicBezTo>
                      <a:cubicBezTo>
                        <a:pt x="223879" y="1630952"/>
                        <a:pt x="213533" y="1635248"/>
                        <a:pt x="206092" y="1635968"/>
                      </a:cubicBezTo>
                      <a:cubicBezTo>
                        <a:pt x="148268" y="1641564"/>
                        <a:pt x="89978" y="1640115"/>
                        <a:pt x="31921" y="1642188"/>
                      </a:cubicBezTo>
                      <a:cubicBezTo>
                        <a:pt x="94890" y="1663178"/>
                        <a:pt x="56168" y="1653623"/>
                        <a:pt x="150108" y="1660849"/>
                      </a:cubicBezTo>
                      <a:cubicBezTo>
                        <a:pt x="156717" y="1670763"/>
                        <a:pt x="169866" y="1693130"/>
                        <a:pt x="181210" y="1698172"/>
                      </a:cubicBezTo>
                      <a:cubicBezTo>
                        <a:pt x="192736" y="1703294"/>
                        <a:pt x="205936" y="1703762"/>
                        <a:pt x="218533" y="1704392"/>
                      </a:cubicBezTo>
                      <a:cubicBezTo>
                        <a:pt x="288973" y="1707914"/>
                        <a:pt x="359529" y="1708539"/>
                        <a:pt x="430027" y="1710613"/>
                      </a:cubicBezTo>
                      <a:cubicBezTo>
                        <a:pt x="450762" y="1708539"/>
                        <a:pt x="471635" y="1707561"/>
                        <a:pt x="492231" y="1704392"/>
                      </a:cubicBezTo>
                      <a:cubicBezTo>
                        <a:pt x="505453" y="1702358"/>
                        <a:pt x="525161" y="1691038"/>
                        <a:pt x="535774" y="1685731"/>
                      </a:cubicBezTo>
                      <a:cubicBezTo>
                        <a:pt x="539921" y="1677437"/>
                        <a:pt x="539418" y="1663781"/>
                        <a:pt x="548215" y="1660849"/>
                      </a:cubicBezTo>
                      <a:cubicBezTo>
                        <a:pt x="557012" y="1657917"/>
                        <a:pt x="565551" y="1667900"/>
                        <a:pt x="573096" y="1673290"/>
                      </a:cubicBezTo>
                      <a:cubicBezTo>
                        <a:pt x="613866" y="1702412"/>
                        <a:pt x="570387" y="1684827"/>
                        <a:pt x="610419" y="1698172"/>
                      </a:cubicBezTo>
                      <a:cubicBezTo>
                        <a:pt x="635301" y="1691952"/>
                        <a:pt x="671295" y="1701149"/>
                        <a:pt x="685064" y="1679511"/>
                      </a:cubicBezTo>
                      <a:cubicBezTo>
                        <a:pt x="695566" y="1663008"/>
                        <a:pt x="653962" y="1629747"/>
                        <a:pt x="653962" y="1629747"/>
                      </a:cubicBezTo>
                      <a:cubicBezTo>
                        <a:pt x="651888" y="1619380"/>
                        <a:pt x="650035" y="1608966"/>
                        <a:pt x="647741" y="1598645"/>
                      </a:cubicBezTo>
                      <a:cubicBezTo>
                        <a:pt x="645886" y="1590300"/>
                        <a:pt x="642821" y="1582213"/>
                        <a:pt x="641521" y="1573764"/>
                      </a:cubicBezTo>
                      <a:cubicBezTo>
                        <a:pt x="638666" y="1555206"/>
                        <a:pt x="637374" y="1536441"/>
                        <a:pt x="635300" y="1517780"/>
                      </a:cubicBezTo>
                      <a:cubicBezTo>
                        <a:pt x="616639" y="1519853"/>
                        <a:pt x="597728" y="1520318"/>
                        <a:pt x="579317" y="1524000"/>
                      </a:cubicBezTo>
                      <a:cubicBezTo>
                        <a:pt x="566458" y="1526572"/>
                        <a:pt x="541994" y="1536441"/>
                        <a:pt x="541994" y="1536441"/>
                      </a:cubicBezTo>
                      <a:cubicBezTo>
                        <a:pt x="519186" y="1534368"/>
                        <a:pt x="495964" y="1535020"/>
                        <a:pt x="473570" y="1530221"/>
                      </a:cubicBezTo>
                      <a:cubicBezTo>
                        <a:pt x="466260" y="1528655"/>
                        <a:pt x="462297" y="1516643"/>
                        <a:pt x="454908" y="1517780"/>
                      </a:cubicBezTo>
                      <a:cubicBezTo>
                        <a:pt x="440101" y="1520058"/>
                        <a:pt x="393095" y="1538771"/>
                        <a:pt x="374043" y="1555102"/>
                      </a:cubicBezTo>
                      <a:cubicBezTo>
                        <a:pt x="365138" y="1562735"/>
                        <a:pt x="358545" y="1572946"/>
                        <a:pt x="349162" y="1579984"/>
                      </a:cubicBezTo>
                      <a:cubicBezTo>
                        <a:pt x="341744" y="1585548"/>
                        <a:pt x="332890" y="1588981"/>
                        <a:pt x="324280" y="1592425"/>
                      </a:cubicBezTo>
                      <a:cubicBezTo>
                        <a:pt x="312104" y="1597295"/>
                        <a:pt x="274235" y="1608047"/>
                        <a:pt x="286957" y="1604866"/>
                      </a:cubicBezTo>
                      <a:cubicBezTo>
                        <a:pt x="295251" y="1602792"/>
                        <a:pt x="303947" y="1601933"/>
                        <a:pt x="311839" y="1598645"/>
                      </a:cubicBezTo>
                      <a:cubicBezTo>
                        <a:pt x="328958" y="1591512"/>
                        <a:pt x="345014" y="1582058"/>
                        <a:pt x="361602" y="1573764"/>
                      </a:cubicBezTo>
                      <a:cubicBezTo>
                        <a:pt x="369896" y="1569617"/>
                        <a:pt x="377687" y="1564256"/>
                        <a:pt x="386484" y="1561323"/>
                      </a:cubicBezTo>
                      <a:lnTo>
                        <a:pt x="405145" y="1555102"/>
                      </a:lnTo>
                      <a:cubicBezTo>
                        <a:pt x="413439" y="1546808"/>
                        <a:pt x="422394" y="1539126"/>
                        <a:pt x="430027" y="1530221"/>
                      </a:cubicBezTo>
                      <a:cubicBezTo>
                        <a:pt x="434892" y="1524545"/>
                        <a:pt x="437603" y="1517236"/>
                        <a:pt x="442468" y="1511560"/>
                      </a:cubicBezTo>
                      <a:cubicBezTo>
                        <a:pt x="487719" y="1458766"/>
                        <a:pt x="451228" y="1510858"/>
                        <a:pt x="479790" y="1468017"/>
                      </a:cubicBezTo>
                      <a:cubicBezTo>
                        <a:pt x="512159" y="1338531"/>
                        <a:pt x="474037" y="1500262"/>
                        <a:pt x="479790" y="1132115"/>
                      </a:cubicBezTo>
                      <a:cubicBezTo>
                        <a:pt x="480248" y="1102795"/>
                        <a:pt x="488084" y="1074058"/>
                        <a:pt x="492231" y="1045029"/>
                      </a:cubicBezTo>
                      <a:cubicBezTo>
                        <a:pt x="535176" y="1109445"/>
                        <a:pt x="449139" y="990225"/>
                        <a:pt x="616639" y="1082351"/>
                      </a:cubicBezTo>
                      <a:cubicBezTo>
                        <a:pt x="631621" y="1090591"/>
                        <a:pt x="624933" y="1115527"/>
                        <a:pt x="629080" y="1132115"/>
                      </a:cubicBezTo>
                      <a:lnTo>
                        <a:pt x="635300" y="1156996"/>
                      </a:lnTo>
                      <a:cubicBezTo>
                        <a:pt x="650648" y="1341155"/>
                        <a:pt x="641521" y="1206673"/>
                        <a:pt x="641521" y="1561323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custGeom>
                  <a:avLst/>
                  <a:gdLst>
                    <a:gd name="textAreaLeft" fmla="*/ 0 w 707760"/>
                    <a:gd name="textAreaRight" fmla="*/ 708120 w 70776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1798459" h="4120179">
                      <a:moveTo>
                        <a:pt x="313903" y="849854"/>
                      </a:moveTo>
                      <a:lnTo>
                        <a:pt x="206327" y="516367"/>
                      </a:lnTo>
                      <a:cubicBezTo>
                        <a:pt x="195857" y="484006"/>
                        <a:pt x="184810" y="451815"/>
                        <a:pt x="174054" y="419548"/>
                      </a:cubicBezTo>
                      <a:lnTo>
                        <a:pt x="163296" y="387275"/>
                      </a:lnTo>
                      <a:cubicBezTo>
                        <a:pt x="159710" y="376517"/>
                        <a:pt x="158829" y="364437"/>
                        <a:pt x="152539" y="355002"/>
                      </a:cubicBezTo>
                      <a:lnTo>
                        <a:pt x="131023" y="322729"/>
                      </a:lnTo>
                      <a:cubicBezTo>
                        <a:pt x="127437" y="308386"/>
                        <a:pt x="124514" y="293860"/>
                        <a:pt x="120266" y="279699"/>
                      </a:cubicBezTo>
                      <a:cubicBezTo>
                        <a:pt x="102952" y="221985"/>
                        <a:pt x="112894" y="216846"/>
                        <a:pt x="66478" y="193638"/>
                      </a:cubicBezTo>
                      <a:cubicBezTo>
                        <a:pt x="56336" y="188567"/>
                        <a:pt x="44963" y="186466"/>
                        <a:pt x="34205" y="182880"/>
                      </a:cubicBezTo>
                      <a:cubicBezTo>
                        <a:pt x="27033" y="193638"/>
                        <a:pt x="18471" y="203589"/>
                        <a:pt x="12689" y="215153"/>
                      </a:cubicBezTo>
                      <a:cubicBezTo>
                        <a:pt x="-10105" y="260740"/>
                        <a:pt x="2841" y="302482"/>
                        <a:pt x="12689" y="355002"/>
                      </a:cubicBezTo>
                      <a:cubicBezTo>
                        <a:pt x="24307" y="416966"/>
                        <a:pt x="42233" y="431591"/>
                        <a:pt x="77235" y="484094"/>
                      </a:cubicBezTo>
                      <a:cubicBezTo>
                        <a:pt x="84407" y="494852"/>
                        <a:pt x="94661" y="504101"/>
                        <a:pt x="98750" y="516367"/>
                      </a:cubicBezTo>
                      <a:cubicBezTo>
                        <a:pt x="154260" y="682891"/>
                        <a:pt x="90638" y="510899"/>
                        <a:pt x="141781" y="613186"/>
                      </a:cubicBezTo>
                      <a:cubicBezTo>
                        <a:pt x="150822" y="631268"/>
                        <a:pt x="158124" y="671248"/>
                        <a:pt x="163296" y="688489"/>
                      </a:cubicBezTo>
                      <a:cubicBezTo>
                        <a:pt x="169813" y="710212"/>
                        <a:pt x="177640" y="731520"/>
                        <a:pt x="184812" y="753035"/>
                      </a:cubicBezTo>
                      <a:lnTo>
                        <a:pt x="206327" y="817581"/>
                      </a:lnTo>
                      <a:lnTo>
                        <a:pt x="217085" y="849854"/>
                      </a:lnTo>
                      <a:cubicBezTo>
                        <a:pt x="220671" y="860612"/>
                        <a:pt x="219824" y="874109"/>
                        <a:pt x="227842" y="882127"/>
                      </a:cubicBezTo>
                      <a:lnTo>
                        <a:pt x="249358" y="903642"/>
                      </a:lnTo>
                      <a:cubicBezTo>
                        <a:pt x="363376" y="875139"/>
                        <a:pt x="193750" y="915710"/>
                        <a:pt x="378449" y="882127"/>
                      </a:cubicBezTo>
                      <a:cubicBezTo>
                        <a:pt x="389606" y="880098"/>
                        <a:pt x="399537" y="873233"/>
                        <a:pt x="410722" y="871369"/>
                      </a:cubicBezTo>
                      <a:cubicBezTo>
                        <a:pt x="442752" y="866031"/>
                        <a:pt x="475268" y="864198"/>
                        <a:pt x="507541" y="860612"/>
                      </a:cubicBezTo>
                      <a:lnTo>
                        <a:pt x="604360" y="828339"/>
                      </a:lnTo>
                      <a:cubicBezTo>
                        <a:pt x="615118" y="824753"/>
                        <a:pt x="627198" y="823871"/>
                        <a:pt x="636633" y="817581"/>
                      </a:cubicBezTo>
                      <a:cubicBezTo>
                        <a:pt x="687777" y="783486"/>
                        <a:pt x="656639" y="800155"/>
                        <a:pt x="733452" y="774551"/>
                      </a:cubicBezTo>
                      <a:cubicBezTo>
                        <a:pt x="744210" y="770965"/>
                        <a:pt x="756290" y="770083"/>
                        <a:pt x="765725" y="763793"/>
                      </a:cubicBezTo>
                      <a:lnTo>
                        <a:pt x="830270" y="720762"/>
                      </a:lnTo>
                      <a:cubicBezTo>
                        <a:pt x="833856" y="710004"/>
                        <a:pt x="841028" y="699829"/>
                        <a:pt x="841028" y="688489"/>
                      </a:cubicBezTo>
                      <a:cubicBezTo>
                        <a:pt x="841028" y="652451"/>
                        <a:pt x="836911" y="616333"/>
                        <a:pt x="830270" y="580913"/>
                      </a:cubicBezTo>
                      <a:cubicBezTo>
                        <a:pt x="826090" y="558622"/>
                        <a:pt x="815927" y="537882"/>
                        <a:pt x="808755" y="516367"/>
                      </a:cubicBezTo>
                      <a:lnTo>
                        <a:pt x="787240" y="451821"/>
                      </a:lnTo>
                      <a:cubicBezTo>
                        <a:pt x="776985" y="421058"/>
                        <a:pt x="772480" y="410293"/>
                        <a:pt x="765725" y="376518"/>
                      </a:cubicBezTo>
                      <a:cubicBezTo>
                        <a:pt x="761447" y="355129"/>
                        <a:pt x="760257" y="333133"/>
                        <a:pt x="754967" y="311972"/>
                      </a:cubicBezTo>
                      <a:cubicBezTo>
                        <a:pt x="749467" y="289970"/>
                        <a:pt x="738953" y="269428"/>
                        <a:pt x="733452" y="247426"/>
                      </a:cubicBezTo>
                      <a:cubicBezTo>
                        <a:pt x="729866" y="233082"/>
                        <a:pt x="726942" y="218557"/>
                        <a:pt x="722694" y="204395"/>
                      </a:cubicBezTo>
                      <a:cubicBezTo>
                        <a:pt x="722684" y="204360"/>
                        <a:pt x="695806" y="123730"/>
                        <a:pt x="690421" y="107576"/>
                      </a:cubicBezTo>
                      <a:cubicBezTo>
                        <a:pt x="686835" y="96818"/>
                        <a:pt x="685953" y="84738"/>
                        <a:pt x="679663" y="75303"/>
                      </a:cubicBezTo>
                      <a:cubicBezTo>
                        <a:pt x="651858" y="33596"/>
                        <a:pt x="662237" y="55296"/>
                        <a:pt x="647390" y="10758"/>
                      </a:cubicBezTo>
                      <a:cubicBezTo>
                        <a:pt x="658148" y="7172"/>
                        <a:pt x="668323" y="0"/>
                        <a:pt x="679663" y="0"/>
                      </a:cubicBezTo>
                      <a:cubicBezTo>
                        <a:pt x="727474" y="0"/>
                        <a:pt x="720304" y="35860"/>
                        <a:pt x="733452" y="75303"/>
                      </a:cubicBezTo>
                      <a:cubicBezTo>
                        <a:pt x="737038" y="86061"/>
                        <a:pt x="741459" y="96575"/>
                        <a:pt x="744209" y="107576"/>
                      </a:cubicBezTo>
                      <a:cubicBezTo>
                        <a:pt x="772666" y="221403"/>
                        <a:pt x="734030" y="87365"/>
                        <a:pt x="776482" y="182880"/>
                      </a:cubicBezTo>
                      <a:cubicBezTo>
                        <a:pt x="785693" y="203605"/>
                        <a:pt x="790826" y="225911"/>
                        <a:pt x="797998" y="247426"/>
                      </a:cubicBezTo>
                      <a:cubicBezTo>
                        <a:pt x="801584" y="258184"/>
                        <a:pt x="802465" y="270264"/>
                        <a:pt x="808755" y="279699"/>
                      </a:cubicBezTo>
                      <a:cubicBezTo>
                        <a:pt x="815927" y="290457"/>
                        <a:pt x="825019" y="300157"/>
                        <a:pt x="830270" y="311972"/>
                      </a:cubicBezTo>
                      <a:cubicBezTo>
                        <a:pt x="839481" y="332697"/>
                        <a:pt x="844614" y="355003"/>
                        <a:pt x="851786" y="376518"/>
                      </a:cubicBezTo>
                      <a:cubicBezTo>
                        <a:pt x="855372" y="387276"/>
                        <a:pt x="854525" y="400773"/>
                        <a:pt x="862543" y="408791"/>
                      </a:cubicBezTo>
                      <a:lnTo>
                        <a:pt x="884059" y="430306"/>
                      </a:lnTo>
                      <a:cubicBezTo>
                        <a:pt x="887645" y="441064"/>
                        <a:pt x="891832" y="451639"/>
                        <a:pt x="894816" y="462579"/>
                      </a:cubicBezTo>
                      <a:cubicBezTo>
                        <a:pt x="902596" y="491107"/>
                        <a:pt x="906981" y="520587"/>
                        <a:pt x="916332" y="548640"/>
                      </a:cubicBezTo>
                      <a:lnTo>
                        <a:pt x="937847" y="613186"/>
                      </a:lnTo>
                      <a:lnTo>
                        <a:pt x="948605" y="645459"/>
                      </a:lnTo>
                      <a:lnTo>
                        <a:pt x="959362" y="677732"/>
                      </a:lnTo>
                      <a:cubicBezTo>
                        <a:pt x="948604" y="684904"/>
                        <a:pt x="939842" y="697122"/>
                        <a:pt x="927089" y="699247"/>
                      </a:cubicBezTo>
                      <a:cubicBezTo>
                        <a:pt x="915904" y="701111"/>
                        <a:pt x="906156" y="688489"/>
                        <a:pt x="894816" y="688489"/>
                      </a:cubicBezTo>
                      <a:cubicBezTo>
                        <a:pt x="833751" y="688489"/>
                        <a:pt x="772896" y="695661"/>
                        <a:pt x="711936" y="699247"/>
                      </a:cubicBezTo>
                      <a:lnTo>
                        <a:pt x="615118" y="731520"/>
                      </a:lnTo>
                      <a:cubicBezTo>
                        <a:pt x="604360" y="735106"/>
                        <a:pt x="592280" y="735988"/>
                        <a:pt x="582845" y="742278"/>
                      </a:cubicBezTo>
                      <a:cubicBezTo>
                        <a:pt x="572087" y="749450"/>
                        <a:pt x="560668" y="755716"/>
                        <a:pt x="550572" y="763793"/>
                      </a:cubicBezTo>
                      <a:cubicBezTo>
                        <a:pt x="542652" y="770129"/>
                        <a:pt x="538128" y="780772"/>
                        <a:pt x="529056" y="785308"/>
                      </a:cubicBezTo>
                      <a:cubicBezTo>
                        <a:pt x="508771" y="795450"/>
                        <a:pt x="486025" y="799651"/>
                        <a:pt x="464510" y="806823"/>
                      </a:cubicBezTo>
                      <a:lnTo>
                        <a:pt x="432238" y="817581"/>
                      </a:lnTo>
                      <a:cubicBezTo>
                        <a:pt x="393854" y="855964"/>
                        <a:pt x="423833" y="834322"/>
                        <a:pt x="346176" y="849854"/>
                      </a:cubicBezTo>
                      <a:cubicBezTo>
                        <a:pt x="312413" y="856607"/>
                        <a:pt x="301628" y="861118"/>
                        <a:pt x="270873" y="871369"/>
                      </a:cubicBezTo>
                      <a:cubicBezTo>
                        <a:pt x="256529" y="882127"/>
                        <a:pt x="241616" y="892164"/>
                        <a:pt x="227842" y="903642"/>
                      </a:cubicBezTo>
                      <a:cubicBezTo>
                        <a:pt x="220050" y="910135"/>
                        <a:pt x="207002" y="915038"/>
                        <a:pt x="206327" y="925158"/>
                      </a:cubicBezTo>
                      <a:cubicBezTo>
                        <a:pt x="206099" y="928583"/>
                        <a:pt x="205176" y="1056482"/>
                        <a:pt x="227842" y="1097280"/>
                      </a:cubicBezTo>
                      <a:cubicBezTo>
                        <a:pt x="240400" y="1119884"/>
                        <a:pt x="256529" y="1140311"/>
                        <a:pt x="270873" y="1161826"/>
                      </a:cubicBezTo>
                      <a:cubicBezTo>
                        <a:pt x="278045" y="1172584"/>
                        <a:pt x="286606" y="1182535"/>
                        <a:pt x="292388" y="1194099"/>
                      </a:cubicBezTo>
                      <a:cubicBezTo>
                        <a:pt x="299560" y="1208442"/>
                        <a:pt x="307586" y="1222389"/>
                        <a:pt x="313903" y="1237129"/>
                      </a:cubicBezTo>
                      <a:cubicBezTo>
                        <a:pt x="318370" y="1247552"/>
                        <a:pt x="319590" y="1259260"/>
                        <a:pt x="324661" y="1269402"/>
                      </a:cubicBezTo>
                      <a:cubicBezTo>
                        <a:pt x="330443" y="1280966"/>
                        <a:pt x="340925" y="1289860"/>
                        <a:pt x="346176" y="1301675"/>
                      </a:cubicBezTo>
                      <a:cubicBezTo>
                        <a:pt x="346187" y="1301700"/>
                        <a:pt x="373066" y="1382344"/>
                        <a:pt x="378449" y="1398494"/>
                      </a:cubicBezTo>
                      <a:cubicBezTo>
                        <a:pt x="382035" y="1409252"/>
                        <a:pt x="382917" y="1421332"/>
                        <a:pt x="389207" y="1430767"/>
                      </a:cubicBezTo>
                      <a:lnTo>
                        <a:pt x="410722" y="1463040"/>
                      </a:lnTo>
                      <a:cubicBezTo>
                        <a:pt x="414308" y="1477384"/>
                        <a:pt x="417231" y="1491909"/>
                        <a:pt x="421480" y="1506071"/>
                      </a:cubicBezTo>
                      <a:cubicBezTo>
                        <a:pt x="421492" y="1506109"/>
                        <a:pt x="448368" y="1586734"/>
                        <a:pt x="453753" y="1602889"/>
                      </a:cubicBezTo>
                      <a:lnTo>
                        <a:pt x="464510" y="1635162"/>
                      </a:lnTo>
                      <a:cubicBezTo>
                        <a:pt x="468096" y="1645920"/>
                        <a:pt x="473044" y="1656316"/>
                        <a:pt x="475268" y="1667435"/>
                      </a:cubicBezTo>
                      <a:cubicBezTo>
                        <a:pt x="482660" y="1704392"/>
                        <a:pt x="486658" y="1728817"/>
                        <a:pt x="496783" y="1764254"/>
                      </a:cubicBezTo>
                      <a:cubicBezTo>
                        <a:pt x="499898" y="1775157"/>
                        <a:pt x="503955" y="1785769"/>
                        <a:pt x="507541" y="1796527"/>
                      </a:cubicBezTo>
                      <a:cubicBezTo>
                        <a:pt x="511127" y="1835972"/>
                        <a:pt x="513064" y="1875601"/>
                        <a:pt x="518299" y="1914861"/>
                      </a:cubicBezTo>
                      <a:cubicBezTo>
                        <a:pt x="520253" y="1929516"/>
                        <a:pt x="529056" y="1943107"/>
                        <a:pt x="529056" y="1957892"/>
                      </a:cubicBezTo>
                      <a:cubicBezTo>
                        <a:pt x="529056" y="1997545"/>
                        <a:pt x="519686" y="1999535"/>
                        <a:pt x="496783" y="2022438"/>
                      </a:cubicBezTo>
                      <a:cubicBezTo>
                        <a:pt x="473384" y="2092640"/>
                        <a:pt x="478705" y="2043953"/>
                        <a:pt x="593602" y="2043953"/>
                      </a:cubicBezTo>
                      <a:cubicBezTo>
                        <a:pt x="604942" y="2043953"/>
                        <a:pt x="571471" y="2049640"/>
                        <a:pt x="561329" y="2054711"/>
                      </a:cubicBezTo>
                      <a:cubicBezTo>
                        <a:pt x="549765" y="2060493"/>
                        <a:pt x="539814" y="2069054"/>
                        <a:pt x="529056" y="2076226"/>
                      </a:cubicBezTo>
                      <a:cubicBezTo>
                        <a:pt x="521884" y="2086984"/>
                        <a:pt x="498399" y="2099357"/>
                        <a:pt x="507541" y="2108499"/>
                      </a:cubicBezTo>
                      <a:cubicBezTo>
                        <a:pt x="517996" y="2118953"/>
                        <a:pt x="536410" y="2101989"/>
                        <a:pt x="550572" y="2097741"/>
                      </a:cubicBezTo>
                      <a:cubicBezTo>
                        <a:pt x="572295" y="2091224"/>
                        <a:pt x="593603" y="2083398"/>
                        <a:pt x="615118" y="2076226"/>
                      </a:cubicBezTo>
                      <a:cubicBezTo>
                        <a:pt x="649542" y="2127862"/>
                        <a:pt x="638068" y="2089136"/>
                        <a:pt x="615118" y="2140772"/>
                      </a:cubicBezTo>
                      <a:cubicBezTo>
                        <a:pt x="605907" y="2161497"/>
                        <a:pt x="593602" y="2205318"/>
                        <a:pt x="593602" y="2205318"/>
                      </a:cubicBezTo>
                      <a:cubicBezTo>
                        <a:pt x="601231" y="2266347"/>
                        <a:pt x="599886" y="2283636"/>
                        <a:pt x="615118" y="2334409"/>
                      </a:cubicBezTo>
                      <a:cubicBezTo>
                        <a:pt x="621635" y="2356132"/>
                        <a:pt x="620597" y="2382918"/>
                        <a:pt x="636633" y="2398955"/>
                      </a:cubicBezTo>
                      <a:lnTo>
                        <a:pt x="658148" y="2420471"/>
                      </a:lnTo>
                      <a:cubicBezTo>
                        <a:pt x="661734" y="2434814"/>
                        <a:pt x="664844" y="2449285"/>
                        <a:pt x="668906" y="2463501"/>
                      </a:cubicBezTo>
                      <a:cubicBezTo>
                        <a:pt x="672021" y="2474404"/>
                        <a:pt x="676913" y="2484773"/>
                        <a:pt x="679663" y="2495774"/>
                      </a:cubicBezTo>
                      <a:cubicBezTo>
                        <a:pt x="687745" y="2528102"/>
                        <a:pt x="693475" y="2586418"/>
                        <a:pt x="711936" y="2614108"/>
                      </a:cubicBezTo>
                      <a:lnTo>
                        <a:pt x="733452" y="2646381"/>
                      </a:lnTo>
                      <a:cubicBezTo>
                        <a:pt x="741322" y="2685733"/>
                        <a:pt x="747524" y="2728313"/>
                        <a:pt x="765725" y="2764715"/>
                      </a:cubicBezTo>
                      <a:cubicBezTo>
                        <a:pt x="787984" y="2809233"/>
                        <a:pt x="795460" y="2819116"/>
                        <a:pt x="808755" y="2872292"/>
                      </a:cubicBezTo>
                      <a:cubicBezTo>
                        <a:pt x="825013" y="2937321"/>
                        <a:pt x="814839" y="2901301"/>
                        <a:pt x="841028" y="2979868"/>
                      </a:cubicBezTo>
                      <a:lnTo>
                        <a:pt x="851786" y="3012141"/>
                      </a:lnTo>
                      <a:cubicBezTo>
                        <a:pt x="855372" y="3048000"/>
                        <a:pt x="854440" y="3084603"/>
                        <a:pt x="862543" y="3119718"/>
                      </a:cubicBezTo>
                      <a:cubicBezTo>
                        <a:pt x="865450" y="3132316"/>
                        <a:pt x="879519" y="3139885"/>
                        <a:pt x="884059" y="3151991"/>
                      </a:cubicBezTo>
                      <a:cubicBezTo>
                        <a:pt x="902477" y="3201105"/>
                        <a:pt x="885662" y="3198228"/>
                        <a:pt x="905574" y="3238052"/>
                      </a:cubicBezTo>
                      <a:cubicBezTo>
                        <a:pt x="935619" y="3298141"/>
                        <a:pt x="930105" y="3242367"/>
                        <a:pt x="948605" y="3334871"/>
                      </a:cubicBezTo>
                      <a:cubicBezTo>
                        <a:pt x="952191" y="3352800"/>
                        <a:pt x="954551" y="3371019"/>
                        <a:pt x="959362" y="3388659"/>
                      </a:cubicBezTo>
                      <a:cubicBezTo>
                        <a:pt x="965329" y="3410539"/>
                        <a:pt x="973706" y="3431690"/>
                        <a:pt x="980878" y="3453205"/>
                      </a:cubicBezTo>
                      <a:lnTo>
                        <a:pt x="1002393" y="3517751"/>
                      </a:lnTo>
                      <a:cubicBezTo>
                        <a:pt x="1005979" y="3528508"/>
                        <a:pt x="1010400" y="3539022"/>
                        <a:pt x="1013150" y="3550023"/>
                      </a:cubicBezTo>
                      <a:cubicBezTo>
                        <a:pt x="1016736" y="3564367"/>
                        <a:pt x="1018717" y="3579210"/>
                        <a:pt x="1023908" y="3593054"/>
                      </a:cubicBezTo>
                      <a:cubicBezTo>
                        <a:pt x="1029539" y="3608070"/>
                        <a:pt x="1039467" y="3621195"/>
                        <a:pt x="1045423" y="3636085"/>
                      </a:cubicBezTo>
                      <a:cubicBezTo>
                        <a:pt x="1045434" y="3636113"/>
                        <a:pt x="1072312" y="3716752"/>
                        <a:pt x="1077696" y="3732903"/>
                      </a:cubicBezTo>
                      <a:cubicBezTo>
                        <a:pt x="1081282" y="3743661"/>
                        <a:pt x="1086590" y="3753991"/>
                        <a:pt x="1088454" y="3765176"/>
                      </a:cubicBezTo>
                      <a:cubicBezTo>
                        <a:pt x="1092040" y="3786691"/>
                        <a:pt x="1094934" y="3808333"/>
                        <a:pt x="1099212" y="3829722"/>
                      </a:cubicBezTo>
                      <a:cubicBezTo>
                        <a:pt x="1112653" y="3896930"/>
                        <a:pt x="1105344" y="3848621"/>
                        <a:pt x="1120727" y="3905026"/>
                      </a:cubicBezTo>
                      <a:cubicBezTo>
                        <a:pt x="1161258" y="4053640"/>
                        <a:pt x="1122525" y="3931933"/>
                        <a:pt x="1163758" y="4055633"/>
                      </a:cubicBezTo>
                      <a:cubicBezTo>
                        <a:pt x="1167344" y="4066391"/>
                        <a:pt x="1168225" y="4078471"/>
                        <a:pt x="1174515" y="4087906"/>
                      </a:cubicBezTo>
                      <a:lnTo>
                        <a:pt x="1196030" y="4120179"/>
                      </a:lnTo>
                      <a:cubicBezTo>
                        <a:pt x="1284727" y="4084699"/>
                        <a:pt x="1263011" y="4113272"/>
                        <a:pt x="1239061" y="3969572"/>
                      </a:cubicBezTo>
                      <a:cubicBezTo>
                        <a:pt x="1235333" y="3947201"/>
                        <a:pt x="1224718" y="3926541"/>
                        <a:pt x="1217546" y="3905026"/>
                      </a:cubicBezTo>
                      <a:lnTo>
                        <a:pt x="1206788" y="3872753"/>
                      </a:lnTo>
                      <a:cubicBezTo>
                        <a:pt x="1200042" y="3825529"/>
                        <a:pt x="1187759" y="3729606"/>
                        <a:pt x="1174515" y="3689873"/>
                      </a:cubicBezTo>
                      <a:cubicBezTo>
                        <a:pt x="1170929" y="3679115"/>
                        <a:pt x="1169592" y="3667324"/>
                        <a:pt x="1163758" y="3657600"/>
                      </a:cubicBezTo>
                      <a:cubicBezTo>
                        <a:pt x="1158540" y="3648903"/>
                        <a:pt x="1149414" y="3643257"/>
                        <a:pt x="1142242" y="3636085"/>
                      </a:cubicBezTo>
                      <a:lnTo>
                        <a:pt x="1120727" y="3571539"/>
                      </a:lnTo>
                      <a:cubicBezTo>
                        <a:pt x="1117141" y="3560781"/>
                        <a:pt x="1119404" y="3545556"/>
                        <a:pt x="1109969" y="3539266"/>
                      </a:cubicBezTo>
                      <a:lnTo>
                        <a:pt x="1077696" y="3517751"/>
                      </a:lnTo>
                      <a:cubicBezTo>
                        <a:pt x="1066938" y="3524923"/>
                        <a:pt x="1032594" y="3537662"/>
                        <a:pt x="1045423" y="3539266"/>
                      </a:cubicBezTo>
                      <a:cubicBezTo>
                        <a:pt x="1154630" y="3552916"/>
                        <a:pt x="1132029" y="3533751"/>
                        <a:pt x="1196030" y="3517751"/>
                      </a:cubicBezTo>
                      <a:cubicBezTo>
                        <a:pt x="1213769" y="3513316"/>
                        <a:pt x="1232080" y="3511428"/>
                        <a:pt x="1249819" y="3506993"/>
                      </a:cubicBezTo>
                      <a:cubicBezTo>
                        <a:pt x="1260820" y="3504243"/>
                        <a:pt x="1270973" y="3498459"/>
                        <a:pt x="1282092" y="3496235"/>
                      </a:cubicBezTo>
                      <a:cubicBezTo>
                        <a:pt x="1343870" y="3483879"/>
                        <a:pt x="1414517" y="3481522"/>
                        <a:pt x="1475729" y="3474720"/>
                      </a:cubicBezTo>
                      <a:cubicBezTo>
                        <a:pt x="1500930" y="3471920"/>
                        <a:pt x="1525932" y="3467548"/>
                        <a:pt x="1551033" y="3463962"/>
                      </a:cubicBezTo>
                      <a:cubicBezTo>
                        <a:pt x="1561791" y="3460376"/>
                        <a:pt x="1573582" y="3459039"/>
                        <a:pt x="1583306" y="3453205"/>
                      </a:cubicBezTo>
                      <a:cubicBezTo>
                        <a:pt x="1607916" y="3438439"/>
                        <a:pt x="1607118" y="3424800"/>
                        <a:pt x="1615579" y="3399416"/>
                      </a:cubicBezTo>
                      <a:cubicBezTo>
                        <a:pt x="1611993" y="3342042"/>
                        <a:pt x="1610839" y="3284464"/>
                        <a:pt x="1604821" y="3227294"/>
                      </a:cubicBezTo>
                      <a:cubicBezTo>
                        <a:pt x="1603634" y="3216017"/>
                        <a:pt x="1596523" y="3206091"/>
                        <a:pt x="1594063" y="3195021"/>
                      </a:cubicBezTo>
                      <a:cubicBezTo>
                        <a:pt x="1584217" y="3150713"/>
                        <a:pt x="1584301" y="3119780"/>
                        <a:pt x="1572548" y="3076687"/>
                      </a:cubicBezTo>
                      <a:cubicBezTo>
                        <a:pt x="1566581" y="3054807"/>
                        <a:pt x="1558205" y="3033656"/>
                        <a:pt x="1551033" y="3012141"/>
                      </a:cubicBezTo>
                      <a:cubicBezTo>
                        <a:pt x="1547447" y="3001383"/>
                        <a:pt x="1546565" y="2989303"/>
                        <a:pt x="1540275" y="2979868"/>
                      </a:cubicBezTo>
                      <a:cubicBezTo>
                        <a:pt x="1533103" y="2969110"/>
                        <a:pt x="1524011" y="2959410"/>
                        <a:pt x="1518760" y="2947595"/>
                      </a:cubicBezTo>
                      <a:cubicBezTo>
                        <a:pt x="1509549" y="2926871"/>
                        <a:pt x="1504417" y="2904564"/>
                        <a:pt x="1497245" y="2883049"/>
                      </a:cubicBezTo>
                      <a:lnTo>
                        <a:pt x="1475729" y="2818503"/>
                      </a:lnTo>
                      <a:cubicBezTo>
                        <a:pt x="1472143" y="2807746"/>
                        <a:pt x="1467722" y="2797232"/>
                        <a:pt x="1464972" y="2786231"/>
                      </a:cubicBezTo>
                      <a:cubicBezTo>
                        <a:pt x="1457800" y="2757544"/>
                        <a:pt x="1452806" y="2728222"/>
                        <a:pt x="1443456" y="2700169"/>
                      </a:cubicBezTo>
                      <a:cubicBezTo>
                        <a:pt x="1432170" y="2666308"/>
                        <a:pt x="1430044" y="2662680"/>
                        <a:pt x="1421941" y="2624866"/>
                      </a:cubicBezTo>
                      <a:cubicBezTo>
                        <a:pt x="1414279" y="2589109"/>
                        <a:pt x="1407598" y="2553148"/>
                        <a:pt x="1400426" y="2517289"/>
                      </a:cubicBezTo>
                      <a:cubicBezTo>
                        <a:pt x="1396840" y="2499360"/>
                        <a:pt x="1395450" y="2480847"/>
                        <a:pt x="1389668" y="2463501"/>
                      </a:cubicBezTo>
                      <a:cubicBezTo>
                        <a:pt x="1386082" y="2452743"/>
                        <a:pt x="1381660" y="2442229"/>
                        <a:pt x="1378910" y="2431228"/>
                      </a:cubicBezTo>
                      <a:lnTo>
                        <a:pt x="1357395" y="2345167"/>
                      </a:lnTo>
                      <a:cubicBezTo>
                        <a:pt x="1349609" y="2298445"/>
                        <a:pt x="1345906" y="2271949"/>
                        <a:pt x="1335880" y="2226833"/>
                      </a:cubicBezTo>
                      <a:cubicBezTo>
                        <a:pt x="1332673" y="2212400"/>
                        <a:pt x="1329184" y="2198018"/>
                        <a:pt x="1325122" y="2183802"/>
                      </a:cubicBezTo>
                      <a:cubicBezTo>
                        <a:pt x="1322007" y="2172899"/>
                        <a:pt x="1317115" y="2162530"/>
                        <a:pt x="1314365" y="2151529"/>
                      </a:cubicBezTo>
                      <a:cubicBezTo>
                        <a:pt x="1309930" y="2133790"/>
                        <a:pt x="1306878" y="2115730"/>
                        <a:pt x="1303607" y="2097741"/>
                      </a:cubicBezTo>
                      <a:cubicBezTo>
                        <a:pt x="1299705" y="2076281"/>
                        <a:pt x="1296166" y="2054753"/>
                        <a:pt x="1292849" y="2033195"/>
                      </a:cubicBezTo>
                      <a:cubicBezTo>
                        <a:pt x="1288994" y="2008134"/>
                        <a:pt x="1287065" y="1982755"/>
                        <a:pt x="1282092" y="1957892"/>
                      </a:cubicBezTo>
                      <a:cubicBezTo>
                        <a:pt x="1279868" y="1946773"/>
                        <a:pt x="1274920" y="1936377"/>
                        <a:pt x="1271334" y="1925619"/>
                      </a:cubicBezTo>
                      <a:cubicBezTo>
                        <a:pt x="1268719" y="1904696"/>
                        <a:pt x="1254764" y="1788980"/>
                        <a:pt x="1249819" y="1764254"/>
                      </a:cubicBezTo>
                      <a:cubicBezTo>
                        <a:pt x="1244020" y="1735258"/>
                        <a:pt x="1233164" y="1707361"/>
                        <a:pt x="1228303" y="1678193"/>
                      </a:cubicBezTo>
                      <a:cubicBezTo>
                        <a:pt x="1208891" y="1561713"/>
                        <a:pt x="1227974" y="1655524"/>
                        <a:pt x="1206788" y="1581374"/>
                      </a:cubicBezTo>
                      <a:cubicBezTo>
                        <a:pt x="1202726" y="1567158"/>
                        <a:pt x="1201854" y="1551933"/>
                        <a:pt x="1196030" y="1538343"/>
                      </a:cubicBezTo>
                      <a:cubicBezTo>
                        <a:pt x="1190937" y="1526460"/>
                        <a:pt x="1181687" y="1516828"/>
                        <a:pt x="1174515" y="1506071"/>
                      </a:cubicBezTo>
                      <a:lnTo>
                        <a:pt x="1142242" y="1409252"/>
                      </a:lnTo>
                      <a:cubicBezTo>
                        <a:pt x="1138656" y="1398494"/>
                        <a:pt x="1139503" y="1384997"/>
                        <a:pt x="1131485" y="1376979"/>
                      </a:cubicBezTo>
                      <a:lnTo>
                        <a:pt x="1109969" y="1355463"/>
                      </a:lnTo>
                      <a:lnTo>
                        <a:pt x="1077696" y="1258645"/>
                      </a:lnTo>
                      <a:cubicBezTo>
                        <a:pt x="1074110" y="1247887"/>
                        <a:pt x="1073229" y="1235807"/>
                        <a:pt x="1066939" y="1226372"/>
                      </a:cubicBezTo>
                      <a:lnTo>
                        <a:pt x="1045423" y="1194099"/>
                      </a:lnTo>
                      <a:cubicBezTo>
                        <a:pt x="1038251" y="1165412"/>
                        <a:pt x="1033259" y="1136090"/>
                        <a:pt x="1023908" y="1108038"/>
                      </a:cubicBezTo>
                      <a:cubicBezTo>
                        <a:pt x="1020322" y="1097280"/>
                        <a:pt x="1018984" y="1085489"/>
                        <a:pt x="1013150" y="1075765"/>
                      </a:cubicBezTo>
                      <a:cubicBezTo>
                        <a:pt x="1007932" y="1067068"/>
                        <a:pt x="998807" y="1061421"/>
                        <a:pt x="991635" y="1054249"/>
                      </a:cubicBezTo>
                      <a:cubicBezTo>
                        <a:pt x="958017" y="919770"/>
                        <a:pt x="1000978" y="1086947"/>
                        <a:pt x="970120" y="978946"/>
                      </a:cubicBezTo>
                      <a:cubicBezTo>
                        <a:pt x="960244" y="944382"/>
                        <a:pt x="964050" y="929845"/>
                        <a:pt x="937847" y="903642"/>
                      </a:cubicBezTo>
                      <a:cubicBezTo>
                        <a:pt x="928705" y="894500"/>
                        <a:pt x="916332" y="889299"/>
                        <a:pt x="905574" y="882127"/>
                      </a:cubicBezTo>
                      <a:cubicBezTo>
                        <a:pt x="898402" y="871369"/>
                        <a:pt x="892136" y="859950"/>
                        <a:pt x="884059" y="849854"/>
                      </a:cubicBezTo>
                      <a:cubicBezTo>
                        <a:pt x="877723" y="841934"/>
                        <a:pt x="864210" y="838343"/>
                        <a:pt x="862543" y="828339"/>
                      </a:cubicBezTo>
                      <a:cubicBezTo>
                        <a:pt x="854861" y="782249"/>
                        <a:pt x="879866" y="785216"/>
                        <a:pt x="905574" y="763793"/>
                      </a:cubicBezTo>
                      <a:cubicBezTo>
                        <a:pt x="917261" y="754054"/>
                        <a:pt x="923549" y="736719"/>
                        <a:pt x="937847" y="731520"/>
                      </a:cubicBezTo>
                      <a:cubicBezTo>
                        <a:pt x="965017" y="721640"/>
                        <a:pt x="995221" y="724348"/>
                        <a:pt x="1023908" y="720762"/>
                      </a:cubicBezTo>
                      <a:cubicBezTo>
                        <a:pt x="1031080" y="706419"/>
                        <a:pt x="1042468" y="693494"/>
                        <a:pt x="1045423" y="677732"/>
                      </a:cubicBezTo>
                      <a:cubicBezTo>
                        <a:pt x="1053381" y="635292"/>
                        <a:pt x="1036870" y="587261"/>
                        <a:pt x="1056181" y="548640"/>
                      </a:cubicBezTo>
                      <a:cubicBezTo>
                        <a:pt x="1066323" y="528355"/>
                        <a:pt x="1099212" y="534297"/>
                        <a:pt x="1120727" y="527125"/>
                      </a:cubicBezTo>
                      <a:cubicBezTo>
                        <a:pt x="1142242" y="534297"/>
                        <a:pt x="1162902" y="544911"/>
                        <a:pt x="1185273" y="548640"/>
                      </a:cubicBezTo>
                      <a:cubicBezTo>
                        <a:pt x="1206788" y="552226"/>
                        <a:pt x="1228430" y="555120"/>
                        <a:pt x="1249819" y="559398"/>
                      </a:cubicBezTo>
                      <a:cubicBezTo>
                        <a:pt x="1264317" y="562297"/>
                        <a:pt x="1278265" y="567724"/>
                        <a:pt x="1292849" y="570155"/>
                      </a:cubicBezTo>
                      <a:cubicBezTo>
                        <a:pt x="1363813" y="581982"/>
                        <a:pt x="1449529" y="586345"/>
                        <a:pt x="1518760" y="591671"/>
                      </a:cubicBezTo>
                      <a:cubicBezTo>
                        <a:pt x="1601235" y="588085"/>
                        <a:pt x="1686690" y="603172"/>
                        <a:pt x="1766186" y="580913"/>
                      </a:cubicBezTo>
                      <a:cubicBezTo>
                        <a:pt x="1788025" y="574798"/>
                        <a:pt x="1787701" y="516367"/>
                        <a:pt x="1787701" y="516367"/>
                      </a:cubicBezTo>
                      <a:cubicBezTo>
                        <a:pt x="1785360" y="488281"/>
                        <a:pt x="1798053" y="389101"/>
                        <a:pt x="1755428" y="355002"/>
                      </a:cubicBezTo>
                      <a:cubicBezTo>
                        <a:pt x="1746573" y="347918"/>
                        <a:pt x="1733913" y="347831"/>
                        <a:pt x="1723155" y="344245"/>
                      </a:cubicBezTo>
                      <a:cubicBezTo>
                        <a:pt x="1643666" y="264752"/>
                        <a:pt x="1767114" y="381790"/>
                        <a:pt x="1669367" y="311972"/>
                      </a:cubicBezTo>
                      <a:cubicBezTo>
                        <a:pt x="1652860" y="300182"/>
                        <a:pt x="1643214" y="280193"/>
                        <a:pt x="1626336" y="268941"/>
                      </a:cubicBezTo>
                      <a:cubicBezTo>
                        <a:pt x="1483057" y="173423"/>
                        <a:pt x="1695412" y="310903"/>
                        <a:pt x="1561790" y="236668"/>
                      </a:cubicBezTo>
                      <a:cubicBezTo>
                        <a:pt x="1525225" y="216354"/>
                        <a:pt x="1505368" y="189095"/>
                        <a:pt x="1464972" y="182880"/>
                      </a:cubicBezTo>
                      <a:cubicBezTo>
                        <a:pt x="1429353" y="177400"/>
                        <a:pt x="1393186" y="176333"/>
                        <a:pt x="1357395" y="172122"/>
                      </a:cubicBezTo>
                      <a:cubicBezTo>
                        <a:pt x="1332213" y="169159"/>
                        <a:pt x="1307193" y="164951"/>
                        <a:pt x="1282092" y="161365"/>
                      </a:cubicBezTo>
                      <a:cubicBezTo>
                        <a:pt x="1231890" y="172123"/>
                        <a:pt x="1176861" y="169616"/>
                        <a:pt x="1131485" y="193638"/>
                      </a:cubicBezTo>
                      <a:cubicBezTo>
                        <a:pt x="1096760" y="212022"/>
                        <a:pt x="1105584" y="261905"/>
                        <a:pt x="1088454" y="290456"/>
                      </a:cubicBezTo>
                      <a:cubicBezTo>
                        <a:pt x="1083236" y="299153"/>
                        <a:pt x="1074111" y="304800"/>
                        <a:pt x="1066939" y="311972"/>
                      </a:cubicBezTo>
                      <a:cubicBezTo>
                        <a:pt x="1063353" y="322730"/>
                        <a:pt x="1061252" y="334103"/>
                        <a:pt x="1056181" y="344245"/>
                      </a:cubicBezTo>
                      <a:cubicBezTo>
                        <a:pt x="1050399" y="355809"/>
                        <a:pt x="1039917" y="364703"/>
                        <a:pt x="1034666" y="376518"/>
                      </a:cubicBezTo>
                      <a:cubicBezTo>
                        <a:pt x="1025455" y="397242"/>
                        <a:pt x="1013150" y="441063"/>
                        <a:pt x="1013150" y="441063"/>
                      </a:cubicBezTo>
                      <a:cubicBezTo>
                        <a:pt x="1016736" y="462578"/>
                        <a:pt x="1009713" y="489048"/>
                        <a:pt x="1023908" y="505609"/>
                      </a:cubicBezTo>
                      <a:cubicBezTo>
                        <a:pt x="1035807" y="519492"/>
                        <a:pt x="1059958" y="511932"/>
                        <a:pt x="1077696" y="516367"/>
                      </a:cubicBezTo>
                      <a:cubicBezTo>
                        <a:pt x="1088697" y="519117"/>
                        <a:pt x="1099211" y="523539"/>
                        <a:pt x="1109969" y="527125"/>
                      </a:cubicBezTo>
                      <a:cubicBezTo>
                        <a:pt x="1102867" y="491614"/>
                        <a:pt x="1109011" y="470610"/>
                        <a:pt x="1077696" y="451821"/>
                      </a:cubicBezTo>
                      <a:cubicBezTo>
                        <a:pt x="1067972" y="445987"/>
                        <a:pt x="1034083" y="441063"/>
                        <a:pt x="1045423" y="441063"/>
                      </a:cubicBezTo>
                      <a:cubicBezTo>
                        <a:pt x="1058931" y="441063"/>
                        <a:pt x="1105508" y="457506"/>
                        <a:pt x="1120727" y="462579"/>
                      </a:cubicBezTo>
                      <a:cubicBezTo>
                        <a:pt x="1077696" y="466165"/>
                        <a:pt x="1031727" y="457300"/>
                        <a:pt x="991635" y="473336"/>
                      </a:cubicBezTo>
                      <a:cubicBezTo>
                        <a:pt x="979631" y="478138"/>
                        <a:pt x="1002392" y="498437"/>
                        <a:pt x="1013150" y="505609"/>
                      </a:cubicBezTo>
                      <a:cubicBezTo>
                        <a:pt x="1025452" y="513810"/>
                        <a:pt x="1041510" y="514533"/>
                        <a:pt x="1056181" y="516367"/>
                      </a:cubicBezTo>
                      <a:cubicBezTo>
                        <a:pt x="1099027" y="521723"/>
                        <a:pt x="1142242" y="523539"/>
                        <a:pt x="1185273" y="527125"/>
                      </a:cubicBezTo>
                      <a:cubicBezTo>
                        <a:pt x="1203202" y="530711"/>
                        <a:pt x="1221941" y="531462"/>
                        <a:pt x="1239061" y="537882"/>
                      </a:cubicBezTo>
                      <a:cubicBezTo>
                        <a:pt x="1251167" y="542422"/>
                        <a:pt x="1259519" y="554147"/>
                        <a:pt x="1271334" y="559398"/>
                      </a:cubicBezTo>
                      <a:cubicBezTo>
                        <a:pt x="1292058" y="568609"/>
                        <a:pt x="1314365" y="573741"/>
                        <a:pt x="1335880" y="580913"/>
                      </a:cubicBezTo>
                      <a:lnTo>
                        <a:pt x="1335880" y="580913"/>
                      </a:lnTo>
                      <a:cubicBezTo>
                        <a:pt x="1350223" y="584499"/>
                        <a:pt x="1364477" y="588464"/>
                        <a:pt x="1378910" y="591671"/>
                      </a:cubicBezTo>
                      <a:cubicBezTo>
                        <a:pt x="1396759" y="595637"/>
                        <a:pt x="1414960" y="597993"/>
                        <a:pt x="1432699" y="602428"/>
                      </a:cubicBezTo>
                      <a:cubicBezTo>
                        <a:pt x="1443700" y="605178"/>
                        <a:pt x="1454069" y="610071"/>
                        <a:pt x="1464972" y="613186"/>
                      </a:cubicBezTo>
                      <a:cubicBezTo>
                        <a:pt x="1479188" y="617248"/>
                        <a:pt x="1493659" y="620357"/>
                        <a:pt x="1508002" y="623943"/>
                      </a:cubicBezTo>
                      <a:cubicBezTo>
                        <a:pt x="1586891" y="620357"/>
                        <a:pt x="1670873" y="641299"/>
                        <a:pt x="1744670" y="613186"/>
                      </a:cubicBezTo>
                      <a:cubicBezTo>
                        <a:pt x="1768365" y="604159"/>
                        <a:pt x="1744211" y="561053"/>
                        <a:pt x="1733913" y="537882"/>
                      </a:cubicBezTo>
                      <a:cubicBezTo>
                        <a:pt x="1725019" y="517870"/>
                        <a:pt x="1639796" y="495753"/>
                        <a:pt x="1637094" y="494852"/>
                      </a:cubicBezTo>
                      <a:lnTo>
                        <a:pt x="1604821" y="484094"/>
                      </a:lnTo>
                      <a:cubicBezTo>
                        <a:pt x="1604821" y="484094"/>
                        <a:pt x="1627659" y="488562"/>
                        <a:pt x="1637094" y="494852"/>
                      </a:cubicBezTo>
                      <a:lnTo>
                        <a:pt x="1669367" y="516367"/>
                      </a:lnTo>
                      <a:cubicBezTo>
                        <a:pt x="1676539" y="527125"/>
                        <a:pt x="1685789" y="536756"/>
                        <a:pt x="1690882" y="548640"/>
                      </a:cubicBezTo>
                      <a:cubicBezTo>
                        <a:pt x="1706642" y="585414"/>
                        <a:pt x="1709281" y="677426"/>
                        <a:pt x="1712398" y="699247"/>
                      </a:cubicBezTo>
                      <a:cubicBezTo>
                        <a:pt x="1714489" y="713883"/>
                        <a:pt x="1717331" y="728688"/>
                        <a:pt x="1723155" y="742278"/>
                      </a:cubicBezTo>
                      <a:cubicBezTo>
                        <a:pt x="1728248" y="754162"/>
                        <a:pt x="1737498" y="763793"/>
                        <a:pt x="1744670" y="774551"/>
                      </a:cubicBezTo>
                      <a:cubicBezTo>
                        <a:pt x="1741084" y="788894"/>
                        <a:pt x="1739737" y="803992"/>
                        <a:pt x="1733913" y="817581"/>
                      </a:cubicBezTo>
                      <a:cubicBezTo>
                        <a:pt x="1728820" y="829465"/>
                        <a:pt x="1714226" y="837055"/>
                        <a:pt x="1712398" y="849854"/>
                      </a:cubicBezTo>
                      <a:cubicBezTo>
                        <a:pt x="1708311" y="878459"/>
                        <a:pt x="1730676" y="904167"/>
                        <a:pt x="1744670" y="925158"/>
                      </a:cubicBezTo>
                      <a:cubicBezTo>
                        <a:pt x="1727610" y="976338"/>
                        <a:pt x="1730864" y="985445"/>
                        <a:pt x="1701640" y="1021976"/>
                      </a:cubicBezTo>
                      <a:cubicBezTo>
                        <a:pt x="1695304" y="1029896"/>
                        <a:pt x="1687297" y="1036320"/>
                        <a:pt x="1680125" y="1043492"/>
                      </a:cubicBezTo>
                      <a:lnTo>
                        <a:pt x="1658609" y="1108038"/>
                      </a:lnTo>
                      <a:lnTo>
                        <a:pt x="1647852" y="1140311"/>
                      </a:lnTo>
                      <a:cubicBezTo>
                        <a:pt x="1650197" y="1159071"/>
                        <a:pt x="1653318" y="1229757"/>
                        <a:pt x="1669367" y="1258645"/>
                      </a:cubicBezTo>
                      <a:cubicBezTo>
                        <a:pt x="1681925" y="1281249"/>
                        <a:pt x="1712398" y="1323191"/>
                        <a:pt x="1712398" y="1323191"/>
                      </a:cubicBezTo>
                      <a:cubicBezTo>
                        <a:pt x="1694468" y="1337534"/>
                        <a:pt x="1678766" y="1355226"/>
                        <a:pt x="1658609" y="1366221"/>
                      </a:cubicBezTo>
                      <a:cubicBezTo>
                        <a:pt x="1638699" y="1377081"/>
                        <a:pt x="1594063" y="1387736"/>
                        <a:pt x="1594063" y="1387736"/>
                      </a:cubicBezTo>
                      <a:cubicBezTo>
                        <a:pt x="1583305" y="1380564"/>
                        <a:pt x="1569867" y="1376317"/>
                        <a:pt x="1561790" y="1366221"/>
                      </a:cubicBezTo>
                      <a:cubicBezTo>
                        <a:pt x="1554706" y="1357366"/>
                        <a:pt x="1556104" y="1344090"/>
                        <a:pt x="1551033" y="1333948"/>
                      </a:cubicBezTo>
                      <a:cubicBezTo>
                        <a:pt x="1515714" y="1263308"/>
                        <a:pt x="1535754" y="1348140"/>
                        <a:pt x="1508002" y="1237129"/>
                      </a:cubicBezTo>
                      <a:cubicBezTo>
                        <a:pt x="1507908" y="1236754"/>
                        <a:pt x="1491633" y="1166972"/>
                        <a:pt x="1486487" y="1161826"/>
                      </a:cubicBezTo>
                      <a:cubicBezTo>
                        <a:pt x="1478469" y="1153808"/>
                        <a:pt x="1464356" y="1156139"/>
                        <a:pt x="1454214" y="1151068"/>
                      </a:cubicBezTo>
                      <a:cubicBezTo>
                        <a:pt x="1442650" y="1145286"/>
                        <a:pt x="1433756" y="1134804"/>
                        <a:pt x="1421941" y="1129553"/>
                      </a:cubicBezTo>
                      <a:cubicBezTo>
                        <a:pt x="1401217" y="1120342"/>
                        <a:pt x="1378910" y="1115210"/>
                        <a:pt x="1357395" y="1108038"/>
                      </a:cubicBezTo>
                      <a:cubicBezTo>
                        <a:pt x="1346637" y="1104452"/>
                        <a:pt x="1334557" y="1103570"/>
                        <a:pt x="1325122" y="1097280"/>
                      </a:cubicBezTo>
                      <a:cubicBezTo>
                        <a:pt x="1273980" y="1063186"/>
                        <a:pt x="1305112" y="1079852"/>
                        <a:pt x="1228303" y="1054249"/>
                      </a:cubicBezTo>
                      <a:lnTo>
                        <a:pt x="1163758" y="1032734"/>
                      </a:lnTo>
                      <a:lnTo>
                        <a:pt x="1131485" y="1021976"/>
                      </a:lnTo>
                      <a:cubicBezTo>
                        <a:pt x="1124313" y="1014804"/>
                        <a:pt x="1112638" y="1010246"/>
                        <a:pt x="1109969" y="1000461"/>
                      </a:cubicBezTo>
                      <a:cubicBezTo>
                        <a:pt x="1101425" y="969134"/>
                        <a:pt x="1122173" y="926603"/>
                        <a:pt x="1099212" y="903642"/>
                      </a:cubicBezTo>
                      <a:cubicBezTo>
                        <a:pt x="1081282" y="885712"/>
                        <a:pt x="1049009" y="910814"/>
                        <a:pt x="1023908" y="914400"/>
                      </a:cubicBezTo>
                      <a:cubicBezTo>
                        <a:pt x="991635" y="910814"/>
                        <a:pt x="959561" y="903642"/>
                        <a:pt x="927089" y="903642"/>
                      </a:cubicBezTo>
                      <a:cubicBezTo>
                        <a:pt x="915749" y="903642"/>
                        <a:pt x="948459" y="911285"/>
                        <a:pt x="959362" y="914400"/>
                      </a:cubicBezTo>
                      <a:cubicBezTo>
                        <a:pt x="973578" y="918462"/>
                        <a:pt x="988177" y="921096"/>
                        <a:pt x="1002393" y="925158"/>
                      </a:cubicBezTo>
                      <a:cubicBezTo>
                        <a:pt x="1013296" y="928273"/>
                        <a:pt x="1023440" y="934311"/>
                        <a:pt x="1034666" y="935915"/>
                      </a:cubicBezTo>
                      <a:cubicBezTo>
                        <a:pt x="1073875" y="941516"/>
                        <a:pt x="1113555" y="943087"/>
                        <a:pt x="1153000" y="946673"/>
                      </a:cubicBezTo>
                      <a:cubicBezTo>
                        <a:pt x="1145828" y="968188"/>
                        <a:pt x="1118905" y="992349"/>
                        <a:pt x="1131485" y="1011219"/>
                      </a:cubicBezTo>
                      <a:cubicBezTo>
                        <a:pt x="1138657" y="1021977"/>
                        <a:pt x="1143858" y="1034350"/>
                        <a:pt x="1153000" y="1043492"/>
                      </a:cubicBezTo>
                      <a:cubicBezTo>
                        <a:pt x="1169577" y="1060069"/>
                        <a:pt x="1195049" y="1070766"/>
                        <a:pt x="1217546" y="1075765"/>
                      </a:cubicBezTo>
                      <a:cubicBezTo>
                        <a:pt x="1238839" y="1080497"/>
                        <a:pt x="1260703" y="1082244"/>
                        <a:pt x="1282092" y="1086522"/>
                      </a:cubicBezTo>
                      <a:cubicBezTo>
                        <a:pt x="1296590" y="1089422"/>
                        <a:pt x="1310961" y="1093032"/>
                        <a:pt x="1325122" y="1097280"/>
                      </a:cubicBezTo>
                      <a:cubicBezTo>
                        <a:pt x="1346845" y="1103797"/>
                        <a:pt x="1389668" y="1118795"/>
                        <a:pt x="1389668" y="1118795"/>
                      </a:cubicBezTo>
                      <a:lnTo>
                        <a:pt x="1454214" y="1161826"/>
                      </a:lnTo>
                      <a:lnTo>
                        <a:pt x="1486487" y="1183341"/>
                      </a:lnTo>
                      <a:cubicBezTo>
                        <a:pt x="1497364" y="1199657"/>
                        <a:pt x="1518760" y="1225619"/>
                        <a:pt x="1518760" y="1247887"/>
                      </a:cubicBezTo>
                      <a:cubicBezTo>
                        <a:pt x="1518760" y="1270129"/>
                        <a:pt x="1512372" y="1335966"/>
                        <a:pt x="1497245" y="1366221"/>
                      </a:cubicBezTo>
                      <a:cubicBezTo>
                        <a:pt x="1491463" y="1377785"/>
                        <a:pt x="1482901" y="1387736"/>
                        <a:pt x="1475729" y="1398494"/>
                      </a:cubicBezTo>
                      <a:cubicBezTo>
                        <a:pt x="1464600" y="1431884"/>
                        <a:pt x="1463398" y="1440561"/>
                        <a:pt x="1443456" y="1473798"/>
                      </a:cubicBezTo>
                      <a:cubicBezTo>
                        <a:pt x="1430152" y="1495971"/>
                        <a:pt x="1408603" y="1513812"/>
                        <a:pt x="1400426" y="1538343"/>
                      </a:cubicBezTo>
                      <a:cubicBezTo>
                        <a:pt x="1396840" y="1549101"/>
                        <a:pt x="1395502" y="1560892"/>
                        <a:pt x="1389668" y="1570616"/>
                      </a:cubicBezTo>
                      <a:cubicBezTo>
                        <a:pt x="1379448" y="1587650"/>
                        <a:pt x="1350541" y="1603873"/>
                        <a:pt x="1335880" y="1613647"/>
                      </a:cubicBezTo>
                      <a:cubicBezTo>
                        <a:pt x="1328708" y="1624405"/>
                        <a:pt x="1322779" y="1636104"/>
                        <a:pt x="1314365" y="1645920"/>
                      </a:cubicBezTo>
                      <a:cubicBezTo>
                        <a:pt x="1301164" y="1661322"/>
                        <a:pt x="1282586" y="1672073"/>
                        <a:pt x="1271334" y="1688951"/>
                      </a:cubicBezTo>
                      <a:cubicBezTo>
                        <a:pt x="1264162" y="1699708"/>
                        <a:pt x="1258333" y="1711493"/>
                        <a:pt x="1249819" y="1721223"/>
                      </a:cubicBezTo>
                      <a:cubicBezTo>
                        <a:pt x="1233122" y="1740306"/>
                        <a:pt x="1196030" y="1775012"/>
                        <a:pt x="1196030" y="1775012"/>
                      </a:cubicBezTo>
                      <a:cubicBezTo>
                        <a:pt x="1199616" y="1839558"/>
                        <a:pt x="1192461" y="1905611"/>
                        <a:pt x="1206788" y="1968649"/>
                      </a:cubicBezTo>
                      <a:cubicBezTo>
                        <a:pt x="1217271" y="2014774"/>
                        <a:pt x="1253252" y="2008018"/>
                        <a:pt x="1282092" y="2022438"/>
                      </a:cubicBezTo>
                      <a:cubicBezTo>
                        <a:pt x="1293656" y="2028220"/>
                        <a:pt x="1303607" y="2036781"/>
                        <a:pt x="1314365" y="2043953"/>
                      </a:cubicBezTo>
                      <a:cubicBezTo>
                        <a:pt x="1368035" y="1990282"/>
                        <a:pt x="1377011" y="1994913"/>
                        <a:pt x="1400426" y="1936376"/>
                      </a:cubicBezTo>
                      <a:cubicBezTo>
                        <a:pt x="1408849" y="1915319"/>
                        <a:pt x="1421941" y="1871831"/>
                        <a:pt x="1421941" y="1871831"/>
                      </a:cubicBezTo>
                      <a:cubicBezTo>
                        <a:pt x="1425527" y="1911276"/>
                        <a:pt x="1428071" y="1950829"/>
                        <a:pt x="1432699" y="1990165"/>
                      </a:cubicBezTo>
                      <a:cubicBezTo>
                        <a:pt x="1435242" y="2011783"/>
                        <a:pt x="1441797" y="2062150"/>
                        <a:pt x="1454214" y="2086983"/>
                      </a:cubicBezTo>
                      <a:cubicBezTo>
                        <a:pt x="1459996" y="2098547"/>
                        <a:pt x="1468557" y="2108498"/>
                        <a:pt x="1475729" y="2119256"/>
                      </a:cubicBezTo>
                      <a:cubicBezTo>
                        <a:pt x="1501956" y="2224163"/>
                        <a:pt x="1469941" y="2093205"/>
                        <a:pt x="1497245" y="2216075"/>
                      </a:cubicBezTo>
                      <a:cubicBezTo>
                        <a:pt x="1500452" y="2230508"/>
                        <a:pt x="1502811" y="2245262"/>
                        <a:pt x="1508002" y="2259106"/>
                      </a:cubicBezTo>
                      <a:cubicBezTo>
                        <a:pt x="1531099" y="2320696"/>
                        <a:pt x="1526916" y="2280970"/>
                        <a:pt x="1540275" y="2334409"/>
                      </a:cubicBezTo>
                      <a:cubicBezTo>
                        <a:pt x="1544710" y="2352148"/>
                        <a:pt x="1544613" y="2371077"/>
                        <a:pt x="1551033" y="2388198"/>
                      </a:cubicBezTo>
                      <a:cubicBezTo>
                        <a:pt x="1555573" y="2400304"/>
                        <a:pt x="1564034" y="2410741"/>
                        <a:pt x="1572548" y="2420471"/>
                      </a:cubicBezTo>
                      <a:cubicBezTo>
                        <a:pt x="1589245" y="2439553"/>
                        <a:pt x="1608407" y="2456330"/>
                        <a:pt x="1626336" y="2474259"/>
                      </a:cubicBezTo>
                      <a:cubicBezTo>
                        <a:pt x="1644221" y="2492143"/>
                        <a:pt x="1658509" y="2503617"/>
                        <a:pt x="1669367" y="2528047"/>
                      </a:cubicBezTo>
                      <a:cubicBezTo>
                        <a:pt x="1678578" y="2548771"/>
                        <a:pt x="1683710" y="2571078"/>
                        <a:pt x="1690882" y="2592593"/>
                      </a:cubicBezTo>
                      <a:cubicBezTo>
                        <a:pt x="1694468" y="2603351"/>
                        <a:pt x="1699776" y="2613681"/>
                        <a:pt x="1701640" y="2624866"/>
                      </a:cubicBezTo>
                      <a:cubicBezTo>
                        <a:pt x="1705771" y="2649651"/>
                        <a:pt x="1709915" y="2695204"/>
                        <a:pt x="1723155" y="2721685"/>
                      </a:cubicBezTo>
                      <a:cubicBezTo>
                        <a:pt x="1728937" y="2733249"/>
                        <a:pt x="1739419" y="2742143"/>
                        <a:pt x="1744670" y="2753958"/>
                      </a:cubicBezTo>
                      <a:cubicBezTo>
                        <a:pt x="1753881" y="2774682"/>
                        <a:pt x="1766186" y="2818503"/>
                        <a:pt x="1766186" y="2818503"/>
                      </a:cubicBezTo>
                      <a:cubicBezTo>
                        <a:pt x="1772259" y="2861015"/>
                        <a:pt x="1777212" y="2905642"/>
                        <a:pt x="1787701" y="2947595"/>
                      </a:cubicBezTo>
                      <a:cubicBezTo>
                        <a:pt x="1790451" y="2958596"/>
                        <a:pt x="1794873" y="2969110"/>
                        <a:pt x="1798459" y="2979868"/>
                      </a:cubicBezTo>
                      <a:cubicBezTo>
                        <a:pt x="1794873" y="3019313"/>
                        <a:pt x="1792936" y="3058942"/>
                        <a:pt x="1787701" y="3098202"/>
                      </a:cubicBezTo>
                      <a:cubicBezTo>
                        <a:pt x="1779892" y="3156765"/>
                        <a:pt x="1777247" y="3123732"/>
                        <a:pt x="1766186" y="3173506"/>
                      </a:cubicBezTo>
                      <a:cubicBezTo>
                        <a:pt x="1761454" y="3194799"/>
                        <a:pt x="1758513" y="3216459"/>
                        <a:pt x="1755428" y="3238052"/>
                      </a:cubicBezTo>
                      <a:cubicBezTo>
                        <a:pt x="1751339" y="3266672"/>
                        <a:pt x="1748048" y="3295401"/>
                        <a:pt x="1744670" y="3324113"/>
                      </a:cubicBezTo>
                      <a:cubicBezTo>
                        <a:pt x="1740876" y="3356362"/>
                        <a:pt x="1738505" y="3388787"/>
                        <a:pt x="1733913" y="3420932"/>
                      </a:cubicBezTo>
                      <a:cubicBezTo>
                        <a:pt x="1724524" y="3486659"/>
                        <a:pt x="1724138" y="3459051"/>
                        <a:pt x="1712398" y="3517751"/>
                      </a:cubicBezTo>
                      <a:cubicBezTo>
                        <a:pt x="1693467" y="3612407"/>
                        <a:pt x="1711817" y="3551765"/>
                        <a:pt x="1690882" y="3614569"/>
                      </a:cubicBezTo>
                      <a:cubicBezTo>
                        <a:pt x="1694468" y="3675529"/>
                        <a:pt x="1695564" y="3736687"/>
                        <a:pt x="1701640" y="3797449"/>
                      </a:cubicBezTo>
                      <a:cubicBezTo>
                        <a:pt x="1705376" y="3834812"/>
                        <a:pt x="1713529" y="3825757"/>
                        <a:pt x="1733913" y="3851238"/>
                      </a:cubicBezTo>
                      <a:cubicBezTo>
                        <a:pt x="1741990" y="3861334"/>
                        <a:pt x="1761210" y="3895075"/>
                        <a:pt x="1755428" y="3883511"/>
                      </a:cubicBezTo>
                      <a:cubicBezTo>
                        <a:pt x="1744438" y="3861531"/>
                        <a:pt x="1696177" y="3781116"/>
                        <a:pt x="1680125" y="3743661"/>
                      </a:cubicBezTo>
                      <a:cubicBezTo>
                        <a:pt x="1675658" y="3733238"/>
                        <a:pt x="1672953" y="3722146"/>
                        <a:pt x="1669367" y="3711388"/>
                      </a:cubicBezTo>
                      <a:cubicBezTo>
                        <a:pt x="1672953" y="3654014"/>
                        <a:pt x="1672358" y="3596225"/>
                        <a:pt x="1680125" y="3539266"/>
                      </a:cubicBezTo>
                      <a:cubicBezTo>
                        <a:pt x="1685110" y="3502710"/>
                        <a:pt x="1706772" y="3464455"/>
                        <a:pt x="1723155" y="3431689"/>
                      </a:cubicBezTo>
                      <a:cubicBezTo>
                        <a:pt x="1730327" y="3388659"/>
                        <a:pt x="1734089" y="3344919"/>
                        <a:pt x="1744670" y="3302598"/>
                      </a:cubicBezTo>
                      <a:lnTo>
                        <a:pt x="1766186" y="3216536"/>
                      </a:lnTo>
                      <a:cubicBezTo>
                        <a:pt x="1769772" y="3155576"/>
                        <a:pt x="1772073" y="3094527"/>
                        <a:pt x="1776943" y="3033656"/>
                      </a:cubicBezTo>
                      <a:cubicBezTo>
                        <a:pt x="1779248" y="3004838"/>
                        <a:pt x="1787701" y="2976505"/>
                        <a:pt x="1787701" y="2947595"/>
                      </a:cubicBezTo>
                      <a:cubicBezTo>
                        <a:pt x="1787701" y="2848216"/>
                        <a:pt x="1781313" y="2889771"/>
                        <a:pt x="1766186" y="2829261"/>
                      </a:cubicBezTo>
                      <a:cubicBezTo>
                        <a:pt x="1761751" y="2811522"/>
                        <a:pt x="1759014" y="2793402"/>
                        <a:pt x="1755428" y="2775473"/>
                      </a:cubicBezTo>
                      <a:cubicBezTo>
                        <a:pt x="1759014" y="2861534"/>
                        <a:pt x="1766186" y="2947520"/>
                        <a:pt x="1766186" y="3033656"/>
                      </a:cubicBezTo>
                      <a:cubicBezTo>
                        <a:pt x="1766186" y="3098302"/>
                        <a:pt x="1761557" y="3162940"/>
                        <a:pt x="1755428" y="3227294"/>
                      </a:cubicBezTo>
                      <a:cubicBezTo>
                        <a:pt x="1743536" y="3352156"/>
                        <a:pt x="1744670" y="3220023"/>
                        <a:pt x="1744670" y="32703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custGeom>
                  <a:avLst/>
                  <a:gdLst>
                    <a:gd name="textAreaLeft" fmla="*/ 0 w 678600"/>
                    <a:gd name="textAreaRight" fmla="*/ 678960 w 678600"/>
                    <a:gd name="textAreaTop" fmla="*/ 0 h 1194840"/>
                    <a:gd name="textAreaBottom" fmla="*/ 1195200 h 1194840"/>
                  </a:gdLst>
                  <a:ahLst/>
                  <a:rect l="textAreaLeft" t="textAreaTop" r="textAreaRight" b="textAreaBottom"/>
                  <a:pathLst>
                    <a:path w="1723600" h="3035264">
                      <a:moveTo>
                        <a:pt x="432682" y="2517289"/>
                      </a:moveTo>
                      <a:cubicBezTo>
                        <a:pt x="488954" y="2657973"/>
                        <a:pt x="510078" y="2692945"/>
                        <a:pt x="464955" y="2926080"/>
                      </a:cubicBezTo>
                      <a:cubicBezTo>
                        <a:pt x="459994" y="2951710"/>
                        <a:pt x="414752" y="2911737"/>
                        <a:pt x="389651" y="2904565"/>
                      </a:cubicBezTo>
                      <a:cubicBezTo>
                        <a:pt x="351305" y="2866217"/>
                        <a:pt x="385892" y="2896269"/>
                        <a:pt x="325105" y="2861534"/>
                      </a:cubicBezTo>
                      <a:cubicBezTo>
                        <a:pt x="266712" y="2828167"/>
                        <a:pt x="319734" y="2848986"/>
                        <a:pt x="260560" y="2829261"/>
                      </a:cubicBezTo>
                      <a:cubicBezTo>
                        <a:pt x="242630" y="2832847"/>
                        <a:pt x="221985" y="2829876"/>
                        <a:pt x="206771" y="2840019"/>
                      </a:cubicBezTo>
                      <a:cubicBezTo>
                        <a:pt x="197336" y="2846309"/>
                        <a:pt x="203098" y="2863437"/>
                        <a:pt x="196014" y="2872292"/>
                      </a:cubicBezTo>
                      <a:cubicBezTo>
                        <a:pt x="187937" y="2882388"/>
                        <a:pt x="173471" y="2885293"/>
                        <a:pt x="163741" y="2893807"/>
                      </a:cubicBezTo>
                      <a:cubicBezTo>
                        <a:pt x="144659" y="2910504"/>
                        <a:pt x="127882" y="2929666"/>
                        <a:pt x="109953" y="2947595"/>
                      </a:cubicBezTo>
                      <a:cubicBezTo>
                        <a:pt x="102781" y="2954767"/>
                        <a:pt x="98059" y="2965904"/>
                        <a:pt x="88437" y="2969111"/>
                      </a:cubicBezTo>
                      <a:lnTo>
                        <a:pt x="56164" y="2979868"/>
                      </a:lnTo>
                      <a:cubicBezTo>
                        <a:pt x="38235" y="2976282"/>
                        <a:pt x="20660" y="2969111"/>
                        <a:pt x="2376" y="2969111"/>
                      </a:cubicBezTo>
                      <a:cubicBezTo>
                        <a:pt x="-8964" y="2969111"/>
                        <a:pt x="23361" y="2978793"/>
                        <a:pt x="34649" y="2979868"/>
                      </a:cubicBezTo>
                      <a:cubicBezTo>
                        <a:pt x="99003" y="2985997"/>
                        <a:pt x="163741" y="2987040"/>
                        <a:pt x="228287" y="2990626"/>
                      </a:cubicBezTo>
                      <a:cubicBezTo>
                        <a:pt x="285759" y="3004995"/>
                        <a:pt x="294090" y="3009119"/>
                        <a:pt x="368136" y="3012141"/>
                      </a:cubicBezTo>
                      <a:cubicBezTo>
                        <a:pt x="511497" y="3017992"/>
                        <a:pt x="655007" y="3019313"/>
                        <a:pt x="798442" y="3022899"/>
                      </a:cubicBezTo>
                      <a:cubicBezTo>
                        <a:pt x="837671" y="3028503"/>
                        <a:pt x="895261" y="3061028"/>
                        <a:pt x="895261" y="2990626"/>
                      </a:cubicBezTo>
                      <a:cubicBezTo>
                        <a:pt x="895261" y="2967947"/>
                        <a:pt x="880917" y="2947595"/>
                        <a:pt x="873745" y="2926080"/>
                      </a:cubicBezTo>
                      <a:lnTo>
                        <a:pt x="862988" y="2893807"/>
                      </a:lnTo>
                      <a:lnTo>
                        <a:pt x="852230" y="2861534"/>
                      </a:lnTo>
                      <a:lnTo>
                        <a:pt x="841473" y="2829261"/>
                      </a:lnTo>
                      <a:cubicBezTo>
                        <a:pt x="829259" y="2572771"/>
                        <a:pt x="824127" y="2601190"/>
                        <a:pt x="841473" y="2323652"/>
                      </a:cubicBezTo>
                      <a:cubicBezTo>
                        <a:pt x="842834" y="2301882"/>
                        <a:pt x="846940" y="2280267"/>
                        <a:pt x="852230" y="2259106"/>
                      </a:cubicBezTo>
                      <a:cubicBezTo>
                        <a:pt x="857730" y="2237104"/>
                        <a:pt x="866573" y="2216075"/>
                        <a:pt x="873745" y="2194560"/>
                      </a:cubicBezTo>
                      <a:lnTo>
                        <a:pt x="895261" y="2130014"/>
                      </a:lnTo>
                      <a:lnTo>
                        <a:pt x="927534" y="2033195"/>
                      </a:lnTo>
                      <a:cubicBezTo>
                        <a:pt x="931120" y="2022437"/>
                        <a:pt x="932001" y="2010357"/>
                        <a:pt x="938291" y="2000922"/>
                      </a:cubicBezTo>
                      <a:lnTo>
                        <a:pt x="959807" y="1968649"/>
                      </a:lnTo>
                      <a:lnTo>
                        <a:pt x="992080" y="1871831"/>
                      </a:lnTo>
                      <a:cubicBezTo>
                        <a:pt x="995666" y="1861073"/>
                        <a:pt x="1000087" y="1850559"/>
                        <a:pt x="1002837" y="1839558"/>
                      </a:cubicBezTo>
                      <a:cubicBezTo>
                        <a:pt x="1006423" y="1825214"/>
                        <a:pt x="1007771" y="1810117"/>
                        <a:pt x="1013595" y="1796527"/>
                      </a:cubicBezTo>
                      <a:cubicBezTo>
                        <a:pt x="1018688" y="1784643"/>
                        <a:pt x="1029859" y="1776069"/>
                        <a:pt x="1035110" y="1764254"/>
                      </a:cubicBezTo>
                      <a:cubicBezTo>
                        <a:pt x="1044321" y="1743530"/>
                        <a:pt x="1049453" y="1721223"/>
                        <a:pt x="1056625" y="1699708"/>
                      </a:cubicBezTo>
                      <a:cubicBezTo>
                        <a:pt x="1060211" y="1688950"/>
                        <a:pt x="1061093" y="1676870"/>
                        <a:pt x="1067383" y="1667435"/>
                      </a:cubicBezTo>
                      <a:cubicBezTo>
                        <a:pt x="1129042" y="1574945"/>
                        <a:pt x="1055117" y="1691966"/>
                        <a:pt x="1099656" y="1602889"/>
                      </a:cubicBezTo>
                      <a:cubicBezTo>
                        <a:pt x="1105438" y="1591325"/>
                        <a:pt x="1113999" y="1581374"/>
                        <a:pt x="1121171" y="1570616"/>
                      </a:cubicBezTo>
                      <a:cubicBezTo>
                        <a:pt x="1126046" y="1551116"/>
                        <a:pt x="1144716" y="1471768"/>
                        <a:pt x="1153444" y="1463040"/>
                      </a:cubicBezTo>
                      <a:cubicBezTo>
                        <a:pt x="1160616" y="1455868"/>
                        <a:pt x="1165638" y="1445520"/>
                        <a:pt x="1174960" y="1441525"/>
                      </a:cubicBezTo>
                      <a:cubicBezTo>
                        <a:pt x="1216651" y="1423658"/>
                        <a:pt x="1304051" y="1398494"/>
                        <a:pt x="1304051" y="1398494"/>
                      </a:cubicBezTo>
                      <a:cubicBezTo>
                        <a:pt x="1311223" y="1391322"/>
                        <a:pt x="1321031" y="1386051"/>
                        <a:pt x="1325567" y="1376979"/>
                      </a:cubicBezTo>
                      <a:cubicBezTo>
                        <a:pt x="1332179" y="1363755"/>
                        <a:pt x="1338158" y="1348619"/>
                        <a:pt x="1336324" y="1333948"/>
                      </a:cubicBezTo>
                      <a:cubicBezTo>
                        <a:pt x="1331954" y="1298992"/>
                        <a:pt x="1292985" y="1269094"/>
                        <a:pt x="1271778" y="1247887"/>
                      </a:cubicBezTo>
                      <a:cubicBezTo>
                        <a:pt x="1230363" y="1206472"/>
                        <a:pt x="1252163" y="1224053"/>
                        <a:pt x="1207233" y="1194099"/>
                      </a:cubicBezTo>
                      <a:cubicBezTo>
                        <a:pt x="1177838" y="1105917"/>
                        <a:pt x="1228682" y="1242409"/>
                        <a:pt x="1131929" y="1097280"/>
                      </a:cubicBezTo>
                      <a:lnTo>
                        <a:pt x="1088898" y="1032734"/>
                      </a:lnTo>
                      <a:cubicBezTo>
                        <a:pt x="1085312" y="1021976"/>
                        <a:pt x="1081256" y="1011364"/>
                        <a:pt x="1078141" y="1000461"/>
                      </a:cubicBezTo>
                      <a:cubicBezTo>
                        <a:pt x="1074079" y="986245"/>
                        <a:pt x="1081726" y="961017"/>
                        <a:pt x="1067383" y="957431"/>
                      </a:cubicBezTo>
                      <a:cubicBezTo>
                        <a:pt x="1052624" y="953741"/>
                        <a:pt x="1045868" y="978946"/>
                        <a:pt x="1035110" y="989704"/>
                      </a:cubicBezTo>
                      <a:cubicBezTo>
                        <a:pt x="1010519" y="1063480"/>
                        <a:pt x="1039561" y="971903"/>
                        <a:pt x="1013595" y="1075765"/>
                      </a:cubicBezTo>
                      <a:cubicBezTo>
                        <a:pt x="1010845" y="1086766"/>
                        <a:pt x="1005952" y="1097135"/>
                        <a:pt x="1002837" y="1108038"/>
                      </a:cubicBezTo>
                      <a:cubicBezTo>
                        <a:pt x="998775" y="1122254"/>
                        <a:pt x="998692" y="1137844"/>
                        <a:pt x="992080" y="1151068"/>
                      </a:cubicBezTo>
                      <a:cubicBezTo>
                        <a:pt x="987544" y="1160140"/>
                        <a:pt x="977736" y="1165412"/>
                        <a:pt x="970564" y="1172584"/>
                      </a:cubicBezTo>
                      <a:cubicBezTo>
                        <a:pt x="963392" y="1194099"/>
                        <a:pt x="946236" y="1259633"/>
                        <a:pt x="949049" y="1237129"/>
                      </a:cubicBezTo>
                      <a:cubicBezTo>
                        <a:pt x="955580" y="1184885"/>
                        <a:pt x="958245" y="1146555"/>
                        <a:pt x="970564" y="1097280"/>
                      </a:cubicBezTo>
                      <a:cubicBezTo>
                        <a:pt x="973314" y="1086279"/>
                        <a:pt x="989340" y="1056988"/>
                        <a:pt x="981322" y="1065007"/>
                      </a:cubicBezTo>
                      <a:cubicBezTo>
                        <a:pt x="914865" y="1131470"/>
                        <a:pt x="1003213" y="1093570"/>
                        <a:pt x="927534" y="1118795"/>
                      </a:cubicBezTo>
                      <a:cubicBezTo>
                        <a:pt x="923948" y="1129553"/>
                        <a:pt x="921847" y="1140926"/>
                        <a:pt x="916776" y="1151068"/>
                      </a:cubicBezTo>
                      <a:cubicBezTo>
                        <a:pt x="910994" y="1162632"/>
                        <a:pt x="904404" y="1192483"/>
                        <a:pt x="895261" y="1183341"/>
                      </a:cubicBezTo>
                      <a:cubicBezTo>
                        <a:pt x="884806" y="1172887"/>
                        <a:pt x="898683" y="1153148"/>
                        <a:pt x="906018" y="1140311"/>
                      </a:cubicBezTo>
                      <a:cubicBezTo>
                        <a:pt x="918760" y="1118011"/>
                        <a:pt x="950000" y="1100232"/>
                        <a:pt x="970564" y="1086522"/>
                      </a:cubicBezTo>
                      <a:cubicBezTo>
                        <a:pt x="977736" y="1075764"/>
                        <a:pt x="987540" y="1066355"/>
                        <a:pt x="992080" y="1054249"/>
                      </a:cubicBezTo>
                      <a:cubicBezTo>
                        <a:pt x="998500" y="1037129"/>
                        <a:pt x="1002837" y="1018745"/>
                        <a:pt x="1002837" y="1000461"/>
                      </a:cubicBezTo>
                      <a:cubicBezTo>
                        <a:pt x="1002837" y="875482"/>
                        <a:pt x="1000804" y="886785"/>
                        <a:pt x="970564" y="796066"/>
                      </a:cubicBezTo>
                      <a:cubicBezTo>
                        <a:pt x="966978" y="785308"/>
                        <a:pt x="966097" y="773228"/>
                        <a:pt x="959807" y="763793"/>
                      </a:cubicBezTo>
                      <a:lnTo>
                        <a:pt x="938291" y="731520"/>
                      </a:lnTo>
                      <a:cubicBezTo>
                        <a:pt x="907818" y="640096"/>
                        <a:pt x="950318" y="751565"/>
                        <a:pt x="906018" y="677732"/>
                      </a:cubicBezTo>
                      <a:cubicBezTo>
                        <a:pt x="864123" y="607907"/>
                        <a:pt x="928262" y="678458"/>
                        <a:pt x="873745" y="623944"/>
                      </a:cubicBezTo>
                      <a:cubicBezTo>
                        <a:pt x="872988" y="621672"/>
                        <a:pt x="859193" y="564249"/>
                        <a:pt x="841473" y="570155"/>
                      </a:cubicBezTo>
                      <a:cubicBezTo>
                        <a:pt x="830715" y="573741"/>
                        <a:pt x="834301" y="591670"/>
                        <a:pt x="830715" y="602428"/>
                      </a:cubicBezTo>
                      <a:cubicBezTo>
                        <a:pt x="847779" y="653617"/>
                        <a:pt x="829510" y="620828"/>
                        <a:pt x="873745" y="656216"/>
                      </a:cubicBezTo>
                      <a:cubicBezTo>
                        <a:pt x="881665" y="662552"/>
                        <a:pt x="886189" y="673196"/>
                        <a:pt x="895261" y="677732"/>
                      </a:cubicBezTo>
                      <a:cubicBezTo>
                        <a:pt x="908485" y="684344"/>
                        <a:pt x="924075" y="684427"/>
                        <a:pt x="938291" y="688489"/>
                      </a:cubicBezTo>
                      <a:cubicBezTo>
                        <a:pt x="949194" y="691604"/>
                        <a:pt x="960422" y="694176"/>
                        <a:pt x="970564" y="699247"/>
                      </a:cubicBezTo>
                      <a:cubicBezTo>
                        <a:pt x="982128" y="705029"/>
                        <a:pt x="991022" y="715511"/>
                        <a:pt x="1002837" y="720762"/>
                      </a:cubicBezTo>
                      <a:cubicBezTo>
                        <a:pt x="1023562" y="729973"/>
                        <a:pt x="1067383" y="742278"/>
                        <a:pt x="1067383" y="742278"/>
                      </a:cubicBezTo>
                      <a:cubicBezTo>
                        <a:pt x="1098863" y="789498"/>
                        <a:pt x="1135244" y="838286"/>
                        <a:pt x="1153444" y="892885"/>
                      </a:cubicBezTo>
                      <a:cubicBezTo>
                        <a:pt x="1160616" y="914400"/>
                        <a:pt x="1164818" y="937146"/>
                        <a:pt x="1174960" y="957431"/>
                      </a:cubicBezTo>
                      <a:cubicBezTo>
                        <a:pt x="1182132" y="971774"/>
                        <a:pt x="1183646" y="990839"/>
                        <a:pt x="1196475" y="1000461"/>
                      </a:cubicBezTo>
                      <a:cubicBezTo>
                        <a:pt x="1214618" y="1014068"/>
                        <a:pt x="1261021" y="1021976"/>
                        <a:pt x="1261021" y="1021976"/>
                      </a:cubicBezTo>
                      <a:cubicBezTo>
                        <a:pt x="1268193" y="1029148"/>
                        <a:pt x="1276200" y="1035572"/>
                        <a:pt x="1282536" y="1043492"/>
                      </a:cubicBezTo>
                      <a:cubicBezTo>
                        <a:pt x="1290613" y="1053588"/>
                        <a:pt x="1293293" y="1068593"/>
                        <a:pt x="1304051" y="1075765"/>
                      </a:cubicBezTo>
                      <a:cubicBezTo>
                        <a:pt x="1316353" y="1083966"/>
                        <a:pt x="1332738" y="1082936"/>
                        <a:pt x="1347082" y="1086522"/>
                      </a:cubicBezTo>
                      <a:cubicBezTo>
                        <a:pt x="1379355" y="1082936"/>
                        <a:pt x="1412150" y="1082569"/>
                        <a:pt x="1443901" y="1075765"/>
                      </a:cubicBezTo>
                      <a:cubicBezTo>
                        <a:pt x="1478377" y="1068377"/>
                        <a:pt x="1502589" y="1052286"/>
                        <a:pt x="1529962" y="1032734"/>
                      </a:cubicBezTo>
                      <a:cubicBezTo>
                        <a:pt x="1544552" y="1022313"/>
                        <a:pt x="1572993" y="1018391"/>
                        <a:pt x="1572993" y="1000461"/>
                      </a:cubicBezTo>
                      <a:cubicBezTo>
                        <a:pt x="1572993" y="984424"/>
                        <a:pt x="1543452" y="1013304"/>
                        <a:pt x="1529962" y="1021976"/>
                      </a:cubicBezTo>
                      <a:cubicBezTo>
                        <a:pt x="1493142" y="1045646"/>
                        <a:pt x="1422385" y="1097280"/>
                        <a:pt x="1422385" y="1097280"/>
                      </a:cubicBezTo>
                      <a:cubicBezTo>
                        <a:pt x="1433143" y="1100866"/>
                        <a:pt x="1445586" y="1101234"/>
                        <a:pt x="1454658" y="1108038"/>
                      </a:cubicBezTo>
                      <a:cubicBezTo>
                        <a:pt x="1474943" y="1123252"/>
                        <a:pt x="1484392" y="1153808"/>
                        <a:pt x="1508447" y="1161826"/>
                      </a:cubicBezTo>
                      <a:lnTo>
                        <a:pt x="1572993" y="1183341"/>
                      </a:lnTo>
                      <a:lnTo>
                        <a:pt x="1605265" y="1194099"/>
                      </a:lnTo>
                      <a:cubicBezTo>
                        <a:pt x="1616023" y="1186927"/>
                        <a:pt x="1627808" y="1181098"/>
                        <a:pt x="1637538" y="1172584"/>
                      </a:cubicBezTo>
                      <a:cubicBezTo>
                        <a:pt x="1656621" y="1155887"/>
                        <a:pt x="1667272" y="1126813"/>
                        <a:pt x="1691327" y="1118795"/>
                      </a:cubicBezTo>
                      <a:lnTo>
                        <a:pt x="1723600" y="1108038"/>
                      </a:lnTo>
                      <a:cubicBezTo>
                        <a:pt x="1708394" y="1032010"/>
                        <a:pt x="1730189" y="1060032"/>
                        <a:pt x="1648296" y="1032734"/>
                      </a:cubicBezTo>
                      <a:lnTo>
                        <a:pt x="1616023" y="1021976"/>
                      </a:lnTo>
                      <a:lnTo>
                        <a:pt x="1583750" y="1011219"/>
                      </a:lnTo>
                      <a:cubicBezTo>
                        <a:pt x="1569407" y="989704"/>
                        <a:pt x="1562235" y="961016"/>
                        <a:pt x="1540720" y="946673"/>
                      </a:cubicBezTo>
                      <a:cubicBezTo>
                        <a:pt x="1500008" y="919532"/>
                        <a:pt x="1517589" y="934300"/>
                        <a:pt x="1486931" y="903642"/>
                      </a:cubicBezTo>
                      <a:cubicBezTo>
                        <a:pt x="1469871" y="852462"/>
                        <a:pt x="1473126" y="843354"/>
                        <a:pt x="1443901" y="806824"/>
                      </a:cubicBezTo>
                      <a:cubicBezTo>
                        <a:pt x="1437565" y="798904"/>
                        <a:pt x="1429557" y="792480"/>
                        <a:pt x="1422385" y="785308"/>
                      </a:cubicBezTo>
                      <a:cubicBezTo>
                        <a:pt x="1386799" y="678544"/>
                        <a:pt x="1446504" y="841630"/>
                        <a:pt x="1379355" y="720762"/>
                      </a:cubicBezTo>
                      <a:cubicBezTo>
                        <a:pt x="1317551" y="609514"/>
                        <a:pt x="1390461" y="688835"/>
                        <a:pt x="1336324" y="634701"/>
                      </a:cubicBezTo>
                      <a:cubicBezTo>
                        <a:pt x="1310721" y="557889"/>
                        <a:pt x="1333679" y="582735"/>
                        <a:pt x="1282536" y="548640"/>
                      </a:cubicBezTo>
                      <a:cubicBezTo>
                        <a:pt x="1278950" y="537882"/>
                        <a:pt x="1278862" y="525222"/>
                        <a:pt x="1271778" y="516367"/>
                      </a:cubicBezTo>
                      <a:cubicBezTo>
                        <a:pt x="1263701" y="506271"/>
                        <a:pt x="1249601" y="502929"/>
                        <a:pt x="1239505" y="494852"/>
                      </a:cubicBezTo>
                      <a:cubicBezTo>
                        <a:pt x="1231585" y="488516"/>
                        <a:pt x="1226104" y="479422"/>
                        <a:pt x="1217990" y="473336"/>
                      </a:cubicBezTo>
                      <a:cubicBezTo>
                        <a:pt x="1197304" y="457821"/>
                        <a:pt x="1153444" y="430306"/>
                        <a:pt x="1153444" y="430306"/>
                      </a:cubicBezTo>
                      <a:cubicBezTo>
                        <a:pt x="1129975" y="359894"/>
                        <a:pt x="1162571" y="429001"/>
                        <a:pt x="1110414" y="387275"/>
                      </a:cubicBezTo>
                      <a:cubicBezTo>
                        <a:pt x="1100318" y="379198"/>
                        <a:pt x="1100462" y="360784"/>
                        <a:pt x="1088898" y="355002"/>
                      </a:cubicBezTo>
                      <a:cubicBezTo>
                        <a:pt x="1062450" y="341778"/>
                        <a:pt x="1002837" y="333487"/>
                        <a:pt x="1002837" y="333487"/>
                      </a:cubicBezTo>
                      <a:cubicBezTo>
                        <a:pt x="992079" y="326315"/>
                        <a:pt x="982379" y="317223"/>
                        <a:pt x="970564" y="311972"/>
                      </a:cubicBezTo>
                      <a:cubicBezTo>
                        <a:pt x="949839" y="302761"/>
                        <a:pt x="906018" y="290456"/>
                        <a:pt x="906018" y="290456"/>
                      </a:cubicBezTo>
                      <a:cubicBezTo>
                        <a:pt x="898846" y="279699"/>
                        <a:pt x="892579" y="268280"/>
                        <a:pt x="884503" y="258184"/>
                      </a:cubicBezTo>
                      <a:cubicBezTo>
                        <a:pt x="872169" y="242766"/>
                        <a:pt x="848070" y="222866"/>
                        <a:pt x="830715" y="215153"/>
                      </a:cubicBezTo>
                      <a:cubicBezTo>
                        <a:pt x="809991" y="205942"/>
                        <a:pt x="788171" y="199139"/>
                        <a:pt x="766169" y="193638"/>
                      </a:cubicBezTo>
                      <a:cubicBezTo>
                        <a:pt x="751825" y="190052"/>
                        <a:pt x="737300" y="187129"/>
                        <a:pt x="723138" y="182880"/>
                      </a:cubicBezTo>
                      <a:cubicBezTo>
                        <a:pt x="701416" y="176363"/>
                        <a:pt x="658593" y="161365"/>
                        <a:pt x="658593" y="161365"/>
                      </a:cubicBezTo>
                      <a:cubicBezTo>
                        <a:pt x="594302" y="64931"/>
                        <a:pt x="713451" y="225638"/>
                        <a:pt x="529501" y="118334"/>
                      </a:cubicBezTo>
                      <a:cubicBezTo>
                        <a:pt x="509911" y="106907"/>
                        <a:pt x="520565" y="72658"/>
                        <a:pt x="507985" y="53788"/>
                      </a:cubicBezTo>
                      <a:cubicBezTo>
                        <a:pt x="500813" y="43030"/>
                        <a:pt x="496566" y="29592"/>
                        <a:pt x="486470" y="21515"/>
                      </a:cubicBezTo>
                      <a:cubicBezTo>
                        <a:pt x="450795" y="-7025"/>
                        <a:pt x="454197" y="27363"/>
                        <a:pt x="454197" y="0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custGeom>
                  <a:avLst/>
                  <a:gdLst>
                    <a:gd name="textAreaLeft" fmla="*/ 0 w 181800"/>
                    <a:gd name="textAreaRight" fmla="*/ 182160 w 18180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462579" h="602428">
                      <a:moveTo>
                        <a:pt x="107576" y="0"/>
                      </a:moveTo>
                      <a:cubicBezTo>
                        <a:pt x="147021" y="28687"/>
                        <a:pt x="183871" y="61332"/>
                        <a:pt x="225910" y="86061"/>
                      </a:cubicBezTo>
                      <a:cubicBezTo>
                        <a:pt x="245458" y="97560"/>
                        <a:pt x="290456" y="107576"/>
                        <a:pt x="290456" y="107576"/>
                      </a:cubicBezTo>
                      <a:cubicBezTo>
                        <a:pt x="311971" y="93233"/>
                        <a:pt x="336718" y="82830"/>
                        <a:pt x="355002" y="64546"/>
                      </a:cubicBezTo>
                      <a:cubicBezTo>
                        <a:pt x="362174" y="57374"/>
                        <a:pt x="368079" y="48656"/>
                        <a:pt x="376518" y="43030"/>
                      </a:cubicBezTo>
                      <a:cubicBezTo>
                        <a:pt x="389861" y="34135"/>
                        <a:pt x="405625" y="29471"/>
                        <a:pt x="419548" y="21515"/>
                      </a:cubicBezTo>
                      <a:cubicBezTo>
                        <a:pt x="430774" y="15100"/>
                        <a:pt x="441063" y="7172"/>
                        <a:pt x="451821" y="0"/>
                      </a:cubicBezTo>
                      <a:cubicBezTo>
                        <a:pt x="455407" y="10758"/>
                        <a:pt x="462579" y="20933"/>
                        <a:pt x="462579" y="32273"/>
                      </a:cubicBezTo>
                      <a:cubicBezTo>
                        <a:pt x="462579" y="179338"/>
                        <a:pt x="458074" y="326404"/>
                        <a:pt x="451821" y="473336"/>
                      </a:cubicBezTo>
                      <a:cubicBezTo>
                        <a:pt x="450894" y="495128"/>
                        <a:pt x="444965" y="516422"/>
                        <a:pt x="441063" y="537882"/>
                      </a:cubicBezTo>
                      <a:cubicBezTo>
                        <a:pt x="437792" y="555871"/>
                        <a:pt x="440448" y="576456"/>
                        <a:pt x="430306" y="591670"/>
                      </a:cubicBezTo>
                      <a:cubicBezTo>
                        <a:pt x="424016" y="601105"/>
                        <a:pt x="408791" y="598842"/>
                        <a:pt x="398033" y="602428"/>
                      </a:cubicBezTo>
                      <a:cubicBezTo>
                        <a:pt x="387275" y="591670"/>
                        <a:pt x="373148" y="583454"/>
                        <a:pt x="365760" y="570155"/>
                      </a:cubicBezTo>
                      <a:cubicBezTo>
                        <a:pt x="354746" y="550330"/>
                        <a:pt x="348693" y="527848"/>
                        <a:pt x="344245" y="505609"/>
                      </a:cubicBezTo>
                      <a:cubicBezTo>
                        <a:pt x="340659" y="487680"/>
                        <a:pt x="336758" y="469810"/>
                        <a:pt x="333487" y="451821"/>
                      </a:cubicBezTo>
                      <a:cubicBezTo>
                        <a:pt x="329585" y="430361"/>
                        <a:pt x="328019" y="408436"/>
                        <a:pt x="322729" y="387275"/>
                      </a:cubicBezTo>
                      <a:cubicBezTo>
                        <a:pt x="317229" y="365273"/>
                        <a:pt x="301214" y="322729"/>
                        <a:pt x="301214" y="322729"/>
                      </a:cubicBezTo>
                      <a:cubicBezTo>
                        <a:pt x="290456" y="333487"/>
                        <a:pt x="278680" y="343315"/>
                        <a:pt x="268941" y="355002"/>
                      </a:cubicBezTo>
                      <a:cubicBezTo>
                        <a:pt x="201097" y="436415"/>
                        <a:pt x="288499" y="346204"/>
                        <a:pt x="225910" y="408790"/>
                      </a:cubicBezTo>
                      <a:cubicBezTo>
                        <a:pt x="222324" y="419548"/>
                        <a:pt x="223171" y="433045"/>
                        <a:pt x="215153" y="441063"/>
                      </a:cubicBezTo>
                      <a:cubicBezTo>
                        <a:pt x="196869" y="459348"/>
                        <a:pt x="172122" y="469750"/>
                        <a:pt x="150607" y="484094"/>
                      </a:cubicBezTo>
                      <a:cubicBezTo>
                        <a:pt x="139849" y="491266"/>
                        <a:pt x="127476" y="496467"/>
                        <a:pt x="118334" y="505609"/>
                      </a:cubicBezTo>
                      <a:cubicBezTo>
                        <a:pt x="111162" y="512781"/>
                        <a:pt x="105516" y="521907"/>
                        <a:pt x="96819" y="527125"/>
                      </a:cubicBezTo>
                      <a:cubicBezTo>
                        <a:pt x="87095" y="532959"/>
                        <a:pt x="75304" y="534296"/>
                        <a:pt x="64546" y="537882"/>
                      </a:cubicBezTo>
                      <a:cubicBezTo>
                        <a:pt x="7242" y="526422"/>
                        <a:pt x="29042" y="527125"/>
                        <a:pt x="0" y="527125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269402" h="710005">
                      <a:moveTo>
                        <a:pt x="53788" y="0"/>
                      </a:moveTo>
                      <a:cubicBezTo>
                        <a:pt x="143435" y="46617"/>
                        <a:pt x="232354" y="94662"/>
                        <a:pt x="322729" y="139850"/>
                      </a:cubicBezTo>
                      <a:cubicBezTo>
                        <a:pt x="334293" y="145632"/>
                        <a:pt x="299598" y="127477"/>
                        <a:pt x="290456" y="118335"/>
                      </a:cubicBezTo>
                      <a:cubicBezTo>
                        <a:pt x="281314" y="109193"/>
                        <a:pt x="276113" y="96820"/>
                        <a:pt x="268941" y="86062"/>
                      </a:cubicBezTo>
                      <a:cubicBezTo>
                        <a:pt x="272527" y="75304"/>
                        <a:pt x="269556" y="58860"/>
                        <a:pt x="279698" y="53789"/>
                      </a:cubicBezTo>
                      <a:cubicBezTo>
                        <a:pt x="324353" y="31461"/>
                        <a:pt x="410217" y="49166"/>
                        <a:pt x="451821" y="53789"/>
                      </a:cubicBezTo>
                      <a:cubicBezTo>
                        <a:pt x="462579" y="60961"/>
                        <a:pt x="477242" y="64340"/>
                        <a:pt x="484094" y="75304"/>
                      </a:cubicBezTo>
                      <a:cubicBezTo>
                        <a:pt x="496114" y="94536"/>
                        <a:pt x="498437" y="118335"/>
                        <a:pt x="505609" y="139850"/>
                      </a:cubicBezTo>
                      <a:lnTo>
                        <a:pt x="527124" y="204396"/>
                      </a:lnTo>
                      <a:cubicBezTo>
                        <a:pt x="534210" y="225655"/>
                        <a:pt x="540440" y="253777"/>
                        <a:pt x="559397" y="268942"/>
                      </a:cubicBezTo>
                      <a:cubicBezTo>
                        <a:pt x="568252" y="276026"/>
                        <a:pt x="580730" y="276715"/>
                        <a:pt x="591670" y="279699"/>
                      </a:cubicBezTo>
                      <a:cubicBezTo>
                        <a:pt x="620198" y="287479"/>
                        <a:pt x="648181" y="300121"/>
                        <a:pt x="677731" y="301215"/>
                      </a:cubicBezTo>
                      <a:lnTo>
                        <a:pt x="968188" y="311972"/>
                      </a:lnTo>
                      <a:cubicBezTo>
                        <a:pt x="1025612" y="314643"/>
                        <a:pt x="1082936" y="319144"/>
                        <a:pt x="1140310" y="322730"/>
                      </a:cubicBezTo>
                      <a:cubicBezTo>
                        <a:pt x="1141992" y="327775"/>
                        <a:pt x="1162882" y="409320"/>
                        <a:pt x="1183341" y="419549"/>
                      </a:cubicBezTo>
                      <a:cubicBezTo>
                        <a:pt x="1209789" y="432773"/>
                        <a:pt x="1269402" y="441064"/>
                        <a:pt x="1269402" y="441064"/>
                      </a:cubicBezTo>
                      <a:cubicBezTo>
                        <a:pt x="1263629" y="469930"/>
                        <a:pt x="1252726" y="536002"/>
                        <a:pt x="1237129" y="559398"/>
                      </a:cubicBezTo>
                      <a:cubicBezTo>
                        <a:pt x="1229957" y="570156"/>
                        <a:pt x="1220865" y="579856"/>
                        <a:pt x="1215614" y="591671"/>
                      </a:cubicBezTo>
                      <a:cubicBezTo>
                        <a:pt x="1177882" y="676567"/>
                        <a:pt x="1219882" y="639028"/>
                        <a:pt x="1161825" y="677732"/>
                      </a:cubicBezTo>
                      <a:cubicBezTo>
                        <a:pt x="1054538" y="667979"/>
                        <a:pt x="1032444" y="658799"/>
                        <a:pt x="925157" y="677732"/>
                      </a:cubicBezTo>
                      <a:cubicBezTo>
                        <a:pt x="902823" y="681673"/>
                        <a:pt x="882126" y="692075"/>
                        <a:pt x="860611" y="699247"/>
                      </a:cubicBezTo>
                      <a:lnTo>
                        <a:pt x="828338" y="710005"/>
                      </a:lnTo>
                      <a:cubicBezTo>
                        <a:pt x="763792" y="706419"/>
                        <a:pt x="699055" y="705376"/>
                        <a:pt x="634701" y="699247"/>
                      </a:cubicBezTo>
                      <a:cubicBezTo>
                        <a:pt x="586403" y="694647"/>
                        <a:pt x="616174" y="688132"/>
                        <a:pt x="580912" y="666975"/>
                      </a:cubicBezTo>
                      <a:cubicBezTo>
                        <a:pt x="571189" y="661141"/>
                        <a:pt x="559397" y="659803"/>
                        <a:pt x="548640" y="656217"/>
                      </a:cubicBezTo>
                      <a:cubicBezTo>
                        <a:pt x="516367" y="659803"/>
                        <a:pt x="484008" y="662683"/>
                        <a:pt x="451821" y="666975"/>
                      </a:cubicBezTo>
                      <a:cubicBezTo>
                        <a:pt x="430200" y="669858"/>
                        <a:pt x="409087" y="677732"/>
                        <a:pt x="387275" y="677732"/>
                      </a:cubicBezTo>
                      <a:cubicBezTo>
                        <a:pt x="329789" y="677732"/>
                        <a:pt x="272526" y="670561"/>
                        <a:pt x="215152" y="666975"/>
                      </a:cubicBezTo>
                      <a:cubicBezTo>
                        <a:pt x="197223" y="663389"/>
                        <a:pt x="179465" y="658803"/>
                        <a:pt x="161364" y="656217"/>
                      </a:cubicBezTo>
                      <a:cubicBezTo>
                        <a:pt x="129219" y="651625"/>
                        <a:pt x="91940" y="662892"/>
                        <a:pt x="64545" y="645459"/>
                      </a:cubicBezTo>
                      <a:cubicBezTo>
                        <a:pt x="47143" y="634385"/>
                        <a:pt x="36169" y="531954"/>
                        <a:pt x="32272" y="516367"/>
                      </a:cubicBezTo>
                      <a:cubicBezTo>
                        <a:pt x="26772" y="494365"/>
                        <a:pt x="17929" y="473337"/>
                        <a:pt x="10757" y="451822"/>
                      </a:cubicBezTo>
                      <a:lnTo>
                        <a:pt x="0" y="419549"/>
                      </a:lnTo>
                      <a:cubicBezTo>
                        <a:pt x="16524" y="204722"/>
                        <a:pt x="3318" y="355755"/>
                        <a:pt x="21515" y="182880"/>
                      </a:cubicBezTo>
                      <a:cubicBezTo>
                        <a:pt x="25288" y="147041"/>
                        <a:pt x="32272" y="75304"/>
                        <a:pt x="32272" y="75304"/>
                      </a:cubicBezTo>
                    </a:path>
                  </a:pathLst>
                </a:custGeom>
                <a:noFill/>
                <a:ln w="1260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9237" h="49237">
                    <a:moveTo>
                      <a:pt x="0" y="0"/>
                    </a:moveTo>
                    <a:lnTo>
                      <a:pt x="-16299" y="-16299"/>
                    </a:lnTo>
                  </a:path>
                </a:pathLst>
              </a:custGeom>
              <a:noFill/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41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>
              <a:gd name="textAreaLeft" fmla="*/ 0 w 390600"/>
              <a:gd name="textAreaRight" fmla="*/ 39096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42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43"/>
          <p:cNvSpPr/>
          <p:nvPr/>
        </p:nvSpPr>
        <p:spPr>
          <a:xfrm rot="10800000">
            <a:off x="2360160" y="299520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83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84"/>
          <p:cNvSpPr/>
          <p:nvPr/>
        </p:nvSpPr>
        <p:spPr>
          <a:xfrm rot="16200000">
            <a:off x="2237400" y="3369240"/>
            <a:ext cx="733680" cy="1468440"/>
          </a:xfrm>
          <a:custGeom>
            <a:avLst/>
            <a:gdLst>
              <a:gd name="textAreaLeft" fmla="*/ 0 w 733680"/>
              <a:gd name="textAreaRight" fmla="*/ 734040 w 7336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任意多边形 15"/>
          <p:cNvSpPr/>
          <p:nvPr/>
        </p:nvSpPr>
        <p:spPr>
          <a:xfrm>
            <a:off x="5756400" y="627120"/>
            <a:ext cx="5771880" cy="4076640"/>
          </a:xfrm>
          <a:custGeom>
            <a:avLst/>
            <a:gdLst>
              <a:gd name="textAreaLeft" fmla="*/ 0 w 5771880"/>
              <a:gd name="textAreaRight" fmla="*/ 5772240 w 5771880"/>
              <a:gd name="textAreaTop" fmla="*/ 0 h 4076640"/>
              <a:gd name="textAreaBottom" fmla="*/ 4077000 h 4076640"/>
            </a:gdLst>
            <a:ahLst/>
            <a:rect l="textAreaLeft" t="textAreaTop" r="textAreaRight" b="textAreaBottom"/>
            <a:pathLst>
              <a:path w="5771213" h="4077324">
                <a:moveTo>
                  <a:pt x="433023" y="215605"/>
                </a:moveTo>
                <a:cubicBezTo>
                  <a:pt x="318054" y="215605"/>
                  <a:pt x="224853" y="308806"/>
                  <a:pt x="224853" y="423775"/>
                </a:cubicBezTo>
                <a:lnTo>
                  <a:pt x="224853" y="3149627"/>
                </a:lnTo>
                <a:cubicBezTo>
                  <a:pt x="224853" y="3264596"/>
                  <a:pt x="318054" y="3357797"/>
                  <a:pt x="433023" y="3357797"/>
                </a:cubicBezTo>
                <a:lnTo>
                  <a:pt x="5323201" y="3357797"/>
                </a:lnTo>
                <a:cubicBezTo>
                  <a:pt x="5438170" y="3357797"/>
                  <a:pt x="5531371" y="3264596"/>
                  <a:pt x="5531371" y="3149627"/>
                </a:cubicBezTo>
                <a:lnTo>
                  <a:pt x="5531371" y="423775"/>
                </a:lnTo>
                <a:cubicBezTo>
                  <a:pt x="5531371" y="308806"/>
                  <a:pt x="5438170" y="215605"/>
                  <a:pt x="5323201" y="215605"/>
                </a:cubicBezTo>
                <a:lnTo>
                  <a:pt x="433023" y="215605"/>
                </a:lnTo>
                <a:close/>
                <a:moveTo>
                  <a:pt x="237351" y="0"/>
                </a:moveTo>
                <a:lnTo>
                  <a:pt x="5533862" y="0"/>
                </a:lnTo>
                <a:cubicBezTo>
                  <a:pt x="5664947" y="0"/>
                  <a:pt x="5771213" y="106266"/>
                  <a:pt x="5771213" y="237351"/>
                </a:cubicBezTo>
                <a:lnTo>
                  <a:pt x="5771213" y="3345299"/>
                </a:lnTo>
                <a:cubicBezTo>
                  <a:pt x="5771213" y="3476384"/>
                  <a:pt x="5664947" y="3582650"/>
                  <a:pt x="5533862" y="3582650"/>
                </a:cubicBezTo>
                <a:lnTo>
                  <a:pt x="3672591" y="3582650"/>
                </a:lnTo>
                <a:lnTo>
                  <a:pt x="3777522" y="4002373"/>
                </a:lnTo>
                <a:lnTo>
                  <a:pt x="4676931" y="4002373"/>
                </a:lnTo>
                <a:lnTo>
                  <a:pt x="4676931" y="4077324"/>
                </a:lnTo>
                <a:lnTo>
                  <a:pt x="1139251" y="4077324"/>
                </a:lnTo>
                <a:lnTo>
                  <a:pt x="1139251" y="4002373"/>
                </a:lnTo>
                <a:lnTo>
                  <a:pt x="1978703" y="4002373"/>
                </a:lnTo>
                <a:lnTo>
                  <a:pt x="2083633" y="3582650"/>
                </a:lnTo>
                <a:lnTo>
                  <a:pt x="237351" y="3582650"/>
                </a:lnTo>
                <a:cubicBezTo>
                  <a:pt x="106266" y="3582650"/>
                  <a:pt x="0" y="3476384"/>
                  <a:pt x="0" y="3345299"/>
                </a:cubicBezTo>
                <a:lnTo>
                  <a:pt x="0" y="237351"/>
                </a:lnTo>
                <a:cubicBezTo>
                  <a:pt x="0" y="106266"/>
                  <a:pt x="106266" y="0"/>
                  <a:pt x="237351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317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18"/>
          <p:cNvSpPr/>
          <p:nvPr/>
        </p:nvSpPr>
        <p:spPr>
          <a:xfrm rot="16200000">
            <a:off x="5340240" y="1269720"/>
            <a:ext cx="390600" cy="669960"/>
          </a:xfrm>
          <a:custGeom>
            <a:avLst/>
            <a:gdLst>
              <a:gd name="textAreaLeft" fmla="*/ 0 w 390600"/>
              <a:gd name="textAreaRight" fmla="*/ 39096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19"/>
          <p:cNvSpPr/>
          <p:nvPr/>
        </p:nvSpPr>
        <p:spPr>
          <a:xfrm>
            <a:off x="4079880" y="1549440"/>
            <a:ext cx="1847880" cy="14684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20"/>
          <p:cNvSpPr/>
          <p:nvPr/>
        </p:nvSpPr>
        <p:spPr>
          <a:xfrm rot="10800000">
            <a:off x="2354040" y="3011040"/>
            <a:ext cx="1849320" cy="146844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21"/>
          <p:cNvSpPr/>
          <p:nvPr/>
        </p:nvSpPr>
        <p:spPr>
          <a:xfrm flipH="1" rot="10800000">
            <a:off x="1735560" y="3346200"/>
            <a:ext cx="390600" cy="669960"/>
          </a:xfrm>
          <a:custGeom>
            <a:avLst/>
            <a:gdLst>
              <a:gd name="textAreaLeft" fmla="*/ -360 w 390600"/>
              <a:gd name="textAreaRight" fmla="*/ 390600 w 3906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22"/>
          <p:cNvSpPr/>
          <p:nvPr/>
        </p:nvSpPr>
        <p:spPr>
          <a:xfrm rot="16200000">
            <a:off x="2237760" y="3378600"/>
            <a:ext cx="733320" cy="1468440"/>
          </a:xfrm>
          <a:custGeom>
            <a:avLst/>
            <a:gdLst>
              <a:gd name="textAreaLeft" fmla="*/ 0 w 733320"/>
              <a:gd name="textAreaRight" fmla="*/ 733680 w 733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32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21:29:00Z</dcterms:created>
  <dc:creator>张卫东</dc:creator>
  <dc:description/>
  <cp:keywords/>
  <dc:language>en-US</dc:language>
  <cp:lastModifiedBy>a</cp:lastModifiedBy>
  <dcterms:modified xsi:type="dcterms:W3CDTF">2014-07-23T08:01:25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