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  <p:sldId id="277" r:id="rId49"/>
    <p:sldId id="278" r:id="rId50"/>
    <p:sldId id="279" r:id="rId51"/>
    <p:sldId id="280" r:id="rId52"/>
    <p:sldId id="281" r:id="rId53"/>
    <p:sldId id="282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slide" Target="slides/slide22.xml"/><Relationship Id="rId50" Type="http://schemas.openxmlformats.org/officeDocument/2006/relationships/slide" Target="slides/slide23.xml"/><Relationship Id="rId51" Type="http://schemas.openxmlformats.org/officeDocument/2006/relationships/slide" Target="slides/slide24.xml"/><Relationship Id="rId52" Type="http://schemas.openxmlformats.org/officeDocument/2006/relationships/slide" Target="slides/slide25.xml"/><Relationship Id="rId53" Type="http://schemas.openxmlformats.org/officeDocument/2006/relationships/slide" Target="slides/slide26.xml"/><Relationship Id="rId54" Type="http://schemas.openxmlformats.org/officeDocument/2006/relationships/slide" Target="slides/slide27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0C98-5F2C-4556-8911-498DE6B0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E583-F036-4EF6-9F8D-B20B9C34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85FC3-CCC1-4EBE-A5F8-7F98A5E4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3C00E-7E85-4BA4-ABB2-B5CAA623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4A52F-7BB4-4656-95E7-8392A48E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C3B91-1BF9-4D85-ADF7-7451CB96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348C7-EE63-4928-B2BF-85269123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8DB73-E631-4646-8AFF-B550D2CC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8FD3E-302F-4BFA-8A9E-25E12E01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64E30-0FFC-4F1A-805F-AF762A2B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3C1B5-B49F-427C-9CF6-8BA29AB3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BB744-D41B-47AD-AEAD-19691F47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3233-EA8C-45BA-BB60-C2D9CB710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82E1D-136A-45E5-9E9A-31565740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BB95E-A617-441C-868A-DC6F677A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98C03-8C09-4C32-90A1-B1FB9066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227DC-8ABA-4244-999B-16FADC12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AAF7F-3936-4B80-81AE-D19A1D7E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D6CC8-8E8E-4E01-A3B9-50403F9C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8C791-3921-4940-B801-A79DF701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CD118-CCD3-46C8-9523-000074B3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9C639-79DD-45CD-BF74-0FAD1CA1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648C0-C8B6-4E45-9739-A265DCF0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373C-8998-43A3-BBAB-ED0BB634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98969-E45F-428E-BE03-AB6DFC0A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CBC3B-37B6-46CB-9D53-A78388BC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F8AC8-CF2E-40D5-8ACC-FF3DD2C0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27A93-104B-4C8A-A0F2-057017DC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DDC2A-33BA-4405-A775-4D5A7365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86B05-477C-459A-8A1A-BE3BA352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FD080-E100-4C61-BDC8-2FB66873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46453-BA54-408E-A8C1-D4471647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6DEA1-4913-4173-AE89-0574C427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C370B-5175-4EAE-A33D-A8E70416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5D80-B0FB-48B0-9E10-079938C6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899DC-3479-45E5-B3BB-F845434F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9FB0C-DD5C-4E70-A974-7BDD4012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D37F9-D85F-4E75-9CBD-44BC5683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6017A-03EC-440E-9915-E094D467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117B2-277F-4F71-9B91-CBBF7F35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25BDE-A455-4E80-ABE0-1F60185C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00865-A744-41F0-9A2E-77A0F7D1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76807-8FF3-4ED6-B67C-CAF9B924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37030-1149-47FB-8939-0B2E3054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9AE2E-A9F5-4503-86CB-4546F4AB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F0F4-0838-4B14-B32B-2B7AB08A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CAA84-F65D-4E2E-88FF-19F94E02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7FED7B-09F1-4A13-A0DA-CE3B18DB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7E8F0-7EED-48FC-AE6B-6438840A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44FE7-B6AF-4F97-B0E7-E2D78B1B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E1D61-40EB-4E22-8921-1DE2C174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31E8E4-3C23-4402-B80C-9BDA23DF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D4F9F1-4211-4E20-8C9F-F1B41582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F16520-148B-48A7-AF21-6CCB2E6C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2C590D-A7D1-41EE-8A7A-E4677C07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09D5B7-C8EB-44B5-A805-5D2DE923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984A-65C3-487F-AD77-031DE1FD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32E0C3-B0D7-45E8-907A-DAB4F317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18B261-7503-4FD4-BBAC-72A33410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FA77F9-7E44-4BCB-BACA-57FFBE05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286440-5A5D-436A-A3CB-FFB09CBA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67883C-9411-4303-A7CE-6FA91896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3EFE37-0085-4E94-976A-ED078CD0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95E791-C731-4936-A515-4580916B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E809A0-32CF-4020-AD97-AE902B75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31EC8E-427F-4F94-BD08-A084191A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9152FA-94E7-446B-9F3D-26173470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03BE-5DBC-47E4-AE4C-96AE72B6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0A8B4C-6863-44AD-B288-77FA6E83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8B94DE-4D9B-45A1-A229-A17E17AC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E1F70B-1584-496D-8CF0-F7923A04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051E9F-A5F6-4D7C-BDE9-F0C5D9C6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2D1964-DED6-46F6-9583-2155B9B0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03C997-3BC7-4EC2-A1B8-28B6ACBC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9812EE-4414-44A5-A0CE-AE1AF508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693F40-939A-4C69-8CE3-A03D9FD8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C29269-F132-4EE2-88DE-D4930A90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67DD69-4803-4402-89B1-3515A762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C3FC-7DBB-41C9-BBDA-CC97103A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A414B6-6D46-4591-87BD-8585D5D6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23D4C5-59D1-44B4-8876-0B61BCE9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3F0FB4-2468-4752-9BDF-BD6FBAE8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473937-632F-4FD5-8F3D-AACCAE4D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700984-02C4-408F-90AB-72B1ADC2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30AB93-435C-4528-A101-78E164C5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1DDE2F-AC82-42F3-A953-5D39D771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382E95-7385-44EF-8B3A-EB4C05D3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A80F92-B4F2-491D-9240-47E05371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E03F61-9C2D-4C51-98D7-112EB23F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458D-1B31-4D0E-84F2-802939A9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AD9CFF-BCA0-4E67-BFD1-32A18917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B23E9A-4D36-4FC6-9B18-B292C5ED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9322A3-1DEA-4EA6-B295-6D9ED8B3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44BABF-D323-41C0-8B84-CBF51662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E8836B-516E-4947-AB65-979BF048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BD57A8-B6C4-40BB-8CE2-7B66B0E4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E2F551-426B-41FC-A077-37238513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24ECF6-EC01-4DCC-9578-BFAF3464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A54EE4-B01F-4860-BCE1-56E9D5E6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3239DF-C4F0-4447-8959-DFFDF12F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DB36-8716-4026-AE6D-04742330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FA2013-81B4-4005-96D6-9E06097A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6CF8E6-8AE6-4204-8D29-82074923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360EBF-7A00-49BD-850A-7EF33B51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5DFFEB-BF7D-47A2-BCE1-2D7EC861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00F1D9-FC8F-4288-85C0-E8E7C461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BA2AE0-D57A-4C32-B94F-A6BFB975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27F7AC-17BE-460B-BA26-84F44434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A5521D-1E79-4B02-BA26-D9D5401A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A6E529-CCFB-4752-9FC9-21155F00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909095-3C66-4807-AE36-F2A5CF9B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5FCE-521A-4FCA-9D4E-DB45E5D3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D5EF-903C-4559-B749-B6276FF6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CD2F79-0630-4BD8-8B3A-437F872E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CD9A0F-7123-4F21-B563-65CDA786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91A74E-8353-43EE-913F-D94D4FC4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3CCC49-58CA-4EF5-9C6F-4A4F8B44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D0F289-95A2-4C2D-8CC1-B49DCA9D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D7C8FA-98BC-42A3-BD73-B13ECD03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53AF00-5506-47F9-97A7-BF2478B7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119D65-F708-4850-A6BB-171C830A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9168B0-4A87-460F-BD7F-43751C43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7E1C9F-1925-4A0C-9911-75D53962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BA6D-31E9-4855-B3DE-122B4205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0CE699-9258-4084-9D52-FFE6E73B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ED744C-FA20-46CD-9BD5-EF98586B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AE9DA4-0BF8-4402-AB2D-3B3F7432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95FDCE-8F78-4BBB-A948-DE67911F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A399A3-C757-40FD-8E6A-549EEC7A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1DC053-BA5B-437B-A849-87C7AEBC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4E3F2A-45AB-4760-8072-4DD014DD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17C09D-EB73-4FE0-8D57-0D60667E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0384A1-0410-4A08-8924-D8F489B1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CF11A9-F349-4364-BF1A-3E105015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B808-97D4-435B-90F8-AFB9C063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55AA34-37C8-45C8-86D4-37C3BE4D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D8E41A-1C52-48D0-8D24-D0537550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8F584B-674E-4661-B906-62D22D6A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BECA00-1077-4069-94E1-AE6DB685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A4A949-BFC7-4726-967B-9141196B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6127B3-27D7-4373-AE42-8BF8AB9E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828C59-7BC6-4650-988A-4A6E1B4E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DCA23C-74A5-4367-B9FC-C949530A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526F78-FA03-443E-B35B-EDD049F6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A098CB-D3B0-4A3F-8587-97FEE23B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B69C-6AE2-4B81-A690-C7279230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0E692B-1E81-457D-9289-5E345966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DA6683-EA96-4F36-8806-04068522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651C5C-667C-48D6-A5BC-8C56A4BA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A4F17C-52C5-4605-97B2-24E59E5A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5027FD-DA7F-4DE6-A6BF-CE5D3D43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5742CF-191A-41F5-A356-55F0A9BC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73EBCC-627F-4508-8648-5AFB270E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066ECC-C020-4F45-88D8-328B4C6D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830EC1-FB74-4E28-AF67-FBF55E42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81D389-5B0C-4F62-BAB2-76251457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FC8C-C7A2-49FF-9CA4-F607EF59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1340D8-AA1B-4F68-846E-6B205531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ADE918-8F0B-4415-8A1E-8187E4BF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94BFD9-F89A-4193-A64A-B46C98C3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6E1A10-8B0F-4DB3-BA72-D2F43141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961AE7-18D7-4A98-87DD-E5CBC622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051EDF-6636-4E2B-B4AD-37344E7A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9D7937-4C30-49FC-A331-3EB96FBE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1DF2F5-0F7E-48AE-B23E-A4446378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6A3312-7634-4657-9D10-0EABF3FF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456593-9AF6-476F-800D-4391CD9F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38AFB-0CF1-4352-A6AF-8CC53A3E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8BED15-5D15-4907-A6FE-7A4A7254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B58AF5-CD9F-49C7-88BA-BF9ED9F0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E0A3FD-6C3F-4F9B-A843-944FB6E4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E3FAA0-470A-40E3-A0A9-146A0607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4622A1-CFEA-4EF6-8557-9617C797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9C4265-D76B-4FD4-9171-459868F0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52905A-666A-4029-9CAD-6B6065B0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9163BB-2DEF-44BE-A98B-176133DE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69DBAF-E16B-41C1-A881-8CD92FAF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ADD207-5EEE-4208-87DE-E32BDD45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7D218-5C6D-47A9-9E1E-42C54FDC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49E861-ACD0-4CFC-8D5E-C645E68B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473194-0377-4EF3-995C-F3B0929F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455D56-737A-4AA9-9AA6-56455F15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8B6EDD-4001-4B78-8283-5CF3FA2E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64C987-9478-40A8-9983-5A4EE8E5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C08691-1893-4987-86C8-440F1F33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DE3B35-0CE7-4553-B71E-FF2439F9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D19012-164F-42B4-B754-AF2B54F2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A13989-9E04-4A22-B7B9-D76D0FDD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8E074F-A5D0-4437-AF20-4835A882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F76A9-4B3F-4C32-94C3-85D5EBED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097E25-164A-4EF8-B602-AF01B468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CDE335-AF97-46B6-A895-D68E4E7F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BC1CB2-4967-43A3-A745-7E67043E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424FE0-6A0F-4A96-8B21-8357128E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E7E5E4-68BA-4F28-A067-0A70526A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EA916B-69AE-415F-990C-D9C3C71D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B41D04-FBEC-4BFE-B7B6-017D2DAB9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8F4780-3D04-4686-A57C-15722777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FAEA75-DDDA-4B7E-9A31-83E746E6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05B09B-99DE-41A6-83EB-F03F77B6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B20A8-D1FF-439D-8C5A-406AC131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049F96-A0F6-4C86-8986-ECB2A69A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24E34D-5DE1-40FE-B598-01A79B56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437187-8BC6-4591-9036-2B60726E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F3347B-DB65-41BE-824D-5838ADB5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314A40-8B14-43B8-A158-C2BF8C21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702E1C-DB65-4874-ACC9-6F0C9E9B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AA9647-B752-42A7-ABAD-E20CDD66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377536-7FD6-41A5-86AC-A5C2DF6C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501906-260D-4381-B9C4-6AEB5B2E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ADC09D-2D3C-4DBF-9EC7-8DC274C0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B7A7B-63EB-48B5-92D2-63298F24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3F843A-02ED-4E92-B7C8-3A00E9DB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1F23D7-F6C1-46F5-A0F1-F6172D52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E8C5A6-4B0C-4E33-8575-8BDBB394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8D8D8F-CCF5-4565-8B1D-25E67CC6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EDD2CB-5B8E-4A4A-A71E-F1EAA14A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6E582E-54BB-4D18-B137-8C26CA26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D1B281-E7E3-4521-A6DF-A6A494A4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B3F45A-1F3F-4CB5-8C9F-0FEB0AEB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49AB3E-44C2-4F76-9686-28DDB25B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193756-B20F-4159-B76E-FDB3BA9D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EABA-A2DE-4EEE-8B6B-BD5C0C57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73517-6953-4DA9-A49F-58E353C9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ADEE08-2C74-4CC4-804B-D016A1BD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28377A-0282-4628-8C4A-CD9F6C72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4B9EBA-0DB1-4412-9954-D11AF61D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45AC9D-4D91-4551-A9F2-1A16E616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2CE658-0C31-43BD-B812-1C5B20AA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E4EE9D-C3A8-4367-B866-72E71E57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A07CCB-7274-4037-9A54-A672EF63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3F42DA-0D05-43C1-89F2-F81EDA24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F32F24-1A5D-4D76-A3B4-5960F31A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0DEEE9-7357-4AF6-89B7-74E960C6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4D5AD-A9CD-4649-8FDF-BB5E1A88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9250C0-34DA-4DAC-989C-96AD9561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E97F86-BC06-4C3A-B2A8-7A0D9DCF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AA222E-9E7D-41F3-98C3-D9144866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41673-F004-4C93-B9C6-6290BFEF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A50F4-78E6-4EAD-BB7F-6A7314DD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47D58-1A82-4BF8-872D-6FB7E7BD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80EC9-7101-4537-8574-587469B8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557B2-B513-4F5D-931E-AEB588E2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EB560-4C12-422F-A7C5-9B8227E7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2D99B-C019-4E60-B063-7D5CE7EB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F4650-BA63-4E1F-A9B6-591E1EBB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6901-4BDF-4C2C-B8ED-97153558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19075-5516-4C2C-9D03-6846E488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35E53-AD6D-48EB-B931-D2567FDA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3C121-F9B4-48B2-8B3E-DEA3401E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4D9A5-8571-417D-BE8D-3B1E71A3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43EEB-E67C-4738-BDA2-7BF58CD3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38055-FCEC-4F63-94B3-F1491CC5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3E312-D077-477F-B175-7E59A298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7334C-F0EE-475B-AACB-31C13A66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CAC6E-E116-4B48-B734-64E72CC7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C495C-63F4-412D-80AC-D716F794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EF7F-D953-48A6-BC85-8F892ACC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EE85B-9ABC-4371-835A-572C4B46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F65AB-AB5C-4728-AF29-5D3CAFF2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982E3-B5E6-4B91-974F-5DF1849B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2836F-16B9-4810-A935-DD02EA60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EE29E-EE88-4E09-A8BC-BB59F8A4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33A30-1258-4107-A66C-7D735A19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AE27C-56E1-4AE7-99CD-A0B2CBEE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E1130-2E7F-4F64-87E9-7B8EDC86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C7A39-0849-4477-9ED1-64F161A4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CB0C6-0AA5-454A-ADDA-5145887E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A17D-4B7E-4434-B7C6-7A6140C1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8BA64-106F-4D04-9221-F9C5ADCD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BF231-56E8-44C8-A98C-21A41B47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70D18-AAC4-4AFD-A880-A443BC56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D1AA3-99C4-47CE-9B02-8DF0430C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37230-6E64-43D0-B06D-A830B3A6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E40A4-689E-4150-8B22-009A16B8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33176-FE76-4E07-B876-7F833F57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79559-9937-499E-91AE-C4A9093D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CB9EB-7A8D-4081-91B2-DB87B197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7BE51-8EBD-4A1B-8316-E3A1FB18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19B3-BB9F-4017-B07F-5A21D378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29EF6-0A86-4111-8CA0-60E55111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A9A8F-11AC-43F5-AD92-20B30B9A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77E86-47F7-43C0-9180-1419A8F1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7E336-19DB-4E74-A60D-C61E60A8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530A2-4053-4D2A-8C65-7D87379A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D390C-5E5C-4D8A-BDCA-C5A75F62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C34AC-02F0-4B67-B47B-D91594AE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C8F97-21CF-485E-BA10-5D83CADE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BCDF6-3520-40F8-A440-ABBFD3FF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7A759-5B9B-46B0-9EB1-A736E4B5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0AB2-F124-45A0-B324-D5AC5376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3C3A0-8FB9-4185-9E90-88CE25B1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C7E00-B57B-408E-B9A4-DFA02526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63CAE-6FE5-4A8B-91ED-D6E2D495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65B78-EB54-4CE5-8F5E-58D595A2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72835-7274-4604-A0B8-80A5FB91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2D718-768A-41F0-A7D9-29F17F02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3DFAB-F586-46D4-93D6-67D9B1AE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05878-811A-4311-9F86-E7B3268A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2279B-7332-4AB1-B41B-5B965F43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0C3FD-D12E-4669-B673-6F3C6DEE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323B-E3D5-463E-A23B-B6DD790A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BE50E-6CBF-4ECF-8E8A-9ED296EF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27568-F4CE-4ECE-8C45-D3B54C80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67F09-6286-49B0-B09D-5D0F8F58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10CDA-C379-4FB8-9548-DA15263F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EA27F-A4BC-43DD-AF7D-CD26BA49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B030F-7438-4AE7-A363-2BE83F1B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B15E0-932B-4E1F-8AC5-EFF10305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745B5-BE2E-4A22-8774-9B5C6BDE2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D9EC0-AA47-47E0-A321-448313AD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31D1A-C9A3-4710-AC02-4A0C9043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006124473f81d6aee"/>
          <p:cNvPicPr/>
          <p:nvPr/>
        </p:nvPicPr>
        <p:blipFill>
          <a:blip r:embed="rId2"/>
          <a:stretch/>
        </p:blipFill>
        <p:spPr>
          <a:xfrm>
            <a:off x="0" y="3610080"/>
            <a:ext cx="3257640" cy="324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43792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46200" indent="-2484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94320" indent="-19872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92120" indent="-1987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89920" indent="-19872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EA2E-A409-419E-A882-5DD628900C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1128109541f939a830l"/>
          <p:cNvPicPr/>
          <p:nvPr/>
        </p:nvPicPr>
        <p:blipFill>
          <a:blip r:embed="rId2"/>
          <a:stretch/>
        </p:blipFill>
        <p:spPr>
          <a:xfrm>
            <a:off x="5600880" y="0"/>
            <a:ext cx="3543120" cy="37530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82800" indent="-1965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75920" indent="-1965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69040" indent="-19656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79E4-C37A-45DE-B106-66D4661B80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10061252371d0e0306"/>
          <p:cNvPicPr/>
          <p:nvPr/>
        </p:nvPicPr>
        <p:blipFill>
          <a:blip r:embed="rId2"/>
          <a:stretch/>
        </p:blipFill>
        <p:spPr>
          <a:xfrm>
            <a:off x="5800680" y="3591000"/>
            <a:ext cx="3343320" cy="3267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82800" indent="-1965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75920" indent="-1965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69040" indent="-19656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B2F2-BBDF-486C-96D8-6258AFF4DC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10098753449e93ae77"/>
          <p:cNvPicPr/>
          <p:nvPr/>
        </p:nvPicPr>
        <p:blipFill>
          <a:blip r:embed="rId2"/>
          <a:stretch/>
        </p:blipFill>
        <p:spPr>
          <a:xfrm>
            <a:off x="5867280" y="3695760"/>
            <a:ext cx="3276720" cy="316224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82800" indent="-1965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75920" indent="-1965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69040" indent="-19656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3358-6EA0-4A1B-83F5-2B2E8333C9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10098755090a050e01"/>
          <p:cNvPicPr/>
          <p:nvPr/>
        </p:nvPicPr>
        <p:blipFill>
          <a:blip r:embed="rId2"/>
          <a:stretch/>
        </p:blipFill>
        <p:spPr>
          <a:xfrm>
            <a:off x="5905440" y="3476520"/>
            <a:ext cx="3238560" cy="338148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46200" indent="-2484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94320" indent="-19872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92120" indent="-1987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89920" indent="-19872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8DD1-F434-46D3-9E89-782B2BD6DF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100797575766522190"/>
          <p:cNvPicPr/>
          <p:nvPr/>
        </p:nvPicPr>
        <p:blipFill>
          <a:blip r:embed="rId2"/>
          <a:stretch/>
        </p:blipFill>
        <p:spPr>
          <a:xfrm>
            <a:off x="0" y="3581280"/>
            <a:ext cx="3220920" cy="327672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23880" indent="-2397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60120" indent="-1918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43880" indent="-19188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28000" indent="-19188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28000" indent="-191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28000" indent="-191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6F92-D23F-4DDE-99C4-921FAA782D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10098757678b91c3b0"/>
          <p:cNvPicPr/>
          <p:nvPr/>
        </p:nvPicPr>
        <p:blipFill>
          <a:blip r:embed="rId2"/>
          <a:stretch/>
        </p:blipFill>
        <p:spPr>
          <a:xfrm>
            <a:off x="5972040" y="3467160"/>
            <a:ext cx="3171960" cy="339084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46200" indent="-2484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94320" indent="-19872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92120" indent="-1987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89920" indent="-19872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1098-449F-4191-B24F-80B1AB9ECF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1158648021775e2167l"/>
          <p:cNvPicPr/>
          <p:nvPr/>
        </p:nvPicPr>
        <p:blipFill>
          <a:blip r:embed="rId2"/>
          <a:stretch/>
        </p:blipFill>
        <p:spPr>
          <a:xfrm>
            <a:off x="0" y="3400560"/>
            <a:ext cx="3076560" cy="345744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2743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82800" indent="-1965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75920" indent="-1965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69040" indent="-19656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CB94-05BA-4826-98F5-B1A11BF967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2" descr="100987516204a22bf4"/>
          <p:cNvPicPr/>
          <p:nvPr/>
        </p:nvPicPr>
        <p:blipFill>
          <a:blip r:embed="rId2"/>
          <a:srcRect l="0" t="6349" r="11201" b="0"/>
          <a:stretch/>
        </p:blipFill>
        <p:spPr>
          <a:xfrm>
            <a:off x="6124680" y="0"/>
            <a:ext cx="3019320" cy="3371760"/>
          </a:xfrm>
          <a:prstGeom prst="rect">
            <a:avLst/>
          </a:prstGeom>
          <a:ln w="0">
            <a:noFill/>
          </a:ln>
        </p:spPr>
      </p:pic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46200" indent="-2484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94320" indent="-19872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92120" indent="-1987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89920" indent="-19872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00A0-4B2C-4E08-AF69-FB859E284A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2" descr="1009875777481630d6"/>
          <p:cNvPicPr/>
          <p:nvPr/>
        </p:nvPicPr>
        <p:blipFill>
          <a:blip r:embed="rId2"/>
          <a:stretch/>
        </p:blipFill>
        <p:spPr>
          <a:xfrm>
            <a:off x="0" y="3390840"/>
            <a:ext cx="3381480" cy="3467160"/>
          </a:xfrm>
          <a:prstGeom prst="rect">
            <a:avLst/>
          </a:prstGeom>
          <a:ln w="0">
            <a:noFill/>
          </a:ln>
        </p:spPr>
      </p:pic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26668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82800" indent="-1965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75920" indent="-1965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69040" indent="-19656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FD7F-F7F1-4984-835E-88CBDF1CE3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2" descr="10061245104459b0f2"/>
          <p:cNvPicPr/>
          <p:nvPr/>
        </p:nvPicPr>
        <p:blipFill>
          <a:blip r:embed="rId2"/>
          <a:stretch/>
        </p:blipFill>
        <p:spPr>
          <a:xfrm>
            <a:off x="6114960" y="3781440"/>
            <a:ext cx="3029040" cy="307656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46200" indent="-2484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94320" indent="-19872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92120" indent="-1987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89920" indent="-19872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1E17-EE49-4B05-B0A5-3FD3B1AE48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1009875335e8eede08"/>
          <p:cNvPicPr/>
          <p:nvPr/>
        </p:nvPicPr>
        <p:blipFill>
          <a:blip r:embed="rId2"/>
          <a:stretch/>
        </p:blipFill>
        <p:spPr>
          <a:xfrm>
            <a:off x="0" y="3838680"/>
            <a:ext cx="3114720" cy="3019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2004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594360" indent="-2286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14400" indent="-1828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280160" indent="-18288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645920" indent="-18288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645920" indent="-182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645920" indent="-182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1220-0354-410E-9F01-0824DD6EC5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2" descr="10098753251207d694"/>
          <p:cNvPicPr/>
          <p:nvPr/>
        </p:nvPicPr>
        <p:blipFill>
          <a:blip r:embed="rId2"/>
          <a:stretch/>
        </p:blipFill>
        <p:spPr>
          <a:xfrm>
            <a:off x="0" y="3381480"/>
            <a:ext cx="3371760" cy="347652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09120" indent="-2343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37080" indent="-18720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11840" indent="-1872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686960" indent="-18720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686960" indent="-1872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686960" indent="-1872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2589-E905-4423-BAB7-BD213F1726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5" name="Picture 2" descr="12988541785283"/>
          <p:cNvPicPr/>
          <p:nvPr/>
        </p:nvPicPr>
        <p:blipFill>
          <a:blip r:embed="rId2"/>
          <a:stretch/>
        </p:blipFill>
        <p:spPr>
          <a:xfrm>
            <a:off x="5697360" y="3352680"/>
            <a:ext cx="3446640" cy="3505320"/>
          </a:xfrm>
          <a:prstGeom prst="rect">
            <a:avLst/>
          </a:prstGeom>
          <a:ln w="0">
            <a:noFill/>
          </a:ln>
        </p:spPr>
      </p:pic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23880" indent="-2397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60120" indent="-1918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43880" indent="-19188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28000" indent="-19188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28000" indent="-191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28000" indent="-191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BDB8-9CD3-4162-9CC7-B4C7B4EA69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Picture 2" descr="112810954050167ebbl"/>
          <p:cNvPicPr/>
          <p:nvPr/>
        </p:nvPicPr>
        <p:blipFill>
          <a:blip r:embed="rId2"/>
          <a:stretch/>
        </p:blipFill>
        <p:spPr>
          <a:xfrm>
            <a:off x="0" y="3705120"/>
            <a:ext cx="3295800" cy="315288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23880" indent="-2397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60120" indent="-1918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43880" indent="-19188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28000" indent="-19188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28000" indent="-191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28000" indent="-191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AE8F-86F1-429E-8405-9184199257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Picture 2" descr="s"/>
          <p:cNvPicPr/>
          <p:nvPr/>
        </p:nvPicPr>
        <p:blipFill>
          <a:blip r:embed="rId2"/>
          <a:stretch/>
        </p:blipFill>
        <p:spPr>
          <a:xfrm>
            <a:off x="5819760" y="3429000"/>
            <a:ext cx="3324240" cy="3429000"/>
          </a:xfrm>
          <a:prstGeom prst="rect">
            <a:avLst/>
          </a:prstGeom>
          <a:ln w="0">
            <a:noFill/>
          </a:ln>
        </p:spPr>
      </p:pic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594360" indent="-2286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14400" indent="-1828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280160" indent="-18288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645920" indent="-18288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645920" indent="-182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645920" indent="-182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B65A-27CA-4773-89BC-3BD0926138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Picture 2" descr="untitled"/>
          <p:cNvPicPr/>
          <p:nvPr/>
        </p:nvPicPr>
        <p:blipFill>
          <a:blip r:embed="rId2"/>
          <a:stretch/>
        </p:blipFill>
        <p:spPr>
          <a:xfrm>
            <a:off x="5857920" y="0"/>
            <a:ext cx="3286080" cy="6276960"/>
          </a:xfrm>
          <a:prstGeom prst="rect">
            <a:avLst/>
          </a:prstGeom>
          <a:ln w="0">
            <a:noFill/>
          </a:ln>
        </p:spPr>
      </p:pic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46200" indent="-2484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94320" indent="-19872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92120" indent="-1987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89920" indent="-19872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9E55-C954-4556-9EAB-D81A4C8E39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9A35-7E7E-4CCE-B914-2C10291F3AC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4BA7-EBA0-40FC-A38F-06A11787DB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2" descr="11532211525e239980l"/>
          <p:cNvPicPr/>
          <p:nvPr/>
        </p:nvPicPr>
        <p:blipFill>
          <a:blip r:embed="rId2"/>
          <a:stretch/>
        </p:blipFill>
        <p:spPr>
          <a:xfrm>
            <a:off x="0" y="3057480"/>
            <a:ext cx="6248520" cy="3800520"/>
          </a:xfrm>
          <a:prstGeom prst="rect">
            <a:avLst/>
          </a:prstGeom>
          <a:ln w="0">
            <a:noFill/>
          </a:ln>
        </p:spPr>
      </p:pic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243792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46200" indent="-2484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94320" indent="-19872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92120" indent="-1987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89920" indent="-19872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35E5-2259-4EA5-AA27-634CA02D60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1009875698da009f79"/>
          <p:cNvPicPr/>
          <p:nvPr/>
        </p:nvPicPr>
        <p:blipFill>
          <a:blip r:embed="rId2"/>
          <a:stretch/>
        </p:blipFill>
        <p:spPr>
          <a:xfrm>
            <a:off x="6210360" y="3648240"/>
            <a:ext cx="2933640" cy="32097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82800" indent="-1965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75920" indent="-1965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69040" indent="-19656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6A3F-98BC-4709-A6AC-781485A964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1009875515eb84937a"/>
          <p:cNvPicPr/>
          <p:nvPr/>
        </p:nvPicPr>
        <p:blipFill>
          <a:blip r:embed="rId2"/>
          <a:stretch/>
        </p:blipFill>
        <p:spPr>
          <a:xfrm>
            <a:off x="0" y="3514680"/>
            <a:ext cx="3209760" cy="3343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46200" indent="-2484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94320" indent="-19872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92120" indent="-1987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89920" indent="-19872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4924-256B-4A9A-8A3F-F5CA7ED5E8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6275520" y="3457440"/>
            <a:ext cx="2868480" cy="3400560"/>
            <a:chOff x="6275520" y="3457440"/>
            <a:chExt cx="2868480" cy="3400560"/>
          </a:xfrm>
        </p:grpSpPr>
        <p:grpSp>
          <p:nvGrpSpPr>
            <p:cNvPr id="169" name="Group 3"/>
            <p:cNvGrpSpPr/>
            <p:nvPr/>
          </p:nvGrpSpPr>
          <p:grpSpPr>
            <a:xfrm>
              <a:off x="6299280" y="3457440"/>
              <a:ext cx="2844720" cy="3352680"/>
              <a:chOff x="6299280" y="3457440"/>
              <a:chExt cx="2844720" cy="3352680"/>
            </a:xfrm>
          </p:grpSpPr>
          <p:pic>
            <p:nvPicPr>
              <p:cNvPr id="170" name="Picture 4" descr="1010369021b5803dcf"/>
              <p:cNvPicPr/>
              <p:nvPr/>
            </p:nvPicPr>
            <p:blipFill>
              <a:blip r:embed="rId2"/>
              <a:stretch/>
            </p:blipFill>
            <p:spPr>
              <a:xfrm>
                <a:off x="6299280" y="3457440"/>
                <a:ext cx="2843280" cy="335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Rectangle 5"/>
              <p:cNvSpPr/>
              <p:nvPr/>
            </p:nvSpPr>
            <p:spPr>
              <a:xfrm rot="5400000">
                <a:off x="7074000" y="2682360"/>
                <a:ext cx="1295280" cy="2844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Rectangle 6"/>
            <p:cNvSpPr/>
            <p:nvPr/>
          </p:nvSpPr>
          <p:spPr>
            <a:xfrm>
              <a:off x="6275520" y="3466800"/>
              <a:ext cx="1243080" cy="339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46200" indent="-2484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94320" indent="-19872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92120" indent="-1987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89920" indent="-19872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6DAB-FCCC-49B8-95D3-1AC16BBDBD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6324480" y="350532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1009875544b509e7c2"/>
          <p:cNvPicPr/>
          <p:nvPr/>
        </p:nvPicPr>
        <p:blipFill>
          <a:blip r:embed="rId2"/>
          <a:stretch/>
        </p:blipFill>
        <p:spPr>
          <a:xfrm>
            <a:off x="0" y="3838680"/>
            <a:ext cx="2886120" cy="30193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26668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82800" indent="-1965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75920" indent="-1965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69040" indent="-19656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8168-9CDB-49C1-BB23-CE40A141E9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1128109541a637da1fl"/>
          <p:cNvPicPr/>
          <p:nvPr/>
        </p:nvPicPr>
        <p:blipFill>
          <a:blip r:embed="rId2"/>
          <a:stretch/>
        </p:blipFill>
        <p:spPr>
          <a:xfrm>
            <a:off x="5962680" y="3809880"/>
            <a:ext cx="3181320" cy="3048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82800" indent="-1965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75920" indent="-1965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69040" indent="-19656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0975-7905-458B-BBAB-A7EF4BCFF3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100987569127f738f3"/>
          <p:cNvPicPr/>
          <p:nvPr/>
        </p:nvPicPr>
        <p:blipFill>
          <a:blip r:embed="rId2"/>
          <a:stretch/>
        </p:blipFill>
        <p:spPr>
          <a:xfrm>
            <a:off x="0" y="3666960"/>
            <a:ext cx="3029040" cy="319104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26668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82800" indent="-1965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75920" indent="-1965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69040" indent="-19656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B207-2DFB-4E71-9B75-28B3649EF9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1158648022d498ac51l"/>
          <p:cNvPicPr/>
          <p:nvPr/>
        </p:nvPicPr>
        <p:blipFill>
          <a:blip r:embed="rId2"/>
          <a:stretch/>
        </p:blipFill>
        <p:spPr>
          <a:xfrm>
            <a:off x="5857920" y="3619440"/>
            <a:ext cx="3286080" cy="323856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09120" indent="-2343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37080" indent="-18720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11840" indent="-1872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686960" indent="-18720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686960" indent="-1872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686960" indent="-1872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9BBD-F999-4302-9BF0-B2B441C7E4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28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99cc"/>
                </a:solidFill>
                <a:latin typeface="CleverClover"/>
              </a:rPr>
              <a:t>Q</a:t>
            </a:r>
            <a:r>
              <a:rPr b="0" lang="zh-CN" sz="4200" spc="-1" strike="noStrike">
                <a:solidFill>
                  <a:srgbClr val="ff99cc"/>
                </a:solidFill>
                <a:latin typeface="Arial"/>
              </a:rPr>
              <a:t>版萌系列</a:t>
            </a:r>
            <a:r>
              <a:rPr b="0" lang="zh-CN" sz="4200" spc="-1" strike="noStrike">
                <a:solidFill>
                  <a:srgbClr val="ff99cc"/>
                </a:solidFill>
                <a:latin typeface="Arial"/>
              </a:rPr>
              <a:t>ppt</a:t>
            </a:r>
            <a:r>
              <a:rPr b="0" lang="zh-CN" sz="4200" spc="-1" strike="noStrike">
                <a:solidFill>
                  <a:srgbClr val="ff99cc"/>
                </a:solidFill>
                <a:latin typeface="Arial"/>
              </a:rPr>
              <a:t>模板</a:t>
            </a:r>
            <a:br>
              <a:rPr sz="4200"/>
            </a:br>
            <a:r>
              <a:rPr b="0" lang="zh-CN" sz="4200" spc="-1" strike="noStrike">
                <a:solidFill>
                  <a:srgbClr val="ff99cc"/>
                </a:solidFill>
                <a:latin typeface="Arial"/>
              </a:rPr>
              <a:t>（四）古典美人儿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subTitle"/>
          </p:nvPr>
        </p:nvSpPr>
        <p:spPr>
          <a:xfrm>
            <a:off x="144792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低吟不止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汉霄苍茫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牵住繁华哀伤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弯眉间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命中注定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成为过往。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风华是一指流砂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苍老是一段年华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夜雨染成天水碧。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有些人不需要姿态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也能成就一场惊鸿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千秋功名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一世葬你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玲珑社稷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可笑却无君王命。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谁将烟焚散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散了纵横的牵绊；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听弦断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断那三千痴缠。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2590560" y="426960"/>
            <a:ext cx="5715000" cy="643104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终于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为那一身江南烟雨覆了天下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容华谢后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不过一场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山河永寂。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心似浮云常自在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意如流水任东西。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1905120" y="167652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碎心心碎碎心事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断情情断断情人</a:t>
            </a: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旧心残花葬情身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醉是多情情伤人。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6324480" cy="62485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遗忘了前生前世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放弃了来生来世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只求轮回渡前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今生今世花开不谢！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26668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静水流深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沧笙踏歌；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三生阴晴圆缺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一朝悲欢离合。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长街长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烟花繁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你挑灯回看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短亭短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红尘辗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我把萧再叹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乌云蔽月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人迹踪绝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说不出如斯寂寞。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听弦断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断那三千痴缠。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坠花湮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湮没一朝风涟。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花若怜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落在谁的指尖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谁将烟焚散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散了纵横的牵绊。</a:t>
            </a: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　　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1828440" y="1599840"/>
            <a:ext cx="5715000" cy="525780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昔有朝歌夜弦之高楼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上有倾城倾国之舞袖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待浮花浪蕊俱尽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伴君幽独。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663300"/>
                </a:solidFill>
                <a:latin typeface="Arial"/>
              </a:rPr>
              <a:t>再见</a:t>
            </a:r>
            <a:endParaRPr b="0" lang="en-US" sz="8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114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4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743200" y="1599840"/>
            <a:ext cx="5486400" cy="525780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苍茫大地一剑尽挽破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何处繁华笙歌落。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斜倚云端千壶掩寂寞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纵使他人空笑我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我自是年少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韶华倾负。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尘缘从来都如水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罕须泪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何尽一生情？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莫多情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情伤己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荏苒岁月覆盖的过往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白驹过隙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匆匆的铸成一抹哀伤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2514600" y="1599840"/>
            <a:ext cx="6019920" cy="525780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如是颠簸生世亦无悔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山河拱手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为君一笑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江南风骨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天水成碧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天教心愿与身违。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26668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红尘初妆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山河无疆。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最初的面庞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碾碎梦魇无常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命格无双。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06:58:32Z</dcterms:created>
  <dc:creator/>
  <dc:description/>
  <cp:keywords/>
  <dc:language>en-US</dc:language>
  <cp:lastModifiedBy>a</cp:lastModifiedBy>
  <dcterms:modified xsi:type="dcterms:W3CDTF">2014-07-20T07:53:3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  <property fmtid="{D5CDD505-2E9C-101B-9397-08002B2CF9AE}" pid="3" name="Version">
    <vt:r8>1</vt:r8>
  </property>
</Properties>
</file>