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C60D-BC82-46BE-AE53-95199AE1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7526-5928-46B1-8E4D-EC106424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F7B99-1DBE-4A5D-A975-6FBCB6FA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B4BD2-692C-41DA-9484-473BB8A2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D62D0-F709-46D4-8DCB-58B078F1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5BE03-20EF-49F0-825E-14A8C6B5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2F415-DA91-4380-9DA8-1B3975E9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64442-F140-4590-AF2C-7324B9D3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6F1E7-3164-472D-BB15-E86409AA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0AC15-0B50-451A-AA24-26DD0D74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E6828-5634-4B14-8D7A-6AEC1B68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BC24D-567B-4D4F-AEEF-AD6BB485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7551-6109-45BB-96F2-7735ECAF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2D7AC-AE72-4141-BC04-C8CA80B3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0C396-0D47-4415-B780-7F6FAD82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0330F-E20C-4677-8A29-3440BB2C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D796A-C70D-4FEF-A046-1F6BC9C2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B99C9-36A1-4E8A-8B19-EB371ADC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85F5D-9493-4D14-AF1A-36818B44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E48FD-EDDB-46D3-A090-D0E98547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63B18-3F6F-495C-8F4C-210A8462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36333-4F2D-479C-ADB1-864D548E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46C1B-9307-4D46-9FEC-93212DFF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3847-5374-4006-BE7E-531AB7AC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DE9DE-9A6E-4932-BC87-3D5C97CF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71F88-AEAE-4315-857A-D7856F13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0D770-60E4-4589-A54F-BB3FF873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A685F-3461-45D8-9773-437DEECF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F9EF2-7C1B-482E-A6C7-E6402EAE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C521E-ED0D-4B69-95F3-54984190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59D4E-96B5-4829-91AA-1C753BFD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27A15-8E18-4432-95DD-83B38AE5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EE214-01AC-4B0F-A79F-5112ADC0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4C03E-28CF-418D-85C7-086FD0ED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D57A-7806-4A2A-9C0B-95A9EA0F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B41A8-AB18-499E-A618-9F11F11F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BF13B-368D-4622-B504-1320121D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DF16E-B6BD-4957-9842-22C5BDBA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E7F27-E0B0-4DD1-8352-F4156561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29BF7-A335-4B58-86C9-5D7700B7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CC573-F87B-451C-AD40-5F10E8D2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E2089-345E-48B9-A654-98ACBD7C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3AC39-2156-4F1D-B925-63BE158B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41BA8-D005-4037-8119-CCDD3EEF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53479-30CB-46F6-9E65-EE24AEFF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BEE0-DBC9-4B13-B48F-49CBCB2F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055AD3-A14B-4641-A06E-9544E6DB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341E2-CAF6-4F96-AA97-FCAEFC90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0CE7F-FB57-4B30-AE86-038C2200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CD456-D308-421D-B654-3F076EEB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6DC5E-AC29-4AF8-AEFF-7692A80F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099EEC-6928-4291-950C-C99B66DA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876EA-0C25-4B04-97F6-A0D02DEA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18592-E4F0-4641-801F-B8E19011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77602C-E6FC-40ED-89EB-7CAD1700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083E93-B570-4768-AA21-613A0148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0D65-4BD4-4617-9012-104229C5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E2F5E-8C15-48FA-84D5-11F3816B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A3583-2EE6-4C38-80B2-CE6135EB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EC832E-4307-46FA-A16A-77E1EC13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50908-5AE4-4A8A-AB99-ECEACE45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6F12D1-DBAF-48FB-9E8F-8586727C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6995D9-1B12-49E3-B137-E67FB022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F4286A-9AC0-48B6-A345-79996239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0B3D30-C0CD-478D-9BA6-8C95B888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7EA13E-5238-41ED-9FB2-70A0678F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C5B3B8-54AC-40DA-9834-E0B958E0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D878-E648-44CB-8A1B-54E92405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352534-55ED-464C-9E5D-4404C8B6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4BEB23-C19E-48AF-869A-037A1260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822F09-44F3-4908-8523-CC7BFC1B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BB8932-24DB-4BF0-B027-A9054ECC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2662E8-7827-41C2-917F-112E0B3C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80B049-C04D-4C5F-B048-C703AAC3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42618B-180D-4C46-BD60-5D9D5FF5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725AA4-A69A-4F6E-BB95-6713C4EE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2BA6C6-B385-4D79-AA41-D0554065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74A5-AAB8-43F8-A01A-A1D889C1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A7FE-D299-45B3-8F6B-2910A8D6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4DED-4314-4D03-A831-590E3E8B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648A-65D4-4D01-ACC9-BACBE103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1884-99E7-42AC-A765-445865C3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AA2F-2107-4C19-A5AD-C49819E5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BA1C-CD4B-43DA-9226-CBC39DB8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3C8D-91AE-4BA3-ABF0-5A976F05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D05C-2E59-4224-BE94-A40FEAAD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8F196-CEC9-4D70-BED3-25809BC1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5204B-44F4-4D60-9BAA-D6E46720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C8271-C843-4AAE-91C7-4BCD1648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FA00B-2457-4FEF-8233-CE899343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20FCD-3FDB-4DBE-B9CC-301181B5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ACE-8A42-4E6B-AA86-7A7B927C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D13D5-22F9-4C3C-9D9D-E4780089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23D46-1A03-4026-A9AC-3128FB49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D7936-5A91-40EC-BCE7-D53A2FC6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99F09-D109-46A9-897E-EA219F46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90AAF-415B-469C-8BD8-3DA4D822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A9317-DFDE-412C-9A93-1167EF37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734C5-2985-48AA-932A-1A716440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D5F97-6696-44FA-A877-ACDD7FD2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D23BE-BCB0-470C-8975-C1716687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C8B36-93D5-42E0-8A88-100A4114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516-2FCE-4258-90DC-45D81B6D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E5BFC-A845-420D-8BA8-C41FB877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98401-8132-4504-9F6C-82C3E350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7C264-00E9-4707-AA82-743F8B16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8C2C6-30CE-4147-BF36-BF2BBB8C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DF9B3-C51C-496F-AFE4-BD2FAEC1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1BDAF-8D7B-46A6-B68D-BC7BEB7E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0DA9F-73D1-4BC7-A1D1-C7990F66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4558D-6EB8-48DF-AB4C-63280B71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E0F9D-636E-40C6-B167-0CCAFD5F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A2809-3F51-4C13-8243-C36E1A9A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4D7C-E74F-4B3C-B782-19E899C3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8861A-AC88-4ECB-85C8-1EFFF621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2B62D-A651-4785-9B15-60B10ADD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F1B4C-7475-464A-A828-1F1DE23B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BA968-F59C-4F24-9693-35C6F0E6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CA5B2-6F48-472B-961C-32E1B278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40AEE-4481-4CEC-9803-3A1B488E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9984A-BFB0-4791-B130-985938F6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F42AA-8193-4894-9989-9C53ED30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0260B-AD10-4F07-8EC9-228063EB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C7DF5-3F2B-42A2-A141-91A12291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F93-820D-4558-B94C-9B34BB85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E7DD7-CBF1-419F-94A9-E310DAD6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770FE-AF7A-4C98-96C9-A4BD3F64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7AB04-2918-4D8D-B779-C4A26467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C1FA3-5EE6-40BB-92AB-F1CC82C5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FB029-DA9D-4217-BAE1-98CCDE80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5B253-0ACD-4508-8D0A-6DBE3EB2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D4579-494B-4D26-8CB5-F03630F2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2BFC3-FE83-4FD0-9F25-0A247DDE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567D6-3516-4CB3-900F-50EB9D42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AB920-F57C-4B27-BA18-2786A211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42E9-0AE4-4614-ACE9-76CEDB25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DCCB1-4541-4702-89E0-3CA8DA7F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DC364-DF0F-4B25-983A-921B9465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3515B-D41A-41F7-B641-02FF3C81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AA876-DA10-4C1B-B4C5-685A613F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F5CF2-CF85-430C-9659-651273C9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2F5DD-B962-4160-BA9C-79ECBF86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6F2D6-9A79-40F3-BF97-198CA85F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E6C2D-E6C1-4070-AC49-296FAA8B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94119-FF95-42BB-81C2-98CD05CE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BCEE8-7A40-45A2-89C3-AFE6319C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B1C-5469-4B50-BDB8-370B01D4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20A4F-BBCC-4BED-AA39-C29CDA90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21371-9484-4D3D-B902-AD8A3999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B0CF7-7193-4FA1-A60F-47ABF347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10B79-95A0-432B-977A-B75E72B9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193E5-14CA-4A2F-B7DF-104DA3B3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27C3A-2B1E-4EE2-B07B-52FD26EE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16DD7-B1A8-45AB-BEB4-D92F2AC7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691F6-AA26-4546-A495-B5763815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AA5A7-E12E-4DB2-9B5C-3514D4B9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3C93F-5C85-41B7-A697-EB989795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A5FF-B4F4-435F-861B-3F28BC4A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B37AB-E3FB-4E6F-9CB7-34500CC7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EE9A6-548D-4894-8CFD-79690E75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9B6E6-8660-42A9-9828-74D9AE1C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D7DDD-AF51-4CD8-ACF3-EF62691C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8002C-A0C4-44D6-8727-02FE3249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7DC95-7856-4B6E-9F7C-53CF93E2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D6D0B-B027-4CF8-84A7-1BB198CF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C9C0F-5A53-472C-BC00-5C9F37CD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8947B-EB56-4FC0-BB4D-02FAE12E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DCA02-9CF8-4E23-AB48-630AF3B2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E3D0-040C-49C4-92AA-59120A994D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8B1A-7084-4F2F-A811-9A9931322BB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3D59-C75F-4360-93C8-A5923E5746E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1D5D-3E04-4330-B59D-773763950E0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5C5E-E167-4B90-91EF-1C66C31B195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0AC9-3063-4BBD-A0B9-D06171BE865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B11C-B7C0-4D03-A319-A2FB504B43A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E600-7194-4F4E-ADD6-3419F13989D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A3C4-310A-43EC-B514-789AAE97848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454E-A99E-4DCE-8F42-7117FC60CFD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0C6F-E9DB-47DA-B4CE-69404164CAC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08A4-8000-4C35-A17B-C5516F1B2A4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27E3-4BFA-4A3B-9E48-478D143484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A5E8-42CA-48C5-AA9E-DA19A8B4BD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960A-BDC0-413F-91CC-9ECD596A26D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CE9A-4479-4559-BDE1-1ABE6B62686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68E6-6159-4ABF-92C2-E090BA25E39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FB09-5247-44A8-B4AD-B4EFD229A83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461E-17E6-4842-AE61-967FA6F08085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31D9-5034-41CF-AF92-1108778AC8F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B383-DA5E-4E4C-9E56-8CDF4577817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25AF-3633-4351-B570-FD7709D6C19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DD0F-4260-4D95-8CFE-A99AB35005D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807B-EA55-4688-B091-F8A9C4B223E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EAAF-9A41-4B5D-A707-93BB466401E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E032-D0E8-4F3D-B162-57701BD6D6F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1"/>
          <p:cNvPicPr/>
          <p:nvPr/>
        </p:nvPicPr>
        <p:blipFill>
          <a:blip r:embed="rId1"/>
          <a:stretch/>
        </p:blipFill>
        <p:spPr>
          <a:xfrm>
            <a:off x="7920" y="0"/>
            <a:ext cx="1219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2"/>
          <p:cNvPicPr/>
          <p:nvPr/>
        </p:nvPicPr>
        <p:blipFill>
          <a:blip r:embed="rId1"/>
          <a:stretch/>
        </p:blipFill>
        <p:spPr>
          <a:xfrm>
            <a:off x="7920" y="0"/>
            <a:ext cx="1219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1832040" y="2030400"/>
            <a:ext cx="936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Picture 3" descr="7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82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2T02:16:37Z</dcterms:modified>
  <cp:revision>1</cp:revision>
  <dc:subject/>
  <dc:title>PowerPoint 演示文稿</dc:title>
</cp:coreProperties>
</file>