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DA5-4A58-43D8-9E4A-50C5CAAC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D07-DEF9-4AEC-B056-8940995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8F5-67C5-4D31-A59E-6D071338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648-66B5-46DB-B730-BF2194C4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9344-B0AD-4A3E-BF4D-5B8F2C52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34A-C370-4B0B-AEB0-176B651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CBEA-B367-49F4-9868-97F0C5F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8148-CD72-4C43-A925-EFB203B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EDB-18E9-4294-B5ED-FA0657A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50B-BB52-4DDF-994C-14500CA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3613-E798-4713-91D6-BF92831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BCB-1324-4822-829E-E815F8A0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C31-9532-4259-9AD8-2F1C422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03A0-35EF-4C4D-BA0A-31046BB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33CF-05D2-4EDA-BB96-FCDCD3C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2851-50FE-45E1-B793-91739087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7BBF-78DC-43AC-A038-CE7F6E0A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485C-9CC8-4867-BF78-322E25E3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B756-5CCD-4589-BC43-F2554D1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DF1A-F5BC-4702-84CE-3EC662E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A0EC-29A3-4A0A-A69A-B636068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A03D-94B5-482F-B228-99449539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F56-E81C-42FF-8393-9066264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1580-EDC9-487B-B482-E1E4429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5729-AD3C-43F2-AE45-674F3566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0E93-0EB0-4236-890E-4E15CE8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C4FF-27B9-48FD-B415-D7A3BB7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29DF-9F83-47F9-BE4B-46FD2AFE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9280-E655-4112-8CF4-E7D72648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A43C-41E7-4446-AD3C-24DD6E4F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B01B-E40B-41DF-A846-46E8A785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64C0-0D2A-46E5-8995-603E8FC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183B-E660-43CA-82CA-39CB906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F8F-3A76-43DF-8C41-39A31093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30E7-49A9-436D-B6F3-89D892C4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BD347-6D1F-41D3-BA4B-E6D0ABD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C0DC-79D5-4298-A684-F8F05B37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72E7-B18E-4057-B4FB-2B594FB5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A96B-A5AB-41A3-B2E6-0053560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35F8-8331-4461-8865-172D3A8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F302-0322-46DA-9680-C8FCB5EC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0256-6940-40F0-95FE-4F340D5E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FF6F-9453-4133-A503-AABA7945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ECF-9E5A-4AB7-9489-C56967A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3A1-7CDF-4928-BEBE-36B6458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F35-0970-4CF4-8921-230682C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307-1374-4122-9FD8-B008302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D27-A123-47A1-88D6-B0BD862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E8A-EF95-4B6B-8B20-5AFF7C81E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BDF3-A2B8-4F6F-B742-D7EF36D53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4D9E-6D46-4552-9CD4-81E7D9DC0F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898-C00C-4F2F-B8BF-39E06BAA0C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4E4B-4ABC-4EA2-A558-D285922F3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0" y="-26280"/>
            <a:ext cx="9180360" cy="6883560"/>
          </a:xfrm>
          <a:prstGeom prst="flowChartPunchedCar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e3f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740000">
            <a:off x="2758680" y="36381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绿色斜边设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171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직선 화살표 연결선 380"/>
            <p:cNvCxnSpPr>
              <a:stCxn id="171" idx="0"/>
            </p:cNvCxnSpPr>
            <p:nvPr/>
          </p:nvCxnSpPr>
          <p:spPr>
            <a:xfrm flipV="1">
              <a:off x="4536000" y="307224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182" name="직선 화살표 연결선 382"/>
            <p:cNvCxnSpPr/>
            <p:nvPr/>
          </p:nvCxnSpPr>
          <p:spPr>
            <a:xfrm flipV="1">
              <a:off x="320472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3" name="직선 화살표 연결선 383"/>
            <p:cNvCxnSpPr/>
            <p:nvPr/>
          </p:nvCxnSpPr>
          <p:spPr>
            <a:xfrm flipV="1">
              <a:off x="184644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4" name="직선 화살표 연결선 384"/>
            <p:cNvCxnSpPr/>
            <p:nvPr/>
          </p:nvCxnSpPr>
          <p:spPr>
            <a:xfrm flipV="1">
              <a:off x="724824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5" name="직선 화살표 연결선 385"/>
            <p:cNvCxnSpPr/>
            <p:nvPr/>
          </p:nvCxnSpPr>
          <p:spPr>
            <a:xfrm flipV="1">
              <a:off x="588996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6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187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190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197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35:17Z</dcterms:created>
  <dc:creator>yellownancy</dc:creator>
  <dc:description/>
  <cp:keywords/>
  <dc:language>en-US</dc:language>
  <cp:lastModifiedBy>a</cp:lastModifiedBy>
  <dcterms:modified xsi:type="dcterms:W3CDTF">2014-08-13T04:22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