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4CC6B-9B43-4AE8-AD13-3ADF16DFF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88711-B3E5-4B5F-93A7-9C2086485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CC812A-F96D-4310-8F44-37A26CC2B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18583A-8DE5-461A-8996-2312E781A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9628C7-83D9-45A6-A9B1-ECC9D8ABF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F0DC0D-18D8-4663-A848-E81F4CA67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62C476-1D44-445A-9027-34C884C20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D57383-C121-44DB-AF79-511123B23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1F27C7-8438-4FDE-A7C1-8376082CC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092C88-E759-4C3F-B657-E5ACC6167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B072F8-416B-4DD5-9248-EFB55DEF0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C572C6-7566-48C6-B308-E3FB1F198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83B21-2E6F-4BA1-86FA-9FF8E8264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142269-B1FF-43EF-9B23-0D624BE3A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D28469-C002-4627-94A7-0C997FC95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A54922-31B1-4100-B649-F3467FB85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534AF2-FA2C-4794-A338-BDF200187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D595F6-20AE-4C50-BF65-11902464A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EB6B23-063A-419E-B644-F85629B66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153EC0-B88E-47CC-B3D0-DA40F00AB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F6022E-B527-431B-9093-55DBA553D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A888EC-C4D5-49A6-972B-D0AE85816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CD0E1E-AE74-432D-B428-7F38F9F39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04D86-C7BC-48D0-8D5F-670FC8770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73080A-829B-415E-85A8-8956E9F31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AFDA13-3D83-4C57-B7D5-952E5954E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198BA9-51F7-4CCA-8110-43507D1E6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C2FF90-BABD-46F5-9087-33EF928CE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94FEAF-7D32-44CF-A8EA-B491BB4C6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7C5FEE-5300-4FE1-89E6-5435A1874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10B899-A678-4531-84D0-C6C850B8B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04FFE5-A7C2-41A1-A858-9C6DFCF1E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9F4524-4271-4604-9AF1-4822A32DA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5D32B2-3F31-407D-B615-496CE96D6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2E185-F225-430D-8788-5CB39CEA0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490B36-22CA-4486-8BDC-434EFCB27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554AB0-A19D-4EE8-B410-75F08A60C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D523C3-2186-4179-B2CC-629D9CFB5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CECBF0-179E-42BA-8ADB-621254A5F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DC7DF9-6562-4EF9-8723-659776CF9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4EB668-01E9-48D7-9482-877D1E18B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5C68A4-2CD8-4C05-AC47-832E7B646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87F92B-7CD8-4CEF-8EF4-F45801BA7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CA3BA8-EC24-47EB-B3EA-4215CD773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AD9A00-A401-4C02-B3EC-1526D30BF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191AB-01B8-46E7-BA1A-6075A8C87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000DBD-1E8F-4CF6-ACE1-304E45514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480BD5-0D90-4BBB-81B5-0979B479B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FE977F-4BE8-45DA-BEAC-1BF7EC71A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C8A0D6-8A7D-421E-A2BF-025BBBED5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BED86F-1F3F-4F8F-BC71-927BDC354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1F7AB88-096C-469A-83B1-249830E5A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A9A46E0-0E42-4B0B-AB98-260BB37EA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63D9483-E9D7-47BF-AFFC-C4A9C9A58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B74464A-E0B7-4184-B6B9-DD4A001B4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6D247B1-9D74-4DC6-B282-668566C74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18320-502A-43B8-BA83-EFABBAD92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BDA90FD-7C9A-4C8D-9C4D-8B4C90321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538D847-87AB-40FF-8D57-30C321EC2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7A4214B-4EBF-46E0-8AC0-273C570AD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C2FD325-3730-4188-91C4-60D652340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718C90D-04BA-4285-9483-22F50653A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D3439E1-1159-4B93-8079-2A8EAB5BE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A2A47D9-DECD-4BF4-87ED-8A1E12976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8F84D-9E86-4E61-904F-753C80B1E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45823-490E-4B6A-8F4F-83000D125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8D43C-4C4B-4317-BC9F-F5D37C2FF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866EF-87AE-45C4-B6E6-55E11465A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351C0-50A8-4391-9ED6-DCC32560B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3AF48-17C3-45DC-9F07-9D80E55A3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7B285-182F-4229-ACA2-BD3F55FA3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F5B3F-C137-4BFB-9622-AA29EF92F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71034-25F0-4A2A-8213-7A0A724DE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763A0-DDBC-4ADC-9941-FB8804C15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643D7F-2174-4EFD-AB1C-86F02C023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AF8A43-F4A5-4EE7-AB1C-9CFB97900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BE32B7-6FDF-45D7-8087-F5E1D2279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A74FEF-E610-4EC9-94C7-EDE30C643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362713-61DE-47BA-A2CB-344EBC145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F1AAE-1869-49D0-93F4-1844E95A3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2FE112-224D-450C-99B2-E13FA9D31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30398D-6199-41E4-99C0-93956E32C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8747C6-3D7E-44B1-BA20-1B639B24B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A1F78C-321C-4D22-B14E-A25649523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B7C069-0F3E-4982-93F9-2822DF5DB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AB9B58-D5FF-4D49-8DE9-49920D72C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C62E5D-4396-40A2-A13A-6993422A4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501711-C1EA-4252-BB70-52A1C561C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F0A73E-7898-4F6A-8097-1BCD0B00B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0C26C2-2FF7-46B2-B3FF-CA4624829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C092B-3E07-4581-BDE1-3EC96FD3B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9CA2AB-6C43-4AAF-865E-CDAE351FD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FBCF7C-F0F6-435D-8992-108452698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2BC3D4-E66B-4F7F-B48F-CFD54C68B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089A52-0205-4C3E-9D1F-04F183B02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55E9F5-67CF-4A64-A066-783F94B86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144A37-F703-4607-8DBC-56C728A18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4A62DD-98AC-4C4B-9080-2F5C94DD9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F7D7DC-2AFF-4B87-AA63-E469C074A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77F44F-BE96-4134-9B2B-D884A7121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31EC7F-9959-4962-9D7D-4239EDD52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79F55-B406-4DD9-9E54-A027FFFC0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238AF5-FD34-40E4-936B-50D7AFD84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1671AD-7105-4CC4-A8FB-983CE3BA0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BA9D6C-0D02-4571-B1D2-C0A5EC598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F0F7A3-DEC7-4DF7-BCFA-5C5DCEFF4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231AD4-6C83-4807-AFDA-EF23549F2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E7AE12-B0B3-4560-80CC-5490F7E32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C63F54-3E75-4189-BD4A-81DE57F41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391E05-5E23-4E90-B037-C99EF799C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17E786-B462-476F-A70D-67997003E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4D6530-7D52-4590-B604-8AABB650B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6F287-4B3D-4FDA-92CB-98E44E145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3ADC5B-01E3-4C37-96AE-316B48B5D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FF5767-02B3-41BF-B948-06404D7B8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17DC75-BFB3-4BCD-A056-8F991FA1D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5198CF-E5D2-46E8-9347-D470C263A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27BE24-6E84-484B-8A55-5AA46EA55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18605D-E271-4C18-BF5C-61DB421C3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82DBD1-BFC3-430B-8B36-5898E3C9D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9A64AB-3B77-423E-8509-F61662B58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E8C1E1-9B44-4740-A64A-AD9DD1B1B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79548F-9B02-474D-8E30-8BB931ACF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9D5E2-7DE8-4AF5-8BD2-87D21E4E3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32A58F-EFFE-4F43-98C5-C9245C858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20B5B9-7031-49AF-B429-5B5427EFD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029263-D2DA-49B5-850F-FCFE2FE28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D926D8-7C75-4C99-B4F5-9514670C1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57D32C-6B50-47CB-ADC7-940DB71F9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C2C083-E676-4413-B3CD-034710928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A66310-76CB-49EB-BBEC-B2F746687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48C200-0C89-4DBD-B7E8-3FC7333F7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BB5533-AAB4-44DA-A680-0F559C3F4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C381DE-26BA-4365-8C53-1EEE7BC54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E9EF8-FDCD-4892-AF91-AAAB7829F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FCC210-D64D-4B9B-BD70-A02CE9520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62A9A5-D0CE-4F74-920C-6C4F1BA1C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E64325-02E3-40B8-A9E0-4A79DD252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A9C8F5-781B-48D1-83A2-F229AECC0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FA2885-3F87-4FBB-8B19-418D894B6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E66734-220C-465A-9F5E-9BE4074C6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8EC2ED-A8F4-426A-8357-3D0175DD3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F71E0A-F39E-450B-B228-A8261797D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E0F106-8BD7-4A46-AEDF-C30BD15EF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9EA91E-F323-462B-A697-A3FC1DE6A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2728C-D780-4B3E-855C-2A8CBDFB1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B2E762-F513-4A41-9368-89080F3A7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889AC2-15E9-40B8-8E87-C3321B688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FDEF90-83A0-4361-82E7-4293AEB0F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09D0E0-B40F-43A5-A6C7-73BC13654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EDE772-92E2-400F-9DC6-C3FF602A8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DC4237-C036-45EE-8741-6B7117B0F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40331F-7ECD-4F5C-BF91-992CCA8E3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918D3E-50E0-46D2-9174-B6A9A61B8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17F681-8B7A-4C9B-8DD4-1DF90D938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E1E4D7-D6EF-419E-947C-2F6D8FC54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3276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4796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076960" y="6356520"/>
            <a:ext cx="327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3037E-78B3-4A57-9E7F-43EB090C53A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3D406-C85C-4839-886A-54EA59435165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D5A06-0719-4C4F-89EB-3D9157359FCE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5BEE4-DE5F-4283-8DCE-41BD086B3BBE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4B907-21C3-4397-94CD-28D0C3B97445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6D7C3-53F6-4C39-9DAE-822A28190856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6226D-8BB4-415C-B0DF-F9730D9543CC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E13E7-1391-4A80-B132-3C14416D4FC2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7495E-F452-4B0A-A8A8-0473F1B201C2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5062F-093E-48E4-B493-F4ABDB41BE21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4B2EB-AB29-4944-9B94-ED5CDE5C7D3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C7F4C-79DF-4C71-BA39-BC70EA2F49F4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74B5E-6C88-46D2-ADB0-6596ECE416AA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A9439-255A-42CA-9970-2F2EB9B79DFE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D4013-E516-4998-9501-1C2E6F636B1A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BC869-45BD-4E21-982A-29C661371C24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CDFF3-6023-48B5-9BB6-2B7CE7D0AD94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02F51-945B-4423-AF82-B10D007B5F1C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702F3-8A30-4B52-88A0-CB973E7C7780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53346-D955-4F0B-B653-2CB8DF812125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A0474-1088-498B-A00D-E39AFD81E2CD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A5608-ED48-4A21-9378-22A6D65B06C6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D6158-C7AA-4F1B-A4CC-424776DA01C4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C3124-6E09-4278-A89E-B1C925FBA1F2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697D1-C73B-4CBE-B6D5-E188E2C224D7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6.jpeg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Text Box 2"/>
          <p:cNvSpPr/>
          <p:nvPr/>
        </p:nvSpPr>
        <p:spPr>
          <a:xfrm>
            <a:off x="15840" y="52560"/>
            <a:ext cx="314496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777777"/>
                </a:solidFill>
                <a:uFillTx/>
                <a:latin typeface="Calibri"/>
                <a:ea typeface="微软雅黑"/>
              </a:rPr>
              <a:t>封面页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777777"/>
                </a:solidFill>
                <a:uFillTx/>
                <a:latin typeface="Calibri"/>
                <a:ea typeface="微软雅黑"/>
              </a:rPr>
              <a:t>（设计好之后可以删掉这个文本框哦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4" name="Picture 3" descr="封面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Text Box 2"/>
          <p:cNvSpPr/>
          <p:nvPr/>
        </p:nvSpPr>
        <p:spPr>
          <a:xfrm>
            <a:off x="15840" y="52560"/>
            <a:ext cx="314496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777777"/>
                </a:solidFill>
                <a:uFillTx/>
                <a:latin typeface="Calibri"/>
                <a:ea typeface="微软雅黑"/>
              </a:rPr>
              <a:t>目录页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777777"/>
                </a:solidFill>
                <a:uFillTx/>
                <a:latin typeface="Calibri"/>
                <a:ea typeface="微软雅黑"/>
              </a:rPr>
              <a:t>（设计好之后可以删掉这个文本框哦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6" name="Picture 3" descr="目录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Text Box 2"/>
          <p:cNvSpPr/>
          <p:nvPr/>
        </p:nvSpPr>
        <p:spPr>
          <a:xfrm>
            <a:off x="15840" y="52560"/>
            <a:ext cx="314496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777777"/>
                </a:solidFill>
                <a:uFillTx/>
                <a:latin typeface="Calibri"/>
                <a:ea typeface="微软雅黑"/>
              </a:rPr>
              <a:t>过渡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777777"/>
                </a:solidFill>
                <a:uFillTx/>
                <a:latin typeface="Calibri"/>
                <a:ea typeface="微软雅黑"/>
              </a:rPr>
              <a:t>（设计好之后可以删掉这个文本框哦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8" name="Picture 3" descr="过渡页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Text Box 2"/>
          <p:cNvSpPr/>
          <p:nvPr/>
        </p:nvSpPr>
        <p:spPr>
          <a:xfrm>
            <a:off x="15840" y="52560"/>
            <a:ext cx="314496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777777"/>
                </a:solidFill>
                <a:uFillTx/>
                <a:latin typeface="Calibri"/>
                <a:ea typeface="微软雅黑"/>
              </a:rPr>
              <a:t>内容页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777777"/>
                </a:solidFill>
                <a:uFillTx/>
                <a:latin typeface="Calibri"/>
                <a:ea typeface="微软雅黑"/>
              </a:rPr>
              <a:t>（设计好之后可以删掉这个文本框哦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0" name="Picture 3" descr="内容页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Text Box 2"/>
          <p:cNvSpPr/>
          <p:nvPr/>
        </p:nvSpPr>
        <p:spPr>
          <a:xfrm>
            <a:off x="15840" y="52560"/>
            <a:ext cx="314496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777777"/>
                </a:solidFill>
                <a:uFillTx/>
                <a:latin typeface="Calibri"/>
                <a:ea typeface="微软雅黑"/>
              </a:rPr>
              <a:t>结束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777777"/>
                </a:solidFill>
                <a:uFillTx/>
                <a:latin typeface="Calibri"/>
                <a:ea typeface="微软雅黑"/>
              </a:rPr>
              <a:t>（设计好之后可以删掉这个文本框哦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2" name="Picture 3" descr="结束页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3" name="Group 2"/>
          <p:cNvGrpSpPr/>
          <p:nvPr/>
        </p:nvGrpSpPr>
        <p:grpSpPr>
          <a:xfrm>
            <a:off x="1523880" y="0"/>
            <a:ext cx="8466120" cy="6858000"/>
            <a:chOff x="1523880" y="0"/>
            <a:chExt cx="8466120" cy="6858000"/>
          </a:xfrm>
        </p:grpSpPr>
        <p:sp>
          <p:nvSpPr>
            <p:cNvPr id="544" name="矩形 4"/>
            <p:cNvSpPr/>
            <p:nvPr/>
          </p:nvSpPr>
          <p:spPr>
            <a:xfrm>
              <a:off x="214092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45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152388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6" name="TextBox 7"/>
            <p:cNvSpPr/>
            <p:nvPr/>
          </p:nvSpPr>
          <p:spPr>
            <a:xfrm rot="20926800">
              <a:off x="344484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</cp:lastModifiedBy>
  <dcterms:modified xsi:type="dcterms:W3CDTF">2014-08-13T01:34:31Z</dcterms:modified>
  <cp:revision>1</cp:revision>
  <dc:subject/>
  <dc:title>PowerPoint 演示文稿</dc:title>
</cp:coreProperties>
</file>