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877-DF6C-4535-9034-71E95E48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7F6-2201-4FE1-BCA6-0CD12C43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080-F64C-453C-B257-AD939EC6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63E-5088-48D3-A881-F12B8B9F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C0F0-6E17-4C54-BA94-1CF0437B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582E-4F4D-41A6-92F5-30CB6341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6EC4-A0F9-4C67-9877-08D06457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57DB-DB27-468B-AAD0-C13FA590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C7E6-C142-4076-94FD-5E0E15F4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04AB-59E9-43BE-9F5E-5D67ACC8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B889-4A3C-4167-B1A1-B06AA330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B2A-A698-44A1-86C2-AB52CC3B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ADE3-1B5B-4528-B258-53353918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69E8-A087-40A5-85AD-8D5E2F73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E95E-2EA9-4EE3-861F-BA7F6A3E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B3C1-8B9F-4694-9D88-E1C98B8B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584B-6339-4BA9-BB82-5FC193BD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072-F9B8-4A23-B2DC-217A1300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4C4-AD2E-4CB9-AA9C-2E70047E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A80-A842-45B1-AE2F-E40E89B4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1F7-6E62-4862-B0BA-C22AA83F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A44-E528-49CC-A369-E1387C1A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C47-0CC5-4126-A0C3-63D09C6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6F9-3D46-4470-BA30-8D9DCE7E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88A7-05B0-4AA3-8C26-87C6F21A63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4D4D-3D6A-4D9B-A0A9-BD8B7C5840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26F3-7A49-4FB3-8C5A-8DB533076B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allpa2per-594772"/>
          <p:cNvPicPr/>
          <p:nvPr/>
        </p:nvPicPr>
        <p:blipFill>
          <a:blip r:embed="rId1"/>
          <a:stretch/>
        </p:blipFill>
        <p:spPr>
          <a:xfrm>
            <a:off x="0" y="1870200"/>
            <a:ext cx="9145440" cy="377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240" y="2424240"/>
            <a:ext cx="611280" cy="3585960"/>
          </a:xfrm>
          <a:prstGeom prst="rect">
            <a:avLst/>
          </a:prstGeom>
          <a:solidFill>
            <a:srgbClr val="e9c475">
              <a:alpha val="5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22440" y="4827600"/>
            <a:ext cx="8523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25520" y="2424240"/>
            <a:ext cx="8750160" cy="3228840"/>
          </a:xfrm>
          <a:prstGeom prst="rect">
            <a:avLst/>
          </a:prstGeom>
          <a:solidFill>
            <a:srgbClr val="e9c475">
              <a:alpha val="5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54120" y="4829040"/>
            <a:ext cx="85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秋日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5743440"/>
            <a:ext cx="396720" cy="266760"/>
          </a:xfrm>
          <a:prstGeom prst="rect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waallp3a2per-594772"/>
          <p:cNvPicPr/>
          <p:nvPr/>
        </p:nvPicPr>
        <p:blipFill>
          <a:blip r:embed="rId1"/>
          <a:stretch/>
        </p:blipFill>
        <p:spPr>
          <a:xfrm>
            <a:off x="36360" y="0"/>
            <a:ext cx="9107640" cy="939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6360" y="260280"/>
            <a:ext cx="9107640" cy="679680"/>
          </a:xfrm>
          <a:prstGeom prst="rect">
            <a:avLst/>
          </a:prstGeom>
          <a:solidFill>
            <a:srgbClr val="e9c475">
              <a:alpha val="3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1280" y="25416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403280" y="1673280"/>
            <a:ext cx="504720" cy="358560"/>
          </a:xfrm>
          <a:prstGeom prst="rect">
            <a:avLst/>
          </a:prstGeom>
          <a:solidFill>
            <a:srgbClr val="bbe0e3">
              <a:alpha val="52000"/>
            </a:srgbClr>
          </a:solidFill>
          <a:ln w="0">
            <a:solidFill>
              <a:srgbClr val="82ced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403280" y="2852640"/>
            <a:ext cx="504720" cy="360360"/>
          </a:xfrm>
          <a:prstGeom prst="rect">
            <a:avLst/>
          </a:prstGeom>
          <a:solidFill>
            <a:srgbClr val="bbe0e3">
              <a:alpha val="52000"/>
            </a:srgbClr>
          </a:solidFill>
          <a:ln w="0">
            <a:solidFill>
              <a:srgbClr val="82ced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403280" y="4041720"/>
            <a:ext cx="504720" cy="360360"/>
          </a:xfrm>
          <a:prstGeom prst="rect">
            <a:avLst/>
          </a:prstGeom>
          <a:solidFill>
            <a:srgbClr val="bbe0e3">
              <a:alpha val="52000"/>
            </a:srgbClr>
          </a:solidFill>
          <a:ln w="0">
            <a:solidFill>
              <a:srgbClr val="82ced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403280" y="5300640"/>
            <a:ext cx="504720" cy="360360"/>
          </a:xfrm>
          <a:prstGeom prst="rect">
            <a:avLst/>
          </a:prstGeom>
          <a:solidFill>
            <a:srgbClr val="bbe0e3">
              <a:alpha val="52000"/>
            </a:srgbClr>
          </a:solidFill>
          <a:ln w="0">
            <a:solidFill>
              <a:srgbClr val="82ced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908000" y="1673280"/>
            <a:ext cx="583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e9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08000" y="2852640"/>
            <a:ext cx="583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9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08000" y="4041720"/>
            <a:ext cx="583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9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08000" y="5300640"/>
            <a:ext cx="583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9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03280" y="285264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436760" y="1636560"/>
            <a:ext cx="4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1420920" y="4037040"/>
            <a:ext cx="4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420920" y="5297400"/>
            <a:ext cx="4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932120" y="1679400"/>
            <a:ext cx="58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1932120" y="2882880"/>
            <a:ext cx="58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第二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932120" y="4067280"/>
            <a:ext cx="58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第三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1908000" y="5295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第四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waallp3a2per-594772"/>
          <p:cNvPicPr/>
          <p:nvPr/>
        </p:nvPicPr>
        <p:blipFill>
          <a:blip r:embed="rId1"/>
          <a:stretch/>
        </p:blipFill>
        <p:spPr>
          <a:xfrm>
            <a:off x="36360" y="0"/>
            <a:ext cx="9107640" cy="939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6360" y="260280"/>
            <a:ext cx="9107640" cy="679680"/>
          </a:xfrm>
          <a:prstGeom prst="rect">
            <a:avLst/>
          </a:prstGeom>
          <a:solidFill>
            <a:srgbClr val="e9c475">
              <a:alpha val="3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55640" y="260280"/>
            <a:ext cx="83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此处添加标题—图标示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222720" y="1339920"/>
            <a:ext cx="431640" cy="2089080"/>
          </a:xfrm>
          <a:prstGeom prst="rect">
            <a:avLst/>
          </a:prstGeom>
          <a:gradFill rotWithShape="0">
            <a:gsLst>
              <a:gs pos="0">
                <a:srgbClr val="e8d569"/>
              </a:gs>
              <a:gs pos="100000">
                <a:srgbClr val="6a623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317680" y="3044880"/>
            <a:ext cx="432000" cy="1585800"/>
          </a:xfrm>
          <a:prstGeom prst="rect">
            <a:avLst/>
          </a:prstGeom>
          <a:gradFill rotWithShape="0">
            <a:gsLst>
              <a:gs pos="0">
                <a:srgbClr val="e87d31"/>
              </a:gs>
              <a:gs pos="100000">
                <a:srgbClr val="6a39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454040" y="4438800"/>
            <a:ext cx="432000" cy="1293840"/>
          </a:xfrm>
          <a:prstGeom prst="rect">
            <a:avLst/>
          </a:prstGeom>
          <a:gradFill rotWithShape="0">
            <a:gsLst>
              <a:gs pos="0">
                <a:srgbClr val="b56d3a"/>
              </a:gs>
              <a:gs pos="100000">
                <a:srgbClr val="53321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433520" y="527544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349360" y="417348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222720" y="297180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箭头 182"/>
          <p:cNvSpPr/>
          <p:nvPr/>
        </p:nvSpPr>
        <p:spPr>
          <a:xfrm>
            <a:off x="3654360" y="3427560"/>
            <a:ext cx="3240000" cy="1440"/>
          </a:xfrm>
          <a:prstGeom prst="line">
            <a:avLst/>
          </a:prstGeom>
          <a:ln w="165240">
            <a:solidFill>
              <a:srgbClr val="e8d5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箭头 187"/>
          <p:cNvSpPr/>
          <p:nvPr/>
        </p:nvSpPr>
        <p:spPr>
          <a:xfrm>
            <a:off x="2749680" y="4630680"/>
            <a:ext cx="2469960" cy="0"/>
          </a:xfrm>
          <a:prstGeom prst="line">
            <a:avLst/>
          </a:prstGeom>
          <a:ln w="165240">
            <a:solidFill>
              <a:srgbClr val="e87d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箭头 189"/>
          <p:cNvSpPr/>
          <p:nvPr/>
        </p:nvSpPr>
        <p:spPr>
          <a:xfrm>
            <a:off x="1887480" y="5732640"/>
            <a:ext cx="1766880" cy="1440"/>
          </a:xfrm>
          <a:prstGeom prst="line">
            <a:avLst/>
          </a:prstGeom>
          <a:ln w="165240">
            <a:solidFill>
              <a:srgbClr val="b56d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808440" y="55818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56d3a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b56d3a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5383080" y="4425840"/>
            <a:ext cx="9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87d31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e87d31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7093080" y="320040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8d569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e8d569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61080" y="6237360"/>
            <a:ext cx="237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aallp3a2per-594772"/>
          <p:cNvPicPr/>
          <p:nvPr/>
        </p:nvPicPr>
        <p:blipFill>
          <a:blip r:embed="rId1"/>
          <a:stretch/>
        </p:blipFill>
        <p:spPr>
          <a:xfrm>
            <a:off x="36360" y="0"/>
            <a:ext cx="9107640" cy="939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6360" y="260280"/>
            <a:ext cx="9107640" cy="679680"/>
          </a:xfrm>
          <a:prstGeom prst="rect">
            <a:avLst/>
          </a:prstGeom>
          <a:solidFill>
            <a:srgbClr val="e9c475">
              <a:alpha val="3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23960" y="468360"/>
            <a:ext cx="842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41400" y="285840"/>
            <a:ext cx="82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此处添加标题—文本示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25400" y="1409760"/>
            <a:ext cx="773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336680" y="1409760"/>
            <a:ext cx="78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1065240" y="1482840"/>
            <a:ext cx="244440" cy="352440"/>
          </a:xfrm>
          <a:prstGeom prst="rect">
            <a:avLst/>
          </a:prstGeom>
          <a:solidFill>
            <a:srgbClr val="e9c475"/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wallpa2per-594772"/>
          <p:cNvPicPr/>
          <p:nvPr/>
        </p:nvPicPr>
        <p:blipFill>
          <a:blip r:embed="rId1"/>
          <a:stretch/>
        </p:blipFill>
        <p:spPr>
          <a:xfrm>
            <a:off x="3240" y="1917720"/>
            <a:ext cx="9178920" cy="37940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539640" y="2278080"/>
            <a:ext cx="8642520" cy="3440160"/>
          </a:xfrm>
          <a:prstGeom prst="rect">
            <a:avLst/>
          </a:prstGeom>
          <a:solidFill>
            <a:srgbClr val="e9c475">
              <a:alpha val="3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 flipV="1">
            <a:off x="3240" y="2274480"/>
            <a:ext cx="8744040" cy="3432240"/>
          </a:xfrm>
          <a:prstGeom prst="rect">
            <a:avLst/>
          </a:prstGeom>
          <a:solidFill>
            <a:srgbClr val="e9c475">
              <a:alpha val="32000"/>
            </a:srgbClr>
          </a:solidFill>
          <a:ln w="0">
            <a:solidFill>
              <a:srgbClr val="e9c47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816440" y="4221000"/>
            <a:ext cx="3930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感谢您的关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7:19:56Z</dcterms:created>
  <dc:creator>Administrator</dc:creator>
  <dc:description/>
  <dc:language>en-US</dc:language>
  <cp:lastModifiedBy>a</cp:lastModifiedBy>
  <dcterms:modified xsi:type="dcterms:W3CDTF">2015-01-14T09:02:0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