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CE4-F2D5-4632-986F-60198E95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0F8-8FEA-4CE7-ACDA-6DD94B24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024-FF54-4810-8537-6EC1C1A8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915-6DA5-4B10-931D-DEDA2285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38AD-7C68-437C-A733-7B019A46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82A4-D936-4E06-81D4-94FE7090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430A-AEEC-4DC5-91AE-3BE0BC66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3FFF-B54B-4D28-B564-853BACBA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FDBB-9D67-421B-B5F5-13890E7D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24F0-7F32-4108-8A96-224037B1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D9AD-4AF5-4C22-9ACD-B1EF3F1C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B69-2A01-4F04-93A9-060D004A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AE69-5CDC-4123-9E4B-9A69A87C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BE95-F82A-477D-9CAF-3F76F4CC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B119-6CB9-4606-B0A9-97938C6C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A4A8-4314-47AD-A6EE-5C6342E7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030C-E4F2-441F-B925-86027D8C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DED8-7984-4EDB-9660-DFC44C01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38A9-643C-4363-8F0F-9C984677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B9EC5-1E40-4518-A2F4-641F42FE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EB1B-1E63-497E-84C6-7FFBE9A9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8335-3E81-46F9-969E-057841D2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C02-E8F7-4C0B-9E72-7C5969CD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AECA-BCB4-4BCE-8B6E-D04A4118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A89B-0B34-4DB1-9430-BFE1053B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7A3E7-2F3D-4A45-8562-4F4FAB6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947A-B9F5-44B2-9EF3-CB0AAC3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7FBE-B764-4CCB-BE96-80C53469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ED607-F413-4DAA-9325-68783036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E7B69-8AA7-469C-B70D-9DFA821F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E70-D197-4390-8AED-B6C2F326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F3D-D13E-4AF1-B3CB-42C01282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E25-9D8C-48EC-88E5-1E81F1D0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EBF-986D-465A-8D6B-9E8D51AC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510-432A-4720-A671-E9777DDC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BED-B2D4-4E0A-93E6-AE5F4BBC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D366-4A8D-4760-B63C-D36CA39FA3D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8597-BEB7-45A5-B9FE-CF49E19FDF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D5E0-DAAE-4798-816D-6B65D3016C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1E3B-EAA3-44E9-BE6C-368D8794B4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未标题-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未标题c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未标题的2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未标s-1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未标d 题-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未标题-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未标题-1的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在标题-1副本"/>
          <p:cNvPicPr/>
          <p:nvPr/>
        </p:nvPicPr>
        <p:blipFill>
          <a:blip r:embed="rId1"/>
          <a:stretch/>
        </p:blipFill>
        <p:spPr>
          <a:xfrm>
            <a:off x="216000" y="495360"/>
            <a:ext cx="874872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13T04:24:08Z</dcterms:modified>
  <cp:revision>1</cp:revision>
  <dc:subject/>
  <dc:title>PowerPoint 演示文稿</dc:title>
</cp:coreProperties>
</file>