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27666-70A1-4AE6-9D61-3383722B6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6DAE7-546C-4B8F-BF84-C8B61E0B9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4B386-2D9D-4160-896E-74312D19F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2B558-0CC4-4497-A9BB-4F37953D3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2022C-568E-4FDC-A312-BCB89BC41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DAD1B-CD65-4D8D-803B-ABB398B30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B2741-773F-40D7-9595-4AD826D53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05E5E-6134-484F-BAA9-EEA76B2EA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B49FC-91BB-40E8-98D4-086A415E6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D1FFE-F06D-41AF-B4F0-96E52A3CE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094A4-B221-48B1-9DAC-9736E86C8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436C8-490D-45E0-99F4-8A4E9E7AD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E82E9-1A74-46E3-BE76-89EC39DE9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E0EE4-19FF-437E-B2A4-36E01D341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E5C66-B9F7-42A1-9154-F65285F04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26EBB-F075-4155-A5F1-CAA0A1368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18C69-EE80-4D3A-AC22-B5C3B19FE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16A067-E1E1-485D-A746-4BD9CB397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49DBDA-C612-4E54-8AAE-B1306F088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ACB1C9-1590-48E1-AE4C-F087C1D0F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511A4B-8AEF-4D2F-91E1-663026175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D332A5-21D0-4D8E-805B-B7C44A921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C7F0B-AA71-48DF-B1A0-5A82E6424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2E090F-3EEA-4FD5-9D87-1E56609C1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90112E-449F-429D-AB4F-4D34D1830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8F77CC-BD8D-4CDA-8515-5B82549F7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A73A19-42C5-4A46-B231-0313560FD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ECE5C5-D458-4D68-9512-10AC896FA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642BBF-52F0-478E-BA5B-F4EA22949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80C804-E1E0-4952-BA17-0F00DEEAC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3A689-C64C-44C6-B61F-39022008F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68867-D708-4F66-9804-ADB54673E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E1204-B4DF-4F13-B837-F9D2224F7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4F820-84FB-4EE4-ACDE-364B1669C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F5C31-1987-4DEF-A949-0B250708B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4C408-2400-4EB4-80C8-669D3931C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8A75C-D5BB-45B9-847A-1E1547187414}" type="slidenum">
              <a: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52A08-3783-4661-8B7B-520A039E7FDE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06609-EE1F-4CFA-8A69-AFD985B6F1E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26A1C-D8E2-46DD-BE0D-EDE89900131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AutoShape 2"/>
          <p:cNvSpPr/>
          <p:nvPr/>
        </p:nvSpPr>
        <p:spPr>
          <a:xfrm>
            <a:off x="15840" y="-15840"/>
            <a:ext cx="9128160" cy="6875280"/>
          </a:xfrm>
          <a:prstGeom prst="flowChartProcess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5641560" y="5079960"/>
            <a:ext cx="3377160" cy="17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简魏碑"/>
              </a:rPr>
              <a:t> </a:t>
            </a:r>
            <a:r>
              <a:rPr b="0" lang="zh-CN" sz="1400" spc="-1" strike="noStrike">
                <a:solidFill>
                  <a:srgbClr val="ffffff"/>
                </a:solidFill>
                <a:latin typeface="微软简魏碑"/>
              </a:rPr>
              <a:t>《礼记》 云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简魏碑"/>
              </a:rPr>
              <a:t>“</a:t>
            </a:r>
            <a:r>
              <a:rPr b="0" lang="zh-CN" sz="1400" spc="-1" strike="noStrike">
                <a:solidFill>
                  <a:srgbClr val="ffffff"/>
                </a:solidFill>
                <a:latin typeface="微软简魏碑"/>
              </a:rPr>
              <a:t>礼者所以定亲疏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简魏碑"/>
              </a:rPr>
              <a:t>决嫌疑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简魏碑"/>
              </a:rPr>
              <a:t>别同异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简魏碑"/>
              </a:rPr>
              <a:t>明是非也。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简魏碑"/>
              </a:rPr>
              <a:t>又云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简魏碑"/>
              </a:rPr>
              <a:t>“</a:t>
            </a:r>
            <a:r>
              <a:rPr b="0" lang="zh-CN" sz="1400" spc="-1" strike="noStrike">
                <a:solidFill>
                  <a:srgbClr val="ffffff"/>
                </a:solidFill>
                <a:latin typeface="微软简魏碑"/>
              </a:rPr>
              <a:t>亲亲之杀</a:t>
            </a:r>
            <a:r>
              <a:rPr b="0" lang="zh-CN" sz="1400" spc="-1" strike="noStrike">
                <a:solidFill>
                  <a:srgbClr val="ffffff"/>
                </a:solidFill>
                <a:latin typeface="微软简魏碑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简魏碑"/>
              </a:rPr>
              <a:t>尊贤之等</a:t>
            </a:r>
            <a:r>
              <a:rPr b="0" lang="zh-CN" sz="1400" spc="-1" strike="noStrike">
                <a:solidFill>
                  <a:srgbClr val="ffffff"/>
                </a:solidFill>
                <a:latin typeface="微软简魏碑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简魏碑"/>
              </a:rPr>
              <a:t>礼所生也。”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4"/>
          <p:cNvSpPr/>
          <p:nvPr/>
        </p:nvSpPr>
        <p:spPr>
          <a:xfrm>
            <a:off x="20520" y="-15840"/>
            <a:ext cx="9128160" cy="4886280"/>
          </a:xfrm>
          <a:prstGeom prst="flowChartProcess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5"/>
          <p:cNvSpPr/>
          <p:nvPr/>
        </p:nvSpPr>
        <p:spPr>
          <a:xfrm>
            <a:off x="20520" y="-15840"/>
            <a:ext cx="9128160" cy="4730760"/>
          </a:xfrm>
          <a:prstGeom prst="flowChartProcess">
            <a:avLst/>
          </a:prstGeom>
          <a:solidFill>
            <a:srgbClr val="ff9b0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1160640" y="2363760"/>
            <a:ext cx="684036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“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微软雅黑"/>
              </a:rPr>
              <a:t>礼仪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”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微软雅黑"/>
              </a:rPr>
              <a:t>是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“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微软雅黑"/>
              </a:rPr>
              <a:t>道德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”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微软雅黑"/>
              </a:rPr>
              <a:t>的规范，完备了礼仪，就纯粹了道德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0"/>
          <p:cNvSpPr/>
          <p:nvPr/>
        </p:nvSpPr>
        <p:spPr>
          <a:xfrm>
            <a:off x="2817720" y="1541520"/>
            <a:ext cx="3527640" cy="825120"/>
          </a:xfrm>
          <a:prstGeom prst="rect">
            <a:avLst/>
          </a:prstGeom>
          <a:solidFill>
            <a:srgbClr val="ff9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微软雅黑"/>
              </a:rPr>
              <a:t>企业文化礼仪培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AutoShape 2"/>
          <p:cNvSpPr/>
          <p:nvPr/>
        </p:nvSpPr>
        <p:spPr>
          <a:xfrm>
            <a:off x="15840" y="-15840"/>
            <a:ext cx="9128160" cy="6875280"/>
          </a:xfrm>
          <a:prstGeom prst="flowChartProcess">
            <a:avLst/>
          </a:prstGeom>
          <a:solidFill>
            <a:srgbClr val="eaeae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4140360" y="836640"/>
            <a:ext cx="165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微软雅黑"/>
              </a:rPr>
              <a:t>目     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4"/>
          <p:cNvSpPr/>
          <p:nvPr/>
        </p:nvSpPr>
        <p:spPr>
          <a:xfrm>
            <a:off x="3924360" y="2055960"/>
            <a:ext cx="4898880" cy="326880"/>
          </a:xfrm>
          <a:prstGeom prst="flowChartProcess">
            <a:avLst/>
          </a:prstGeom>
          <a:solidFill>
            <a:srgbClr val="ff9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5"/>
          <p:cNvSpPr/>
          <p:nvPr/>
        </p:nvSpPr>
        <p:spPr>
          <a:xfrm>
            <a:off x="3924360" y="2490840"/>
            <a:ext cx="4898880" cy="325440"/>
          </a:xfrm>
          <a:prstGeom prst="flowChartProcess">
            <a:avLst/>
          </a:prstGeom>
          <a:solidFill>
            <a:srgbClr val="ff9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6"/>
          <p:cNvSpPr/>
          <p:nvPr/>
        </p:nvSpPr>
        <p:spPr>
          <a:xfrm>
            <a:off x="3924360" y="3605040"/>
            <a:ext cx="4898880" cy="327240"/>
          </a:xfrm>
          <a:prstGeom prst="flowChartProcess">
            <a:avLst/>
          </a:prstGeom>
          <a:solidFill>
            <a:srgbClr val="ff9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7"/>
          <p:cNvSpPr/>
          <p:nvPr/>
        </p:nvSpPr>
        <p:spPr>
          <a:xfrm>
            <a:off x="3922560" y="4032360"/>
            <a:ext cx="4899240" cy="325440"/>
          </a:xfrm>
          <a:prstGeom prst="flowChartProcess">
            <a:avLst/>
          </a:prstGeom>
          <a:solidFill>
            <a:srgbClr val="ff9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8"/>
          <p:cNvSpPr/>
          <p:nvPr/>
        </p:nvSpPr>
        <p:spPr>
          <a:xfrm>
            <a:off x="3924360" y="4460760"/>
            <a:ext cx="4898880" cy="327240"/>
          </a:xfrm>
          <a:prstGeom prst="flowChartProcess">
            <a:avLst/>
          </a:prstGeom>
          <a:solidFill>
            <a:srgbClr val="ff9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9"/>
          <p:cNvSpPr/>
          <p:nvPr/>
        </p:nvSpPr>
        <p:spPr>
          <a:xfrm>
            <a:off x="4140360" y="1989000"/>
            <a:ext cx="28080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企业礼仪的意义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0"/>
          <p:cNvSpPr/>
          <p:nvPr/>
        </p:nvSpPr>
        <p:spPr>
          <a:xfrm>
            <a:off x="4140360" y="3516480"/>
            <a:ext cx="28080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企业礼仪的功用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1"/>
          <p:cNvSpPr/>
          <p:nvPr/>
        </p:nvSpPr>
        <p:spPr>
          <a:xfrm>
            <a:off x="4140360" y="2400480"/>
            <a:ext cx="28080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企业礼仪的类型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2"/>
          <p:cNvSpPr/>
          <p:nvPr/>
        </p:nvSpPr>
        <p:spPr>
          <a:xfrm>
            <a:off x="4140360" y="4390920"/>
            <a:ext cx="28080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企业礼仪工作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3"/>
          <p:cNvSpPr/>
          <p:nvPr/>
        </p:nvSpPr>
        <p:spPr>
          <a:xfrm>
            <a:off x="4140360" y="3927600"/>
            <a:ext cx="28080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企业礼仪的养成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4"/>
          <p:cNvSpPr/>
          <p:nvPr/>
        </p:nvSpPr>
        <p:spPr>
          <a:xfrm>
            <a:off x="4140360" y="2844720"/>
            <a:ext cx="2808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交际礼仪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礼仪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生活礼仪    节庆礼仪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15"/>
          <p:cNvSpPr/>
          <p:nvPr/>
        </p:nvSpPr>
        <p:spPr>
          <a:xfrm>
            <a:off x="3638520" y="1773360"/>
            <a:ext cx="5523120" cy="0"/>
          </a:xfrm>
          <a:prstGeom prst="line">
            <a:avLst/>
          </a:prstGeom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16"/>
          <p:cNvSpPr/>
          <p:nvPr/>
        </p:nvSpPr>
        <p:spPr>
          <a:xfrm>
            <a:off x="15840" y="-15840"/>
            <a:ext cx="3622680" cy="6875280"/>
          </a:xfrm>
          <a:prstGeom prst="flowChartProcess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7"/>
          <p:cNvSpPr/>
          <p:nvPr/>
        </p:nvSpPr>
        <p:spPr>
          <a:xfrm>
            <a:off x="324000" y="1989000"/>
            <a:ext cx="28080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企业礼仪是指企业员工关于企业礼仪的观念及其行为方式的总和，也是日常例行事物的一种固定模式，如处理公共关系的方式、信息沟通关系、仪式和典礼等就是企业礼仪的具体表现。它表征着企业的价值观和道德要求，塑造着企业形象，使员工在礼仪文化的氛围中受到熏陶，自觉的调整个人行为，增强为企业目标献身的群体意识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18" descr="63fa6322_16c0_4026_b6a1_06cd7c323ddd"/>
          <p:cNvPicPr/>
          <p:nvPr/>
        </p:nvPicPr>
        <p:blipFill>
          <a:blip r:embed="rId1"/>
          <a:stretch/>
        </p:blipFill>
        <p:spPr>
          <a:xfrm>
            <a:off x="411120" y="2060640"/>
            <a:ext cx="271440" cy="27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2" descr="1111"/>
          <p:cNvPicPr/>
          <p:nvPr/>
        </p:nvPicPr>
        <p:blipFill>
          <a:blip r:embed="rId1"/>
          <a:stretch/>
        </p:blipFill>
        <p:spPr>
          <a:xfrm>
            <a:off x="15840" y="-1764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3"/>
          <p:cNvSpPr/>
          <p:nvPr/>
        </p:nvSpPr>
        <p:spPr>
          <a:xfrm>
            <a:off x="3203640" y="2492280"/>
            <a:ext cx="309564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企业礼仪的意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222"/>
          <p:cNvPicPr/>
          <p:nvPr/>
        </p:nvPicPr>
        <p:blipFill>
          <a:blip r:embed="rId1"/>
          <a:stretch/>
        </p:blipFill>
        <p:spPr>
          <a:xfrm>
            <a:off x="15840" y="-1764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3"/>
          <p:cNvSpPr/>
          <p:nvPr/>
        </p:nvSpPr>
        <p:spPr>
          <a:xfrm>
            <a:off x="739800" y="577800"/>
            <a:ext cx="3146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企业礼仪的意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4"/>
          <p:cNvSpPr/>
          <p:nvPr/>
        </p:nvSpPr>
        <p:spPr>
          <a:xfrm>
            <a:off x="469800" y="1557360"/>
            <a:ext cx="80647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企业礼仪是企业的精神风貌。它包括企业的待客礼仪、经营作风、员工风度、环境布置风格以及内部的信息沟通方式等内容。企业礼仪往往形成传统与习俗，体现企业的经营理念。它赋予企业浓厚的人情味，对培育企业精神和塑造企业形象起着潜移默化的作用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　　当通过养成而成为一种约定俗成时，企业礼仪就成为了企业习俗。企业习俗是指企业员工在长期的共同劳动中形成的习惯做法。这种做法沿袭日久，是全体员工默认的、心里的、自觉遵守的规范，而不是强迫的、书面制度式的规定；是一种“软约束”。摩托罗拉公司有着非常好的员工交流沟通习俗，如总经理座谈会、恳谈会、对话会和业绩报告会，员工可以和公司决策层、经理层等进行直接沟通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5" descr="63fa6322_16c0_4026_b6a1_06cd7c323ddd"/>
          <p:cNvPicPr/>
          <p:nvPr/>
        </p:nvPicPr>
        <p:blipFill>
          <a:blip r:embed="rId2"/>
          <a:stretch/>
        </p:blipFill>
        <p:spPr>
          <a:xfrm>
            <a:off x="469800" y="765000"/>
            <a:ext cx="270000" cy="2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1111"/>
          <p:cNvPicPr/>
          <p:nvPr/>
        </p:nvPicPr>
        <p:blipFill>
          <a:blip r:embed="rId1"/>
          <a:stretch/>
        </p:blipFill>
        <p:spPr>
          <a:xfrm>
            <a:off x="15840" y="-1764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3"/>
          <p:cNvSpPr/>
          <p:nvPr/>
        </p:nvSpPr>
        <p:spPr>
          <a:xfrm>
            <a:off x="3203640" y="2492280"/>
            <a:ext cx="30970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企业礼仪的类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2" descr="222"/>
          <p:cNvPicPr/>
          <p:nvPr/>
        </p:nvPicPr>
        <p:blipFill>
          <a:blip r:embed="rId1"/>
          <a:stretch/>
        </p:blipFill>
        <p:spPr>
          <a:xfrm>
            <a:off x="15840" y="-1764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3"/>
          <p:cNvSpPr/>
          <p:nvPr/>
        </p:nvSpPr>
        <p:spPr>
          <a:xfrm>
            <a:off x="741240" y="692280"/>
            <a:ext cx="779328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交际礼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　　企业是一个从事经济活动的主体，作为社会组织，其内部人员之间和与外部群体或个体之间都有着大量的人际交往。因此，交际礼仪就成为传播企业文化、体现企业素质的重要形式。人际交往的礼仪很多，也很繁琐，主要包括介绍和被介绍，称呼与被称呼、交谈用语、座位安排、说话时的姿态、肢体语言、禁忌用语、服饰、互换名片、站姿坐姿、握手与挥手、节日问候等等。就会面来说，就有微笑礼、握手礼、拱手礼、鞠躬礼、颌首礼、招手礼、合掌礼、拥抱礼、注目礼等等的分别。大凡优异的企业在这些基本交际礼仪上都表现得非常出色，体现了公司的文明程度和文化素养，也体现了企业文化的基本型态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4" descr="63fa6322_16c0_4026_b6a1_06cd7c323ddd"/>
          <p:cNvPicPr/>
          <p:nvPr/>
        </p:nvPicPr>
        <p:blipFill>
          <a:blip r:embed="rId2"/>
          <a:stretch/>
        </p:blipFill>
        <p:spPr>
          <a:xfrm>
            <a:off x="469800" y="765000"/>
            <a:ext cx="270000" cy="27000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5"/>
          <p:cNvSpPr/>
          <p:nvPr/>
        </p:nvSpPr>
        <p:spPr>
          <a:xfrm>
            <a:off x="741240" y="2852640"/>
            <a:ext cx="77932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工作礼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发生在企业日常经营管理活动，以及商务活动中的常规性的仪式是工作礼仪，如展会、岗前小会、店会、表彰会、职代会、培训会、新闻发布会以及技术、生产、销售合作签约仪式，合资项目签字仪式等。松下幸之助就在日本松下电器株式会社，建立了一种朝会和夕会的企业仪式，即利用每天上下班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分钟的时间，各部门、各单位的员工聚在一起进行宣誓、总结。朝会时，要唱社歌：“为建设新日本同心协力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!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不断地努力生产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!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我们为世人提供的商品，犹如涌泉一般。振兴产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!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振兴产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!”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还要全体朗诵公司精神：“产业报国、光明正大、亲爱精诚、奋斗向上、遵守礼节、顺应同化、感恩图报。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6" descr="63fa6322_16c0_4026_b6a1_06cd7c323ddd"/>
          <p:cNvPicPr/>
          <p:nvPr/>
        </p:nvPicPr>
        <p:blipFill>
          <a:blip r:embed="rId3"/>
          <a:stretch/>
        </p:blipFill>
        <p:spPr>
          <a:xfrm>
            <a:off x="485640" y="2924280"/>
            <a:ext cx="271440" cy="27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222"/>
          <p:cNvPicPr/>
          <p:nvPr/>
        </p:nvPicPr>
        <p:blipFill>
          <a:blip r:embed="rId1"/>
          <a:stretch/>
        </p:blipFill>
        <p:spPr>
          <a:xfrm>
            <a:off x="15840" y="-1764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3"/>
          <p:cNvSpPr/>
          <p:nvPr/>
        </p:nvSpPr>
        <p:spPr>
          <a:xfrm>
            <a:off x="757080" y="692280"/>
            <a:ext cx="806292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生活礼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　　在工作之余，企业开展的与员工生活直接相关的各种活动就是生活礼仪。包括企业的文体活动、联欢会、讲演会、茶话会等，通过这些活动可以密切员工之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可的关系，有利于共同价值观的形成和传播。如在美国玛丽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凯化妆品公司，每逢圣诞节、公司纪念日，总经理都给全体员工寄发贺卡；员工过生日时，总经理寄去贺信，并亲笔写下贺词，然后郑重签名。员工进厂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周年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周年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周年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周年时，总经理奉送比较贵重的首饰，当员工工作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周年时，将得到一件镶有钻石的昂贵首饰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4" descr="63fa6322_16c0_4026_b6a1_06cd7c323ddd"/>
          <p:cNvPicPr/>
          <p:nvPr/>
        </p:nvPicPr>
        <p:blipFill>
          <a:blip r:embed="rId2"/>
          <a:stretch/>
        </p:blipFill>
        <p:spPr>
          <a:xfrm>
            <a:off x="469800" y="765000"/>
            <a:ext cx="270000" cy="27000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5"/>
          <p:cNvSpPr/>
          <p:nvPr/>
        </p:nvSpPr>
        <p:spPr>
          <a:xfrm>
            <a:off x="757080" y="2852640"/>
            <a:ext cx="80629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节庆礼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　　节庆礼仪指那些对企业具有重要意义的纪念活动仪式，主要包括公司的节日庆典和公共节日庆典。比如：公司成立的周年庆典，公司成功开发出重要技术或产品的庆典，公司分公司或子公司成立的庆典，公司重要活动目标达成庆典，新车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司、新生产线投产成功庆典，等等就属于前者。后者主要包括三八妇女节、五一劳动节，国庆节庆典，行业性的节日庆典等等。这些庆典活动，是连接企业与员工，集团与分属企业，企业与社会的重要纽带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6" descr="63fa6322_16c0_4026_b6a1_06cd7c323ddd"/>
          <p:cNvPicPr/>
          <p:nvPr/>
        </p:nvPicPr>
        <p:blipFill>
          <a:blip r:embed="rId3"/>
          <a:stretch/>
        </p:blipFill>
        <p:spPr>
          <a:xfrm>
            <a:off x="485640" y="2924280"/>
            <a:ext cx="271440" cy="27144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6661080" y="6237360"/>
            <a:ext cx="237492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c1c1c"/>
                </a:solidFill>
                <a:latin typeface="Arial"/>
                <a:ea typeface="黑体"/>
              </a:rPr>
              <a:t> </a:t>
            </a:r>
            <a:r>
              <a:rPr b="1" lang="zh-CN" sz="1300" spc="-1" strike="noStrike">
                <a:solidFill>
                  <a:srgbClr val="1c1c1c"/>
                </a:solidFill>
                <a:latin typeface="Arial"/>
                <a:ea typeface="黑体"/>
              </a:rPr>
              <a:t>免费</a:t>
            </a:r>
            <a:r>
              <a:rPr b="1" lang="zh-CN" sz="1300" spc="-1" strike="noStrike">
                <a:solidFill>
                  <a:srgbClr val="1c1c1c"/>
                </a:solidFill>
                <a:latin typeface="Arial"/>
                <a:ea typeface="黑体"/>
              </a:rPr>
              <a:t>PPT</a:t>
            </a:r>
            <a:r>
              <a:rPr b="1" lang="zh-CN" sz="1300" spc="-1" strike="noStrike">
                <a:solidFill>
                  <a:srgbClr val="1c1c1c"/>
                </a:solidFill>
                <a:latin typeface="Arial"/>
                <a:ea typeface="黑体"/>
              </a:rPr>
              <a:t>模板下载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300" spc="-1" strike="noStrike">
                <a:solidFill>
                  <a:srgbClr val="1c1c1c"/>
                </a:solidFill>
                <a:latin typeface="Arial"/>
              </a:rPr>
              <a:t>   </a:t>
            </a:r>
            <a:r>
              <a:rPr b="1" i="1" lang="zh-CN" sz="14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1" i="1" lang="zh-CN" sz="1400" spc="-1" strike="noStrike">
                <a:solidFill>
                  <a:srgbClr val="1c1c1c"/>
                </a:solidFill>
                <a:latin typeface="Arial"/>
              </a:rPr>
              <a:t>http://</a:t>
            </a:r>
            <a:r>
              <a:rPr b="1" lang="zh-CN" sz="1400" spc="-1" strike="noStrike">
                <a:solidFill>
                  <a:srgbClr val="1c1c1c"/>
                </a:solidFill>
                <a:latin typeface="华文中宋"/>
                <a:ea typeface="华文中宋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AutoShape 2"/>
          <p:cNvSpPr/>
          <p:nvPr/>
        </p:nvSpPr>
        <p:spPr>
          <a:xfrm>
            <a:off x="15840" y="-15840"/>
            <a:ext cx="9128160" cy="6875280"/>
          </a:xfrm>
          <a:prstGeom prst="flowChartProcess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3"/>
          <p:cNvSpPr/>
          <p:nvPr/>
        </p:nvSpPr>
        <p:spPr>
          <a:xfrm>
            <a:off x="20520" y="-15840"/>
            <a:ext cx="9128160" cy="4886280"/>
          </a:xfrm>
          <a:prstGeom prst="flowChartProcess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4"/>
          <p:cNvSpPr/>
          <p:nvPr/>
        </p:nvSpPr>
        <p:spPr>
          <a:xfrm>
            <a:off x="20520" y="-15840"/>
            <a:ext cx="9128160" cy="4730760"/>
          </a:xfrm>
          <a:prstGeom prst="flowChartProcess">
            <a:avLst/>
          </a:prstGeom>
          <a:solidFill>
            <a:srgbClr val="ff9b0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8"/>
          <p:cNvSpPr/>
          <p:nvPr/>
        </p:nvSpPr>
        <p:spPr>
          <a:xfrm>
            <a:off x="2917800" y="1758960"/>
            <a:ext cx="3525840" cy="825120"/>
          </a:xfrm>
          <a:prstGeom prst="rect">
            <a:avLst/>
          </a:prstGeom>
          <a:solidFill>
            <a:srgbClr val="ff9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微软雅黑"/>
              </a:rPr>
              <a:t>THANK YOU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9"/>
          <p:cNvSpPr/>
          <p:nvPr/>
        </p:nvSpPr>
        <p:spPr>
          <a:xfrm>
            <a:off x="7746120" y="5014800"/>
            <a:ext cx="1001160" cy="17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简魏碑"/>
              </a:rPr>
              <a:t>子曰：</a:t>
            </a:r>
            <a:r>
              <a:rPr b="0" lang="zh-CN" sz="1200" spc="-1" strike="noStrike">
                <a:solidFill>
                  <a:srgbClr val="000000"/>
                </a:solidFill>
                <a:latin typeface="微软简魏碑"/>
              </a:rPr>
              <a:t>"</a:t>
            </a:r>
            <a:r>
              <a:rPr b="0" lang="zh-CN" sz="1200" spc="-1" strike="noStrike">
                <a:solidFill>
                  <a:srgbClr val="000000"/>
                </a:solidFill>
                <a:latin typeface="微软简魏碑"/>
              </a:rPr>
              <a:t>不知命，无以为君子也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简魏碑"/>
              </a:rPr>
              <a:t>不知礼，无以立也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简魏碑"/>
              </a:rPr>
              <a:t>不知言，无以知人也。</a:t>
            </a:r>
            <a:r>
              <a:rPr b="0" lang="zh-CN" sz="1200" spc="-1" strike="noStrike">
                <a:solidFill>
                  <a:srgbClr val="000000"/>
                </a:solidFill>
                <a:latin typeface="微软简魏碑"/>
              </a:rPr>
              <a:t>"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0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71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2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14T08:34:36Z</dcterms:created>
  <dc:creator>sg</dc:creator>
  <dc:description/>
  <dc:language>en-US</dc:language>
  <cp:lastModifiedBy>a</cp:lastModifiedBy>
  <dcterms:modified xsi:type="dcterms:W3CDTF">2015-01-14T08:34:45Z</dcterms:modified>
  <cp:revision>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