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03EE-A7A8-4D31-B25D-BC79E0A79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4C5C-BA5A-44ED-9881-98DEC989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F002-7159-4132-A56A-EE16CCB28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2221-5209-4BA3-9C4B-41D2E1209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E98D-B015-4DAB-A37D-9156D438E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C748-68B9-4375-8BA8-170B3E63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9C80-5DA9-4738-A9DE-39C0584E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1EA2-5DB7-4131-81DE-CA2D14EE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3216-B9A8-4358-9CAB-D676FA49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B00B-D1A6-42FA-BC26-E73B2956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EE5B0-5FDA-4504-A331-FD7F7021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C61D-FE96-4E6D-96DB-7E694A64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DF6D-C8A0-441A-A459-0ECBBBFF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D3072-4354-455A-A149-6D890562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08A0-7C16-47DD-96E3-6D638022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7165-5C57-4F9D-A2B2-AB268061A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BF51-5592-4BB2-9079-10D060FE3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1198F-8990-4394-B15B-32C8EF403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E66FE-3C26-4C5F-8A25-C9C205C5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3D478-E59A-4347-A89B-A22A6A97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B9BDD-98B0-44C0-8545-874F6660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E3702-A524-41C7-8CB7-58C01EC3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D956-7B99-47A1-9A41-B0CE4FF9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6772A-46E2-4D73-8606-BDBB5174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872F5-0805-419B-A2DF-2E9BB1E9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187EF-5A81-4608-A945-F5DB1E84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BC5C7-C5B7-4C1B-BC7C-126E404A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F08B8-E06B-4E03-A29D-D4D8E388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9D9B0-CFEC-4A7D-BB11-D9750CEAC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B2566-486A-437F-9F10-96748094D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D102-019E-4333-A79B-EB89F5F1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46D3-65BB-49C0-9D61-00F319EB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794A-64CD-4DA5-85C7-52438EEB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E532-2A2A-41FF-A1DA-E08E44EE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8F92-4B0B-4B13-A15C-A2A98A1E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BC87-C9F0-489D-BACF-3A4FB89F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DD89-06BF-4811-96AA-9EA834D33718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2100-51AD-47F1-A203-3FBD909EFFF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280D-1B04-4EA9-82F2-038EBB0178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F203-534F-4814-92A5-FC508F35E7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未标题-1"/>
          <p:cNvPicPr/>
          <p:nvPr/>
        </p:nvPicPr>
        <p:blipFill>
          <a:blip r:embed="rId1"/>
          <a:srcRect l="0" t="0" r="11505" b="0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未标题-2"/>
          <p:cNvPicPr/>
          <p:nvPr/>
        </p:nvPicPr>
        <p:blipFill>
          <a:blip r:embed="rId1"/>
          <a:srcRect l="0" t="0" r="10878" b="0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419640" y="14176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BROOK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ROOK"/>
                <a:ea typeface="BROOK"/>
              </a:rPr>
              <a:t>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BROOK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ROOK"/>
                <a:ea typeface="BROOK"/>
              </a:rPr>
              <a:t>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BROOK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ROOK"/>
                <a:ea typeface="BROOK"/>
              </a:rPr>
              <a:t>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未标题-3"/>
          <p:cNvPicPr/>
          <p:nvPr/>
        </p:nvPicPr>
        <p:blipFill>
          <a:blip r:embed="rId1"/>
          <a:srcRect l="0" t="0" r="11505" b="0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2556000" y="2492280"/>
            <a:ext cx="38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OK"/>
                <a:ea typeface="BROOK"/>
              </a:rPr>
              <a:t>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未标题-4"/>
          <p:cNvPicPr/>
          <p:nvPr/>
        </p:nvPicPr>
        <p:blipFill>
          <a:blip r:embed="rId1"/>
          <a:srcRect l="0" t="0" r="11505" b="0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1979640" y="476280"/>
            <a:ext cx="27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OOK"/>
                <a:ea typeface="BROOK"/>
              </a:rPr>
              <a:t>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39640" y="1700280"/>
            <a:ext cx="777744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mple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是一种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，所谓的简约而不简单，就是这样一种工作的境界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工作如果太复杂，便会生出许多抱怨与牢骚。那简单的工作到底是怎样的？这个问题没有统一的答案，它是因人而异的，每个人都有自己的评判标准。简单的工作，它既包含物质上的简单，更包括精神上的简约。要想拥有简单的工作，必须具备一颗单纯、平常之心，能辩证地看待得与失，不强求那些不属于自己的东西，不制定不切实际的目标，不在没有意义的事情上浪费精力，放慢生活的脚步，多一份平和，少一份焦虑，多一份坦荡，少一份虚伪，多一份快乐，少一份愁苦。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人生苦短，工作是一种追求，是一种理想的寄托，我们并不需要太多的争斗与抱怨，更多的是一份简单，一份轻松自由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未标题-2"/>
          <p:cNvPicPr/>
          <p:nvPr/>
        </p:nvPicPr>
        <p:blipFill>
          <a:blip r:embed="rId1"/>
          <a:srcRect l="0" t="0" r="10878" b="0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谢谢聆听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7-31T04:29:49Z</dcterms:modified>
  <cp:revision>1</cp:revision>
  <dc:subject/>
  <dc:title>PowerPoint 演示文稿</dc:title>
</cp:coreProperties>
</file>