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2E94B-C399-4538-8EE3-AC48D190EF4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本模板包含特殊字体：汉仪菱心体简、方正幼线简体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为了保证文本框可编辑，特殊字体部分并未被替换成图片；如果像预览本作品完整设计效果，您需要安装以上字体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B0BB-0FF1-4EE6-B9B4-CF1B618A5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0C7C-DC6B-4207-89C4-CF4F0E96C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829A-1993-4627-BB64-1DBAD5311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99E9-915D-40A5-8816-C54598341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2CB34-0942-40A4-977E-19147C198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B3B3B-E80D-466A-9893-3716C2681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081ED-229B-4DBE-B8DD-8F8BDBB8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B7F2D-779E-47C8-89B5-4BF4E1A6C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70010-2CC9-40AE-9267-3C9396043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DE90B-072D-40B8-B327-DD0B2FA28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0AB35-E75C-4A8E-97E0-93F2FB74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ED78-B652-4BF2-8532-6792CEBE7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1DF60-5345-493B-A096-7C19209A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A6386-008A-4A9A-A4B4-2305D1C1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EE8CB-FBB1-45C1-810E-28655ABB1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6A26F-280F-4828-A4FA-6D368C04A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1A5FA-CEA3-469F-899A-7AAD19C02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E4AB-1422-41B7-B7A3-3B893917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8EE6-162B-439E-8F96-53F661AF9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5C6D-56F1-4F3E-9AC2-C42CD4D94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5625-A126-45CF-ABE7-CCC0E12C6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69CF-CCBD-48A9-9FEF-DD623BB5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A8D0-0F14-40AF-A112-127E37FF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A7E3-AC7A-44C9-B83E-B2904A97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0CB16-51BE-49BE-B158-7A6DA5F41D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DBEB2-A65D-493C-8103-722A08A5FE8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1D13C-C4B1-44D0-8388-AB410DC4A4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3413160" y="836640"/>
            <a:ext cx="58388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00"/>
                </a:solidFill>
                <a:latin typeface="Arial"/>
                <a:ea typeface="汉仪菱心体简"/>
              </a:rPr>
              <a:t>设计的思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5504760" y="1585800"/>
            <a:ext cx="246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SHEJIDESI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1440" y="2714760"/>
            <a:ext cx="9142560" cy="4176720"/>
          </a:xfrm>
          <a:prstGeom prst="rect">
            <a:avLst/>
          </a:prstGeom>
          <a:solidFill>
            <a:srgbClr val="0033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4915800" y="346716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汉仪菱心体简"/>
                <a:ea typeface="汉仪菱心体简"/>
              </a:rPr>
              <a:t>认真 细心 仔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1190880" y="5407200"/>
            <a:ext cx="213156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汉仪菱心体简"/>
              </a:rPr>
              <a:t>一个步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方正幼线简体"/>
              </a:rPr>
              <a:t>可能改变你的结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856080" y="620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方正正中黑简体"/>
              </a:rPr>
              <a:t>精心打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1692360" y="1773360"/>
            <a:ext cx="7043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"/>
                <a:ea typeface="幼圆"/>
              </a:rPr>
              <a:t>一、仔细的跟客户沟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"/>
                <a:ea typeface="幼圆"/>
              </a:rPr>
              <a:t>二、分析客户的要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"/>
                <a:ea typeface="幼圆"/>
              </a:rPr>
              <a:t>三、根据分析的结果制定实施方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"/>
                <a:ea typeface="幼圆"/>
              </a:rPr>
              <a:t>四、根据方案完成设计并交付客户审核稿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"/>
                <a:ea typeface="幼圆"/>
              </a:rPr>
              <a:t>五、积极的跟客户沟通直至设计完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3"/>
              <p:cNvSpPr txBox="1"/>
              <p:nvPr/>
            </p:nvSpPr>
            <p:spPr>
              <a:xfrm>
                <a:off x="4114800" y="3755880"/>
                <a:ext cx="114480" cy="2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7" name="Rectangle 4"/>
          <p:cNvSpPr/>
          <p:nvPr/>
        </p:nvSpPr>
        <p:spPr>
          <a:xfrm>
            <a:off x="1440" y="303120"/>
            <a:ext cx="9142560" cy="317520"/>
          </a:xfrm>
          <a:prstGeom prst="rect">
            <a:avLst/>
          </a:prstGeom>
          <a:solidFill>
            <a:srgbClr val="0033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641160" y="857160"/>
            <a:ext cx="161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808080"/>
                </a:solidFill>
                <a:latin typeface="Arial Black"/>
              </a:rPr>
              <a:t>ON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 flipV="1">
            <a:off x="1440" y="6092280"/>
            <a:ext cx="9142560" cy="215640"/>
          </a:xfrm>
          <a:prstGeom prst="rect">
            <a:avLst/>
          </a:prstGeom>
          <a:solidFill>
            <a:srgbClr val="0033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 flipV="1">
            <a:off x="627120" y="6092280"/>
            <a:ext cx="700200" cy="21564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8245440" y="5300640"/>
            <a:ext cx="287280" cy="25416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8388360" y="5373720"/>
            <a:ext cx="504720" cy="5032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1937520" y="19177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Berlin Sans FB Demi"/>
                <a:ea typeface="幼圆"/>
              </a:rPr>
              <a:t>一、仔细的跟客户沟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3652200" y="2565360"/>
            <a:ext cx="2771280" cy="299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幼圆"/>
                <a:ea typeface="幼圆"/>
              </a:rPr>
              <a:t>1</a:t>
            </a:r>
            <a:r>
              <a:rPr b="0" lang="zh-CN" sz="2000" spc="-1" strike="noStrike">
                <a:solidFill>
                  <a:srgbClr val="003300"/>
                </a:solidFill>
                <a:latin typeface="幼圆"/>
                <a:ea typeface="幼圆"/>
              </a:rPr>
              <a:t>、询问客户的具体要求或客户本身的构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幼圆"/>
                <a:ea typeface="幼圆"/>
              </a:rPr>
              <a:t>2</a:t>
            </a:r>
            <a:r>
              <a:rPr b="0" lang="zh-CN" sz="2000" spc="-1" strike="noStrike">
                <a:solidFill>
                  <a:srgbClr val="003300"/>
                </a:solidFill>
                <a:latin typeface="幼圆"/>
                <a:ea typeface="幼圆"/>
              </a:rPr>
              <a:t>、向客户索要设计过程中所需要的内容（文字、图像、视频等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幼圆"/>
                <a:ea typeface="幼圆"/>
              </a:rPr>
              <a:t>3</a:t>
            </a:r>
            <a:r>
              <a:rPr b="0" lang="zh-CN" sz="2000" spc="-1" strike="noStrike">
                <a:solidFill>
                  <a:srgbClr val="003300"/>
                </a:solidFill>
                <a:latin typeface="幼圆"/>
                <a:ea typeface="幼圆"/>
              </a:rPr>
              <a:t>、在交流的过程中告诉客户本身不可行的方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幼圆"/>
                <a:ea typeface="幼圆"/>
              </a:rPr>
              <a:t>4</a:t>
            </a:r>
            <a:r>
              <a:rPr b="0" lang="zh-CN" sz="2000" spc="-1" strike="noStrike">
                <a:solidFill>
                  <a:srgbClr val="003300"/>
                </a:solidFill>
                <a:latin typeface="幼圆"/>
                <a:ea typeface="幼圆"/>
              </a:rPr>
              <a:t>、联系方式方便以后做进一步的交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0" y="303120"/>
            <a:ext cx="9144000" cy="317520"/>
          </a:xfrm>
          <a:prstGeom prst="rect">
            <a:avLst/>
          </a:prstGeom>
          <a:solidFill>
            <a:srgbClr val="0033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 flipV="1">
            <a:off x="1440" y="6092280"/>
            <a:ext cx="9178920" cy="215640"/>
          </a:xfrm>
          <a:prstGeom prst="rect">
            <a:avLst/>
          </a:prstGeom>
          <a:solidFill>
            <a:srgbClr val="0033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 flipV="1">
            <a:off x="627120" y="6092280"/>
            <a:ext cx="700200" cy="21564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8245440" y="5300640"/>
            <a:ext cx="287280" cy="25416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8388360" y="5373720"/>
            <a:ext cx="504720" cy="5032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2634480" y="191772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二、分析客户的要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2093760" y="2565360"/>
            <a:ext cx="2649600" cy="171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幼圆"/>
                <a:ea typeface="幼圆"/>
              </a:rPr>
              <a:t>1</a:t>
            </a:r>
            <a:r>
              <a:rPr b="0" lang="zh-CN" sz="2000" spc="-1" strike="noStrike">
                <a:solidFill>
                  <a:srgbClr val="003300"/>
                </a:solidFill>
                <a:latin typeface="幼圆"/>
                <a:ea typeface="幼圆"/>
              </a:rPr>
              <a:t>、整理客户的要求仔细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幼圆"/>
                <a:ea typeface="幼圆"/>
              </a:rPr>
              <a:t>2</a:t>
            </a:r>
            <a:r>
              <a:rPr b="0" lang="zh-CN" sz="1800" spc="-1" strike="noStrike">
                <a:solidFill>
                  <a:srgbClr val="003300"/>
                </a:solidFill>
                <a:latin typeface="幼圆"/>
                <a:ea typeface="幼圆"/>
              </a:rPr>
              <a:t>、分析客户想要达到一种什么样的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幼圆"/>
                <a:ea typeface="幼圆"/>
              </a:rPr>
              <a:t>3</a:t>
            </a:r>
            <a:r>
              <a:rPr b="0" lang="zh-CN" sz="1800" spc="-1" strike="noStrike">
                <a:solidFill>
                  <a:srgbClr val="003300"/>
                </a:solidFill>
                <a:latin typeface="幼圆"/>
                <a:ea typeface="幼圆"/>
              </a:rPr>
              <a:t>、分析设计与客户要求结果可行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0" y="303120"/>
            <a:ext cx="9140760" cy="317520"/>
          </a:xfrm>
          <a:prstGeom prst="rect">
            <a:avLst/>
          </a:prstGeom>
          <a:solidFill>
            <a:srgbClr val="0033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 flipV="1">
            <a:off x="1440" y="6092280"/>
            <a:ext cx="9178920" cy="215640"/>
          </a:xfrm>
          <a:prstGeom prst="rect">
            <a:avLst/>
          </a:prstGeom>
          <a:solidFill>
            <a:srgbClr val="0033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 flipV="1">
            <a:off x="627120" y="6092280"/>
            <a:ext cx="700200" cy="21564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8245440" y="5300640"/>
            <a:ext cx="287280" cy="25416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8388360" y="5373720"/>
            <a:ext cx="504720" cy="5032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1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3548880" y="191772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三、根据分析的结果制定实施方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3040200" y="2565360"/>
            <a:ext cx="448920" cy="171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幼圆"/>
                <a:ea typeface="幼圆"/>
              </a:rPr>
              <a:t>1</a:t>
            </a:r>
            <a:r>
              <a:rPr b="0" lang="zh-CN" sz="2000" spc="-1" strike="noStrike">
                <a:solidFill>
                  <a:srgbClr val="003300"/>
                </a:solidFill>
                <a:latin typeface="幼圆"/>
                <a:ea typeface="幼圆"/>
              </a:rPr>
              <a:t>、整理分析结果制定可行性方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幼圆"/>
                <a:ea typeface="幼圆"/>
              </a:rPr>
              <a:t>2</a:t>
            </a:r>
            <a:r>
              <a:rPr b="0" lang="zh-CN" sz="1800" spc="-1" strike="noStrike">
                <a:solidFill>
                  <a:srgbClr val="003300"/>
                </a:solidFill>
                <a:latin typeface="幼圆"/>
                <a:ea typeface="幼圆"/>
              </a:rPr>
              <a:t>、根据方案进行分配任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幼圆"/>
                <a:ea typeface="幼圆"/>
              </a:rPr>
              <a:t>3</a:t>
            </a:r>
            <a:r>
              <a:rPr b="0" lang="zh-CN" sz="1800" spc="-1" strike="noStrike">
                <a:solidFill>
                  <a:srgbClr val="003300"/>
                </a:solidFill>
                <a:latin typeface="幼圆"/>
                <a:ea typeface="幼圆"/>
              </a:rPr>
              <a:t>、随时根据要求进行调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0" y="303120"/>
            <a:ext cx="9144000" cy="317520"/>
          </a:xfrm>
          <a:prstGeom prst="rect">
            <a:avLst/>
          </a:prstGeom>
          <a:solidFill>
            <a:srgbClr val="0033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 flipV="1">
            <a:off x="1440" y="6092280"/>
            <a:ext cx="9178920" cy="215640"/>
          </a:xfrm>
          <a:prstGeom prst="rect">
            <a:avLst/>
          </a:prstGeom>
          <a:solidFill>
            <a:srgbClr val="0033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 flipV="1">
            <a:off x="627120" y="6092280"/>
            <a:ext cx="700200" cy="21564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8245440" y="5300640"/>
            <a:ext cx="287280" cy="25416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8388360" y="5373720"/>
            <a:ext cx="504720" cy="5032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4158360" y="191772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四、根据方案完成设计并交付客户审核稿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3802320" y="2565360"/>
            <a:ext cx="448920" cy="171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幼圆"/>
                <a:ea typeface="幼圆"/>
              </a:rPr>
              <a:t>1</a:t>
            </a:r>
            <a:r>
              <a:rPr b="0" lang="zh-CN" sz="2000" spc="-1" strike="noStrike">
                <a:solidFill>
                  <a:srgbClr val="003300"/>
                </a:solidFill>
                <a:latin typeface="幼圆"/>
                <a:ea typeface="幼圆"/>
              </a:rPr>
              <a:t>、根据客户要求完成设计后交付客户进行审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幼圆"/>
                <a:ea typeface="幼圆"/>
              </a:rPr>
              <a:t>2</a:t>
            </a:r>
            <a:r>
              <a:rPr b="0" lang="zh-CN" sz="1800" spc="-1" strike="noStrike">
                <a:solidFill>
                  <a:srgbClr val="003300"/>
                </a:solidFill>
                <a:latin typeface="幼圆"/>
                <a:ea typeface="幼圆"/>
              </a:rPr>
              <a:t>、根据客户审阅后的具体要求再次进行修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幼圆"/>
                <a:ea typeface="幼圆"/>
              </a:rPr>
              <a:t>3</a:t>
            </a:r>
            <a:r>
              <a:rPr b="0" lang="zh-CN" sz="1800" spc="-1" strike="noStrike">
                <a:solidFill>
                  <a:srgbClr val="003300"/>
                </a:solidFill>
                <a:latin typeface="幼圆"/>
                <a:ea typeface="幼圆"/>
              </a:rPr>
              <a:t>、随时根据要求进行调整设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0" y="303120"/>
            <a:ext cx="9144000" cy="317520"/>
          </a:xfrm>
          <a:prstGeom prst="rect">
            <a:avLst/>
          </a:prstGeom>
          <a:solidFill>
            <a:srgbClr val="0033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 flipV="1">
            <a:off x="1440" y="6092280"/>
            <a:ext cx="9178920" cy="215640"/>
          </a:xfrm>
          <a:prstGeom prst="rect">
            <a:avLst/>
          </a:prstGeom>
          <a:solidFill>
            <a:srgbClr val="0033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 flipV="1">
            <a:off x="627120" y="6092280"/>
            <a:ext cx="700200" cy="21564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8245440" y="5300640"/>
            <a:ext cx="287280" cy="25416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8388360" y="5373720"/>
            <a:ext cx="504720" cy="5032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4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4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3701160" y="191772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五、积极的跟客户沟通直至设计完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3421080" y="2565360"/>
            <a:ext cx="448920" cy="223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幼圆"/>
                <a:ea typeface="幼圆"/>
              </a:rPr>
              <a:t>1</a:t>
            </a:r>
            <a:r>
              <a:rPr b="0" lang="zh-CN" sz="2000" spc="-1" strike="noStrike">
                <a:solidFill>
                  <a:srgbClr val="003300"/>
                </a:solidFill>
                <a:latin typeface="幼圆"/>
                <a:ea typeface="幼圆"/>
              </a:rPr>
              <a:t>、积极的跟客户进行及时的额沟通工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幼圆"/>
                <a:ea typeface="幼圆"/>
              </a:rPr>
              <a:t>2</a:t>
            </a:r>
            <a:r>
              <a:rPr b="0" lang="zh-CN" sz="1800" spc="-1" strike="noStrike">
                <a:solidFill>
                  <a:srgbClr val="003300"/>
                </a:solidFill>
                <a:latin typeface="幼圆"/>
                <a:ea typeface="幼圆"/>
              </a:rPr>
              <a:t>、保证在时间与质量上都达到客户的要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幼圆"/>
                <a:ea typeface="幼圆"/>
              </a:rPr>
              <a:t>3</a:t>
            </a:r>
            <a:r>
              <a:rPr b="0" lang="zh-CN" sz="1800" spc="-1" strike="noStrike">
                <a:solidFill>
                  <a:srgbClr val="003300"/>
                </a:solidFill>
                <a:latin typeface="幼圆"/>
                <a:ea typeface="幼圆"/>
              </a:rPr>
              <a:t>、直至完成整个设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幼圆"/>
                <a:ea typeface="幼圆"/>
              </a:rPr>
              <a:t>4</a:t>
            </a:r>
            <a:r>
              <a:rPr b="0" lang="zh-CN" sz="1800" spc="-1" strike="noStrike">
                <a:solidFill>
                  <a:srgbClr val="003300"/>
                </a:solidFill>
                <a:latin typeface="幼圆"/>
                <a:ea typeface="幼圆"/>
              </a:rPr>
              <a:t>、交付完成设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0" y="303120"/>
            <a:ext cx="9144000" cy="317520"/>
          </a:xfrm>
          <a:prstGeom prst="rect">
            <a:avLst/>
          </a:prstGeom>
          <a:solidFill>
            <a:srgbClr val="0033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 flipV="1">
            <a:off x="1440" y="6092280"/>
            <a:ext cx="9178920" cy="215640"/>
          </a:xfrm>
          <a:prstGeom prst="rect">
            <a:avLst/>
          </a:prstGeom>
          <a:solidFill>
            <a:srgbClr val="0033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 flipV="1">
            <a:off x="627120" y="6092280"/>
            <a:ext cx="700200" cy="21564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8245440" y="5300640"/>
            <a:ext cx="287280" cy="25416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8388360" y="5373720"/>
            <a:ext cx="504720" cy="5032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8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AutoShape 2"/>
          <p:cNvSpPr/>
          <p:nvPr/>
        </p:nvSpPr>
        <p:spPr>
          <a:xfrm rot="5400000">
            <a:off x="1834920" y="-1214280"/>
            <a:ext cx="5472360" cy="9142560"/>
          </a:xfrm>
          <a:prstGeom prst="flowChartDelay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3205080" y="285264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Arial"/>
                <a:ea typeface="汉仪菱心体简"/>
              </a:rPr>
              <a:t>谢谢观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0" y="303120"/>
            <a:ext cx="9144000" cy="317520"/>
          </a:xfrm>
          <a:prstGeom prst="rect">
            <a:avLst/>
          </a:prstGeom>
          <a:solidFill>
            <a:srgbClr val="0033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 flipV="1">
            <a:off x="1440" y="6092280"/>
            <a:ext cx="9178920" cy="215640"/>
          </a:xfrm>
          <a:prstGeom prst="rect">
            <a:avLst/>
          </a:prstGeom>
          <a:solidFill>
            <a:srgbClr val="0033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 flipV="1">
            <a:off x="627120" y="6092280"/>
            <a:ext cx="700200" cy="21564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4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8-05T06:31:10Z</dcterms:modified>
  <cp:revision>1</cp:revision>
  <dc:subject/>
  <dc:title>PowerPoint 演示文稿</dc:title>
</cp:coreProperties>
</file>