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962-5B2B-43EC-A082-8506D290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A57-46A4-4F77-9664-B0CDDAF8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F3F-1A1E-4BF3-9D91-BEDBB730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D21-8D02-4EE3-9B51-1B9873F4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241D-43CA-4B78-AAF7-17B7FE70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1AED-A3D4-44BC-A6F8-52ACF01B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FA60-EFB0-4DE4-9640-1A9862DF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7A52-7278-44AB-80F1-6D315BF7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263B-FADB-49A7-A039-47ABF223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F1E0-56BD-4EB1-BBF6-85740DCD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4BEF-1508-4C9F-ABA6-CB91BBE6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134-ADB1-414F-AC30-CAA7D98C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3AD0-C00E-43EB-8503-5F111810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9BA5-0795-4E55-9BF1-35D13748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BCB9-826C-49B5-8DD9-61A1C3F7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92FF-5115-484B-BB64-D5450853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8C64-8229-435E-89BB-A0BFCA8A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487-19BC-4820-9C22-C723E3D3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147-D1E6-4C3C-889A-11B50C76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6AB-5911-4DD2-A2A6-6A8744FD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12D-6EBC-4D40-A942-DE58C680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49F-7CFE-48E9-B1C5-05D918B6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AA3-569E-4378-B124-5BC6DC7C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291-2C07-4248-9DF5-7DA19516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5F8F-9F31-453E-9B81-4E366F748E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513C-FB6D-4F98-8D46-90BE9BA50C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1347-22C8-46F6-A268-989C31F842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23"/>
          <p:cNvPicPr/>
          <p:nvPr/>
        </p:nvPicPr>
        <p:blipFill>
          <a:blip r:embed="rId1"/>
          <a:stretch/>
        </p:blipFill>
        <p:spPr>
          <a:xfrm>
            <a:off x="1440" y="-74520"/>
            <a:ext cx="9144000" cy="6933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"/>
          <p:cNvPicPr/>
          <p:nvPr/>
        </p:nvPicPr>
        <p:blipFill>
          <a:blip r:embed="rId2"/>
          <a:stretch/>
        </p:blipFill>
        <p:spPr>
          <a:xfrm>
            <a:off x="1260360" y="-74520"/>
            <a:ext cx="6777000" cy="6773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209760" y="4438800"/>
            <a:ext cx="33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标     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-31680" y="-22320"/>
            <a:ext cx="9212040" cy="68803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2"/>
          <p:cNvPicPr/>
          <p:nvPr/>
        </p:nvPicPr>
        <p:blipFill>
          <a:blip r:embed="rId1"/>
          <a:stretch/>
        </p:blipFill>
        <p:spPr>
          <a:xfrm>
            <a:off x="-31680" y="-22320"/>
            <a:ext cx="2873160" cy="28749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80880" y="42228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  <a:ea typeface="微软雅黑"/>
              </a:rPr>
              <a:t>标题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-31680" y="-22320"/>
            <a:ext cx="9212040" cy="68803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2"/>
          <p:cNvPicPr/>
          <p:nvPr/>
        </p:nvPicPr>
        <p:blipFill>
          <a:blip r:embed="rId1"/>
          <a:stretch/>
        </p:blipFill>
        <p:spPr>
          <a:xfrm>
            <a:off x="2052720" y="365040"/>
            <a:ext cx="5008320" cy="50086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4151160" y="3645000"/>
            <a:ext cx="142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微软雅黑"/>
              </a:rPr>
              <a:t>聆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09:06:07Z</dcterms:created>
  <dc:creator>ks13434</dc:creator>
  <dc:description/>
  <cp:keywords/>
  <dc:language>en-US</dc:language>
  <cp:lastModifiedBy>a</cp:lastModifiedBy>
  <dcterms:modified xsi:type="dcterms:W3CDTF">2014-07-26T07:12:4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