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712-6603-48F0-9B35-7529B5BC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5AA-C540-4378-AB7F-8996EA6D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4F6-E585-48DE-A3B8-AE759299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E89-1A78-405B-85C1-6BF7DC1A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B232-61AA-47E7-9998-F8E218F1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BA4F-0392-4C3C-800C-A59E5659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D7E9-020F-4E0A-81FB-B728F973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FDA3-6408-4C00-9D92-746DFA33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2F95-12A7-4721-BCC2-90AC4313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241D-85AF-4C26-8637-7EA16476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B5B4-A57B-43F9-95E3-22F137DC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9C1-F864-4414-AEFA-BA72253B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EA31-ACA3-401A-AB0C-ACD6C88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F144-4DC1-4523-9C1E-3226592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77C2-2F63-4BED-8B5B-7E5C24E4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F8E3-655C-4CBC-91C4-64A451EE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E6E-9CCA-4B29-B3E7-CB3EA1BC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697-96B2-44AD-AA68-BEC950B0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1337-CBC3-49E7-8915-95D450ED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3F5-834C-4AD1-8049-EA27AA48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E80-D9AC-49E8-BD42-A5ED873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559-CF1A-4123-AC7A-3318A539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247-F6CF-43DB-AC2F-77111A6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802-CEB2-4BB8-8E1B-B92C271B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DFB-1C79-468B-B220-86C83A37E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195B-A87E-478A-BA72-EF5E9FEAB4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1381-5B89-4311-BBB1-3F83AEA5BD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3"/>
          <p:cNvPicPr/>
          <p:nvPr/>
        </p:nvPicPr>
        <p:blipFill>
          <a:blip r:embed="rId1"/>
          <a:stretch/>
        </p:blipFill>
        <p:spPr>
          <a:xfrm>
            <a:off x="-31680" y="189000"/>
            <a:ext cx="9139320" cy="710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123"/>
          <p:cNvPicPr/>
          <p:nvPr/>
        </p:nvPicPr>
        <p:blipFill>
          <a:blip r:embed="rId2"/>
          <a:stretch/>
        </p:blipFill>
        <p:spPr>
          <a:xfrm>
            <a:off x="338040" y="44280"/>
            <a:ext cx="9202680" cy="6147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-22320"/>
            <a:ext cx="9107640" cy="500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6380280"/>
            <a:ext cx="910764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771640" y="4581360"/>
            <a:ext cx="3745080" cy="648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123"/>
          <p:cNvPicPr/>
          <p:nvPr/>
        </p:nvPicPr>
        <p:blipFill>
          <a:blip r:embed="rId3"/>
          <a:stretch/>
        </p:blipFill>
        <p:spPr>
          <a:xfrm>
            <a:off x="539640" y="3571920"/>
            <a:ext cx="5295960" cy="3529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57760" y="463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  <a:ea typeface="华文隶书"/>
              </a:rPr>
              <a:t>蛇年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23"/>
          <p:cNvPicPr/>
          <p:nvPr/>
        </p:nvPicPr>
        <p:blipFill>
          <a:blip r:embed="rId1"/>
          <a:stretch/>
        </p:blipFill>
        <p:spPr>
          <a:xfrm>
            <a:off x="-31680" y="44280"/>
            <a:ext cx="913932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-22320"/>
            <a:ext cx="9107640" cy="5000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6380280"/>
            <a:ext cx="9107640" cy="504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39640" y="549360"/>
            <a:ext cx="3745080" cy="6476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23"/>
          <p:cNvPicPr/>
          <p:nvPr/>
        </p:nvPicPr>
        <p:blipFill>
          <a:blip r:embed="rId2"/>
          <a:stretch/>
        </p:blipFill>
        <p:spPr>
          <a:xfrm>
            <a:off x="-2335320" y="-958680"/>
            <a:ext cx="69040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123"/>
          <p:cNvPicPr/>
          <p:nvPr/>
        </p:nvPicPr>
        <p:blipFill>
          <a:blip r:embed="rId1"/>
          <a:stretch/>
        </p:blipFill>
        <p:spPr>
          <a:xfrm>
            <a:off x="2195640" y="963720"/>
            <a:ext cx="4757760" cy="356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091040" y="3573360"/>
            <a:ext cx="10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  <a:ea typeface="微软雅黑"/>
              </a:rPr>
              <a:t>谢谢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9:28:05Z</dcterms:created>
  <dc:creator>ks13434</dc:creator>
  <dc:description/>
  <cp:keywords/>
  <dc:language>en-US</dc:language>
  <cp:lastModifiedBy>a</cp:lastModifiedBy>
  <dcterms:modified xsi:type="dcterms:W3CDTF">2014-08-08T05:02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