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48EF-7C99-4C51-9F04-8E4C6DCB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E55-1B05-42DD-B099-C7FB0F65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E8C-11AE-4860-9845-7F04CBD1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BE18-7F8E-465C-A29B-16F97C4E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4D9D-C1D7-41E8-B8FF-5B0E3AE3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AB27-FBFF-4162-883E-60640D7C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A11E-0F70-47DE-8C67-AE3F23DD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28BF-6320-4877-931E-1BBCAA60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2231-7031-44CB-A61B-A445936C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8F76-39B3-40CC-90AC-E91C3581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CB17-92E4-463D-958C-E87A1D86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84A-D691-439B-8E18-7A60440E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5C7A-F816-4038-85B7-5047464D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99D0-EE86-4504-BFB3-F30A1130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CF81-1DBF-479F-9FAD-3ECC5C9B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0262-B33E-4246-8663-27A76BC9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256C-02A7-40A3-88F5-1AA3B363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BC197-0228-4874-A6CF-8D0424B1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43065-333E-4F1B-8FE7-E17A1C8C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20F6E-EAE6-466E-BE7C-42B4BBE1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C9D14-6D5D-4551-8141-D3510072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2E6BC-8CD0-4E8D-B8A0-6E02C75F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467-49C3-4C01-9C92-B3D06A70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A75D6-45FA-4876-B733-C929AF91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9D8BA-E791-414D-8556-7B9856E2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2C090-A24E-424C-8CDF-10A373ED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30973-AFF8-444C-B642-DD2B2D0E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8AC2F-7A87-49A1-8C68-F5D3F436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76B3A-B223-4CB3-8680-6965D59E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0FD6-D9D9-4718-934B-C87BA0AC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8753-8785-4B4A-935A-DC745F0F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C4D-791F-4F07-94BB-B454FA63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AAA-6459-4CE5-AA5F-FFED6409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3FD-7131-495A-A8E6-EF63E315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09D-EF7D-4E2D-B695-23C157BB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A85-ED68-46B9-85D3-65944AB1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62AC-5A8F-428F-9F39-8A0DD2C3F6A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9129-DD26-4942-934A-0A0DFC429E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1823-55B7-423A-A23A-942CF13039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5FD9-8E39-49EC-8989-880E7449CD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index"/>
          <p:cNvPicPr/>
          <p:nvPr/>
        </p:nvPicPr>
        <p:blipFill>
          <a:blip r:embed="rId1"/>
          <a:stretch/>
        </p:blipFill>
        <p:spPr>
          <a:xfrm>
            <a:off x="34920" y="0"/>
            <a:ext cx="91375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文字页ppt3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2173320" y="1631880"/>
            <a:ext cx="48466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标  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专题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专题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专题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文字页ppt4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906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2700360" y="3027240"/>
            <a:ext cx="28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专 题 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5840" y="-20520"/>
            <a:ext cx="9137520" cy="697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文字页ppt2"/>
          <p:cNvPicPr/>
          <p:nvPr/>
        </p:nvPicPr>
        <p:blipFill>
          <a:blip r:embed="rId1"/>
          <a:stretch/>
        </p:blipFill>
        <p:spPr>
          <a:xfrm>
            <a:off x="15840" y="-2052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324000" y="569880"/>
            <a:ext cx="243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专题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图片页ppt1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4T02:42:07Z</dcterms:modified>
  <cp:revision>1</cp:revision>
  <dc:subject/>
  <dc:title>PowerPoint 演示文稿</dc:title>
</cp:coreProperties>
</file>