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C572-2223-49EA-B643-319D626A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F9F0-6C2D-4900-9035-42ED68D3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975D6-B046-4C5A-91D0-5D303A3C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7CE5E-9197-4363-887B-BDDDF772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38FA6-F1B9-4E5A-8FB9-3D5971D4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F001D-787F-4E18-80EF-A65D86B4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724F6-499D-4F6C-B7B4-2AE3F3C7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0B06C-A668-4CC7-95A2-CBFC1FDD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E0915-3A7D-45CE-A8BB-AFB0E420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DCAE2-F012-43A0-8739-9BF2A538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D201D-14B4-40B8-A0C1-ED9D4E2C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8DFB1-F518-4F7C-8CFF-446E63BB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A48E-DA18-42D3-A247-72DF0885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683F4-8A1A-4518-B0F3-4F71EE30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2A90E-8941-428C-BD98-05B4D203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EDD17-81FC-47A8-8A4A-D08C5FFC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4F642-E920-4E47-8355-21DA6021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773F4-05AD-4C7E-BFDF-C28A0D61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D16C3-93BD-4756-B3BC-481B8C5C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B068B-2009-4D74-BEF7-500C39C2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878ED-F81F-4803-9CAF-7F179320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77B17-3EF7-4A33-9685-246D1ED9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EF288-E832-4289-A5B8-340F44A8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4604-B194-4E84-BCE6-D9AFA9F6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40FAF-7398-462D-9CF7-E6651B6A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840AC-B79F-4F7B-8F8A-B9DAA1E4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AC8CF-3069-47BC-9EC0-6E2CAB32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FD7D8-DF02-40E3-B555-0BA74A4A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81F3F-F159-4E7B-86E9-A98FFC49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F965A-823B-4BE9-887E-32074E4F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39B38-EEDF-40EC-A4AD-75922F46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C4690-D909-46D4-80BE-3826BB82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FACB8-3555-4A9B-946C-E9B7F6E5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21C12-240A-4AEB-92C6-BE224F01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8EB8-DC97-4369-8847-D80C30D6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B99FC-9CED-47D3-B297-91BDE514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E1F01-1B0A-44AE-87AE-B1FB0B55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2FFE7-C1A7-4C4A-BE9D-EC20B2C3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6C3E0-7776-44CF-84A2-A3453875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07095-00BF-4344-A524-893A1182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2E256-8A5C-4B91-ABC2-18AD4810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C1F05-E05A-4E81-A0BA-38136274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38CCE-11DE-4FB5-86A3-C0B9D1A1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A7678-32EC-4680-96AD-AC9B4F03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DAA8F-1188-433F-87DA-1545262F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A487-9E87-4BED-87AD-A7A71AE7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2E0ED-7E06-44FA-A3D3-1CF87E92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9E5CC-2B99-4593-8596-CA373E7C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DC890-059E-4A3E-BDD2-100A27E8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967A0-F616-4B3D-ADCF-24E8EF43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B115C-CA44-46BF-A363-5DEF1842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47572E-637E-4DA3-A04E-7919CFF1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E0DAD0-5CE5-4A00-B259-F6DFE5DC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0E0DAE-0A01-4F0A-8FD8-3467DE85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C21BB-12F5-4D45-9A1E-4E3ADCAF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EEAD77-2FE0-4FD9-8F27-B7558193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AC98-EDB5-492C-AB44-2A4F0922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D67B14-D2C9-4235-837B-4B21E45C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DDCAE5-0BCC-4FBB-B621-86713794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2DEC24-B6AC-4198-974A-3519E2ED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6262FE-584F-42D2-8F61-5FC5AA20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29F0C9-FE00-4CC3-AFB0-A0D7D791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10C195-C933-4F2E-A1B0-C473298F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D2D3A-C1A0-4A82-B592-7DA78FC8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0DEB-0016-43FA-947D-676FA04F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3819-C499-4E21-87EC-F8FC67B8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17B4-8DAA-4931-95FE-309B1DC4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D964-10BD-42E8-AC11-A2D312C2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214D-3E0C-48DA-ACBF-E273D900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5A9E-773D-4A72-8492-3E22F855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33C4-C4AD-4555-92E2-25DAEAE8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6392-0148-48CC-9547-97C9AADB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4096-EEB9-4EAA-ADDF-374789CC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9253-8492-4D54-96EB-ADF00927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B3053-68E5-407C-A461-7EE5E696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5DE92-1A0B-41C5-83D7-40814B9B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2BB0B-8C7B-4F73-8FC6-8ED89595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F8E7D-D321-43E2-B28B-E223EB9F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854BB-B79C-424A-9546-0FC26701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CEB1-1EAA-4653-8502-35E00804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921C3-3639-4F26-9806-53338858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CCCD6-039D-4491-A649-288BF0F1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97735-017A-4BB7-B431-7B8B97B5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82D1B-0116-4FFA-A8EB-5F0C2828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D3A94-BD8F-417A-A287-52A11BB2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09D69-3401-45CB-A073-80DFE219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E9A94-598E-4FB5-BF22-0E1525B8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DC659-A45A-4C38-A8AF-DCEADB17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ABF72-20D7-40B9-8271-9141031F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63C99-91E8-496A-8AE0-5B11BFD9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9A65-87AB-4940-818F-D605514B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6BBE1-57EF-4246-BCF0-D2EF102E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D7C01-5B54-4566-A560-65B0976E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898B7-D5CE-42DF-9B4A-B48153F7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C51E9-32CD-4F07-A7D4-1765F448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AFED9-0844-4D91-A68A-AEA03D71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5FBEE-9F5A-4C78-899E-1C150B69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73F48-7C5D-48CF-9444-BA96A076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94F0E-7DEC-48F4-9C77-C15601CC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1A65A-F393-47A7-876D-08A0767B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F9905-2357-44AE-ADF1-4A79F92F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1C8F-BCA8-45EE-A653-E12EE777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F1941-E7D1-4A40-AEDA-A2AF0930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BF003-1742-428A-8CF6-35A8E0C8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11D13-9449-4155-BC64-EF6C46EC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A0488-45FD-4478-A666-8E5A9E2D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A4E38-6754-4275-B0A0-DAB1E498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0A5BA-5728-4B81-89D4-8C0267F2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F59E1-D422-4BED-A841-C340C113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FE010-E7DF-47BD-871A-0924F7A9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DA6BE-F9F8-4055-91F8-6C5074BB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83FF4-BE4A-4E8C-A9CD-7E5CFE45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C87E-8BD0-47F9-9B20-91816B59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5E09E-F4DC-4CC1-ACD1-85EC85B2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E692C-319C-4EA3-99D2-BB704C33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154C1-D124-4CB9-926A-8EC96960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B7D86-3080-45D8-8CFE-94E500E8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8D8E6-1874-4E37-AD4B-FCF429FE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F3010-288F-4F3B-93A1-6601755E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FE96C-A4ED-46A7-9B2D-FAD39E8A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3E69D-F8D0-4EC9-BC84-8ACE64E2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6FAD5-798D-4D44-8989-18427E98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EDCA0-898F-48B9-8D0D-B2CF7C19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A16-F469-417F-A411-F86C92F5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46FA8-596E-47BD-AF4A-DA0258EA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8B3E5-6A38-437B-B1AE-4ADD7606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F96F4-BA2D-4E03-B56D-32564148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A75EB-9ACC-4A27-935E-14419BB2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56109-0D96-48E6-99B1-79D4C2E4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9A296-0C59-40AA-BBDF-573075A9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87358-5458-42A4-B92A-177AB37E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F2E6C-EE57-436C-9A62-58D4B836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81E85-DCAE-4E33-8237-8E4AD959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AFC62-E630-45E5-A4AE-AF16559A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D069-437E-4E91-A71E-49DC8CA3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EF858-26DE-4324-83D5-1CED23EE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265DB-5030-4EF0-9725-893A433E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6F452-2D79-4681-898C-C2864843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C6D57-0245-4900-A31E-949B3452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9DDA2-E135-43D6-BB89-DCB66D59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05C6D-D69F-4D79-9C0F-27AA01F9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B7FFE-5C62-4A61-B1AB-6EA39F40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35880-C845-43FD-AD8B-87032938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9240E-3BC1-4053-AF33-1A695974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336F9-B371-4BF2-81DC-14CE1E18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6E51-EFA7-481A-9899-3E4210F6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CBDD4-4BAB-4B95-9EE0-F5359FE7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1FAE1-3933-42C7-89DA-F1D531C3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E7A1A-12E7-4F94-95A8-6112547D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ACD7E-D8EF-4901-829D-65D4A15D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67EDA-B063-468E-8EB9-8527B79D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A46A8-9382-407C-80E3-6CE1E2D6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C17A6-8E25-4394-AEAA-43DAFAAD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5F6CE-20B2-4F6D-9B74-FE884407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EE3A0-1DFA-4381-9C44-3615A1C0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39C0F-38FB-47F4-85B5-E11F1205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DE0C-5FE5-4A10-A02D-650BD79233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D635-B013-4463-A125-2D85E5BB55E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DDE8-AC16-49A6-AED2-EC7692F75AE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FB56-A4C5-473C-A2A4-AEAC3D4EE6C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163E-4EA4-4F60-98F3-FF77B5E86CB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5D2D-E90C-4233-BE6C-82B9A21EDC4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6A1F-1BD9-4389-92F4-1A8F772D5E7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CA90-1965-4AA3-8411-87AED2FC445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D019-80A3-4490-B2A6-0AC27D3FCC5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9516-E20D-4149-8293-2F312319CEE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AF33-BC27-4F7B-81D9-4816047DCA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64DA-69F4-4293-90D2-EE3A3FFE043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462D-5E0C-4160-BA98-54CC5B2A574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E549-A264-4EE0-B99A-704CC8644D2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5E70-F966-4AFA-B70C-D5BA5695F97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8D8A-EC71-473D-9856-FB8B0EDBA65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C166-B80A-4E9B-ADB8-85FC45FE0D3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4EAA-8817-4673-BC90-F6A2A2B38E1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DCE4-26D2-460F-BC01-7C57D3C7552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A28A-6E72-4738-9E8E-167B87EAF40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1BEF-E449-4245-BECF-BCC819ED85A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61D3-985D-4D9F-9ADD-AB8E1CA420C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385F-C268-4562-9F35-CC6C3AFA20C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EC8C-C194-4541-B57F-6E0EE8F24D1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8924-E7B6-41D1-B5EE-6F53C4284DE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Picture 3" descr="ppt-01"/>
          <p:cNvPicPr/>
          <p:nvPr/>
        </p:nvPicPr>
        <p:blipFill>
          <a:blip r:embed="rId1"/>
          <a:stretch/>
        </p:blipFill>
        <p:spPr>
          <a:xfrm>
            <a:off x="0" y="12600"/>
            <a:ext cx="1216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3" descr="ppt-02"/>
          <p:cNvPicPr/>
          <p:nvPr/>
        </p:nvPicPr>
        <p:blipFill>
          <a:blip r:embed="rId1"/>
          <a:stretch/>
        </p:blipFill>
        <p:spPr>
          <a:xfrm>
            <a:off x="0" y="12600"/>
            <a:ext cx="1216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3" descr="ppt-03-03"/>
          <p:cNvPicPr/>
          <p:nvPr/>
        </p:nvPicPr>
        <p:blipFill>
          <a:blip r:embed="rId1"/>
          <a:stretch/>
        </p:blipFill>
        <p:spPr>
          <a:xfrm>
            <a:off x="-17640" y="-52560"/>
            <a:ext cx="12276360" cy="69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组合 3"/>
          <p:cNvGrpSpPr/>
          <p:nvPr/>
        </p:nvGrpSpPr>
        <p:grpSpPr>
          <a:xfrm>
            <a:off x="0" y="-33480"/>
            <a:ext cx="12168360" cy="6885000"/>
            <a:chOff x="0" y="-33480"/>
            <a:chExt cx="12168360" cy="6885000"/>
          </a:xfrm>
        </p:grpSpPr>
        <p:pic>
          <p:nvPicPr>
            <p:cNvPr id="540" name="Picture 2" descr="ppt-04"/>
            <p:cNvPicPr/>
            <p:nvPr/>
          </p:nvPicPr>
          <p:blipFill>
            <a:blip r:embed="rId1"/>
            <a:stretch/>
          </p:blipFill>
          <p:spPr>
            <a:xfrm>
              <a:off x="0" y="-33480"/>
              <a:ext cx="12168360" cy="68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3"/>
            <p:cNvSpPr/>
            <p:nvPr/>
          </p:nvSpPr>
          <p:spPr>
            <a:xfrm>
              <a:off x="3668760" y="986760"/>
              <a:ext cx="5630760" cy="54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当</a:t>
              </a: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你感到疲劳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停下手中的工作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深呼吸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静静地聆听心灵的声音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给心灵留一方净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给办公一次新呼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给生活一米阳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因为快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使每天、每小时、每分每秒都变得特别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轻松快乐办公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让工作变得有色彩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组合 3"/>
          <p:cNvGrpSpPr/>
          <p:nvPr/>
        </p:nvGrpSpPr>
        <p:grpSpPr>
          <a:xfrm>
            <a:off x="0" y="-31680"/>
            <a:ext cx="12168360" cy="6907320"/>
            <a:chOff x="0" y="-31680"/>
            <a:chExt cx="12168360" cy="6907320"/>
          </a:xfrm>
        </p:grpSpPr>
        <p:pic>
          <p:nvPicPr>
            <p:cNvPr id="543" name="Picture 2" descr="ppt-08"/>
            <p:cNvPicPr/>
            <p:nvPr/>
          </p:nvPicPr>
          <p:blipFill>
            <a:blip r:embed="rId1"/>
            <a:stretch/>
          </p:blipFill>
          <p:spPr>
            <a:xfrm>
              <a:off x="0" y="-31680"/>
              <a:ext cx="12168360" cy="690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Box 5"/>
            <p:cNvSpPr/>
            <p:nvPr/>
          </p:nvSpPr>
          <p:spPr>
            <a:xfrm>
              <a:off x="3674880" y="1122120"/>
              <a:ext cx="4898880" cy="56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ff"/>
                  </a:solidFill>
                  <a:latin typeface="Calibri"/>
                </a:rPr>
                <a:t>繁</a:t>
              </a: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重的工作常会让人感到疲惫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然而我们一直低着头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却忘记阳光依旧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微笑依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换种心情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给予生活一种阳光态度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奏响轻松节拍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弹响快乐音符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倾注你的热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每天收集一个微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快乐办公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轻松办公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给予工作一首协奏曲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组合 3"/>
          <p:cNvGrpSpPr/>
          <p:nvPr/>
        </p:nvGrpSpPr>
        <p:grpSpPr>
          <a:xfrm>
            <a:off x="0" y="-54000"/>
            <a:ext cx="12168360" cy="6919920"/>
            <a:chOff x="0" y="-54000"/>
            <a:chExt cx="12168360" cy="6919920"/>
          </a:xfrm>
        </p:grpSpPr>
        <p:pic>
          <p:nvPicPr>
            <p:cNvPr id="546" name="Picture 2" descr="ppt-05"/>
            <p:cNvPicPr/>
            <p:nvPr/>
          </p:nvPicPr>
          <p:blipFill>
            <a:blip r:embed="rId1"/>
            <a:stretch/>
          </p:blipFill>
          <p:spPr>
            <a:xfrm>
              <a:off x="0" y="-54000"/>
              <a:ext cx="12168360" cy="69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TextBox 3"/>
            <p:cNvSpPr/>
            <p:nvPr/>
          </p:nvSpPr>
          <p:spPr>
            <a:xfrm>
              <a:off x="3881520" y="2036160"/>
              <a:ext cx="502128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ff"/>
                  </a:solidFill>
                  <a:latin typeface="Calibri"/>
                </a:rPr>
                <a:t>每</a:t>
              </a: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天的阳光都是新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换换心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换换旋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轻轻旋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昨天已经过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所有的旋律仍在跳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组合 3"/>
          <p:cNvGrpSpPr/>
          <p:nvPr/>
        </p:nvGrpSpPr>
        <p:grpSpPr>
          <a:xfrm>
            <a:off x="0" y="-55440"/>
            <a:ext cx="12168360" cy="6895800"/>
            <a:chOff x="0" y="-55440"/>
            <a:chExt cx="12168360" cy="6895800"/>
          </a:xfrm>
        </p:grpSpPr>
        <p:pic>
          <p:nvPicPr>
            <p:cNvPr id="549" name="Picture 2" descr="ppt-06"/>
            <p:cNvPicPr/>
            <p:nvPr/>
          </p:nvPicPr>
          <p:blipFill>
            <a:blip r:embed="rId1"/>
            <a:stretch/>
          </p:blipFill>
          <p:spPr>
            <a:xfrm>
              <a:off x="0" y="-55440"/>
              <a:ext cx="12168360" cy="689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TextBox 4"/>
            <p:cNvSpPr/>
            <p:nvPr/>
          </p:nvSpPr>
          <p:spPr>
            <a:xfrm>
              <a:off x="3813120" y="1018800"/>
              <a:ext cx="4398840" cy="57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ff"/>
                  </a:solidFill>
                  <a:latin typeface="Calibri"/>
                </a:rPr>
                <a:t>心</a:t>
              </a: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简单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生活也就变得简单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有时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快乐其实很简单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每天的一缕和煦的阳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每天看到同事的一个微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渐渐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我发现工作有另一种快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享受快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在办公得到一份快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给自己一份期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我依旧相信快乐其实很简单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3" descr="ppt-07"/>
          <p:cNvPicPr/>
          <p:nvPr/>
        </p:nvPicPr>
        <p:blipFill>
          <a:blip r:embed="rId1"/>
          <a:stretch/>
        </p:blipFill>
        <p:spPr>
          <a:xfrm>
            <a:off x="-17640" y="12600"/>
            <a:ext cx="12161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54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8-13T01:59:4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