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333-FFB5-499C-A9C3-0D9A1B42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87B-2CB0-440B-A346-A2560239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7A3-F0F3-49D8-A2E7-2F676D61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E16-9706-4E44-83D2-5E37D309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486D-113B-4646-A35A-FE382C6D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5048-EF85-492D-B592-3F6D313D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1AFC-CA75-486C-AE76-10DEF271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C671-BB70-4553-A5B4-25A91FD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B980-05FD-49C0-8EAE-DBB65A0E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882-97C2-41D4-8326-5A0153B3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3351-BDA3-4031-9E3C-B59D1694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722-F6F1-4EC6-9502-7B18A950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7BE8-4112-4ADF-9552-802EFECF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BEBF-D3CA-48FA-9B8E-D7436712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2877-68B3-487B-B2B3-2C3E5D5A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7951-C985-49D4-A709-C1887230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65CD-F823-4C5F-958E-A2DA5280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AC0-D6B7-493D-AE3F-1EC28433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7AC-1714-4D0B-85B7-DF916079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9D7-A348-40B2-8690-CF136FE2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08F-92F9-47C0-A501-22C82BC3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BEC-78EB-45F2-A783-B98F3F85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F41-1629-4C79-A4B8-966977BF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175-C26E-44F3-ABC1-B3BEE26F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7D4F-12B2-43C9-B8DA-E63C904914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F335-B2E1-49F9-960F-6E49CBE66E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0465-2EDE-46A3-AFE1-C73D2E9326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256E-6A79-4BA8-BF32-C730983620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8100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0c0"/>
              </a:solidFill>
              <a:latin typeface="Arial Unicode MS"/>
              <a:ea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345600"/>
            <a:ext cx="71438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244061"/>
              </a:solidFill>
              <a:latin typeface="Arial Unicode MS"/>
              <a:ea typeface="Arial Unicode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14200" y="121392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7cc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98920" y="3141720"/>
            <a:ext cx="38908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44061"/>
                </a:solidFill>
                <a:latin typeface="Arial Unicode MS"/>
                <a:ea typeface="Arial Unicode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3:42:00Z</dcterms:created>
  <dc:creator>Moyea Software</dc:creator>
  <dc:description>Made by Moyea Software. To find more free PowerPoint templates, please visit http://www.dvd-ppt-slideshow.com/powerpoint-knowledge/powerpoint-templates.html</dc:description>
  <cp:keywords>free PowerPoint template download PPT template PowerPoint templates slideshow template POT POTX Power Point template slide show template technology powerpoint templates technology PowerPoint templates</cp:keywords>
  <dc:language>en-US</dc:language>
  <cp:lastModifiedBy>a</cp:lastModifiedBy>
  <dcterms:modified xsi:type="dcterms:W3CDTF">2015-01-12T08:25:14Z</dcterms:modified>
  <cp:revision>1</cp:revision>
  <dc:subject>Technology</dc:subject>
  <dc:title>Moyea Free Technology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