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2BB-860F-4F68-A94F-84C73BA2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2B7-9E28-4666-82F6-F629E51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664A4-5D35-4EC3-8514-B2859650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FED6D-69D6-42B6-A1B3-36677A58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A5539-D93D-465A-B217-B8195C94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0BBED-0A56-4B92-8C6B-45194554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89265-9F22-4524-8B25-2C95A04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E534-6D26-430C-B878-44FC6683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505CA-850B-4185-A96E-3F909683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D7077-64FC-49A8-906A-CFFEAA4F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F06D3-DA0B-4CE9-B244-3651443B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F112D-ADF6-41EE-A9DF-D944C4B7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B90-CA63-43F2-9526-2539572F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8DC2B-28DD-4879-8E74-3534E4D3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5E0EC-0A1A-4806-B10B-A3E6E682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5C27A-53D5-46AC-A0F9-A87B808F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C40CA-5B06-41FD-8285-1101EDF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75F2C-79B8-41EA-B439-808D1DF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0A23F-30F2-4767-9B43-61AB6959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4C099-4AE8-4351-848A-704BC55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5F974-2FF9-4C18-902D-5D9E55B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6A37A-3F2E-4DB8-891B-73334175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8523E-ACC7-4CE1-93EA-4B702E8C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208-2C2B-41D4-906F-B1A5AE4E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5F82-2038-4198-9601-4C66A344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C090A-BFEF-497D-8D34-2CC11AA5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7CE31-644D-4556-A42E-02A6E5ED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82A57-1329-468F-9DDA-FC704132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DAC4D-739B-4DC6-84B0-71CDFB7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6DB55-A11E-458A-9CF8-F4C077C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BDF5B-CEEE-4F90-9CDF-6EB3D64D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E0C85-5B0B-451F-87D5-3161EB7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30C4F-4567-4F6C-B401-6F07B5A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D6998-E5BE-418B-B7AF-E54E1254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AAD3-D2A6-471D-ABCE-6445B179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E45C4-6F6B-41A5-AE93-77B450BD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4B8CD-B613-4701-B3C7-C10B778C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1BC3E-113F-4DD7-8CB3-F68016E5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5E954-307B-4E46-AACD-0D8C9544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A8EE6-D661-4E88-A8CD-6DB89845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849EA-1113-4815-9EB2-4474E97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EA90E-8363-4736-A6B5-FC4014DC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E33FB-6C19-4A23-9EEE-DC5CEC6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B48D9-28D8-4A3C-ADA2-1CD932A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5DFC7-5C94-4B54-AD51-8BCDA4B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D20E-E396-4802-A067-D8DB089C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5C1B7-2416-4CE5-A5DB-2081B22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5BEFD-4E12-4938-9CCC-734BA6A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A3D42-C919-49B1-B860-58C6C441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0609B-7944-4EBA-B4C3-21B2A163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C1785-5AE3-4E29-85F2-E6C5C673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EC49E-40EB-4089-B791-7BD4E481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25738-810E-4507-9379-9B8B8331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D6F71-886E-4514-BF06-69F387AF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C327E-57F5-43C5-95E9-517F7EBB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A1AA6-FD33-4FC4-A245-25B68353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7688-DB92-4EE6-A69B-08FE755B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3013A-BCCC-45B1-8AD0-7B75FE83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983AF-D48E-46D0-AD02-43D282D2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6EAA0-A574-4DD7-8C8D-7516A90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22B91-A949-4BAC-8F16-E79AE63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F0B84-C822-4AE1-AB6D-9A42FDED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FFC15-D518-4A94-A2AF-BA3A1262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E8991D-0888-4C32-BDC5-E7DB554A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7391-AED5-40F7-A57B-D6D48AA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FD8-2452-4A0B-B62C-32F3925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90F-6860-4433-9F01-A79CBD53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29F6-0633-4897-840F-B845299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082-BB43-4DC2-BFDE-85A918E5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A092-BB73-4674-96AC-28AF6BA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712E-B1FD-429E-9632-57279F6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2A7D-F842-4E6B-BE7D-03E0E721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12D9-D455-4493-AD4A-30941392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7EA9-274E-4630-85B4-77891751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F451-908F-4A4E-9AD6-BE101C1A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23C0-BF6A-4F2A-92E2-CB7C394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7325-7DC1-42DB-B3E6-D587604F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9B01D-D798-4C78-BDB3-60521D4E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67F8-0734-42BB-9036-CCF15B1F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F75-5BC3-4F4D-9226-0D9BF50D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C63B-F77E-4858-A78E-3DA3422E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05CB-7591-482B-9FC2-B128E179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6D84-AB1D-451F-9664-ECAC2307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2BC7-AFDC-417C-9440-2862DF03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8840-B202-494A-81F5-4AB84CDF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3ED3-3B21-45BC-ABB3-3A4993E3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B889-4F99-4E48-B484-FA9AF346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569D-1156-4750-A45F-8F000A9A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DEEE-236A-4295-B37E-CA8C2D26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4DEF9-72B7-45B6-BF27-A69D48D1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D2E-461A-4B3B-AD61-07344723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3126-F786-46CF-95FC-4283FACA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7904-2469-41E2-A693-428FD985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0EF0-34AA-42BE-95A1-3A987DB7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CBA8-2AE7-4196-82A4-32B555B9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0089-47C2-4E45-AC63-5A29A0F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B9CD-54DB-440F-A4C3-48CE09B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5D04-793B-4823-89E0-15B1B87D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3EC0-55FB-4D8A-B624-E59E203C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7F3D2-747E-485D-8E8E-23817F66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EC65-F288-4A87-846C-E422502E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E65-A3EA-47A4-AF93-7B120368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BF62A-B1B6-4116-AD25-FD379DF8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92468-29CA-4B0B-BD1E-14F068CD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1B89-51CC-4CDE-9073-E70BB893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CF3FF-143A-4A41-A5BE-0F8A0EB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6E62-FB19-468B-9203-05EEFE98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DE11-72F4-4FAF-9E77-AF5667F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C334-87BE-4577-8193-1B468B83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9323F-18DC-4C35-831B-1C6172A4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2D6E8-C37A-40C6-B197-FCBDFF48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ABAD-A66B-4757-BBDA-588D1D5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6D5-F101-4305-AD0E-A2EBE690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220A8-CE4D-4CB2-9815-BC7076CC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E27A-2824-4B16-9426-E5AACBE0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B7DB-1964-43E4-A8AF-B8D829A9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55998-4DDA-4201-9FD5-A1D2ECB6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0F9F-BBB9-4D74-87FF-803D5053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AC90-7E5D-4AF8-9389-D02A940F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B7BF-13AD-4E19-B91F-23E98BB4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CC908-18A5-4497-8C38-E4E6E431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E8814-556D-49C8-A0AB-263E790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7EAFF-EF6B-483D-A867-061924E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512-E171-4C8C-B9EF-5003723F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07C0B-FE0C-4016-96E5-BD7BBF6C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C89B2-F00B-4AA6-9C42-A91D0885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FB90-78C3-4E34-AB6F-5F84C24F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E6A6-BDC8-449D-9B2E-9B3A3B1D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ABF8-9DB4-4429-A25A-5FE5B56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31E40-57C1-4038-9C5E-2611EDF2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7938-8C09-486E-A4ED-DFB4A23D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68667-7814-461C-B756-E0B3D652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A6E01-17B7-426E-96AE-0884F58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2210A-A434-4E00-A6CE-913F6363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A56-CE1E-40B5-BEA3-5169C1E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59AA3-3708-4320-A31B-E664B436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7B9F-0957-409F-964F-7B93779B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11797-AF7F-49CB-8090-ED30E45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863E-7743-49DF-A43D-08964B47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F4422-41DF-47EF-B097-E84828E2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3892E-CAE7-4C6D-9F11-ED9BA006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EAE04-60ED-4857-9876-75EA901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FBCA0-AD0C-44DF-A4A9-9A50F1A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3F1BF-1400-43EE-8713-D35D7DE3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CC177-F6F0-4F59-8384-2C849832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77E-9879-43AA-B968-38D52EB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0EF07-E7AD-456A-8800-4C023E7B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E3423-43DD-43DA-B443-B85B7137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1558-8412-41AD-979A-233B815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92F5B-D359-4B3F-9C3F-CEF52134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B9FA-EB37-4E9E-9F3E-0BA196FC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76F1-81BB-4FC8-A3B3-82E189C3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E1A4A-5823-47B7-98F2-61A30AD0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CA794-F49D-4A87-B2DD-093C575A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03558-A588-4A0E-8D49-94AC5290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25BCE-F05E-4AE1-B1CF-9AFC6AB3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C20E-C2CB-4207-93ED-6783D58607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EF95-9986-4711-BE33-DF4611096DC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6B5A-0036-4328-87E3-A9A7504AA7E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F377-9E8C-4E11-88FC-2FBF58FA703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FB12-EB8C-49CE-ADF6-310E707F16D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58E-77E8-413C-8893-D9AD7C9333E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2022-6579-40EB-8601-DC23E11AF2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C80D-F95D-4699-A2D4-15E416612F0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A43-81F0-4822-A03A-966CD74935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02E-E32E-4317-A221-EA93C95EBF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9C6-6332-493F-8395-2623185BF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3777-B598-4C11-9AE9-02BB1F002ED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D406-D0D1-4651-B78C-CAABB2DF7F5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111A-4A2A-41C2-9504-B40E6AB4AFC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5951-8A0E-4FCA-84EF-E92F4F58CA1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6EC-42FF-4E7B-A33D-3272AA290B6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2BC-56A2-4237-9898-25DEC844F22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55DE-5AD1-4E5D-9749-5911866C5BF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3823-6C29-4DA1-A65F-333FDC6B307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353A-35FA-4725-9D88-D57E1090229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93C9-6917-4301-AAA7-DF2DAD5A4AE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B02D-BE9E-4EE6-9BEB-030A1985AFE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717C-B667-42E5-B928-498E006008E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FB6C-7F57-4040-8910-40235DA89A5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5C0C-C84E-4FF9-95C7-34A4E57E279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logoW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7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9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10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3" descr="logoW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10" descr="tietle2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win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2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17" descr="IE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AutoShape 3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567" name="AutoShape 4"/>
          <p:cNvCxnSpPr>
            <a:stCxn id="565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568" name="Picture 5" descr="windows7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569" name="AutoShape 6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570" name="AutoShape 7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571" name="Text Box 8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573" name="Oval 3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Text Box 5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577" name="Oval 7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Rectangle 9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3431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1T06:44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