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CB1BB-CB99-4EC5-BF98-53E6C194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E575E-AA0E-4DBD-AE1B-435B6D68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10605-ACB5-44A5-B51A-4379778D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1CD19-1ADE-44AB-9660-FB03EC8E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2D5D4-2F12-4FA6-9693-40A98F26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8B60B-05C0-4F50-BA39-C059600E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AF24F-1140-4297-AB0D-EBD9353A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66BA1-1DA0-412B-ADA7-FC0811B3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FDE5B-6D25-4D84-A677-4E5E5042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5AA57-32C8-48AF-9B26-97CEAE5C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E8AE3-6702-48FB-B0F3-A535BC04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3E8DC-FCFA-44FC-9AEC-89FD78AF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14E91-19BC-4953-8C11-97714B95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9C14A-DA5F-4958-B319-8A1F26F5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ACD96-E922-4744-928C-1082CD5B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F940A-9AE7-4EA6-B6AC-3BC60A55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A5911-49C2-4A1C-9B79-B129975F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963EF-8DEC-4074-AB0B-B9D89935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C50C4-34C7-41B6-9821-36863820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4E4A6-2A8A-4FDC-8155-13AC08CF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D7C3B-089F-4E5F-9E7F-63F5BA3A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13858-373D-4661-B13F-9B820ABA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9B16F-F50B-49CB-BE47-016552E6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15E32-ECA4-47B1-98EB-9685B1D9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FBE16-CC1C-4EF3-B425-3635C1C2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34247-B6B6-457F-A57E-3DE1F979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8298F-31C3-4936-893D-BE010354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522F5-DDE9-45C8-87E3-1226261A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C9F31-CD70-453E-B99F-4921E5D2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D19AC-779E-4AFA-8A14-5A99EDB6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8A93E-A31A-47A3-8530-CBA85909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020DA-AEA8-455A-AE23-4246C0BE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9B785-8F77-4551-BE74-BD5FFCC4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1E778-ED05-4F7C-BC42-B6DDCC0A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BC691-9FA5-41C2-880F-D04B7EBC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479CC-15EB-459A-98CA-8F3031C8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3F8FE-9ACA-4563-A6E4-60593520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90B33-09D2-4447-B3BE-0D54BCC6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9EFE8-D069-494C-ADB7-4B7C105C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B4173-AB39-4FEC-A41F-16AB5DC2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DA823-246C-427E-9054-E09F9137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6C433-0D2E-4068-B3F7-7B027674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187A9-EEB1-477D-AC0A-E9EEC4B7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A873C-DF24-4BF5-9BB0-5A46F0DA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81983-CD91-47F8-9631-9BC4D542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FC40B-D1CF-4C78-AA43-556AF8E6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1158C-0D22-4709-8BD8-FC48E2CD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D0EEF-568D-4319-9863-CB4FFE64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0AF19-9C8C-4FFF-89FB-8EAAA959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20CA2-C24A-41F0-B7F5-857FC543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BA9F5-B961-4D7F-9536-FD2CACCE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48DB8-AD29-434E-B6D8-BA78D29B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443AC-63B8-41D5-9DD9-5FD3E361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DC0D5-4209-4EFF-ACED-52710E1D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923F0-E1D3-4ADE-BD23-FD1A7BA8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1F1B1-236D-412F-9AEA-6EB6EC8F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15142-9CAD-4F74-A28A-CD50037A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FA83D-ABC7-4F67-9029-B1FB434E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9B873-FB2B-408E-9466-87E1672A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3E7DC-DDFB-473C-9BC3-2A16BC15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E9398-F338-43CF-B595-17BFF663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B37F3-6FDA-462E-A220-6BA9A96A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BDA4C-9D8D-4AFC-A598-C9956DD8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6BDAE-F697-42B5-91EB-A627D952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E814E-C7E3-4AFB-9C86-548D0D34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B1A97-17D8-48FC-B1C9-57B633C1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AF378-952E-49BB-9789-C335FF15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7B888-3CC6-4ADF-BBFD-906C9BDB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CDE71-31DD-4E6E-A06C-5EEA36D1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D5DD-9BB0-47DE-8280-87DBB668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97D0-B961-426A-8638-20E7822D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C3C8-776E-4733-92C1-2B316D24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84E-980A-4384-8B09-73EF86D7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A8C8-0C7F-4815-B109-1E4C691E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A267-DFC7-4178-9864-E4C94D7A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1C2-B3F8-4CCE-BBDB-E5146148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533-E380-4CCA-B238-B29C0679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AC49-A049-4B56-969B-F47A7C6A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61B-91E1-4088-906C-DF2A9B5C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8BC-363D-4DF5-9CB0-A7F0AA64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CD9-B025-43B1-A80F-D951D9DD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00B4-3B00-4143-A42B-8877A824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E071-F140-460F-BB28-3D04E6E6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0478-E343-4E90-AC9F-10777D1C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3948-10B9-4D43-9B68-5FA8251C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F185-1B5E-445D-BD40-1ECDE485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DB76-E5DF-4AD6-84AD-472ECDA5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59BA-B351-47C8-B274-D53E02A3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3112-1D18-4D6B-8883-EF6F6A0F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EF13-6335-4804-A6A5-A87DE10A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5E64-B206-48F8-825F-38EC8D12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57DA-76BF-4EC5-A3E3-321E7755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8DAC-0F9A-4F7B-BBB0-32BDF6F0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AE5D8-0D9C-4FE8-A42B-FC5A2A30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5165C-FDC7-4E87-B7FE-EA9A3FF7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5857C-4B1D-4E2E-AB4D-4E3C0895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08221-BE42-4ACA-8A8A-9F41D10C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33235-F904-4437-8EA7-758115EE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352E9-8FAE-491B-BDCB-A1464151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2497F-FC62-43B8-845B-2F4F23A4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0CB09-74C5-499E-9F4E-6E202B6C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32E9D-7F49-474D-9A89-FD9B632B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B81B0-A5F5-4EE4-8B0B-B747F558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9D1A2-7872-43AB-B6F2-62F87E3A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95456-0B79-48E8-9F98-A73D4524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5D3BB-8E0D-42A2-8AE6-4707F739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FC1DB-3DDF-4AFC-BD55-6C8AEDA3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F9A85-1249-4082-9206-27093F20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2AA7B-B64A-4D9E-8B4B-C63FB672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D07A7-8D12-4414-A880-7E306323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10593-111F-4E8D-8B51-53C07CA8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2C94E-B624-43A7-8CD1-892E87AE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F0B1B-1AE2-46CE-8028-F1C3B989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61455-5B29-4F27-A835-1AAE8030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E73E3-C955-4DD1-BE54-44595E11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BE0B0-E02E-40CA-96BD-58E01BE6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EC943-0AB4-49B0-9A56-6BAA5D4A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75EEB-16CD-4565-9A57-D360E1B9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3D9B1-B31C-4067-AAD4-36D80DBE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D3EE9-1852-4127-8491-84DF56AA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5396E-8E42-4948-A8E4-EE0B2F90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2633E-ED03-4E97-88A2-94F0437F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2314C-8E1E-4EE7-9005-00917D61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BBF15-5198-4A54-935E-D967D520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3B895-2BB2-497E-8839-BD81AF87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FF91C-5511-438C-9544-67B34BCD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54BEA-02F7-4B18-A411-E5A15E58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1C1E4-53EB-4E89-9F6D-6487BA23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40779-432F-4FB5-8BF3-CC8971C6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850A4-F730-4441-AB38-0F434F1A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0ADEE-7BE4-4A16-BB08-66283EE4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196FF-2814-46F6-8507-420F9C78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244B0-F5BA-489D-9B62-859DE0D4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75023-2CA8-411D-8C99-D3C304BA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3C324-BF8F-4A0D-BDB2-1AAD7D54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B9600-1EC2-4229-93EA-D44CDA98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468DD-9680-41D5-831D-A61CAA6D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87B7D-7203-4580-A3CC-D8342FAD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CE570-BA9F-4233-AFEA-27A6DD11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BF821-64A4-4D77-B0CF-EEC835A3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38EA6-60FB-412A-98A4-4B3340B5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7BABB-8202-4E9E-9AA6-A17B90AF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4BDA9-596C-4942-951C-FAA02938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FEE4A-F81F-4402-8BEC-D3915FFD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02_070705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3572-75B6-4F51-9CEB-3D6ECBB01C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0878-3BE7-446E-BA44-66890D9A2F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F7FB-28A4-42A4-A4C9-96459740482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BDC9-DC76-452B-8937-05225070CD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7F6C-1713-4AD4-A40A-B6685F6E997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1200-A53B-4620-802A-8832D65E7B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2A5C-0616-4FA5-9ECE-D479A39CC06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70DD-6B3D-4D55-96DD-44EDC1BF10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E1A5-015C-4E11-BC7F-12D14558EED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4053-2DCA-4FFF-9CAA-24956D4697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02_070705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7584-44E7-4066-BDBF-8965B63B7CE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EB56-5AEF-48CE-970F-7302EE4709A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1591-E9AB-4A49-81C8-687C9A6F4F7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EBD1-BC02-4895-A430-7A80D63906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A838-B97C-4E69-9615-038EE8D839D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E5C5-3CA9-4372-A21A-4B3FEE77A2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20B1-00D9-4309-98C3-8A84B1091BB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4AC0-E73A-4439-9F78-7A89B83A65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9C1A-43A4-45AD-BA20-574D1A3C443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9C76-0447-4725-B912-BE1269B491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C35E-7363-443A-A85D-E97FA03DBDC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237E-A3B1-494F-936A-091A339052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38C2-3FE1-4BF2-B704-69F96232F51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18A8-D701-44A5-9E0E-78C818118C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4"/>
          <p:cNvSpPr/>
          <p:nvPr/>
        </p:nvSpPr>
        <p:spPr>
          <a:xfrm>
            <a:off x="2675160" y="2060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黑体"/>
              </a:rPr>
              <a:t>点击此处添加幻灯片标题</a:t>
            </a:r>
            <a:endParaRPr b="1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1000080" y="1714320"/>
            <a:ext cx="750096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8" name="TextBox 4"/>
          <p:cNvSpPr/>
          <p:nvPr/>
        </p:nvSpPr>
        <p:spPr>
          <a:xfrm>
            <a:off x="1543680" y="5716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方正黑体_GBK"/>
                <a:ea typeface="方正黑体_GBK"/>
              </a:rPr>
              <a:t>单击此处添加标题</a:t>
            </a:r>
            <a:endParaRPr b="1" lang="en-US" sz="3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4"/>
          <p:cNvSpPr/>
          <p:nvPr/>
        </p:nvSpPr>
        <p:spPr>
          <a:xfrm>
            <a:off x="3251520" y="27147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13f34"/>
                </a:solidFill>
                <a:latin typeface="Gulim"/>
                <a:ea typeface="创艺简中圆"/>
              </a:rPr>
              <a:t>谢谢您的观看</a:t>
            </a:r>
            <a:endParaRPr b="1" lang="en-US" sz="4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57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09:54:09Z</dcterms:created>
  <dc:creator/>
  <dc:description/>
  <cp:keywords/>
  <dc:language>en-US</dc:language>
  <cp:lastModifiedBy>a</cp:lastModifiedBy>
  <dcterms:modified xsi:type="dcterms:W3CDTF">2014-07-25T01:46:04Z</dcterms:modified>
  <cp:revision>79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