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AF137-B6A7-4854-88EE-715F886E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67440-05CB-4054-9197-939D26A1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51CE2-4673-49E9-9F51-FD11FBB8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FB8BF-915B-4CEC-A538-2EF7F352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4EC10-0B0C-4510-A7AB-8CF7EBFA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45AB8-A710-42AD-990A-33ADC829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44B42-FE3C-4125-924B-02DE3614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2D2F7-A7B8-4406-B0C8-6F6FA4C2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728F2-AEDB-4A48-8488-290F1360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6F16A-C053-4E9C-9B54-9D000AB8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B6429-7ACA-4611-917D-1FDA5B40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619F6-63F4-4681-AB60-FAF19633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1219E-D06C-4E15-B3F3-9B8F3C81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283AF-A996-4EF1-8E00-FDE84967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516FA-1727-47A1-ABFB-75036E90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7767C-DFB6-4FB6-98C2-4D25625E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B995D-1EEB-4A47-AF65-37E4C51F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DA5A5-F3BF-4159-AE36-FA2BB6D8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2CA06-5569-40C1-B273-4B1AA55C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92A02-AFB5-4353-83B3-28B24F48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3B16C-EC5D-484A-AE6A-BF039F0A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4FDD0-35FC-4F20-A885-795BC76B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C4F72-B7FA-4E22-9178-7940F20E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4135D-4C30-4C86-9C8C-6854AFB0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50C1C-7D9C-4B13-A960-0E6BA2D6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6D92D-2592-4D16-BBCF-3D78B9D2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51F8D-090A-4552-8733-3AF78C71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2780C-EC69-4B02-A827-A1A086BA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57415-5ECE-4F1A-AC28-312DBC7F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BDC12-122F-4456-93D0-B0100A1D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78F-9EE7-48BF-A9B4-9989A8A1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87321-9AB5-4C4B-B529-C9FCE83F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A5FB6-BB66-4C44-AA2F-DA8F1D8A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FD8AE-F5E7-4879-9A20-FCFACCCD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A350B-9847-44B3-9EB6-4B2EAA76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59B78-CEAF-41C6-A686-D07CF310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9C4CD-188F-438E-97EE-68B645A9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9D9D8-E373-47AD-8523-657F2D02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189AD-1C75-4C5E-B175-92101B49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3D73C-C16D-4FD2-A04C-0E260654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476B8-0C30-4B46-8190-F1091DB5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E38F-87FF-47DF-B5AB-F171CC24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039BE-83F3-41EF-8EC4-819AAD83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89B25-4E39-4FCB-9FF1-7541A126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3B38F-2AC1-4A77-A1C9-DD62618A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8AC12-9C06-4BF7-A595-D298B555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843CE-9801-4052-AA63-3CAFC6C1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C2F5B-1A84-4BDE-9166-D85C85F7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4E3C4-12C9-4F69-99D6-4785D9C1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4AE49-C80C-4246-8BAF-3304787B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4B199-194E-4B10-9AD3-60F04F97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A46AC-DBB8-410F-BCE1-6979C9FE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445-36C2-4718-A456-D2336397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F3BF9-4CBD-493C-B83A-34C968EF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96AFD-D358-4F4A-AD0D-A30FC554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AAA4F-8C35-44D7-AA05-D53C34B9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26A56-8347-44EF-A7AB-4520590B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FC248-CD89-4549-A43C-84DA3D36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355AE-34C5-4F98-9B5F-A64A3D5A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F4ED3-F011-4956-845D-1F30975B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C45410-5232-46ED-A723-F907D42A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0A5E6-E1D2-4B51-96F5-3D97C178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C9275-F99D-4717-A429-A384D2DD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9737-015D-49BE-976E-20F14D71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F0285-EF48-4FDE-B58C-64700B1C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09E29-8D71-468D-98EB-AB2C28A6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7B470-9211-4216-AA79-F765870E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408EB-29EE-402F-94EC-AD349495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4084B8-9EFB-401B-B98B-9BDE3B32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C894FA-F5BA-4D75-A12B-FC3E9446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A5C20-3015-419C-AB4A-12DB71FD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F1AE7F-8C54-4C5C-8A69-12071F12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FE9C3-1C2B-4457-B79A-3AD817E9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260-B57D-4F9B-8BF3-01358667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490-251F-4DCD-BDB5-D15DA4EE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0C83-50E8-4D82-ACDB-F18C4AD0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858-28BF-464B-9AFB-0ED75499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2614-4452-4D78-9E62-DFD345DE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1CB-AD9D-4546-8CBA-46D145D2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64E-F50D-4DEB-A2D7-B4AD2EC0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EBE9-D754-444D-87E3-7EBE212E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F465-4E40-4855-9267-83D86ABD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9DB5-B306-4440-B47A-6809C05B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3A09-6E5B-4214-BB80-9344C5A0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222D-E0B4-403D-A240-A1F7BB3B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3248-29D3-4156-96AA-15C15E3B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5179-EE27-4FE0-8A8D-57077094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C7F3-133A-4C83-8160-E5BCAF9E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FE74-A3AE-4194-AEAF-90815781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D10E-71CC-465A-8C2A-7E5AC7D2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5AB1-C537-4293-8D36-E7B16FA5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B1D3-2D23-4A95-9BEA-86D8C26D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8DA3-1C51-40BA-BD23-C5340106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61A9E-2125-4ED3-878B-0760701E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DA851-006A-4D27-AABD-92338B0D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7E11F-6114-4C0E-95AB-B90FF412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9F4BE-2FA4-4CEB-A935-5CB084B2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B77D4-060B-4299-8BB1-87045043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92091-D23B-4AFB-A5E0-9C87968C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0B4D2-8F04-4123-91C3-1DDD8A92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C8A9C-0ACB-4472-9B77-042D8E56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8492C-8CAF-48BA-AB72-2D7C86BD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B2BE5-E953-4B50-9DD7-3BFDC3D1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6A95E-BD78-4937-A5E8-FF4FD5DD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87FEC-DA6B-49A2-A8C6-CDECD7ED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17D6C-E863-4D6B-AFD7-E0896BFB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80568-0466-4EF6-A5C3-047D37F5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3F425-7D16-4EDB-8AC1-10B51D88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3199B-E18A-4574-BC1B-44D402ED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B297A-5421-4AB3-9825-8BE66D93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00E7F-12F1-4754-BD41-3F6B120D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34062-6F11-4944-BBB9-F851CBEB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2FD29-7A4B-46BF-833F-A8148663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0789F-3F8E-4C84-AEAF-5FAFCFA2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F8A87-BE55-4687-B0F5-608C9C33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34B91-9318-4B78-8B55-99F1A48F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27971-816D-41BD-A87E-A6E1208D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13011-AB6C-4F5F-B753-2370F38F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C31E0-F9CF-47CB-9F32-421E3842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9873E-B2C6-4E36-A3C5-5055CBB1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7EB5D-3717-4A95-A62E-A2FFC279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E66D4-E1A7-4BF0-991B-3583D770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42696-9169-418F-89ED-1EF3346F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F425E-4687-4B29-8EDC-D12FFAE8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87039-F607-4400-A176-11625EA5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E96CC-A222-47CF-8313-8B4C2740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40C89-58AD-4730-90AA-38267C9B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ACBB0-D837-463C-ABA8-5C691B76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B284C-EDEC-4473-AA57-840DBEE3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4B7D9-720F-4A24-BDF5-688A3074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F3699-8A90-46EC-9023-A1B67BAB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2ED87-F4C6-4E37-9A83-246DEA17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105D2-B6AB-48F5-BD05-CB3F3B06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2EEF0-1D14-4940-AAC0-0F92C1F1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9559D-A858-4E7B-A90F-E1E9F520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4B9F8-7681-455B-86D9-D79AAEA8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D73F9-2C0B-4BBA-9F54-8B594496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F8755-B82D-43E8-A693-64388A02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32D4C-C520-4135-A8B8-E0101CAC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5EF66-218B-4D6F-9927-73FD5905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95438-463F-4336-B7F0-B087C3EE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2BA82-57D7-4DFB-B763-271BB5BC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57F95-8395-49FE-B2F6-472DD47B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0FB22-ADC4-4FBF-987A-64AEBB89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61E52-2970-48A1-B17A-170D8441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30D27-1FB7-4542-899E-BD590DD6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32CAE-4A0F-4221-A9DA-46AA1763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8D95E-E5E5-4296-B948-EFB559A5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DB41E-A160-4A48-9651-730B72DF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59310-9545-41E3-82AF-78042052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76BB9-9C17-4F60-82E8-CAB8F5B3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248AE-2926-439E-A06B-D3899F51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2A66A-6781-4EAB-AE06-02E50B8B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508A3-CA1C-4087-9FBC-67DBAEE9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AEE11-60F2-498F-BEF0-96889C8B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B46F1-2708-4D40-B36E-46C3DB1F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南平旅游项目PPT背景素材03"/>
          <p:cNvPicPr/>
          <p:nvPr/>
        </p:nvPicPr>
        <p:blipFill>
          <a:blip r:embed="rId2"/>
          <a:stretch/>
        </p:blipFill>
        <p:spPr>
          <a:xfrm>
            <a:off x="1440" y="3240"/>
            <a:ext cx="10803240" cy="6856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image9"/>
          <p:cNvPicPr/>
          <p:nvPr/>
        </p:nvPicPr>
        <p:blipFill>
          <a:blip r:embed="rId3"/>
          <a:stretch/>
        </p:blipFill>
        <p:spPr>
          <a:xfrm>
            <a:off x="1467000" y="6278400"/>
            <a:ext cx="2957400" cy="669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mage3"/>
          <p:cNvPicPr/>
          <p:nvPr/>
        </p:nvPicPr>
        <p:blipFill>
          <a:blip r:embed="rId4"/>
          <a:stretch/>
        </p:blipFill>
        <p:spPr>
          <a:xfrm>
            <a:off x="0" y="6427800"/>
            <a:ext cx="108108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image13"/>
          <p:cNvPicPr/>
          <p:nvPr/>
        </p:nvPicPr>
        <p:blipFill>
          <a:blip r:embed="rId5"/>
          <a:stretch/>
        </p:blipFill>
        <p:spPr>
          <a:xfrm>
            <a:off x="1655640" y="5302080"/>
            <a:ext cx="225720" cy="19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68D5-6115-4D6A-A7B0-877E105CD2A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DD90-FA41-471A-B88C-0991FE4643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E5BC-7286-4E2B-A4F8-76E7D8B88D5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4E78-4263-4E66-A15B-EE0F601BD3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B615-CEC3-4FDB-B152-7EA485D099B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1EAF-7021-4845-9D9D-58936BC565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9CBE-5942-44A1-9744-A281E60C827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7673-4E44-4933-90BA-2ADEC43C45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7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1157-ADB7-4FCF-A656-5BA465EC13C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8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9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5701-C67D-4969-82B3-B68EBE7906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BB8A-8582-45A0-B44A-2035E13712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南平旅游项目PPT背景02"/>
          <p:cNvPicPr/>
          <p:nvPr/>
        </p:nvPicPr>
        <p:blipFill>
          <a:blip r:embed="rId2"/>
          <a:stretch/>
        </p:blipFill>
        <p:spPr>
          <a:xfrm>
            <a:off x="0" y="0"/>
            <a:ext cx="1087272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91AA-03D7-41E7-8D65-C858368A59B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2AE8-E093-42F6-A788-4F7352F8E4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AE71-D338-4F2E-A71D-9F90E41D36F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CF9D-3BA2-4DFF-825D-F06BCCB1A2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E51C-E87C-4A50-9246-E8C056BDF44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4B0E-8758-4D72-AEEC-378AB2439F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A86E-AA53-4A2B-974B-1AFCBE81D82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18BB-1A8F-43E5-8598-284D5BA320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ED27-665F-4E8D-82ED-B0481C007C4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89FE-31F5-4BEE-BB6E-BABA1FA9FD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A210-A99F-423B-9AE2-910D462099C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DE21-34F0-48BE-93E4-1DFDFC511C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DB86-A12E-43E7-B567-37D17EAC5A5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4845-E691-496A-B2E3-EE21E7E023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001"/>
          <p:cNvPicPr/>
          <p:nvPr/>
        </p:nvPicPr>
        <p:blipFill>
          <a:blip r:embed="rId1"/>
          <a:stretch/>
        </p:blipFill>
        <p:spPr>
          <a:xfrm>
            <a:off x="6207120" y="5261040"/>
            <a:ext cx="1141560" cy="7016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image7"/>
          <p:cNvPicPr/>
          <p:nvPr/>
        </p:nvPicPr>
        <p:blipFill>
          <a:blip r:embed="rId2"/>
          <a:stretch/>
        </p:blipFill>
        <p:spPr>
          <a:xfrm>
            <a:off x="3389400" y="4375080"/>
            <a:ext cx="1652400" cy="143028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4"/>
          <p:cNvSpPr/>
          <p:nvPr/>
        </p:nvSpPr>
        <p:spPr>
          <a:xfrm>
            <a:off x="4897440" y="3933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MingLiU"/>
              </a:rPr>
              <a:t>静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3845520" y="439272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ffff"/>
                </a:solidFill>
                <a:latin typeface="comic"/>
                <a:ea typeface="MingLiU"/>
              </a:rPr>
              <a:t>心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5641920" y="4502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MingLiU"/>
              </a:rPr>
              <a:t>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4625640" y="4470480"/>
            <a:ext cx="2618280" cy="21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comic"/>
                <a:ea typeface="方正舒体"/>
              </a:rPr>
              <a:t>自由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8" descr="image13"/>
          <p:cNvPicPr/>
          <p:nvPr/>
        </p:nvPicPr>
        <p:blipFill>
          <a:blip r:embed="rId3"/>
          <a:stretch/>
        </p:blipFill>
        <p:spPr>
          <a:xfrm>
            <a:off x="5473800" y="1125360"/>
            <a:ext cx="225360" cy="1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001"/>
          <p:cNvPicPr/>
          <p:nvPr/>
        </p:nvPicPr>
        <p:blipFill>
          <a:blip r:embed="rId1"/>
          <a:stretch/>
        </p:blipFill>
        <p:spPr>
          <a:xfrm>
            <a:off x="114480" y="762120"/>
            <a:ext cx="4381200" cy="43815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image9"/>
          <p:cNvPicPr/>
          <p:nvPr/>
        </p:nvPicPr>
        <p:blipFill>
          <a:blip r:embed="rId2"/>
          <a:stretch/>
        </p:blipFill>
        <p:spPr>
          <a:xfrm>
            <a:off x="4811760" y="248904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image10"/>
          <p:cNvPicPr/>
          <p:nvPr/>
        </p:nvPicPr>
        <p:blipFill>
          <a:blip r:embed="rId3"/>
          <a:stretch/>
        </p:blipFill>
        <p:spPr>
          <a:xfrm>
            <a:off x="4307040" y="2201760"/>
            <a:ext cx="360360" cy="29700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5"/>
          <p:cNvSpPr/>
          <p:nvPr/>
        </p:nvSpPr>
        <p:spPr>
          <a:xfrm>
            <a:off x="1557360" y="2071800"/>
            <a:ext cx="165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5473800" y="206064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一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image9"/>
          <p:cNvPicPr/>
          <p:nvPr/>
        </p:nvPicPr>
        <p:blipFill>
          <a:blip r:embed="rId4"/>
          <a:stretch/>
        </p:blipFill>
        <p:spPr>
          <a:xfrm>
            <a:off x="4811760" y="323856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8" descr="image10"/>
          <p:cNvPicPr/>
          <p:nvPr/>
        </p:nvPicPr>
        <p:blipFill>
          <a:blip r:embed="rId5"/>
          <a:stretch/>
        </p:blipFill>
        <p:spPr>
          <a:xfrm>
            <a:off x="4307040" y="295128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9"/>
          <p:cNvSpPr/>
          <p:nvPr/>
        </p:nvSpPr>
        <p:spPr>
          <a:xfrm>
            <a:off x="5472000" y="280980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气凝神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powerfu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0" descr="image9"/>
          <p:cNvPicPr/>
          <p:nvPr/>
        </p:nvPicPr>
        <p:blipFill>
          <a:blip r:embed="rId6"/>
          <a:stretch/>
        </p:blipFill>
        <p:spPr>
          <a:xfrm>
            <a:off x="4811760" y="3962520"/>
            <a:ext cx="3317760" cy="759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1" descr="image10"/>
          <p:cNvPicPr/>
          <p:nvPr/>
        </p:nvPicPr>
        <p:blipFill>
          <a:blip r:embed="rId7"/>
          <a:stretch/>
        </p:blipFill>
        <p:spPr>
          <a:xfrm>
            <a:off x="4307040" y="367524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12"/>
          <p:cNvSpPr/>
          <p:nvPr/>
        </p:nvSpPr>
        <p:spPr>
          <a:xfrm>
            <a:off x="5472000" y="353376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神游天外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fre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527040" y="1660680"/>
            <a:ext cx="3073320" cy="9111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" descr="image10"/>
          <p:cNvPicPr/>
          <p:nvPr/>
        </p:nvPicPr>
        <p:blipFill>
          <a:blip r:embed="rId2"/>
          <a:stretch/>
        </p:blipFill>
        <p:spPr>
          <a:xfrm>
            <a:off x="360360" y="2035080"/>
            <a:ext cx="360360" cy="297000"/>
          </a:xfrm>
          <a:prstGeom prst="rect">
            <a:avLst/>
          </a:prstGeom>
          <a:ln w="0">
            <a:noFill/>
          </a:ln>
        </p:spPr>
      </p:pic>
      <p:grpSp>
        <p:nvGrpSpPr>
          <p:cNvPr id="594" name="Group 4"/>
          <p:cNvGrpSpPr/>
          <p:nvPr/>
        </p:nvGrpSpPr>
        <p:grpSpPr>
          <a:xfrm>
            <a:off x="4280040" y="2997360"/>
            <a:ext cx="2952720" cy="368280"/>
            <a:chOff x="4280040" y="2997360"/>
            <a:chExt cx="2952720" cy="368280"/>
          </a:xfrm>
        </p:grpSpPr>
        <p:pic>
          <p:nvPicPr>
            <p:cNvPr id="595" name="Picture 5" descr="image10"/>
            <p:cNvPicPr/>
            <p:nvPr/>
          </p:nvPicPr>
          <p:blipFill>
            <a:blip r:embed="rId3"/>
            <a:stretch/>
          </p:blipFill>
          <p:spPr>
            <a:xfrm>
              <a:off x="4280040" y="312588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6"/>
            <p:cNvSpPr/>
            <p:nvPr/>
          </p:nvSpPr>
          <p:spPr>
            <a:xfrm>
              <a:off x="4642560" y="299736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浮尘空飘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7" name="Picture 7" descr="image9"/>
          <p:cNvPicPr/>
          <p:nvPr/>
        </p:nvPicPr>
        <p:blipFill>
          <a:blip r:embed="rId4"/>
          <a:stretch/>
        </p:blipFill>
        <p:spPr>
          <a:xfrm>
            <a:off x="144360" y="2565360"/>
            <a:ext cx="3672000" cy="76320"/>
          </a:xfrm>
          <a:prstGeom prst="rect">
            <a:avLst/>
          </a:prstGeom>
          <a:ln w="0">
            <a:noFill/>
          </a:ln>
        </p:spPr>
      </p:pic>
      <p:grpSp>
        <p:nvGrpSpPr>
          <p:cNvPr id="598" name="Group 8"/>
          <p:cNvGrpSpPr/>
          <p:nvPr/>
        </p:nvGrpSpPr>
        <p:grpSpPr>
          <a:xfrm>
            <a:off x="4282920" y="2278080"/>
            <a:ext cx="2952720" cy="368280"/>
            <a:chOff x="4282920" y="2278080"/>
            <a:chExt cx="2952720" cy="368280"/>
          </a:xfrm>
        </p:grpSpPr>
        <p:pic>
          <p:nvPicPr>
            <p:cNvPr id="599" name="Picture 9" descr="image10"/>
            <p:cNvPicPr/>
            <p:nvPr/>
          </p:nvPicPr>
          <p:blipFill>
            <a:blip r:embed="rId5"/>
            <a:stretch/>
          </p:blipFill>
          <p:spPr>
            <a:xfrm>
              <a:off x="4282920" y="2408040"/>
              <a:ext cx="214200" cy="1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 Box 10"/>
            <p:cNvSpPr/>
            <p:nvPr/>
          </p:nvSpPr>
          <p:spPr>
            <a:xfrm>
              <a:off x="4643280" y="227808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万物众生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11"/>
          <p:cNvSpPr/>
          <p:nvPr/>
        </p:nvSpPr>
        <p:spPr>
          <a:xfrm>
            <a:off x="1297080" y="1655640"/>
            <a:ext cx="219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</a:t>
            </a: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华文行楷"/>
              </a:rPr>
              <a:t>一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12"/>
          <p:cNvGrpSpPr/>
          <p:nvPr/>
        </p:nvGrpSpPr>
        <p:grpSpPr>
          <a:xfrm>
            <a:off x="4282920" y="3699000"/>
            <a:ext cx="2953080" cy="368280"/>
            <a:chOff x="4282920" y="3699000"/>
            <a:chExt cx="2953080" cy="368280"/>
          </a:xfrm>
        </p:grpSpPr>
        <p:pic>
          <p:nvPicPr>
            <p:cNvPr id="603" name="Picture 13" descr="image10"/>
            <p:cNvPicPr/>
            <p:nvPr/>
          </p:nvPicPr>
          <p:blipFill>
            <a:blip r:embed="rId6"/>
            <a:stretch/>
          </p:blipFill>
          <p:spPr>
            <a:xfrm>
              <a:off x="4282920" y="382752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14"/>
            <p:cNvSpPr/>
            <p:nvPr/>
          </p:nvSpPr>
          <p:spPr>
            <a:xfrm>
              <a:off x="4645440" y="369900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梵音灵空响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15"/>
          <p:cNvGrpSpPr/>
          <p:nvPr/>
        </p:nvGrpSpPr>
        <p:grpSpPr>
          <a:xfrm>
            <a:off x="4294080" y="4424400"/>
            <a:ext cx="2952720" cy="368280"/>
            <a:chOff x="4294080" y="4424400"/>
            <a:chExt cx="2952720" cy="368280"/>
          </a:xfrm>
        </p:grpSpPr>
        <p:pic>
          <p:nvPicPr>
            <p:cNvPr id="606" name="Picture 16" descr="image10"/>
            <p:cNvPicPr/>
            <p:nvPr/>
          </p:nvPicPr>
          <p:blipFill>
            <a:blip r:embed="rId7"/>
            <a:stretch/>
          </p:blipFill>
          <p:spPr>
            <a:xfrm>
              <a:off x="4294080" y="4552200"/>
              <a:ext cx="214560" cy="1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Text Box 17"/>
            <p:cNvSpPr/>
            <p:nvPr/>
          </p:nvSpPr>
          <p:spPr>
            <a:xfrm>
              <a:off x="4656600" y="442440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定禅归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609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2" name="Picture 6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7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8"/>
          <p:cNvSpPr/>
          <p:nvPr/>
        </p:nvSpPr>
        <p:spPr>
          <a:xfrm>
            <a:off x="1009800" y="112536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微软雅黑"/>
                <a:ea typeface="微软雅黑"/>
              </a:rPr>
              <a:t>万物众生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圆角矩形 19"/>
          <p:cNvSpPr/>
          <p:nvPr/>
        </p:nvSpPr>
        <p:spPr>
          <a:xfrm>
            <a:off x="431640" y="1558800"/>
            <a:ext cx="9866520" cy="1582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1009800" y="1638360"/>
            <a:ext cx="46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相生相克冥冥之中自有主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701640" y="162396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618" name="圆角矩形 19"/>
          <p:cNvSpPr/>
          <p:nvPr/>
        </p:nvSpPr>
        <p:spPr>
          <a:xfrm>
            <a:off x="431640" y="3214800"/>
            <a:ext cx="9866520" cy="1511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3"/>
          <p:cNvSpPr/>
          <p:nvPr/>
        </p:nvSpPr>
        <p:spPr>
          <a:xfrm>
            <a:off x="976320" y="32986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皆有公平均等的生存权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669960" y="328608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621" name="圆角矩形 19"/>
          <p:cNvSpPr/>
          <p:nvPr/>
        </p:nvSpPr>
        <p:spPr>
          <a:xfrm>
            <a:off x="431640" y="4802040"/>
            <a:ext cx="9866520" cy="151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6"/>
          <p:cNvSpPr/>
          <p:nvPr/>
        </p:nvSpPr>
        <p:spPr>
          <a:xfrm>
            <a:off x="977760" y="4886280"/>
            <a:ext cx="63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的大德是要做到放生与护生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669960" y="487368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18"/>
          <p:cNvSpPr/>
          <p:nvPr/>
        </p:nvSpPr>
        <p:spPr>
          <a:xfrm>
            <a:off x="1148400" y="260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626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9" name="Text Box 6"/>
          <p:cNvSpPr/>
          <p:nvPr/>
        </p:nvSpPr>
        <p:spPr>
          <a:xfrm>
            <a:off x="649440" y="2602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浮尘空飘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7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8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9"/>
          <p:cNvSpPr/>
          <p:nvPr/>
        </p:nvSpPr>
        <p:spPr>
          <a:xfrm>
            <a:off x="1022400" y="1125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  <a:ea typeface="微软雅黑"/>
              </a:rPr>
              <a:t>浮尘亦世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576360" y="2060640"/>
            <a:ext cx="439236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576360" y="1628640"/>
            <a:ext cx="285480" cy="35568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12"/>
          <p:cNvSpPr/>
          <p:nvPr/>
        </p:nvSpPr>
        <p:spPr>
          <a:xfrm>
            <a:off x="119664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盘古初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3"/>
          <p:cNvSpPr/>
          <p:nvPr/>
        </p:nvSpPr>
        <p:spPr>
          <a:xfrm>
            <a:off x="5800680" y="2060640"/>
            <a:ext cx="439272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5800680" y="162864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15"/>
          <p:cNvSpPr/>
          <p:nvPr/>
        </p:nvSpPr>
        <p:spPr>
          <a:xfrm>
            <a:off x="642096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清浑分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6"/>
          <p:cNvSpPr/>
          <p:nvPr/>
        </p:nvSpPr>
        <p:spPr>
          <a:xfrm>
            <a:off x="57312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57312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18"/>
          <p:cNvSpPr/>
          <p:nvPr/>
        </p:nvSpPr>
        <p:spPr>
          <a:xfrm>
            <a:off x="119340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万物成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9"/>
          <p:cNvSpPr/>
          <p:nvPr/>
        </p:nvSpPr>
        <p:spPr>
          <a:xfrm>
            <a:off x="579744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2" descr="F:\office\《水墨画鲤鱼》\001.png"/>
          <p:cNvPicPr/>
          <p:nvPr/>
        </p:nvPicPr>
        <p:blipFill>
          <a:blip r:embed="rId9"/>
          <a:srcRect l="20747" t="55651" r="73388" b="37019"/>
          <a:stretch/>
        </p:blipFill>
        <p:spPr>
          <a:xfrm>
            <a:off x="579744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21"/>
          <p:cNvSpPr/>
          <p:nvPr/>
        </p:nvSpPr>
        <p:spPr>
          <a:xfrm>
            <a:off x="641628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芸芸众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奔腾年代001"/>
          <p:cNvPicPr/>
          <p:nvPr/>
        </p:nvPicPr>
        <p:blipFill>
          <a:blip r:embed="rId1"/>
          <a:srcRect l="0" t="0" r="14167" b="0"/>
          <a:stretch/>
        </p:blipFill>
        <p:spPr>
          <a:xfrm>
            <a:off x="-266760" y="-71280"/>
            <a:ext cx="5165640" cy="3770280"/>
          </a:xfrm>
          <a:prstGeom prst="rect">
            <a:avLst/>
          </a:prstGeom>
          <a:ln w="0">
            <a:noFill/>
          </a:ln>
        </p:spPr>
      </p:pic>
      <p:grpSp>
        <p:nvGrpSpPr>
          <p:cNvPr id="646" name="Group 3"/>
          <p:cNvGrpSpPr/>
          <p:nvPr/>
        </p:nvGrpSpPr>
        <p:grpSpPr>
          <a:xfrm>
            <a:off x="1800360" y="838080"/>
            <a:ext cx="8708400" cy="65160"/>
            <a:chOff x="1800360" y="838080"/>
            <a:chExt cx="8708400" cy="65160"/>
          </a:xfrm>
        </p:grpSpPr>
        <p:pic>
          <p:nvPicPr>
            <p:cNvPr id="647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180036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467568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6" descr="image9"/>
            <p:cNvPicPr/>
            <p:nvPr/>
          </p:nvPicPr>
          <p:blipFill>
            <a:blip r:embed="rId4"/>
            <a:stretch/>
          </p:blipFill>
          <p:spPr>
            <a:xfrm>
              <a:off x="755100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4414680" y="2278080"/>
            <a:ext cx="18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华文行楷"/>
              </a:rPr>
              <a:t>谢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3" descr="001"/>
          <p:cNvPicPr/>
          <p:nvPr/>
        </p:nvPicPr>
        <p:blipFill>
          <a:blip r:embed="rId1"/>
          <a:stretch/>
        </p:blipFill>
        <p:spPr>
          <a:xfrm>
            <a:off x="3168720" y="2421000"/>
            <a:ext cx="939600" cy="5763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001"/>
          <p:cNvPicPr/>
          <p:nvPr/>
        </p:nvPicPr>
        <p:blipFill>
          <a:blip r:embed="rId2"/>
          <a:stretch/>
        </p:blipFill>
        <p:spPr>
          <a:xfrm>
            <a:off x="6521400" y="2421000"/>
            <a:ext cx="9399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654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Text Box 6"/>
          <p:cNvSpPr/>
          <p:nvPr/>
        </p:nvSpPr>
        <p:spPr>
          <a:xfrm>
            <a:off x="649440" y="2602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7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" descr="E:\新模板\国粹\04.png"/>
          <p:cNvPicPr/>
          <p:nvPr/>
        </p:nvPicPr>
        <p:blipFill>
          <a:blip r:embed="rId5"/>
          <a:stretch/>
        </p:blipFill>
        <p:spPr>
          <a:xfrm>
            <a:off x="431640" y="2708280"/>
            <a:ext cx="2448000" cy="72720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9"/>
          <p:cNvSpPr/>
          <p:nvPr/>
        </p:nvSpPr>
        <p:spPr>
          <a:xfrm>
            <a:off x="1098720" y="2421000"/>
            <a:ext cx="1439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行楷"/>
              </a:rPr>
              <a:t>静心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574560" y="2019240"/>
            <a:ext cx="2233800" cy="2232000"/>
          </a:xfrm>
          <a:prstGeom prst="ellipse">
            <a:avLst/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圆角矩形 19"/>
          <p:cNvSpPr/>
          <p:nvPr/>
        </p:nvSpPr>
        <p:spPr>
          <a:xfrm>
            <a:off x="3025800" y="2049480"/>
            <a:ext cx="7120080" cy="21002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12" descr="001"/>
          <p:cNvPicPr/>
          <p:nvPr/>
        </p:nvPicPr>
        <p:blipFill>
          <a:blip r:embed="rId6"/>
          <a:stretch/>
        </p:blipFill>
        <p:spPr>
          <a:xfrm>
            <a:off x="9361440" y="1757520"/>
            <a:ext cx="939960" cy="57600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3"/>
          <p:cNvSpPr/>
          <p:nvPr/>
        </p:nvSpPr>
        <p:spPr>
          <a:xfrm>
            <a:off x="3241800" y="2146320"/>
            <a:ext cx="6622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“心静，则自由”结合中国恒久渊博的国学文化，衍生出“</a:t>
            </a:r>
            <a:r>
              <a:rPr b="1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万物归一、聚气凝神、神游天外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三大静心论，紧扣“</a:t>
            </a:r>
            <a:r>
              <a:rPr b="1" lang="zh-CN" sz="1600" spc="-1" strike="noStrike">
                <a:solidFill>
                  <a:srgbClr val="cc3300"/>
                </a:solidFill>
                <a:latin typeface="Arial"/>
                <a:ea typeface="微软雅黑"/>
              </a:rPr>
              <a:t>Simple, Powerful and free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，万物归一意为“化繁为简”，聚气凝神意为“积蓄力量”，神游天外意为“实现自由”，以此层层推导出“轻松的心态”需要“静心”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828720" y="0"/>
            <a:ext cx="8466120" cy="6858000"/>
            <a:chOff x="828720" y="0"/>
            <a:chExt cx="8466120" cy="6858000"/>
          </a:xfrm>
        </p:grpSpPr>
        <p:sp>
          <p:nvSpPr>
            <p:cNvPr id="666" name="矩形 4"/>
            <p:cNvSpPr/>
            <p:nvPr/>
          </p:nvSpPr>
          <p:spPr>
            <a:xfrm>
              <a:off x="14457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2872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TextBox 7"/>
            <p:cNvSpPr/>
            <p:nvPr/>
          </p:nvSpPr>
          <p:spPr>
            <a:xfrm rot="20926800">
              <a:off x="274968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5:27:49Z</dcterms:created>
  <dc:creator>查尔斯林</dc:creator>
  <dc:description/>
  <dc:language>en-US</dc:language>
  <cp:lastModifiedBy>a</cp:lastModifiedBy>
  <dcterms:modified xsi:type="dcterms:W3CDTF">2015-01-12T12:59:41Z</dcterms:modified>
  <cp:revision>5</cp:revision>
  <dc:subject>心静，则自由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