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E1B-44FC-4504-9506-6FDF2F7A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506-DDE8-40E8-9EC8-6F0DD1CF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D35-0062-44CE-984F-CABF758F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B92-3B10-402F-9EC7-37AAAA55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3948-7FDB-45E9-ABBC-848995FF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69F-4947-49E2-9309-EA28A20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616-7DBC-4E6D-A921-21DF422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06BC-071F-41EF-A3A8-C5300717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206-EE17-4385-9D31-0F92273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215B-5204-4CDA-B697-884EF04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A8F3-32BE-40A3-8CC7-1619C1B4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C25-4503-472B-BC55-FC282D00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68C-CB0B-4C8B-AF16-F9EA9D6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A4E-A900-4041-9962-FED10C4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06F-D1DF-47AC-8FAC-EE0F820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2CA-E709-45E6-9423-28FD5004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1BD7-43DF-43F6-BC26-6FD13E51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075-8F1B-4B06-B2A5-FA7E38D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617-9D46-4F23-B002-8952A0F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D77-C939-4985-9524-1CD9B6F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A21-8801-484B-A439-D17E1D8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198-9549-4E6C-98C3-245B27E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567-72AF-47D3-88CB-DEEB0CA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08D-E1EE-4F67-9249-7582B1D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697-7BB1-42AF-B395-DB17C8B31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A776-D393-4C2E-AB68-2F7530B2AE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08D-3A9D-4C40-BF4E-C4B7B8C2F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雷锋"/>
          <p:cNvPicPr/>
          <p:nvPr/>
        </p:nvPicPr>
        <p:blipFill>
          <a:blip r:embed="rId2"/>
          <a:stretch/>
        </p:blipFill>
        <p:spPr>
          <a:xfrm>
            <a:off x="179280" y="620640"/>
            <a:ext cx="8796600" cy="417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0572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8143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418143"/>
                </a:solidFill>
                <a:latin typeface="Arial"/>
              </a:rPr>
              <a:t>雷锋日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天是我永远不能忘记的日子，这天是我最大的荣幸和光荣的日子。我走上了新的战斗岗位，穿上了黄军服，光荣的参加了中国人民解放军。我好几年来的愿望在今天已实现了，真感到万分的高兴和喜悦，这是我一生最大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在党的正确领导下，在革命的大家庭里，我一定要好好地锻炼自己，在入伍的这一天，我并提出如下保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听党的话，服从命令听指挥，党指向哪里，我就冲向哪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加强政治学习，多看报纸和政治书籍，按时参加部队各种会议和学习，积极宣传党的政策，密切靠近组织，及时向组织反映各种情况，不断提高自己的政治思想觉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三、尊敬领导，团结同志，互帮互爱互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四、严格遵守部队一切纪律，做到虚心向老战士学习，刻苦钻研，加强军事学习，随时准备打击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五、克服一切困难，发扬长辈优良的革命传统。我要坚决做到头可断，血可流，在敌人面前决不屈服、投降。我一定要向董存瑞，黄继光、安业民等英雄的战土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、我要努力学习政治、军事、文化，我要好好的锻炼身体，我一定要在部队争取立功当英雄，我一定要做一个毛泽东时代的好战士，我要把我可爱的青春献给祖国最壮丽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上六条是我努力的方向和我的奋斗目标。今天我太高兴我太激动，千言万语一下要写完是办不到的，因此写到这里告一段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25:30Z</dcterms:created>
  <dc:creator>Administrator</dc:creator>
  <dc:description/>
  <cp:keywords/>
  <dc:language>en-US</dc:language>
  <cp:lastModifiedBy>a</cp:lastModifiedBy>
  <dcterms:modified xsi:type="dcterms:W3CDTF">2014-07-17T06:10:29Z</dcterms:modified>
  <cp:revision>1</cp:revision>
  <dc:subject/>
  <dc:title>  雷锋日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