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781-42B4-47CE-B34F-D86FC450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DAE-819E-45F8-A057-4220E317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9B7-C1C1-4072-BD8C-383FD8E9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891-76F2-44E1-BE64-07AE7C87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9B0F-FD0E-4783-89C7-DABC6728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48F1-679C-4159-A966-51D14DC5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C1DD-9EB9-4030-A63E-8B1DC6ED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7911-B2E9-466F-BFE2-91C7DD6A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D6EB-8C58-4D43-9564-71AFD979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0880-6CF4-452E-A82F-AD1D2AAD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C7DF-A165-4146-845C-DBDCEF35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ED5-9582-4390-84CB-4B667B4D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5227-D4FC-40DA-AC85-8F726D23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A9B4-314E-4792-B08D-6D20ABDC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0C2F-2712-4A7B-801A-557027B4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6499-C991-4175-8B03-2865E6CC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B2C0-9516-461F-9E24-352FC926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01B-ABAD-4024-9262-B193CE8A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06D-7131-4B26-BD68-5DF5DE62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742-15B9-4FA1-8A81-DB087A23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BFC-2EE0-4613-90C3-5495134F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5B7-D2F3-4CA1-B1DA-CC48FC2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94E-62EF-417B-AB69-4069E6E3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A0E-096F-42A7-B775-DC7B468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EDF9-9BE5-4859-9F02-DEA4B16F42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A082-8424-4394-81ED-D8FD925241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D826-A082-4798-8C2F-26AF2A936D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F71C-52B6-4208-B6AA-4D60AAA17F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1327320"/>
            <a:ext cx="65404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愚人节想玩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2560" y="6383160"/>
            <a:ext cx="2292480" cy="3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4240" y="242892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Unicode MS"/>
                <a:ea typeface="黑体"/>
              </a:rPr>
              <a:t>多谢观看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02:00Z</dcterms:created>
  <dc:creator/>
  <dc:description/>
  <dc:language>en-US</dc:language>
  <cp:lastModifiedBy>a</cp:lastModifiedBy>
  <dcterms:modified xsi:type="dcterms:W3CDTF">2015-01-12T08:57:56Z</dcterms:modified>
  <cp:revision>1</cp:revision>
  <dc:subject>April Fool's Day</dc:subject>
  <dc:title>愚人节想玩什么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