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D18-1479-4A2E-8985-5C0A16A1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416-23DA-493D-9CFD-89BC9144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2EC-2E9F-45B8-B44F-87E42973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1E9-2FC2-4EE4-ADA5-CD276B22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7FA3-673E-4AC9-9FC1-2303CB7F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0492-475F-4EB9-A563-62520996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74F5-61EB-4599-B8BF-6063F006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5F8A-2286-4FE6-BD0D-8F08DC9B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29A0-3B6C-48D9-A4C2-C40FE81D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D3ED-F254-4414-A3CE-24780E53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80E2-2525-4008-8605-525BBD86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9E7-4D1E-4C0D-A314-0D718F35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7954-6EA6-4B28-9841-C8D37733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F519-D469-4F9C-BFD4-3E151B9A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841A-4E6B-4D94-A0B3-B232A971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4ECE-56B0-4A0D-B1F6-D0DB986D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B754-68BD-4683-9278-DD73ED6E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402-633A-4181-AE81-B326419F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FE3-A569-48E3-B9A6-FBEF5A27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1BF-3B4D-4106-A065-C61C4D21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28E-9FD7-46E2-B456-A663BF1B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D79-817C-4AB5-B66C-AFB677D0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02D-307E-42B1-A2BA-E50F3A40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D53-2BEF-417E-B471-1C1563D9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86BD-270A-4BB4-9625-80875507BD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A60F-4106-40EE-93BC-2B8B84F97B0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15BF-87EC-4BF4-A427-D4D8B0703B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706200" y="4294080"/>
            <a:ext cx="469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434200" y="52293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卡通简约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495840" y="57340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 Light"/>
              </a:rPr>
              <a:t>站长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615680" y="364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576040" y="364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831680" y="364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009120" y="364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688040" y="378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080760" y="3718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904040" y="3718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152040" y="3718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759680" y="3718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864040" y="364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975320" y="378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007680" y="3860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>a</cp:lastModifiedBy>
  <dcterms:modified xsi:type="dcterms:W3CDTF">2015-01-12T12:54:3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