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9F8-A85D-4BA7-9928-34402B1F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8A8-5D01-45E1-B859-2DB6AD24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75D-4B7F-4C7C-A25C-46304013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D31-0A5D-4DE3-9BB3-C387AF1D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7C6B-0C2D-4761-8181-53047245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ECDA-B043-4106-9B50-CC548FE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55EC-316D-43B7-B151-BA9CF315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DB86-DFFF-40B1-8F5C-EC18757A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2587-2167-441F-AF7A-4678CE8E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8122-4A04-44ED-B1AB-381328DE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2A0A-2E36-4EAD-A9C9-032A8A29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B9E-37D2-40B6-858C-3F02FE82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8608-6583-475E-90D8-D03E2FF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6B30-B04B-47F0-92A3-49C162D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2172-E648-41D7-A326-F27233BE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0CF-A0D3-4B56-B7E0-E4F2FEB7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80C3-342F-4A6A-B299-5F548B44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6121-598D-4D46-A929-FC43BB64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6F34-CE5E-43FC-87F4-A1585FEB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8EF4-CD21-4D09-81EF-401B9C69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A880-DBAF-4D14-8A6A-EFD06DED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CCDD-D489-4DAC-AE8B-B570A6F1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73D-31F1-4683-B517-1AF1B749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1E2F-DC64-4764-B7F9-48CF528B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9FA9-19FE-4665-BB6E-96B9B21F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4BCF-DD44-4422-BFE5-8D4CF12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0649-F7FA-4878-84C7-87832577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C7FD-C462-4D8C-B9B7-59D35A34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1AE6-2BCC-422E-9E80-C25D51D6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4674-2CC7-4E8C-81A4-06C18328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404-BC00-4C60-8603-D07FBC15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AC8-AA0D-4602-B145-922FE5A9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28C-34F9-4E7C-8C72-899D4EB8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C7A-330F-4F9D-92C3-1DCEA14C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2A3-F4DA-4607-8BB6-72069D8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D41-8E8E-4D45-ADF7-C43559DC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9ADC-DFB0-40ED-A29B-41A6AB71204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DC35-2363-42CC-9952-16E966DD44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A62B-82CE-4C3B-8058-EE47D68831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29C2-9C52-42AA-A6A5-98B2C8102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92360" y="2565360"/>
            <a:ext cx="422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仿宋"/>
              </a:rPr>
              <a:t>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"/>
              </a:rPr>
              <a:t>【</a:t>
            </a:r>
            <a:r>
              <a:rPr b="0" lang="zh-CN" sz="4000" spc="-1" strike="noStrike">
                <a:solidFill>
                  <a:srgbClr val="000000"/>
                </a:solidFill>
                <a:latin typeface="BrowalliaUPC"/>
                <a:ea typeface="仿宋"/>
              </a:rPr>
              <a:t>cha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87840" y="2747880"/>
            <a:ext cx="27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58160" y="1219320"/>
            <a:ext cx="78984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目录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mu lu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063240" y="1219320"/>
            <a:ext cx="60696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轻松办公  【</a:t>
            </a:r>
            <a:r>
              <a:rPr b="0" lang="zh-CN" sz="2800" spc="-1" strike="noStrike">
                <a:solidFill>
                  <a:srgbClr val="000000"/>
                </a:solidFill>
                <a:latin typeface="Ebrima"/>
                <a:ea typeface="仿宋"/>
              </a:rPr>
              <a:t>qing so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353840" y="1219320"/>
            <a:ext cx="60696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宁静办公  【</a:t>
            </a:r>
            <a:r>
              <a:rPr b="0" lang="zh-CN" sz="2800" spc="-1" strike="noStrike">
                <a:solidFill>
                  <a:srgbClr val="000000"/>
                </a:solidFill>
                <a:latin typeface="Ebrima"/>
                <a:ea typeface="仿宋"/>
              </a:rPr>
              <a:t>ning j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91160" y="1219320"/>
            <a:ext cx="457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067520" y="812880"/>
            <a:ext cx="4572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743080" y="1219320"/>
            <a:ext cx="60696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从容办公  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cong ro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070040" y="1219320"/>
            <a:ext cx="6069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超然办公  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chao r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32000" y="1706400"/>
            <a:ext cx="64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仿宋"/>
              </a:rPr>
              <a:t>轻松办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195640" y="3137040"/>
            <a:ext cx="68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qing song ban gon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898560" y="9777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禅意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116000" y="1989000"/>
            <a:ext cx="705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工作中，人难免浮躁，何况还要面对工作压力、生活纠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此时，不妨借鉴禅理所倡导的淡泊心境，在办公生活中营造出一块空灵意境，为心灵寻求些许宁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职场，不过是工作场所而已，既不是天堂，也不是地狱。所谓的天堂或地域，都只是人们在不同的心态下对它作出的评定。我们之所以对职场生活存在种种烦恼、恐惧与不安，正是因为我们在当下活得还不够清醒。人生犹如爬山，职场是爬上顶峰的阶梯，能否最终到达山巅，不在于路途的风景，而在于每一级台阶是否走得踏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智光大师在《工作禅》中说得很有道理，在人生的征途上，不要被工作的肉身遮住眼睛，应该多一点禅意的工作。丢掉“为了明天，牺牲今天”的想法吧，你该努力拼搏，使自己在当下的每分每秒都能欢愉幸福地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023000" y="3071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谢谢  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654280" y="3884760"/>
            <a:ext cx="15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117960" y="3884760"/>
            <a:ext cx="32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e xie guan sha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3:18:07Z</dcterms:created>
  <dc:creator>sg</dc:creator>
  <dc:description/>
  <dc:language>en-US</dc:language>
  <cp:lastModifiedBy>a</cp:lastModifiedBy>
  <dcterms:modified xsi:type="dcterms:W3CDTF">2015-01-12T13:19:2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