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500E-C39A-4063-9866-17B1EE5F6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6A7B-8B80-4486-87F3-D794050C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F82E-8D59-444C-9AA3-5320B023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AB59-1FC5-4575-9526-B24F7272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D7AA-CA17-4A63-8201-6121E279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EC6D-C587-448A-8E8D-82C2222E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9124-1A63-4D4C-9FC4-D55879CB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C439-1D3D-4B97-8D4F-18905089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FA5D-D06C-46A4-8E4E-CF2C44F8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7572-C104-4C07-894C-A9BF0460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81F7-007D-4A88-9A38-5FD57A2B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3C27-CF9E-42C6-B127-DAA53E18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1948-8D97-4C89-9D8B-5E3BFB2B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37CB-499E-409C-9CEB-1203BB6B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E751-017F-472A-9ED0-0366F3FB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8E9C-F6D0-4B59-9BF8-B8F576A5E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AE9A-3D1E-4DD5-96C5-D9FBBD02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3EB5A-4383-4526-BCE1-0D9E079D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0DB81-DC78-490E-AF70-9C0C862F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22A15-D723-4208-9ADF-C49FCA4C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726DE-074A-4208-ACB9-788D55F8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1C8F7-D397-4A92-9A0A-04CB1939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2836-2D12-4D32-A5B3-E1EFC2C7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87D48-3C0D-44D6-A3E7-0DD7ACD8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D2772-A4E2-4C06-817B-A08A56DB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AC04A-7034-4E5B-9DDD-A3D16C51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41800-2D7C-4135-B6FA-5A918722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A32CE-60AD-433E-93B6-02D5A249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B2140-A17B-491D-A01A-D4FE5AD1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612EF-AB06-4D57-A147-B65C4A7C4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A945-1E62-4E5A-B77C-96D36D20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D914-D30C-4B2B-9D72-9F907408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988F-98B4-4689-9D2F-F1B9F6E1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22F2-A5AD-4BC6-8209-E06459FA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BBF1-7285-49CB-82DE-6D3A4200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DA0B-D7DF-4E7A-8068-701F055F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2D06-B009-43B4-99CB-75F8FE7F6694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F2E6-D5D6-4A68-ACC1-F6B52C78990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0640-AB24-494B-B6B8-160B0F0F86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24E0-937F-45EE-B6B0-50754EAAEF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目录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086280" y="2235240"/>
            <a:ext cx="30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封面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目录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过度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结束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内容页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自定义页（可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谢谢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13T01:56:15Z</dcterms:modified>
  <cp:revision>1</cp:revision>
  <dc:subject/>
  <dc:title>PowerPoint 演示文稿</dc:title>
</cp:coreProperties>
</file>